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C50-2746-48E7-934C-FE23BAE61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ECA7-9EF7-42F7-AAB3-66084F05C4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A6C-0AC6-4B55-9D84-B3D737DF9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B6A-7FCD-45E4-A795-5BE336FC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570-9C5D-4D27-AD39-9A89E68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650-0BE3-432F-A4DC-0BE8BA3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E46-5E3C-4DE9-98A4-645D22B9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212-E4CD-4C27-B5C0-134106C5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2436-18D6-4D63-9EB9-C212F87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50BC-2B35-44D6-A227-93C1296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D1D2-9605-4BF5-9008-46957AF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EAE9-9BA5-44AB-8A46-85AF6D7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86A-2B1F-4111-9CD1-B98BA7D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E8AE-395D-4A9D-911B-881E20E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926-EAB3-4D68-B904-5DDC0EA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B94-D1BC-4566-8FBA-4C8D48D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F14-7C1D-4464-AF54-AC75F02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286C-9A77-46A3-8C5D-5FBD928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0A1-8561-4654-8484-27D3ACFD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19D-D19B-4D38-A6D9-0809A368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AA5C-FD3D-47C7-AE4F-D13238AA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A6EE-646D-4CA8-9021-20794DF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3A2D-5C9E-483F-A395-DA3794F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BD8B-2779-44F4-AE61-0DF9478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B18A-3D6B-494B-BEF9-DB393A7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BEE-9369-456E-A822-F04FCD8D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7C8C-6CEE-48E2-B1FC-34ACE1DF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BEB4-D6D1-4753-9095-6B697DA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2150-1879-4E5E-BEB5-2874C09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102C-2C6B-4950-89F5-A5CD4513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D203-5EF5-416D-913A-FA2CAD5A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3995-A525-4AE8-8CCC-3D25363A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A66F-460A-4C55-9C99-BF6AA8C2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203B-30A5-4C75-8A0C-C079F916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6581-5708-4778-9FED-5DF2A94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1592-87C9-4231-A95B-69D2ED5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AB8-F74F-4D76-9466-6EC54FF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CE17-E788-479C-9672-DADAF01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948B-2583-456D-9513-85875A8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4116-C782-477F-92FD-33F44EC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F827-3952-431F-9C2D-7458DAF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7094-CB30-4F9B-842C-150FAC0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DEA3-E6C9-4336-A97B-5B81ED1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643D-DB73-4147-AA00-3854322F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4EE5-BF81-458B-A904-B067180C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2B13-09F3-4F95-B7AC-E988C4C7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0945-A531-4B8B-BE9E-9B6935B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794-7F9C-48EF-B243-64F85983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2A0A-9944-4821-B4C9-607F4F2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F17B-2858-41E7-8C7A-70B1997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4D73-BB56-4ADD-AAEA-0F61D817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9ECB-5787-4078-B3B2-A75F64EA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B863-9BC4-4351-8433-E5F0EF2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B1B4-CC31-44C1-A940-DA39F738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715B-39CB-4D17-9B89-3E4AC243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81467-7E01-4D13-93E2-2D29CF0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D334-1BB9-42D0-8C16-C950F6E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BF6E-819A-47B3-B689-39175064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3EE-5723-4251-8116-9F93AD0A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EF13-5457-428F-8A4A-A3A4AE84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95FC-6D1E-43C7-9759-12A62B6A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D58CE-21F1-4989-B6AE-09E2CCC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5BA3-F700-44D3-88B8-62E4395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B4D4-C0C0-4268-AF88-680AFD9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C66F-75F0-4B69-8A00-B3103D2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97F9-5A65-4EB0-AD1F-B4642C73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11E2-7980-439C-B7F1-11B95AF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7F06-B0C0-4487-816B-76CD1F0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7EA6-4F87-43B4-8296-D6017AB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838-2EF4-4B18-B334-5A7E913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BF95-FCB9-4F8A-B1B4-8B978D1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A679-67AB-4CE3-816F-906AD2FF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6238-6D74-47D7-80E5-065115BA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3D29-4D8A-4943-9AC8-2F5FE84D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35E9-C068-47D4-BEDE-2C659A5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3C91-0778-401C-AF60-7D41294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0B98-5030-4FCE-B9F7-3A289CE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EA56-F8C0-4F9E-8E33-5B86434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5D4F-9DE9-4A70-A766-084BA8F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C070-2C85-4B2D-BB06-36C911F8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0FC-7E3E-4BEF-AE5C-387342A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4F09-B42F-4D4C-8BB5-43CCE9E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FC3C-B534-473E-9425-F7B0176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3669-6F73-4E21-8F4A-DEB5129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6CC7-A0EA-4454-AB09-C24072E0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45CD6-13AA-4E1B-87CA-ADEE300B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851-7A0C-41EB-950B-9C49F5E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3B0-7C37-4901-B8E9-F47EE3DA1C4C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F8F-BB10-4745-A1E7-484EB899E415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696-FB1E-4982-A4BA-8FB99DAE1DAB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DF05-7DAF-4344-94AA-DCF9E4812065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4360-4A13-4EAB-9971-1A34196D7FBE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784D-195A-43C9-A0E1-64747BA1EA99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635-1FC9-4662-94AC-BEB6801E4483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7786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Назвіть хронологічні рамки Національно-визвольної війни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Хто очолив національно-визвольну війну  і проти кого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З якою державою Б. Хмельницький уклав договір 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4. У якому місті проходило укладення договору 1654р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506600" y="3720960"/>
          <a:ext cx="6095880" cy="18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в перемир’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Прямоугольник 3"/>
          <p:cNvSpPr/>
          <p:nvPr/>
        </p:nvSpPr>
        <p:spPr>
          <a:xfrm>
            <a:off x="1071720" y="1928880"/>
            <a:ext cx="242856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рієнтувався на інтереси старшинської верхів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643200" y="1928880"/>
            <a:ext cx="257184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вілеїв не м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заможні козаки  і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еляни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е призвело до зростання масового невдоволення й соціального вибух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6357960" y="1928880"/>
            <a:ext cx="242892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Їх силу використали опозиціонери Пушкар і Барабаш. Цей заколо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2286000" y="35712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Внутр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090880" y="1073160"/>
            <a:ext cx="291924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090440"/>
            <a:ext cx="384120" cy="1055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846680" y="1073160"/>
            <a:ext cx="3133800" cy="993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357800" y="3857760"/>
          <a:ext cx="571320" cy="50004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500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357200" y="1428840"/>
          <a:ext cx="7520040" cy="4857840"/>
        </p:xfrm>
        <a:graphic>
          <a:graphicData uri="http://schemas.openxmlformats.org/drawingml/2006/table">
            <a:tbl>
              <a:tblPr/>
              <a:tblGrid>
                <a:gridCol w="2197080"/>
                <a:gridCol w="532296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071720"/>
          <a:ext cx="7734600" cy="5516280"/>
        </p:xfrm>
        <a:graphic>
          <a:graphicData uri="http://schemas.openxmlformats.org/drawingml/2006/table">
            <a:tbl>
              <a:tblPr/>
              <a:tblGrid>
                <a:gridCol w="1857600"/>
                <a:gridCol w="58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58-1659 р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ою причин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українсько-російської війни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58-165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р.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ула несумісність підходів гетьманського та царського урядів щодо подальшого розвитку двосторонніх відносин. Гадяцький договір прискорив військове московсько – українське протистоя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 битва відбулася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 червня 1659 р. в районі с. Соснівки під Конотопом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на закінчилася нищівною поразкою московського війсь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учна перемога під Конотопом не поклала край розбратові в Україні. Поміж українців не було єдності щодо подальшої долі Батьківщини. Незалеж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іс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краї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кожне угрупування розуміло по-своєму, обстоюючи передусім власні інтере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1000080" y="245880"/>
            <a:ext cx="7858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Після смерті Б.Хмельницького гетьманом став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Юрій Хмельницький; 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Іван Виговськ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чаток правлі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1657 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8 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Іван Виговський орієнтувався на інтерес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родних мас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вищих верств населе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Конотопська битва відбулася 28 червн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57 р.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1659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іж якими державами було укладено Гадяцький тракта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між Москвою та Україною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між Польщею таУкраїно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Гадяцький договір був підписаний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6 вересня 1658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б)6 верес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За Гадяцьким договором українського гетьмана мав затверджуват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польський король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московський ца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Яку посаду обіймав І.Виговський за гетьманування Б.Хмельниц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Генеральний писа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Генеральний судд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означте період гетьманува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63-1668рр; б) 1669-1672рр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) 1657-1659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Позначте період московсько-української війн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1658-1659рр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7-1659 рр. в)1659-1660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У якому році у Переяславі відбулася рада, яка підтвердила обрання І.Виговського гетьманом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лютий 1658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5 квіт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У 1664 році був страчений поляками наказом полковника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Тетері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М.Пушка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1000080" y="863640"/>
            <a:ext cx="77868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завдан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 23, с. 169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75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сти кросворд по даній тем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ПОЛІТИЧНА ТА ЕКОНОМІЧНА СИТУАЦІЯ В УКРАЇНІ ПО СМЕРТІ Б. ХМЕЛЬНИЦЬКОГО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12139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Царський уряд ігнорував інтереси Української держав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Зазнала невдач українсько-трансільванська воєнна кампанія 1657 р.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 Польщ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У ході війни не відбулося об’єднання всіх українських земел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силилося соціальне напруження в суспільст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гіршилося матеріальне становище козацтв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Запорозькій Січі назрівав соціальний вибух.Запорозці вимагали для себе плат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новообраного гетьмана, який повинен був обійняти цю посаду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ісля смерті Хмельницького, покладалося важливе завдання —ліквідувати соціальне напруження в українському суспільстві й продовжити боротьбу за національне визволення українських земель та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б’єднання їх в одній держа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00760" y="713880"/>
            <a:ext cx="37144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Book Antiqua"/>
              </a:rPr>
              <a:t>Рішення старшинської козацької ради (квітень 1657 р.) про встановлення спадковості гетьманства — передачі влади після смерті Б. Хмельницького його молодшому сину Юрі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74720" y="353880"/>
            <a:ext cx="44067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857840" y="64296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Генеральний писар Іван Виговський зумів домогтися на старшинській раді 26 серпня 1657 року обрання себе гетьманом до часу повноліття Юрія Хмельниць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У другій половині жовтня Виговський скликав козацьку старшинську раду в Корсуні, яка й обрала його повноправним гетьманом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35200" y="291960"/>
            <a:ext cx="425448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116000" y="2481120"/>
            <a:ext cx="3552840" cy="4291200"/>
          </a:xfrm>
          <a:prstGeom prst="rect">
            <a:avLst/>
          </a:prstGeom>
          <a:ln w="0">
            <a:noFill/>
          </a:ln>
        </p:spPr>
      </p:pic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1268280" y="719280"/>
            <a:ext cx="7467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357200" y="528120"/>
            <a:ext cx="74296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orbel"/>
                <a:ea typeface="Times New Roman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Corbel"/>
                <a:ea typeface="Times New Roman"/>
              </a:rPr>
              <a:t>Мет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охарактеризувати політичне становище Гетьманщини після смерті  Б. Хмельницьког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визначити основні засади внутрішньої і зовнішньої політики гетьмана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71360" y="642600"/>
            <a:ext cx="7786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orbel"/>
                <a:ea typeface="Times New Roman"/>
              </a:rPr>
              <a:t>План</a:t>
            </a:r>
            <a:r>
              <a:rPr b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  <a:ea typeface="Calibri"/>
              </a:rPr>
              <a:t>1.Обрання гетьманом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2.Внутрішня і зовнішня політика І. Виговськог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3.Україно – московська війна 1658 – 1659 р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4. Кінець гетьманування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2" descr=""/>
          <p:cNvPicPr/>
          <p:nvPr/>
        </p:nvPicPr>
        <p:blipFill>
          <a:blip r:embed="rId2"/>
          <a:stretch/>
        </p:blipFill>
        <p:spPr>
          <a:xfrm>
            <a:off x="1122480" y="530280"/>
            <a:ext cx="7454880" cy="504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1143000" y="2214720"/>
            <a:ext cx="235728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е хотів розривати відносини з Москвою, але хотів бути рівноправни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786120" y="2214720"/>
            <a:ext cx="228600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Уклав перемир’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з Польще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6286680" y="2286000"/>
            <a:ext cx="2428560" cy="27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клав договір зі Швецією пр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творення воєнно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літичного союзу, спрямованого на забезпечення територіальної цілісності України</a:t>
            </a:r>
            <a:r>
              <a:rPr b="0" lang="ru-RU" sz="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2286000" y="71424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Зовн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27240" y="1432080"/>
            <a:ext cx="2736720" cy="993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444680"/>
            <a:ext cx="384120" cy="981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913280" y="1432080"/>
            <a:ext cx="2919600" cy="1066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9:58:23Z</dcterms:created>
  <dc:creator>Admin</dc:creator>
  <dc:description/>
  <dc:language>en-US</dc:language>
  <cp:lastModifiedBy>Admin</cp:lastModifiedBy>
  <dcterms:modified xsi:type="dcterms:W3CDTF">2013-01-18T08:54:26Z</dcterms:modified>
  <cp:revision>55</cp:revision>
  <dc:subject/>
  <dc:title>1. Пригадайте основні військово-політичні події Національно-визвольної війни під проводом Б. Хмельницького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7000000000001024140</vt:lpwstr>
  </property>
</Properties>
</file>