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6E3B-A7B7-45B0-9F32-B7746D4AA6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B413-D907-42EE-AFB4-9E4813880B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7268-B31E-40C6-A526-A86B24B2A6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89E-4489-4AA7-9099-E426EB9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99E-1013-4DC0-A931-E5F7560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E64-C930-439E-BE3C-5A84AAA3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4EE-B94D-4463-BBEB-563DBBF1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7326-4F36-43B3-9CC9-5BFD2EDA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F0D-7189-465D-AA07-D33E332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EF4-210B-4AA6-9BE2-5BA2F728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DD3A-EF95-47A1-B1B7-BDE68AFC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E779-0F5A-4E4A-8656-0F926BD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97E-4A86-4D15-8B42-029C2D6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D580-BB05-47B3-B594-CCA32D4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B14-9A57-47EE-8FA7-B11BF2C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0631-FD81-483B-BCFB-2F81C41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B6AA-2B5D-434E-A65E-8356BCD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2E4-372C-4A1C-9681-53674F6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3C0-75C3-4F66-95B9-1028A4FB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D884-6622-4ED9-841B-F48B45A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4B6F-68BF-4334-BF89-C550C016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5D6C-4599-4D4F-95D1-AE874B3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27CD-E7C4-4CFE-8AE2-874D923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6889-079D-4CB4-84EA-BC0405B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8DD6-0847-4F90-B138-27AF9C1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C60-F7B5-4D45-A8CE-4020C41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789F-FBBA-4CA2-B45A-309FD7C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670B-477B-4576-A913-AD4EA7A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9E5A-A832-4F1F-8EA7-794F211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165E-F261-4557-BBC0-0773A15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22A2-7BD6-4F0F-B3CC-FD73270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245F-DA02-4CE9-B62A-852C8EEF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1DFF-5305-4DFC-BAA5-79D5BD85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2276-32D7-49F5-B908-E4CEB3D3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4EAF-2062-49D0-9057-42DFF4C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955F-FEC8-497A-AA3F-D01780F0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660-1FE1-4821-8195-E9ABED8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51CF-CB33-4AC6-A883-BFE754C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C977-2ACC-42E6-99F3-B57422D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2849-F25B-40D8-948C-27875E6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5AA2-FC8F-4326-95FF-149ACBF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38C3-C05C-488E-9118-FE7E97DE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E9E5-6B1B-4D11-B6C3-6FEB103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DEB5-7B30-499B-83F6-C66E93A9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6D91-DE4F-46D9-88BA-63E85FE4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640D-18DB-4D55-AF73-509D7BAA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18BA-E0E8-4CE0-94C8-FCC80C7E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2EF-0126-4224-95F1-F866B2D9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E424-1C7A-4E01-8E09-19E5B93E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BC152-4022-4D40-AD7A-E4A8507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F112-7CCC-4212-BB1D-55169721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867F7-68D1-40E3-B9EA-BBD7E955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CF93-6316-45A6-A828-2581872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2B48-8511-4D8C-A757-8D4A4DE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A900-94BE-44DC-9F03-16891E6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CD51-89E9-43C5-BA58-CC208E0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079B-40EC-4AC9-AEEF-1DADE03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D424-8AD1-40D2-8C4C-FF0F0E2C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8F5-5FC3-4D73-8F96-8FB300B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4845-1F6A-45CE-92EF-AFE32A31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FDB6-7C01-4190-AE16-EF7CAC4F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A0A4-2FDF-431C-8311-53727DA2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14EE-3D46-4DCC-81FE-806EDA4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74CA-ABC0-4840-A0BE-7A3BA5B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97A2-67A3-4048-BAC2-D02B481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758E-7F48-4E53-B5E3-061E713F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80564-BB12-4DE9-9624-B00E906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0675-710A-41CC-A351-BD768FB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ACF91-1EB1-419B-8BD1-11B35BF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0A7-E30E-47B3-9163-E55D162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AB25E-27D1-4609-A74D-46A54FF5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6AE6-36FE-4C11-A1E4-368D020D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B938B-3DA1-4747-9C56-BEA0F314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588CC-0B78-4D40-86AB-DE574CFB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A594-58B5-4BB9-8485-14FBDE5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DEDD-BBCF-42AD-AF79-7E3ED50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CEE08-041E-4132-A356-0BCAA77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18E7-D9D3-4F6F-AC85-3C1F29BA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ABF85-1243-462B-8633-B7BE9197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BEBB-BAEB-47C3-B84A-BA74C50F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637-3715-4690-A691-8866C40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EAAE-87F1-45A4-9F58-BAC86B7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D4FA-C6CF-4625-8FD6-24D9062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FA10-B099-4DDE-8188-D4EB9EA7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29C8-571A-4F38-99FF-7B0569DF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46491-1C0D-4303-B0B6-1DEB487C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350-F286-4E0D-922C-B6CE6CF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5D1-7283-48B7-BDE6-58373DC6AA7D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92C-279C-4AB8-9CB8-F799E0AD0E4B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777C-51CA-4A63-9203-D301D2DADC18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CD6-D033-4DC8-83D5-794D65F1F633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0DE0-D330-4B1F-AF68-4C5C89870FA0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D1E-36A2-4655-B5C5-6AF00952730D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36C-BC82-46DE-AAF1-74AF1174096F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7786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Назвіть хронологічні рамки Національно-визвольної війни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Хто очолив національно-визвольну війну  і проти кого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З якою державою Б. Хмельницький уклав договір 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4. У якому місті проходило укладення договору 1654р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506600" y="3720960"/>
          <a:ext cx="6095880" cy="18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в перемир’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Прямоугольник 3"/>
          <p:cNvSpPr/>
          <p:nvPr/>
        </p:nvSpPr>
        <p:spPr>
          <a:xfrm>
            <a:off x="1071720" y="1928880"/>
            <a:ext cx="242856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рієнтувався на інтереси старшинської верхів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643200" y="1928880"/>
            <a:ext cx="257184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вілеїв не м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заможні козаки  і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еляни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е призвело до зростання масового невдоволення й соціального вибух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6357960" y="1928880"/>
            <a:ext cx="242892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Їх силу використали опозиціонери Пушкар і Барабаш. Цей заколо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2286000" y="35712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Внутр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090880" y="1073160"/>
            <a:ext cx="291924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090440"/>
            <a:ext cx="384120" cy="1055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846680" y="1073160"/>
            <a:ext cx="3133800" cy="993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357800" y="3857760"/>
          <a:ext cx="571320" cy="50004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500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357200" y="1428840"/>
          <a:ext cx="7520040" cy="4857840"/>
        </p:xfrm>
        <a:graphic>
          <a:graphicData uri="http://schemas.openxmlformats.org/drawingml/2006/table">
            <a:tbl>
              <a:tblPr/>
              <a:tblGrid>
                <a:gridCol w="2197080"/>
                <a:gridCol w="532296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071720"/>
          <a:ext cx="7734600" cy="5516280"/>
        </p:xfrm>
        <a:graphic>
          <a:graphicData uri="http://schemas.openxmlformats.org/drawingml/2006/table">
            <a:tbl>
              <a:tblPr/>
              <a:tblGrid>
                <a:gridCol w="1857600"/>
                <a:gridCol w="58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58-1659 р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ою причин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українсько-російської війни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58-165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р.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ула несумісність підходів гетьманського та царського урядів щодо подальшого розвитку двосторонніх відносин. Гадяцький договір прискорив військове московсько – українське протистоя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 битва відбулася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 червня 1659 р. в районі с. Соснівки під Конотопом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на закінчилася нищівною поразкою московського війсь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учна перемога під Конотопом не поклала край розбратові в Україні. Поміж українців не було єдності щодо подальшої долі Батьківщини. Незалеж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іс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краї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кожне угрупування розуміло по-своєму, обстоюючи передусім власні інтере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1000080" y="245880"/>
            <a:ext cx="7858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Після смерті Б.Хмельницького гетьманом став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Юрій Хмельницький; 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Іван Виговськ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чаток правлі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1657 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8 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Іван Виговський орієнтувався на інтерес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родних мас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вищих верств населе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Конотопська битва відбулася 28 червн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57 р.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1659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іж якими державами було укладено Гадяцький тракта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між Москвою та Україною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між Польщею таУкраїно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Гадяцький договір був підписаний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6 вересня 1658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б)6 верес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За Гадяцьким договором українського гетьмана мав затверджуват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польський король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московський ца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Яку посаду обіймав І.Виговський за гетьманування Б.Хмельниц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Генеральний писа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Генеральний судд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означте період гетьманува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63-1668рр; б) 1669-1672рр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) 1657-1659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Позначте період московсько-української війн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1658-1659рр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7-1659 рр. в)1659-1660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У якому році у Переяславі відбулася рада, яка підтвердила обрання І.Виговського гетьманом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лютий 1658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5 квіт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У 1664 році був страчений поляками наказом полковника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Тетері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М.Пушка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1000080" y="863640"/>
            <a:ext cx="77868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завдан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 23, с. 169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75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сти кросворд по даній тем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ПОЛІТИЧНА ТА ЕКОНОМІЧНА СИТУАЦІЯ В УКРАЇНІ ПО СМЕРТІ Б. ХМЕЛЬНИЦЬКОГО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12139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Царський уряд ігнорував інтереси Української держав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Зазнала невдач українсько-трансільванська воєнна кампанія 1657 р.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 Польщ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У ході війни не відбулося об’єднання всіх українських земел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силилося соціальне напруження в суспільст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гіршилося матеріальне становище козацтв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Запорозькій Січі назрівав соціальний вибух.Запорозці вимагали для себе плат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новообраного гетьмана, який повинен був обійняти цю посаду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ісля смерті Хмельницького, покладалося важливе завдання —ліквідувати соціальне напруження в українському суспільстві й продовжити боротьбу за національне визволення українських земель та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б’єднання їх в одній держа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00760" y="713880"/>
            <a:ext cx="37144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Book Antiqua"/>
              </a:rPr>
              <a:t>Рішення старшинської козацької ради (квітень 1657 р.) про встановлення спадковості гетьманства — передачі влади після смерті Б. Хмельницького його молодшому сину Юрі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74720" y="353880"/>
            <a:ext cx="44067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857840" y="64296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Генеральний писар Іван Виговський зумів домогтися на старшинській раді 26 серпня 1657 року обрання себе гетьманом до часу повноліття Юрія Хмельниць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У другій половині жовтня Виговський скликав козацьку старшинську раду в Корсуні, яка й обрала його повноправним гетьманом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35200" y="291960"/>
            <a:ext cx="425448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116000" y="2481120"/>
            <a:ext cx="3552840" cy="4291200"/>
          </a:xfrm>
          <a:prstGeom prst="rect">
            <a:avLst/>
          </a:prstGeom>
          <a:ln w="0">
            <a:noFill/>
          </a:ln>
        </p:spPr>
      </p:pic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1268280" y="719280"/>
            <a:ext cx="7467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357200" y="528120"/>
            <a:ext cx="74296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orbel"/>
                <a:ea typeface="Times New Roman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Corbel"/>
                <a:ea typeface="Times New Roman"/>
              </a:rPr>
              <a:t>Мет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охарактеризувати політичне становище Гетьманщини після смерті  Б. Хмельницьког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визначити основні засади внутрішньої і зовнішньої політики гетьмана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71360" y="642600"/>
            <a:ext cx="7786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orbel"/>
                <a:ea typeface="Times New Roman"/>
              </a:rPr>
              <a:t>План</a:t>
            </a:r>
            <a:r>
              <a:rPr b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  <a:ea typeface="Calibri"/>
              </a:rPr>
              <a:t>1.Обрання гетьманом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2.Внутрішня і зовнішня політика І. Виговськог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3.Україно – московська війна 1658 – 1659 р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4. Кінець гетьманування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2" descr=""/>
          <p:cNvPicPr/>
          <p:nvPr/>
        </p:nvPicPr>
        <p:blipFill>
          <a:blip r:embed="rId2"/>
          <a:stretch/>
        </p:blipFill>
        <p:spPr>
          <a:xfrm>
            <a:off x="1122480" y="530280"/>
            <a:ext cx="7454880" cy="504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1143000" y="2214720"/>
            <a:ext cx="235728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е хотів розривати відносини з Москвою, але хотів бути рівноправни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786120" y="2214720"/>
            <a:ext cx="228600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Уклав перемир’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з Польще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6286680" y="2286000"/>
            <a:ext cx="2428560" cy="27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клав договір зі Швецією пр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творення воєнно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літичного союзу, спрямованого на забезпечення територіальної цілісності України</a:t>
            </a:r>
            <a:r>
              <a:rPr b="0" lang="ru-RU" sz="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2286000" y="71424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Зовн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27240" y="1432080"/>
            <a:ext cx="2736720" cy="993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444680"/>
            <a:ext cx="384120" cy="981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913280" y="1432080"/>
            <a:ext cx="2919600" cy="1066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9:58:23Z</dcterms:created>
  <dc:creator>Admin</dc:creator>
  <dc:description/>
  <dc:language>en-US</dc:language>
  <cp:lastModifiedBy>Admin</cp:lastModifiedBy>
  <dcterms:modified xsi:type="dcterms:W3CDTF">2013-01-18T08:54:26Z</dcterms:modified>
  <cp:revision>55</cp:revision>
  <dc:subject/>
  <dc:title>1. Пригадайте основні військово-політичні події Національно-визвольної війни під проводом Б. Хмельницького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7000000000001024140</vt:lpwstr>
  </property>
</Properties>
</file>