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43D9-9C33-47D1-A3DA-1D5F665EE1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6171-589A-4C26-808D-B828DA61C5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D86A-3D30-4548-9968-AED1888078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29D-BDA6-4F47-AB24-C9858179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BFA4-A371-4E36-A2CE-A5DFFA14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6D29-6878-43B2-9290-7257082A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206E-FEB3-479D-9327-36220552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29E2-CFD8-4878-B0CC-F9CD2D9B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8949-DB15-43CD-AF9C-6906EF7C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490D-9D6B-439A-BF25-B86F568F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4784-9F82-4A39-B05F-79084473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6793-29FF-4551-891F-A87ABC0D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14F2-F5B2-41EA-8746-E64647F7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A1FF-D4DC-4410-BDC6-66BDD86A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3769-A87D-4DF3-AFF2-CEF7D446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87C2-A753-4A8C-9B43-0D958712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678C-DEE4-4A8D-8007-B58E4C1C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7836-C2E3-47E6-850A-CB20610F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D236-4801-41C0-82EB-8C997718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BBF3-E936-4348-8325-6EF62E19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064E1-1C28-4641-A4C2-8D76AB44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50DB2-8665-4922-A05C-9EEFAC07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EA1C7-C6E4-4AD0-86BA-0E5349B6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D8CEE-5751-450E-9298-E87DE2CA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3014E-C0EE-459E-864E-739972F9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BF3-34A7-46EC-B456-01DC9151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F7BA0-D4AC-4026-8424-B8DC0728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A2DB7-7872-4EBD-92CF-AC293612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B513D-BB4D-4E8B-887D-74DBAA97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F6707-8DA8-459A-A65D-A4F3D9D6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C48BE-C1A2-4C6D-8C81-9B6C3E3F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CDD0F-D297-4469-82DE-C19E46C7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47944-E401-4734-861B-EAD587A7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FC240-3A1D-4066-BFB1-9AE8B8E2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C95DF-C2B1-48AC-81A4-688F78A1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35724-B412-48D0-B09E-97E6CFC5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DB97-2B17-4384-BF70-6171F764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A6160-562F-49D8-AEB7-2CCD1262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C128B-5761-45A9-B25E-B2E5CCFE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E6811-D253-488E-A806-90D68031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8C145-A639-4E13-806C-48F11682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1B989-33A4-4060-8E76-B4D0E661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D1CFD-FB9F-4698-A77D-41A99E77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B27DD-3071-4221-A1D7-5D2602C5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523E4-6C90-48F4-8EF7-A1CDD706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A69FD-3CEE-490B-9E40-D75DD46C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9717D-A88A-48EF-8DCB-4AA10F44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B2C5-911B-4733-8A72-1E470575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B892A-E572-4787-9A3F-CD89DC48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D7F3F-0A1E-4DAC-BC0D-9505275E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A780C-A0B8-409E-ACB9-56DB7B29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1BB6A-033E-40F4-AE3A-CA4AE8B7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70D38-85A3-42CA-B1E8-59B7800D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09586-1265-40EF-8265-DE5BC448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791D6-DD0A-428C-8485-24B20A49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11AAF-854C-4715-834E-477C9940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093CF-14B1-492C-8BB8-EE87B58B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9ADB7-03E9-4886-8BAF-9BFE8CF4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77A-DDD7-45AF-88EE-96D69D41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3503F-C0B5-43CC-8BF5-29D08D00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26A94-4D0E-4811-8EC4-0E959551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27C8B-9511-41E6-BB9A-2994314C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DA248-BB4C-46B4-B696-F95B8F1D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429A8-604D-42F1-8876-DB0A3578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1DF40-158D-4643-801E-16646A69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E5113-E10C-4EA2-92C1-B7A8B5BE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280B8-DDE0-434F-ADDD-3FFCB19B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C3AA8-8E15-4C43-92AF-BB534611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7AA04-DE5C-4B0B-9417-91549A77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B123-5E18-4097-8D5C-5BDCD7DE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8BF2F-8EBC-4AE8-839B-CA98C29F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E0829-ED77-4FA8-B460-42BEFF08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DFBFD-41AE-4798-ADD1-C3397A45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C4855-E595-4400-9468-8A7CD3E0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AB3F3-B60A-478B-A4A2-3CE498B2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BA335-67BE-411F-AA56-9414740F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4BC5C-0FF0-48D3-90DB-4690E555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87A8B-7D81-4B1B-AFBC-9EF664DD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0C965-029B-46DB-BD59-5B0AA75B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808A2-C565-4A66-8A5A-809A1B68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2D6E-F2A0-414A-9BA6-8CBB5846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8CFDC-DC46-470B-83D9-1B4A5880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D20EB-C81D-4A36-B7E7-5FC17904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ABB40-5697-4EF7-9DED-7FB88100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77867-9BD7-4F54-B419-D992138C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DEC3C-0CE9-4B31-BB7F-B28B8AFE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705E-CCAC-4D74-9608-FA11AB3A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87A1-5858-4108-A0AC-5A744033DE16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261E-64AB-4195-A83B-AB71BDA202C9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49A2-DE1E-4542-A268-E9C651C86270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1096-EF1F-4EEB-B966-38026B9D0E42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1C76-282D-47F1-B852-1F23D629182E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0304-2270-4903-8793-4730B09B9817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a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efa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8F8D-C2DD-4484-89F9-603FD3C96C82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43000" y="357120"/>
            <a:ext cx="77868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1. Назвіть хронологічні рамки Національно-визвольної війни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2. Хто очолив національно-визвольну війну  і проти кого?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3. З якою державою Б. Хмельницький уклав договір ?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4. У якому місті проходило укладення договору 1654р?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7532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1506600" y="3720960"/>
          <a:ext cx="6095880" cy="1843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8432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лав перемир’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Прямоугольник 3"/>
          <p:cNvSpPr/>
          <p:nvPr/>
        </p:nvSpPr>
        <p:spPr>
          <a:xfrm>
            <a:off x="1071720" y="1928880"/>
            <a:ext cx="2428560" cy="27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Орієнтувався на інтереси старшинської верхівк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Прямоугольник 4"/>
          <p:cNvSpPr/>
          <p:nvPr/>
        </p:nvSpPr>
        <p:spPr>
          <a:xfrm>
            <a:off x="3643200" y="1928880"/>
            <a:ext cx="2571840" cy="27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ривілеїв не мал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незаможні козаки  і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еляни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Calibri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Calibri"/>
              </a:rPr>
              <a:t>е призвело до зростання масового невдоволення й соціального вибух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Прямоугольник 5"/>
          <p:cNvSpPr/>
          <p:nvPr/>
        </p:nvSpPr>
        <p:spPr>
          <a:xfrm>
            <a:off x="6357960" y="1928880"/>
            <a:ext cx="2428920" cy="27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Їх силу використали опозиціонери Пушкар і Барабаш. Цей заколо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Прямоугольник 6"/>
          <p:cNvSpPr/>
          <p:nvPr/>
        </p:nvSpPr>
        <p:spPr>
          <a:xfrm>
            <a:off x="2286000" y="357120"/>
            <a:ext cx="52862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rbel"/>
              </a:rPr>
              <a:t>Внутрішня політика І.Виговсько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Прямая со стрелкой 8" descr=""/>
          <p:cNvPicPr/>
          <p:nvPr/>
        </p:nvPicPr>
        <p:blipFill>
          <a:blip r:embed="rId2"/>
          <a:stretch/>
        </p:blipFill>
        <p:spPr>
          <a:xfrm>
            <a:off x="2090880" y="1073160"/>
            <a:ext cx="2919240" cy="1066680"/>
          </a:xfrm>
          <a:prstGeom prst="rect">
            <a:avLst/>
          </a:prstGeom>
          <a:ln w="0">
            <a:noFill/>
          </a:ln>
        </p:spPr>
      </p:pic>
      <p:pic>
        <p:nvPicPr>
          <p:cNvPr id="353" name="Прямая со стрелкой 10" descr=""/>
          <p:cNvPicPr/>
          <p:nvPr/>
        </p:nvPicPr>
        <p:blipFill>
          <a:blip r:embed="rId3"/>
          <a:stretch/>
        </p:blipFill>
        <p:spPr>
          <a:xfrm>
            <a:off x="4730760" y="1090440"/>
            <a:ext cx="384120" cy="105588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ая со стрелкой 12" descr=""/>
          <p:cNvPicPr/>
          <p:nvPr/>
        </p:nvPicPr>
        <p:blipFill>
          <a:blip r:embed="rId4"/>
          <a:stretch/>
        </p:blipFill>
        <p:spPr>
          <a:xfrm>
            <a:off x="4846680" y="1073160"/>
            <a:ext cx="3133800" cy="9936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"/>
          <p:cNvSpPr/>
          <p:nvPr/>
        </p:nvSpPr>
        <p:spPr>
          <a:xfrm>
            <a:off x="1440" y="-3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357800" y="3857760"/>
          <a:ext cx="571320" cy="500040"/>
        </p:xfrm>
        <a:graphic>
          <a:graphicData uri="http://schemas.openxmlformats.org/drawingml/2006/table">
            <a:tbl>
              <a:tblPr/>
              <a:tblGrid>
                <a:gridCol w="571320"/>
              </a:tblGrid>
              <a:tr h="5000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500040" y="0"/>
          <a:ext cx="1857240" cy="1806480"/>
        </p:xfrm>
        <a:graphic>
          <a:graphicData uri="http://schemas.openxmlformats.org/drawingml/2006/table">
            <a:tbl>
              <a:tblPr/>
              <a:tblGrid>
                <a:gridCol w="1857240"/>
              </a:tblGrid>
              <a:tr h="18064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Corbel"/>
              </a:rPr>
              <a:t>Як відбувалася та які мала наслідки московсько-українська війна?</a:t>
            </a:r>
            <a:endParaRPr b="0" lang="en-US" sz="3200" spc="-1" strike="noStrike">
              <a:solidFill>
                <a:srgbClr val="475320"/>
              </a:solidFill>
              <a:latin typeface="Corbe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357200" y="1428840"/>
          <a:ext cx="7520040" cy="4857840"/>
        </p:xfrm>
        <a:graphic>
          <a:graphicData uri="http://schemas.openxmlformats.org/drawingml/2006/table">
            <a:tbl>
              <a:tblPr/>
              <a:tblGrid>
                <a:gridCol w="2197080"/>
                <a:gridCol w="5322960"/>
              </a:tblGrid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</a:tr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сно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ичи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ло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и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</a:tr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слід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orbel"/>
              </a:rPr>
              <a:t>Як відбувалася та які мала наслідки московсько-українська війна?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214280" y="1071720"/>
          <a:ext cx="7734600" cy="5516280"/>
        </p:xfrm>
        <a:graphic>
          <a:graphicData uri="http://schemas.openxmlformats.org/drawingml/2006/table">
            <a:tbl>
              <a:tblPr/>
              <a:tblGrid>
                <a:gridCol w="1857600"/>
                <a:gridCol w="5877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658-1659 р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сно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ичи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сновною причиною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українсько-російської війни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658-165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р.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ула несумісність підходів гетьманського та царського урядів щодо подальшого розвитку двосторонніх відносин. Гадяцький договір прискорив військове московсько – українське протистоянн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ло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и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ловна битва відбулася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8 червня 1659 р. в районі с. Соснівки під Конотопом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она закінчилася нищівною поразкою московського війсь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слід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учна перемога під Конотопом не поклала край розбратові в Україні. Поміж українців не було єдності щодо подальшої долі Батьківщини. Незалежн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ість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країн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кожне угрупування розуміло по-своєму, обстоюючи передусім власні інтерес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"/>
          <p:cNvSpPr/>
          <p:nvPr/>
        </p:nvSpPr>
        <p:spPr>
          <a:xfrm>
            <a:off x="1000080" y="245880"/>
            <a:ext cx="78580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и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Після смерті Б.Хмельницького гетьманом став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Юрій Хмельницький; 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) Іван Виговський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Початок правління І.Виговського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1657 р;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б)1658 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 Іван Виговський орієнтувався на інтереси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народних мас;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) вищих верств населенн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.Конотопська битва відбулася 28 червня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1657 р.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) 1659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.Між якими державами було укладено Гадяцький трактат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між Москвою та Україною;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) між Польщею таУкраїною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.Гадяцький договір був підписаний 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6 вересня 1658р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б)6 вересня 1657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. За Гадяцьким договором українського гетьмана мав затверджувати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 польський король;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б) московський ца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. Яку посаду обіймав І.Виговський за гетьманування Б.Хмельницького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 Генеральний писар;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б) Генеральний судд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9.Позначте період гетьманування І.Виговського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1663-1668рр; б) 1669-1672рр;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) 1657-1659р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.Позначте період московсько-української війни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 1658-1659рр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б)1657-1659 рр. в)1659-1660р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1.У якому році у Переяславі відбулася рада, яка підтвердила обрання І.Виговського гетьманом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 лютий 1658р;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5 квітня 1657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2.У 1664 році був страчений поляками наказом полковника 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 Тетері;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б)М.Пушкар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"/>
          <p:cNvSpPr/>
          <p:nvPr/>
        </p:nvSpPr>
        <p:spPr>
          <a:xfrm>
            <a:off x="1000080" y="863640"/>
            <a:ext cx="77868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машнє  завданн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ацювати § 23, с. 169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175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ласти кросворд по даній темі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ПОЛІТИЧНА ТА ЕКОНОМІЧНА СИТУАЦІЯ В УКРАЇНІ ПО СМЕРТІ Б. ХМЕЛЬНИЦЬКОГО</a:t>
            </a:r>
            <a:endParaRPr b="0" lang="en-US" sz="24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71360" y="121392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Book Antiqua"/>
              </a:rPr>
              <a:t>1.</a:t>
            </a:r>
            <a:r>
              <a:rPr b="0" lang="ru-RU" sz="17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Царський уряд ігнорував інтереси Української держав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Зазнала невдач українсько-трансільванська воєнна кампанія 1657 р.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у Польщ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У ході війни не відбулося об’єднання всіх українських земел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Посилилося соціальне напруження в суспільств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Погіршилося матеріальне становище козацтв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На Запорозькій Січі назрівав соціальний вибух.Запорозці вимагали для себе платн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На новообраного гетьмана, який повинен був обійняти цю посаду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після смерті Хмельницького, покладалося важливе завдання —ліквідувати соціальне напруження в українському суспільстві й продовжити боротьбу за національне визволення українських земель та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б’єднання їх в одній держав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00760" y="713880"/>
            <a:ext cx="37144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72f0c"/>
                </a:solidFill>
                <a:latin typeface="Book Antiqua"/>
              </a:rPr>
              <a:t>Рішення старшинської козацької ради (квітень 1657 р.) про встановлення спадковості гетьманства — передачі влади після смерті Б. Хмельницького його молодшому сину Юрію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774720" y="353880"/>
            <a:ext cx="44067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857840" y="642960"/>
            <a:ext cx="40003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72f0c"/>
                </a:solidFill>
                <a:latin typeface="Book Antiqua"/>
              </a:rPr>
              <a:t>Генеральний писар Іван Виговський зумів домогтися на старшинській раді 26 серпня 1657 року обрання себе гетьманом до часу повноліття Юрія Хмельницьког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72f0c"/>
                </a:solidFill>
                <a:latin typeface="Book Antiqua"/>
              </a:rPr>
              <a:t>У другій половині жовтня Виговський скликав козацьку старшинську раду в Корсуні, яка й обрала його повноправним гетьманом Україн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835200" y="291960"/>
            <a:ext cx="4254480" cy="577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1116000" y="2481120"/>
            <a:ext cx="3552840" cy="4291200"/>
          </a:xfrm>
          <a:prstGeom prst="rect">
            <a:avLst/>
          </a:prstGeom>
          <a:ln w="0">
            <a:noFill/>
          </a:ln>
        </p:spPr>
      </p:pic>
      <p:pic>
        <p:nvPicPr>
          <p:cNvPr id="334" name="Заголовок 1" descr=""/>
          <p:cNvPicPr/>
          <p:nvPr/>
        </p:nvPicPr>
        <p:blipFill>
          <a:blip r:embed="rId3"/>
          <a:stretch/>
        </p:blipFill>
        <p:spPr>
          <a:xfrm>
            <a:off x="1268280" y="719280"/>
            <a:ext cx="746784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1357200" y="528120"/>
            <a:ext cx="742968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Corbel"/>
                <a:ea typeface="Times New Roman"/>
              </a:rPr>
              <a:t>  </a:t>
            </a:r>
            <a:r>
              <a:rPr b="1" lang="uk-UA" sz="3600" spc="-1" strike="noStrike">
                <a:solidFill>
                  <a:srgbClr val="c00000"/>
                </a:solidFill>
                <a:latin typeface="Corbel"/>
                <a:ea typeface="Times New Roman"/>
              </a:rPr>
              <a:t>Мета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охарактеризувати політичне становище Гетьманщини після смерті  Б. Хмельницького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визначити основні засади внутрішньої і зовнішньої політики гетьмана Івана Виговсько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071360" y="642600"/>
            <a:ext cx="77864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orbel"/>
                <a:ea typeface="Times New Roman"/>
              </a:rPr>
              <a:t>План</a:t>
            </a:r>
            <a:r>
              <a:rPr b="1" lang="uk-UA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 Antiqua"/>
                <a:ea typeface="Calibri"/>
              </a:rPr>
              <a:t>1.Обрання гетьманом Івана Виговсько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 Antiqua"/>
              </a:rPr>
              <a:t>2.Внутрішня і зовнішня політика І. Виговського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 Antiqua"/>
              </a:rPr>
              <a:t>3.Україно – московська війна 1658 – 1659 рр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 Antiqua"/>
              </a:rPr>
              <a:t>4. Кінець гетьманування Івана Виговсько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одержимое 2" descr=""/>
          <p:cNvPicPr/>
          <p:nvPr/>
        </p:nvPicPr>
        <p:blipFill>
          <a:blip r:embed="rId2"/>
          <a:stretch/>
        </p:blipFill>
        <p:spPr>
          <a:xfrm>
            <a:off x="1122480" y="530280"/>
            <a:ext cx="7454880" cy="5048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1143000" y="2214720"/>
            <a:ext cx="2357280" cy="27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Не хотів розривати відносини з Москвою, але хотів бути рівноправни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Прямоугольник 4"/>
          <p:cNvSpPr/>
          <p:nvPr/>
        </p:nvSpPr>
        <p:spPr>
          <a:xfrm>
            <a:off x="3786120" y="2214720"/>
            <a:ext cx="2286000" cy="27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Уклав перемир’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з Польщею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Прямоугольник 5"/>
          <p:cNvSpPr/>
          <p:nvPr/>
        </p:nvSpPr>
        <p:spPr>
          <a:xfrm>
            <a:off x="6286680" y="2286000"/>
            <a:ext cx="2428560" cy="271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Уклав договір зі Швецією пр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творення воєнно-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олітичного союзу, спрямованого на забезпечення територіальної цілісності України</a:t>
            </a:r>
            <a:r>
              <a:rPr b="0" lang="ru-RU" sz="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Прямоугольник 6"/>
          <p:cNvSpPr/>
          <p:nvPr/>
        </p:nvSpPr>
        <p:spPr>
          <a:xfrm>
            <a:off x="2286000" y="714240"/>
            <a:ext cx="52862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rbel"/>
              </a:rPr>
              <a:t>Зовнішня політика І.Виговсько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Прямая со стрелкой 8" descr=""/>
          <p:cNvPicPr/>
          <p:nvPr/>
        </p:nvPicPr>
        <p:blipFill>
          <a:blip r:embed="rId2"/>
          <a:stretch/>
        </p:blipFill>
        <p:spPr>
          <a:xfrm>
            <a:off x="2127240" y="1432080"/>
            <a:ext cx="2736720" cy="99360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ая со стрелкой 10" descr=""/>
          <p:cNvPicPr/>
          <p:nvPr/>
        </p:nvPicPr>
        <p:blipFill>
          <a:blip r:embed="rId3"/>
          <a:stretch/>
        </p:blipFill>
        <p:spPr>
          <a:xfrm>
            <a:off x="4730760" y="1444680"/>
            <a:ext cx="384120" cy="98100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ая со стрелкой 12" descr=""/>
          <p:cNvPicPr/>
          <p:nvPr/>
        </p:nvPicPr>
        <p:blipFill>
          <a:blip r:embed="rId4"/>
          <a:stretch/>
        </p:blipFill>
        <p:spPr>
          <a:xfrm>
            <a:off x="4913280" y="1432080"/>
            <a:ext cx="2919600" cy="10666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"/>
          <p:cNvSpPr/>
          <p:nvPr/>
        </p:nvSpPr>
        <p:spPr>
          <a:xfrm>
            <a:off x="1440" y="-3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500040" y="0"/>
          <a:ext cx="1857240" cy="1806480"/>
        </p:xfrm>
        <a:graphic>
          <a:graphicData uri="http://schemas.openxmlformats.org/drawingml/2006/table">
            <a:tbl>
              <a:tblPr/>
              <a:tblGrid>
                <a:gridCol w="1857240"/>
              </a:tblGrid>
              <a:tr h="18064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9:58:23Z</dcterms:created>
  <dc:creator>Admin</dc:creator>
  <dc:description/>
  <dc:language>en-US</dc:language>
  <cp:lastModifiedBy>Admin</cp:lastModifiedBy>
  <dcterms:modified xsi:type="dcterms:W3CDTF">2013-01-18T08:54:26Z</dcterms:modified>
  <cp:revision>55</cp:revision>
  <dc:subject/>
  <dc:title>1. Пригадайте основні військово-політичні події Національно-визвольної війни під проводом Б. Хмельницького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17000000000001024140</vt:lpwstr>
  </property>
</Properties>
</file>