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187-301B-40AA-B8AA-7A4E9C4B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913-1704-4669-8CE9-37FC2EB5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667-F9ED-4076-B408-B4B137A5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2A7-0284-4989-A9C7-F0FF95BD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E326-B085-4A00-AEBD-C14A4C08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583E-C0D2-4D3C-BAAF-7F7E229D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FE02-E804-46EF-BB24-4FAE2880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A6CC-919A-4449-9D13-A2470E7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AB71-CEE3-4142-B366-1A5E23E1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835B-98CA-4170-A515-051C4DB9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E26D-EEBD-4A0F-B03C-E6510740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D52-4749-40AC-8E82-A1BDEBFF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19A-333E-40A0-81ED-44FCFA17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BC84-AD92-4EF5-BF02-684DC536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FAE3-B82D-498D-B6ED-2DF5E7B8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F2F6-7897-4B29-8CA5-C7A24CDE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FF23-FA63-4618-861D-21147857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202-4250-434C-BEF7-8C68D0F5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607-6978-4817-B3E5-7206EE0A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BF9-907A-4409-B28F-82995050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5A8-676B-4793-93FF-99AFCF26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C07-4F8F-42AE-A6D7-ACEA40A0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2A3-1834-4E73-AC1C-7139C46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B90-9E29-44DF-9AFF-47EA73F9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C465-FD15-4EE4-BCF3-7B0B0F1E74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F73B-0D65-4BB5-849E-2CD873A65A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РАДЯНІЗАЦІЯ ЗАХІДНИХ ОБЛАСТЕЙ УКРАЇНИ У ПОВОЄННИЙ ПЕРІОД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42640" y="2819160"/>
            <a:ext cx="6629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рок для 11 клас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Verdana"/>
              </a:rPr>
              <a:t>Автор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: Єфіменко Тетяна Михайлів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читель Фастівського  НВК “Ліцей інформаційних технологій-Спеціалізована загальноосвітня школ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-III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тупенів №9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елігійне пит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им відрізнялось ставлення до релігії жителів Західної України від інших регіонів Україн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ий напрямок релігії був найбільш поширени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представники радянської влади ставились до релігійності західних українців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ричини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ліквідації УГК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рвати духовні основи українства на західноукраїнських земля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унути влив Заходу на території УРС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рвати основу національно-визвольного рух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Львівський собор (березень 1946 р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. Сліпий             Г.Костель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133720" cy="3200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198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Львівський Собо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р ухвалив: «Відкинути постанови Берестейського Собору з 1596 року, ліквідувати Унію, відірватись від Риму і повернутись до нашої батьківської святої Православної Руської Церкви». Греко-Католицька Церква офіційно перестала існува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Собор святого Ю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159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Національно-визвольний ру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ому бійці УПА не припинили боротьбу по закінченню Другої світової війн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и була для УПА війна 1941-1945 рр. Вітчизняною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ому бійці УПА потерпіли поразку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оман Шухеви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174840" cy="5181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21240" y="1523880"/>
            <a:ext cx="3251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Операція “Вісла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947 р. - на території Польщ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чин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збавити УПА підтримки місцевого населен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силити польський вплив на сході Польщ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снов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ідвищився рівень економічного розвитку регіону, покращилась освіта та медици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адянізація відбувалась в умовах опору місцевого населен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адянська влада ігнорувала місцеві національні та релігійні традиц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 уро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Розкрити суперечливі складові та наслідки радянізації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'ясувати особливості процесу відбудови в Західній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Украї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Формувати самостійне ставлення до складних історичних процесів,  розуміння суперечності суспільного житт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Розвивати вміння, спираючись  на попередні знання, розуміти  та аналізувати новий матеріа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лан уро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собливості відбудови в Західній Україні. Формування органів радянської влад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амоліквідація” УГК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Боротьба ОУН-УП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перація “Вісла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рагедія історії не 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ротьбі прав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вди проти неправд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 в боротьбі різних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в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    </a:t>
            </a: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ГЕГ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Чому на територіях західноукраїнських областей необхідна була відбудова господарств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Чим відбудова відрізнялась від інших областей України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Для яких територій відбувалась друга хвиля радянізації? Для яких -  вперш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5867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Радянізація у післявоєнний пері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адянізація – уніфікація всіх сфер життя відповідно до радянських стандарті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кладові: індустріалізація, колективізація, культурна революці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бори до місцевих Рад (контрольовані владою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аправлення з інших областей України фахівців (лікарів, вчителів, інженерів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усифікаці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епресії проти ворогів Радянської влад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Економі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7 травня 1945 р. ЦК КП(б)У і уряд УРСР прийняли постанову "Про заходи по відбудові і дальшому розвитку господарства Львівської, Станіславської, Дрогобицької, Тернопільської, Волинської, Чернівецької областей на 1945 р.". Було взято курс на відбудову і реконструкцію традиційних галузей нафтогазової на Львівщині, лісової, лісопильної і лісохімічної - в районі Карпат, легкої - на Буковині, соледобувної - на Закарпатт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що у 1940 р. підприємства західних областей становили 4,7% загальної кількості підприємств України, то  у 1949 р. — вже 12,6% (у важкій промисловості — відповідно 8,1 і 16,8%)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ціальний наслідок - ліквідовано безробітт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Як відбувались вибор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исьменник А.Дімаров, який  працював у газеті "Радянська Волинь", розповідав, як проходили вибори: "Рано о восьмій у супроводі яструбків почали приходити люди. Лейтенант не дарма лазив на горище. Він просвердлив над обома кабінами по дірці, посадив над кожною по енкаведисту з добре потовченою крейдою в бляшанках. Зайде дядько до кабіни, стане щось писати в бюлетені, а із стелі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йому на шапку чи голову вже сиплеться крейда. Вийде, проголосувавши на двір, а тут енкаведишники: — Ану, наклонись! Чиста шапка чи голова - чеши, чоловіче, додому, а якщо посипана крейдою — паняй до машини”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ss</cp:lastModifiedBy>
  <dcterms:modified xsi:type="dcterms:W3CDTF">2012-08-19T14:05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2000000000001024140</vt:lpwstr>
  </property>
  <property fmtid="{D5CDD505-2E9C-101B-9397-08002B2CF9AE}" pid="3" name="Version">
    <vt:r8>1</vt:r8>
  </property>
</Properties>
</file>