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9B7-2D82-4007-846B-56FA47A6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DE2-B878-47DD-9C73-2C80D800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136-F344-4F26-ADFD-5B7A02FB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C2B-CF53-44AB-9FE2-93C91EAE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EDF1-0426-41D8-A839-4B13E0FC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DFB5-F5C3-4131-93FF-45B8487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D96-C783-47AC-B229-C5C27D8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4349-643A-4EF0-8AA9-F0F84AF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7FEF-36CC-485E-9BD9-ECDE108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3386-587B-4BD5-A4D0-E53794A9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E659-56AC-4B5E-96EA-93E7855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FE7-94B1-46F7-99BD-84EE2A1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25B-F475-4F16-B29A-F6796F3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E59-730E-4334-B701-5A3B640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2237-CA11-49CF-BE9E-0CBF499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307-068B-4E38-8677-DDDE3FF3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E3A-AF0A-4673-8EFE-6C19E53A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8E5-02F8-47AB-99A8-18CCF6E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026-6D9C-4D68-934D-3DD27959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707-9B92-4B13-B852-047E371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E24-2A78-4EBC-98EA-1C289B0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049-21DF-44AB-813D-228EA16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8C1-916D-4F0A-A1C8-8EE1909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1ED-7D3A-48E7-A22D-704BDA4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223-BDC1-4951-A7E6-EB6DB5632E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897-63FB-47BF-9E11-C7D9C3EB2E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РАДЯНІЗАЦІЯ ЗАХІДНИХ ОБЛАСТЕЙ УКРАЇНИ У ПОВОЄННИЙ ПЕРІОД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8191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рок для 11 кл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Verdana"/>
              </a:rPr>
              <a:t>Автор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: Єфіменко Тетяна Михайлі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читель Фастівського  НВК “Ліцей інформаційних технологій-Спеціалізована загальноосвітня школ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-III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тупенів №9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елігійне 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м відрізнялось ставлення до релігії жителів Західної України від інших регіонів Украї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ий напрямок релігії був найбільш поширени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представники радянської влади ставились до релігійності західних українців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ичини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ліквідації УГК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духовні основи українства на західноукраїнських земл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унути влив Заходу на території УРС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основу національно-визвольного рух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Львівський собор (березень 1946 р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. Сліпий             Г.Костель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ьвівсь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р ухвалив: «Відкинути постанови Берестейського Собору з 1596 року, ліквідувати Унію, відірватись від Риму і повернутись до нашої батьківської святої Православної Руської Церкви». Греко-Католицька Церква офіційно перестала існува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обор святого Ю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59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Національно-визвольний ру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не припинили боротьбу по закінченню Другої світової вій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 була для УПА війна 1941-1945 рр. Вітчизняною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потерпіли поразку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ман Шух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74840" cy="5181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21240" y="1523880"/>
            <a:ext cx="3251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перація “Вісла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947 р. - на території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чин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збавити УПА підтримки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силити польський вплив на сході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ідвищився рівень економічного розвитку регіону, покращилась освіта та медици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ізація відбувалась в умовах опору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ська влада ігнорувала місцеві національні та релігійні трад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крити суперечливі складові та наслідки радянізац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'ясувати особливості процесу відбудови в Західній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краї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Формувати самостійне ставлення до складних історичних процесів,  розуміння суперечності суспільного житт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вивати вміння, спираючись  на попередні знання, розуміти  та аналізувати новий матері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обливості відбудови в Західній Україні. Формування органів радянської влад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амоліквідація” УГК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Боротьба ОУН-УП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ерація “Вісла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рагедія історії не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ротьбі прав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и проти неправд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 в боротьбі різни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ГЕГ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ому на територіях західноукраїнських областей необхідна була відбудова госпо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им відбудова відрізнялась від інших областей Україн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Для яких територій відбувалась друга хвиля радянізації? Для яких -  вперш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Радянізація у післявоєнний пері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адянізація – уніфікація всіх сфер життя відповідно до радянських стандар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кладові: індустріалізація, колективізація, культурна револю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бори до місцевих Рад (контрольовані владою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аправлення з інших областей України фахівців (лікарів, вчителів, інженерів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усифіка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пресії проти ворогів Радянської влад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кономі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7 травня 1945 р. ЦК КП(б)У і уряд УРСР прийняли постанову "Про заходи по відбудові і дальшому розвитку господарства Львівської, Станіславської, Дрогобицької, Тернопільської, Волинської, Чернівецької областей на 1945 р.". Було взято курс на відбудову і реконструкцію традиційних галузей нафтогазової на Львівщині, лісової, лісопильної і лісохімічної - в районі Карпат, легкої - на Буковині, соледобувної - на Закарпат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що у 1940 р. підприємства західних областей становили 4,7% загальної кількості підприємств України, то  у 1949 р. — вже 12,6% (у важкій промисловості — відповідно 8,1 і 16,8%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ціальний наслідок - ліквідовано безробітт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Як відбувались вибор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исьменник А.Дімаров, який  працював у газеті "Радянська Волинь", розповідав, як проходили вибори: "Рано о восьмій у супроводі яструбків почали приходити люди. Лейтенант не дарма лазив на горище. Він просвердлив над обома кабінами по дірці, посадив над кожною по енкаведисту з добре потовченою крейдою в бляшанках. Зайде дядько до кабіни, стане щось писати в бюлетені, а із стелі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йому на шапку чи голову вже сиплеться крейда. Вийде, проголосувавши на двір, а тут енкаведишники: — Ану, наклонись! Чиста шапка чи голова - чеши, чоловіче, додому, а якщо посипана крейдою — паняй до машини”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2-08-19T14:05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2000000000001024140</vt:lpwstr>
  </property>
  <property fmtid="{D5CDD505-2E9C-101B-9397-08002B2CF9AE}" pid="3" name="Version">
    <vt:r8>1</vt:r8>
  </property>
</Properties>
</file>