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F07C-BD0D-4E7B-9643-6D21CB427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A9AC-CA14-4E58-B78D-253C4076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A472-020C-4E62-9F7C-340138193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C7A2-F02D-46A1-BD87-B3427C161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BC4F-9F96-41C6-BE5B-96CA03F7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CDED-AD38-4534-A250-5AE0B4DC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9783-0930-4484-A001-B490FCBF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D6B4-5076-4EC7-9207-81D8838D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BB5F-E416-48A4-A130-EB49A6AD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6F63-CCA1-408E-AC3F-DE61E6C2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75BD-478E-4A99-91D7-99DD4FFD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263C-85BF-4016-A8C2-88CD80BA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12C7-A98A-4B04-8C27-2BB024BA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6274-EE5F-4BB7-9206-A5F9BA47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6DEC-2581-49D6-918C-6374FE07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DF55-37ED-425D-9347-C6BE28AE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FFF4-4069-472A-8B32-FD8E60927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495D-49D4-4965-81CB-B7D82EBA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9D99-9D6B-41FE-9384-D991B84C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86F5-7D2D-4DDF-A8C7-FCB33FB0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37B3-6521-4591-B1E5-23ACE9EB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978E-C08E-458D-9E4A-88F57FEA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8ED5-BA6D-475D-B704-02BF2F3F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E556-7628-4927-9550-BF83444C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98E7-EB15-48FB-B4C3-5952226875F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4E39-C896-41CD-B03F-879A7F5DABE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ccecff"/>
                </a:solidFill>
                <a:latin typeface="Arial"/>
              </a:rPr>
              <a:t>РАДЯНІЗАЦІЯ ЗАХІДНИХ ОБЛАСТЕЙ УКРАЇНИ У ПОВОЄННИЙ ПЕРІОД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142640" y="2819160"/>
            <a:ext cx="6629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Урок для 11 класу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Verdana"/>
              </a:rPr>
              <a:t>Автор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: Єфіменко Тетяна Михайлівн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Вчитель Фастівського  НВК “Ліцей інформаційних технологій-Спеціалізована загальноосвітня школ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-III 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ступенів №9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Релігійне питан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Чим відрізнялось ставлення до релігії жителів Західної України від інших регіонів України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Який напрямок релігії був найбільш поширений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Як представники радянської влади ставились до релігійності західних українців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Причини</a:t>
            </a: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 ліквідації УГКЦ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дірвати духовні основи українства на західноукраїнських земля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сунути влив Заходу на території УРС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дірвати основу національно-визвольного рух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cecff"/>
                </a:solidFill>
                <a:latin typeface="Arial"/>
              </a:rPr>
              <a:t>Львівський собор (березень 1946 р.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. Сліпий             Г.Костельни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2133720" cy="32004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952880" y="2743200"/>
            <a:ext cx="1981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Львівський Собо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-228600" y="14479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ор ухвалив: «Відкинути постанови Берестейського Собору з 1596 року, ліквідувати Унію, відірватись від Риму і повернутись до нашої батьківської святої Православної Руської Церкви». Греко-Католицька Церква офіційно перестала існуват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Собор святого Ю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5159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cecff"/>
                </a:solidFill>
                <a:latin typeface="Arial"/>
              </a:rPr>
              <a:t>Національно-визвольний рух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Чому бійці УПА не припинили боротьбу по закінченню Другої світової війни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Чи була для УПА війна 1941-1945 рр. Вітчизняною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Чому бійці УПА потерпіли поразку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Роман Шухевич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174840" cy="51814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521240" y="1523880"/>
            <a:ext cx="32511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Операція “Вісла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1947 р. - на території Польщ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ричини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озбавити УПА підтримки місцевого населенн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осилити польський вплив на сході Польщ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086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иснов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ідвищився рівень економічного розвитку регіону, покращилась освіта та медици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Радянізація відбувалась в умовах опору місцевого населенн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Радянська влада ігнорувала місцеві національні та релігійні традиції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Мета урок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Розкрити суперечливі складові та наслідки радянізації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З'ясувати особливості процесу відбудови в Західній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Україні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Формувати самостійне ставлення до складних історичних процесів,  розуміння суперечності суспільного житт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Розвивати вміння, спираючись  на попередні знання, розуміти  та аналізувати новий матеріа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План урок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Особливості відбудови в Західній Україні. Формування органів радянської влад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Самоліквідація” УГКЦ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Боротьба ОУН-УП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Операція “Вісла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-360" y="457200"/>
            <a:ext cx="883908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                       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рагедія історії не в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                            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боротьбі правд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                             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равди проти неправди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                             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а в боротьбі різних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                             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равд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                                  </a:t>
            </a:r>
            <a:r>
              <a:rPr b="1" i="1" lang="uk-UA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i="1" lang="uk-UA" sz="2800" spc="-1" strike="noStrike">
                <a:solidFill>
                  <a:srgbClr val="ffffff"/>
                </a:solidFill>
                <a:latin typeface="Verdana"/>
              </a:rPr>
              <a:t>ГЕГЕЛ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Чому на територіях західноукраїнських областей необхідна була відбудова господарства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Чим відбудова відрізнялась від інших областей України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Для яких територій відбувалась друга хвиля радянізації? Для яких -  вперше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5867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Радянізація у післявоєнний пері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Радянізація – уніфікація всіх сфер життя відповідно до радянських стандарті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Складові: індустріалізація, колективізація, культурна революці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Вибори до місцевих Рад (контрольовані владою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Направлення з інших областей України фахівців (лікарів, вчителів, інженерів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Русифікаці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Репресії проти ворогів Радянської влад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Економі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7 травня 1945 р. ЦК КП(б)У і уряд УРСР прийняли постанову "Про заходи по відбудові і дальшому розвитку господарства Львівської, Станіславської, Дрогобицької, Тернопільської, Волинської, Чернівецької областей на 1945 р.". Було взято курс на відбудову і реконструкцію традиційних галузей нафтогазової на Львівщині, лісової, лісопильної і лісохімічної - в районі Карпат, легкої - на Буковині, соледобувної - на Закарпатт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що у 1940 р. підприємства західних областей становили 4,7% загальної кількості підприємств України, то  у 1949 р. — вже 12,6% (у важкій промисловості — відповідно 8,1 і 16,8%)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ціальний наслідок - ліквідовано безробітт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ecff"/>
                </a:solidFill>
                <a:latin typeface="Arial"/>
              </a:rPr>
              <a:t>Як відбувались вибор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Письменник А.Дімаров, який  працював у газеті "Радянська Волинь", розповідав, як проходили вибори: "Рано о восьмій у супроводі яструбків почали приходити люди. Лейтенант не дарма лазив на горище. Він просвердлив над обома кабінами по дірці, посадив над кожною по енкаведисту з добре потовченою крейдою в бляшанках. Зайде дядько до кабіни, стане щось писати в бюлетені, а із стелі 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йому на шапку чи голову вже сиплеться крейда. Вийде, проголосувавши на двір, а тут енкаведишники: — Ану, наклонись! Чиста шапка чи голова - чеши, чоловіче, додому, а якщо посипана крейдою — паняй до машини”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ss</cp:lastModifiedBy>
  <dcterms:modified xsi:type="dcterms:W3CDTF">2012-08-19T14:05:43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2000000000001024140</vt:lpwstr>
  </property>
  <property fmtid="{D5CDD505-2E9C-101B-9397-08002B2CF9AE}" pid="3" name="Version">
    <vt:r8>1</vt:r8>
  </property>
</Properties>
</file>