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09C-BBF3-4735-B012-43A53080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069-A47B-49A2-B0E9-D072DED9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8CB-82C1-4F0F-9014-BD179413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D4D9-6AD5-433A-92F7-98BE29F2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F974-2639-493F-BE24-28583A44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5F0B-D6D8-461F-8999-A695F43F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9573-4BCE-422F-8508-7FE4FBD6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434B-339B-4333-AD61-68C9A4C3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2390-FAA2-4E71-93FC-9D3A9AAB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8AA1-1CCE-4DBD-8225-6EA57E46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BBE5-857E-40C6-B4F9-8B849242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36B-90BF-44E6-B1C6-96E01665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E900-118C-493D-965D-025F020D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1FF6-D065-45D9-930C-E1EC9C02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C18C-B390-4E89-89D3-40AE4C84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15ED-6C29-4822-82B9-AF2FAEAC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DA09-CAC5-4B0F-8A12-4987D866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17F-6E5E-4597-9F0A-5CC6EC1F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FA6-7C98-46EB-A074-1E8C7802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944-0D13-4EDA-897A-365BDAC5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8839-F632-408E-852F-A0EADE09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8EC-3268-4F0B-A68D-84990C0A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8C2-2BB7-42AE-8900-1D1282F0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514-5770-4883-9470-8A973CD7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721C-4383-44BD-A939-4D314A0B718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C1D3-7B90-4CB4-A708-66EC7E8AFD4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ecff"/>
                </a:solidFill>
                <a:latin typeface="Arial"/>
              </a:rPr>
              <a:t>РАДЯНІЗАЦІЯ ЗАХІДНИХ ОБЛАСТЕЙ УКРАЇНИ У ПОВОЄННИЙ ПЕРІОД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42640" y="2819160"/>
            <a:ext cx="6629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Урок для 11 клас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Verdana"/>
              </a:rPr>
              <a:t>Автор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: Єфіменко Тетяна Михайлів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читель Фастівського  НВК “Ліцей інформаційних технологій-Спеціалізована загальноосвітня школ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-III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тупенів №9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Релігійне пит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Чим відрізнялось ставлення до релігії жителів Західної України від інших регіонів Україн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ий напрямок релігії був найбільш поширений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Як представники радянської влади ставились до релігійності західних українців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Причини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ліквідації УГК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ірвати духовні основи українства на західноукраїнських земля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унути влив Заходу на території УРС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ірвати основу національно-визвольного рух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Львівський собор (березень 1946 р.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. Сліпий             Г.Костельн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2133720" cy="3200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1981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Львівський Собо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228600" y="1447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р ухвалив: «Відкинути постанови Берестейського Собору з 1596 року, ліквідувати Унію, відірватись від Риму і повернутись до нашої батьківської святої Православної Руської Церкви». Греко-Католицька Церква офіційно перестала існува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Собор святого Ю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5159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Національно-визвольний рух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Чому бійці УПА не припинили боротьбу по закінченню Другої світової війн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Чи була для УПА війна 1941-1945 рр. Вітчизняною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Чому бійці УПА потерпіли поразку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Роман Шухеви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174840" cy="5181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521240" y="1523880"/>
            <a:ext cx="3251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Операція “Вісла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1947 р. - на території Польщ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чин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збавити УПА підтримки місцевого населенн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осилити польський вплив на сході Польщ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иснов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ідвищився рівень економічного розвитку регіону, покращилась освіта та медици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Радянізація відбувалась в умовах опору місцевого населенн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Радянська влада ігнорувала місцеві національні та релігійні традиці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Мета урок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Розкрити суперечливі складові та наслідки радянізації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З'ясувати особливості процесу відбудови в Західній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Україн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Формувати самостійне ставлення до складних історичних процесів,  розуміння суперечності суспільного житт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Розвивати вміння, спираючись  на попередні знання, розуміти  та аналізувати новий матеріа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План урок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Особливості відбудови в Західній Україні. Формування органів радянської влад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амоліквідація” УГКЦ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Боротьба ОУН-УП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Операція “Вісла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83908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Трагедія історії не 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боротьбі прав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авди проти неправд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а в боротьбі різних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ав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                               </a:t>
            </a:r>
            <a:r>
              <a:rPr b="1" i="1" lang="uk-UA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uk-UA" sz="2800" spc="-1" strike="noStrike">
                <a:solidFill>
                  <a:srgbClr val="ffffff"/>
                </a:solidFill>
                <a:latin typeface="Verdana"/>
              </a:rPr>
              <a:t>ГЕГЕ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Чому на територіях західноукраїнських областей необхідна була відбудова господарств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Чим відбудова відрізнялась від інших областей України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Для яких територій відбувалась друга хвиля радянізації? Для яких -  вперш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5867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Радянізація у післявоєнний пері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адянізація – уніфікація всіх сфер життя відповідно до радянських стандарті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Складові: індустріалізація, колективізація, культурна революці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Вибори до місцевих Рад (контрольовані владою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Направлення з інших областей України фахівців (лікарів, вчителів, інженерів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усифікаці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Репресії проти ворогів Радянської влад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Економі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7 травня 1945 р. ЦК КП(б)У і уряд УРСР прийняли постанову "Про заходи по відбудові і дальшому розвитку господарства Львівської, Станіславської, Дрогобицької, Тернопільської, Волинської, Чернівецької областей на 1945 р.". Було взято курс на відбудову і реконструкцію традиційних галузей нафтогазової на Львівщині, лісової, лісопильної і лісохімічної - в районі Карпат, легкої - на Буковині, соледобувної - на Закарпатт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що у 1940 р. підприємства західних областей становили 4,7% загальної кількості підприємств України, то  у 1949 р. — вже 12,6% (у важкій промисловості — відповідно 8,1 і 16,8%)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ціальний наслідок - ліквідовано безробітт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ecff"/>
                </a:solidFill>
                <a:latin typeface="Arial"/>
              </a:rPr>
              <a:t>Як відбувались вибор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исьменник А.Дімаров, який  працював у газеті "Радянська Волинь", розповідав, як проходили вибори: "Рано о восьмій у супроводі яструбків почали приходити люди. Лейтенант не дарма лазив на горище. Він просвердлив над обома кабінами по дірці, посадив над кожною по енкаведисту з добре потовченою крейдою в бляшанках. Зайде дядько до кабіни, стане щось писати в бюлетені, а із стелі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йому на шапку чи голову вже сиплеться крейда. Вийде, проголосувавши на двір, а тут енкаведишники: — Ану, наклонись! Чиста шапка чи голова - чеши, чоловіче, додому, а якщо посипана крейдою — паняй до машини”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ss</cp:lastModifiedBy>
  <dcterms:modified xsi:type="dcterms:W3CDTF">2012-08-19T14:05:4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2000000000001024140</vt:lpwstr>
  </property>
  <property fmtid="{D5CDD505-2E9C-101B-9397-08002B2CF9AE}" pid="3" name="Version">
    <vt:r8>1</vt:r8>
  </property>
</Properties>
</file>