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7.jpeg" ContentType="image/jpeg"/>
  <Override PartName="/ppt/media/image35.gif" ContentType="image/gif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36F-EC80-4E91-A888-FE21C931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02F-AC5A-462C-BE13-213B3A8D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66D-6AB7-4097-9283-F77F88D6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C7C-5437-4BA9-97C0-7A281357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AAA1-BE87-4084-AA03-88FC53B2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A5DB-11B6-457E-96D9-4AC7F7C5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A42A-BA3D-424D-9648-8FD9B57E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FE35-1FAC-45F0-821A-BEB8DFCC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C8E2-F5ED-4233-8690-1EE03FC4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148B-F04B-4228-AD61-B07A5B22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52FA-9E9B-47B5-A18A-7D048FB0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2B6-AF49-42AE-BC2C-26A6DA4D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8836-9B73-4C58-A956-54764EC1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4C1C-4EE7-4EA4-B791-3ADED3D1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7F60-19A4-48E4-9132-325D45FF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36AD-ED4F-42AB-9BA8-8B982B2C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7BE7-1681-4E54-936D-13A439E8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6B3-8825-4B18-A520-2AD3232A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1D9-5FB7-4322-8D4C-0FEC3CD5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DAC-49DB-4481-8CC5-AF64EFD8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0E4D-8DCD-404F-A300-A7C5ECEA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501A-92A6-44D3-AAAA-A090F9AE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359-44FB-4A29-B9C3-FF265916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BAB-4238-421B-A80C-75DA8C15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56D7-BE21-4E19-82BF-CC60E60D3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8101-73D6-41CC-BB2D-AA7C23A8E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b39257"/>
                </a:solidFill>
                <a:latin typeface="Arial"/>
              </a:rPr>
              <a:t>                    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ОЛОДОМОР 1932-1933 РР.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ЕНОЦИД УКРАЇНСЬКОГО НАР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и хоч плач, хоч ридай, а заяву в СОЗ пода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юди плачі, всюди крики, селян учать, як їм жи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елянин без землі – як птаха без кр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лін хліба захотів, та й придумав куркул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ж та їж, бо у СОЗі не даду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алін землю відібрав, наче руки відірва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уксир ходить попід хати. щоб у людей хліб забра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олод, голод в нашій хаті – ніщо їсти, ніде спа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Як стали робить на трудодні, то настали чорні д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рахувала 300 день – дайте хліба хоч на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й за тії колоски відбула я в Соло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 у СОЗі добре жить: один робить – сто леж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ша більшовицька весна і голодна, і піс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08120" y="1600200"/>
            <a:ext cx="353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32080" y="984240"/>
            <a:ext cx="62784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20880" y="277920"/>
            <a:ext cx="73008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50960" y="728640"/>
            <a:ext cx="58402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Розгортання Голодомору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сильницьке вилучення всі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пас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Закон про п’ять колоскі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туральні штраф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локада голодуючих мешкан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кремих територій та всієї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092560" y="1600200"/>
            <a:ext cx="314964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04776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Розгортання Голодомору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Чорні дошки» = смертний ви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внутрішніх паспортів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іс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борона виїзду за межі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за хліб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33560" y="1600200"/>
            <a:ext cx="2886120" cy="2185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057320" y="3938760"/>
            <a:ext cx="2838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Свідчення очевидців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Шевцова Тетяна Корніївна, народилася 26.05.1924 р. у селі Прокопі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м’ятаю голод 1932-1933 рр. доб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ичиною голоду були податки і засуха. 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юдей відбирали все вирощене на городі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они забирали все. За те, що вони забира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 людей продукти їх нагороджували. Так ц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незами застосовували побиття, склада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яву на ту людину, яка не віддавала харч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езадовго вивозили куди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ули такі, які ходили із залізними палицям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ишпорили у хатах, хлівах, льохах. Їх зва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«десятники». До хати їх приходило чоловік 5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6. Записували в колгосп. Хто з села йш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бирати колоски пшениці у полі, то їм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зволяли і б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оді всі поля охоронялися сторож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юдей силою заставляли йти в колгосп д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их менше приходили до хати, а ті, хто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писався могли прийти по-декілька раз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ень, навіть уноч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238720" y="1600200"/>
            <a:ext cx="285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Голод на Шосткинщині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Старцева Анна Дмитрі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Народилася в 1926 р. Мешкає за адресою: м. Шостка, вул. Красна буд. 1 кв. 8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932 рік був неврожайний. Все зерно держава забрала до зернини. Хліб, який пекли зимою 1933 р., пекли з шалу пайок і гречаної полови. Він був чорний як земля. Весною, коли полову з’їли, почався страшний голод. У травні місяці на луках почав рости кінський щавель, з якого варили борщ. Багато людей повмирало наївшись молодого зер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71560" y="1600200"/>
            <a:ext cx="3209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374840" y="896760"/>
            <a:ext cx="63943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15880" y="976320"/>
            <a:ext cx="631224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490680"/>
            <a:ext cx="822960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862280" y="690480"/>
            <a:ext cx="541944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68160" y="1600200"/>
            <a:ext cx="3616560" cy="4525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853160" y="1600200"/>
            <a:ext cx="362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409680"/>
            <a:ext cx="82296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Наслідки Голодомору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146240" y="1600200"/>
            <a:ext cx="2660760" cy="21859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Україні від Голодомору вмира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7 людей щохвили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 тисяча – щогоди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5 тисяч – що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143000" y="4213080"/>
            <a:ext cx="26668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6633"/>
                </a:solidFill>
                <a:latin typeface="Arial"/>
              </a:rPr>
              <a:t>Великий голодомо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1932-1933 рр. в Україні забрав життя від </a:t>
            </a:r>
            <a:r>
              <a:rPr b="0" lang="uk-UA" sz="2800" spc="-1" strike="noStrike">
                <a:solidFill>
                  <a:srgbClr val="666633"/>
                </a:solidFill>
                <a:latin typeface="Arial"/>
              </a:rPr>
              <a:t>7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lang="uk-UA" sz="2800" spc="-1" strike="noStrike">
                <a:solidFill>
                  <a:srgbClr val="666633"/>
                </a:solidFill>
                <a:latin typeface="Arial"/>
              </a:rPr>
              <a:t>10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лн невинних жер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997520" y="1600200"/>
            <a:ext cx="334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6633"/>
                </a:solidFill>
                <a:latin typeface="Arial"/>
              </a:rPr>
              <a:t>Голодомо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це зумисне організований радянською владою у 1932-1933 рр. штучний голод, який призвів до смерті мільйони українців і є геноцидом українського на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11472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йтяжче постраждали від Голодомо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•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лтавс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2400" spc="-1" strike="noStrike">
                <a:solidFill>
                  <a:srgbClr val="666633"/>
                </a:solidFill>
                <a:latin typeface="Arial"/>
              </a:rPr>
              <a:t>• </a:t>
            </a:r>
            <a:r>
              <a:rPr b="0" lang="uk-UA" sz="2400" spc="-1" strike="noStrike" u="sng">
                <a:solidFill>
                  <a:srgbClr val="666633"/>
                </a:solidFill>
                <a:uFillTx/>
                <a:latin typeface="Arial"/>
              </a:rPr>
              <a:t>Сумс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•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арківс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•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еркас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•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иївс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•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Житомирсь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бла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2496960"/>
            <a:ext cx="40384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b39257"/>
                </a:solidFill>
                <a:latin typeface="Arial"/>
              </a:rPr>
              <a:t>Країни, що визнали Голодомор 1932-1933 рр. геноцидом українського народу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395360" y="1600200"/>
            <a:ext cx="6351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b39257"/>
                </a:solidFill>
                <a:latin typeface="Arial"/>
              </a:rPr>
              <a:t>Вшанування пам</a:t>
            </a:r>
            <a:r>
              <a:rPr b="0" lang="uk-UA" sz="4000" spc="-1" strike="noStrike">
                <a:solidFill>
                  <a:srgbClr val="b39257"/>
                </a:solidFill>
                <a:latin typeface="Arial"/>
                <a:ea typeface="Arial"/>
              </a:rPr>
              <a:t>’</a:t>
            </a:r>
            <a:r>
              <a:rPr b="0" lang="uk-UA" sz="4000" spc="-1" strike="noStrike">
                <a:solidFill>
                  <a:srgbClr val="b39257"/>
                </a:solidFill>
                <a:latin typeface="Arial"/>
              </a:rPr>
              <a:t>яті жертв Голодомору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8 листопада 2006 року за пропозицією Президента України В.Ющенка Верховна Рада України ухвалила </a:t>
            </a:r>
            <a:r>
              <a:rPr b="0" lang="uk-UA" sz="1800" spc="-1" strike="noStrike">
                <a:solidFill>
                  <a:srgbClr val="666633"/>
                </a:solidFill>
                <a:latin typeface="Arial"/>
              </a:rPr>
              <a:t>Закон «Про Голодомор 1932-1933 рр. в Україні”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в якому заявле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«Стаття 1. Голодомор 1932-1933 рр. в Україні є геноцидом українського на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Стаття 2. Публічне заперечення Голодомору в 1932-1933 рр. в Україні визнається наругою над пам’яттю мільйонів жертв Голодомору, приниженням гідності українського народу і є протиправни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121360" y="1600200"/>
            <a:ext cx="3092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Щорічно в Дні пам’яті жертв Голодомору в Україні відбувається всеукраїнська акція «Запали свічку» та Поминальні панахид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960480" y="1600200"/>
            <a:ext cx="3031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, миттєвосте, сті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й хвилин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спокуту до Пам’яті й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 хрестах я вивчаю род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Й колосок на надгріб’я  кла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.Забарний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2214720"/>
            <a:ext cx="40384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71560" y="1600200"/>
            <a:ext cx="3208320" cy="4525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067360" y="1600200"/>
            <a:ext cx="320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1720" y="274320"/>
            <a:ext cx="700056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79" name="Picture 2" descr="C:\Documents and Settings\Администратор\Рабочий стол\0b34faa04ed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Очікувані результати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знайомитися з історичними передумовами виникнення Голодомо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знайомитися з політикою комуністичної партії більшовиків спрямованої проти українського нар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характеризувати наслідки Голодомо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стежити, як висвітлено питання Голодомору в українській літературі та фольклор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відатися про свідків Голодомору на Шосткинщині, їхні спог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’ясувати як вшановують пам'ять загиблих від голоду в 1932-1933 р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спілкуватися зі своїми однокласниками, а також розвивати навички виступу перед аудиторіє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розуміти, що саме ми можемо зробити сьогодні, щоб в майбутньому такі події не повторювал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39257"/>
                </a:solidFill>
                <a:latin typeface="Arial"/>
              </a:rPr>
              <a:t>Причини Голодомору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008240" cy="2917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3280" y="1557000"/>
            <a:ext cx="4043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уцільна насильницьк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лективіз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посильні для селян     хлібозаготів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сильницьке вилучення хліба 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довольчих запасів у сел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дмірний хлібний ек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изький ентузіазм селян працювати в колективних господарств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асовий терор проти селя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ономічні прорахунки, спро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дійснити соціалістичне   будівництво воєнно-комуністичними мет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націоналізація і геноц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55640" y="4437000"/>
            <a:ext cx="3429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698480" y="770040"/>
            <a:ext cx="574524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20720" y="988920"/>
            <a:ext cx="590076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328760" y="1057320"/>
            <a:ext cx="648648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b39257"/>
                </a:solidFill>
                <a:latin typeface="Arial"/>
              </a:rPr>
              <a:t>Висвітлення Голодомору в українській літературі та фольклорі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атьку Сталін, подиви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 ми в СОЗі розжили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ата раком, клуня бо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и коняки з одним о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 на хаті серп і моло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 у хаті смерть і гол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Ціле літечко роби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о гречки зароби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іло гречки, два яч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 й журюся, де я зм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е шукайте домов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атько з’їв свою дит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бичем ходить бригади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ганяє у Сибі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830840" y="1600200"/>
            <a:ext cx="367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7:30:37Z</dcterms:created>
  <dc:creator>User_KM</dc:creator>
  <dc:description/>
  <dc:language>en-US</dc:language>
  <cp:lastModifiedBy>User_KM</cp:lastModifiedBy>
  <dcterms:modified xsi:type="dcterms:W3CDTF">2010-11-30T12:18:23Z</dcterms:modified>
  <cp:revision>3</cp:revision>
  <dc:subject/>
  <dc:title>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17000000000001024140</vt:lpwstr>
  </property>
</Properties>
</file>