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F28-EC26-4BE1-95A3-AACC74EC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78D-8A15-4E86-9D60-818EA3D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EF5-5172-4473-87F5-14597CB3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9B1-2555-48F5-8EE6-16B9CF3F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1F6-36B5-47A9-B008-80D830D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C84-477C-4CD6-BF8D-A01AFDBB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820-72BC-41C6-96FC-BB04050C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EA6C-B138-4AA6-BCC1-31DB0175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52FC-7E45-4E3E-857E-649AA5E4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701A-2DCD-43D4-8585-6B378E0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FA9-EB34-406F-82B8-55261D5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6E5-3337-4ABB-880A-4F3C31FE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F859-6589-4775-8BBD-73EEB3DE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BD8D-DD60-47A8-BF99-E3F4E39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4291-E79C-4228-92A4-85FF71B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7C59-D2CF-4529-80FA-A219386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5E95-9108-469C-BE0B-7E96698E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754-A11A-47D4-8D28-6DFD783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EFC-45C9-4B89-A8C4-B0AE7FD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090-2970-4137-9032-120A0DC0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D46-6D73-4535-97B5-8CC4F16C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5EF-6923-47A6-9AD4-0E1CB2C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153-FB61-4591-9C6B-4955A9F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F56-8878-472A-A922-0B83322A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F32B-A34A-4E58-85C5-098C079B8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A181-6F24-4487-897F-BE182A46B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39257"/>
                </a:solidFill>
                <a:latin typeface="Arial"/>
              </a:rPr>
              <a:t>                    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ДОМОР 1932-1933 РР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ЕНОЦИД УКРАЇНСЬКОГО НА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и хоч плач, хоч ридай, а заяву в СОЗ под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юди плачі, всюди крики, селян учать, як їм жи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елянин без землі – як птаха без кр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хліба захотів, та й придумав куркул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ж та їж, бо у СОЗі не дад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землю відібрав, наче руки відір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ксир ходить попід хати. щоб у людей хліб забр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лод, голод в нашій хаті – ніщо їсти, ніде сп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к стали робить на трудодні, то настали чорні 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рахувала 300 день – дайте хліба хоч на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й за тії колоски відбула я в Сол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 у СОЗі добре жить: один робить – сто ле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ша більшовицька весна і голодна, і пі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8120" y="1600200"/>
            <a:ext cx="353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32080" y="984240"/>
            <a:ext cx="62784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20880" y="277920"/>
            <a:ext cx="73008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50960" y="728640"/>
            <a:ext cx="58402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ильницьке вилучення всі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па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кон про п’ять колоскі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туральні штраф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локада голодуючих мешкан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кремих територій та всієї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92560" y="1600200"/>
            <a:ext cx="314964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477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Чорні дошки» = смертний ви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внутрішніх паспортів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орона виїзду за межі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 хліб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288612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57320" y="3938760"/>
            <a:ext cx="2838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Свідчення очевидців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Шевцова Тетяна Корніївна, народилася 26.05.1924 р. у селі Прокопі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м’ятаю голод 1932-1933 рр. доб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чиною голоду були податки і засуха. 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відбирали все вирощене на город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ни забирали все. За те, що вони забир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людей продукти їх нагороджували. Так 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незами застосовували побиття, склад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яву на ту людину, яка не віддавала харч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езадовго вивозили куд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ли такі, які ходили із залізними палиця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шпорили у хатах, хлівах, льохах. Їх з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«десятники». До хати їх приходило чоловік 5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Записували в колгосп. Хто з села йш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бирати колоски пшениці у полі, то їм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ли і б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ді всі поля охоронялися сторож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силою заставляли йти в колгосп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х менше приходили до хати, а ті, хто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исався могли прийти по-декілька раз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нь, навіть уноч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Голод на Шосткинщині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тарцева Анна Дмит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родилася в 1926 р. Мешкає за адресою: м. Шостка, вул. Красна буд. 1 кв. 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2 рік був неврожайний. Все зерно держава забрала до зернини. Хліб, який пекли зимою 1933 р., пекли з шалу пайок і гречаної полови. Він був чорний як земля. Весною, коли полову з’їли, почався страшний голод. У травні місяці на луках почав рости кінський щавель, з якого варили борщ. Багато людей повмирало наївшись молод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4840" y="896760"/>
            <a:ext cx="6394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15880" y="976320"/>
            <a:ext cx="63122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490680"/>
            <a:ext cx="82296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862280" y="690480"/>
            <a:ext cx="54194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8160" y="1600200"/>
            <a:ext cx="361656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853160" y="1600200"/>
            <a:ext cx="362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40968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Наслідк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60760" cy="2185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країні від Голодомору вмир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7 людей щохвил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тисяча – щогод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тисяч – щ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143000" y="4213080"/>
            <a:ext cx="2666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Великий 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932-1933 рр. в Україні забрав життя від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10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лн невинних жер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це зумисне організований радянською владою у 1932-1933 рр. штучний голод, який призвів до смерті мільйони українців і є геноцидом українського на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1472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тяжче постраждали від Голодом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та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666633"/>
                </a:solidFill>
                <a:latin typeface="Arial"/>
              </a:rPr>
              <a:t>• </a:t>
            </a:r>
            <a:r>
              <a:rPr b="0" lang="uk-UA" sz="2400" spc="-1" strike="noStrike" u="sng">
                <a:solidFill>
                  <a:srgbClr val="666633"/>
                </a:solidFill>
                <a:uFillTx/>
                <a:latin typeface="Arial"/>
              </a:rPr>
              <a:t>Сум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кі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ка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иї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итомирсь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Країни, що визнали Голодомор 1932-1933 рр. геноцидом українського нар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95360" y="1600200"/>
            <a:ext cx="635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Вшанування пам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  <a:ea typeface="Arial"/>
              </a:rPr>
              <a:t>’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яті жертв Голодомору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 листопада 2006 року за пропозицією Президента України В.Ющенка Верховна Рада України ухвалила </a:t>
            </a:r>
            <a:r>
              <a:rPr b="0" lang="uk-UA" sz="1800" spc="-1" strike="noStrike">
                <a:solidFill>
                  <a:srgbClr val="666633"/>
                </a:solidFill>
                <a:latin typeface="Arial"/>
              </a:rPr>
              <a:t>Закон «Про Голодомор 1932-1933 рр. в Україні”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в якому за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«Стаття 1. Голодомор 1932-1933 рр. в Україні є геноцидом українського на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таття 2. Публічне заперечення Голодомору в 1932-1933 рр. в Україні визнається наругою над пам’яттю мільйонів жертв Голодомору, приниженням гідності українського народу і є протиправн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21360" y="1600200"/>
            <a:ext cx="309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о в Дні пам’яті жертв Голодомору в Україні відбувається всеукраїнська акція «Запали свічку» та Поминальні панахид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, миттєвосте, сті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й хвил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спокуту до Пам’яті й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 хрестах я вивчаю р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 колосок на надгріб’я  кл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Забарний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832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06736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0005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9" name="Picture 2" descr="C:\Documents and Settings\Администратор\Рабочий стол\0b34faa04ed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Очікувані результати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історичними передумовами виникнення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політикою комуністичної партії більшовиків спрямованої проти українського на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характеризувати наслідки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стежити, як висвітлено питання Голодомору в українській літературі та фольклор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датися про свідків Голодомору на Шосткинщині, їхні спог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’ясувати як вшановують пам'ять загиблих від голоду в 1932-1933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пілкуватися зі своїми однокласниками, а також розвивати навички виступу перед аудитор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розуміти, що саме ми можемо зробити сьогодні, щоб в майбутньому такі події не повторювал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Причин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008240" cy="291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155700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цільна насильниць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сильні для селян     хлібозаготів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сильницьке вилучення хліба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ольчих запасів у се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мірний хлібний е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зький ентузіазм селян працювати в колективних господарст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совий терор проти селя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і прорахунки, сп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ити соціалістичне   будівництво воєнно-комуністичними мет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націоналізація і гено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98480" y="770040"/>
            <a:ext cx="57452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20720" y="988920"/>
            <a:ext cx="5900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28760" y="1057320"/>
            <a:ext cx="64864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Висвітлення Голодомору в українській літературі та фольклорі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у Сталін, подиви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 ми в СОЗі розжили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та раком, клуня б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и коняки з одним 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на хаті серп і мол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у хаті смерть і гол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ле літечко 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 за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, два яч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й журюся, де я зм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шукайте домо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о з’їв свою ди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бичем ходить бригад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няє у Сибі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30840" y="16002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30:37Z</dcterms:created>
  <dc:creator>User_KM</dc:creator>
  <dc:description/>
  <dc:language>en-US</dc:language>
  <cp:lastModifiedBy>User_KM</cp:lastModifiedBy>
  <dcterms:modified xsi:type="dcterms:W3CDTF">2010-11-30T12:18:23Z</dcterms:modified>
  <cp:revision>3</cp:revision>
  <dc:subject/>
  <dc:title>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7000000000001024140</vt:lpwstr>
  </property>
</Properties>
</file>