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7.jpeg" ContentType="image/jpeg"/>
  <Override PartName="/ppt/media/image35.gif" ContentType="image/gif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113A-7C00-4D96-8C86-8591E071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0D7-629A-4AA1-9CBD-EF3D7917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9ECD-5523-40F5-9F25-1FD4E9C7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228-D932-4215-A594-A60FEC1A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1F75-1180-4245-8713-CF23519B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61AF-DB12-4101-ABDA-F0761F46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8E22-4941-4B45-A958-C5E51734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3513-C7A3-45A6-8084-C5A7F02E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1AF1-5CDA-475E-9496-65754402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93C6-BDED-4D18-A1A5-449E962A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B225-DDBC-4C67-BFAA-3E29271F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51B-64BE-4E23-B444-0624BBA5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675A-77CF-4509-AA9F-D0B5AAF0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D2D8-0E3D-4C77-BD20-C48005E9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8800-B6FC-46F3-BC94-015AE581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5D3B-384F-4ADD-B15D-FFB3B75C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E9B0-0726-4AE7-A227-61AAA7E6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53D7-BFBD-4500-8999-2DDFADC0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C7A-66BF-4C42-B0D8-21D6F7A5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52B-D3BD-427A-B0BB-0F66B2DA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301-151E-4AC1-83C3-8FDCB2D4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80E-639D-4D56-A8E7-D2ECF0A2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57B-1B82-4B14-AC15-89D5CA66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2F50-A6A0-405A-978C-BB678A78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7FA2-9542-433B-B3C4-160EFCA22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3E16-4D13-4060-BA63-E253738DC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b39257"/>
                </a:solidFill>
                <a:latin typeface="Arial"/>
              </a:rPr>
              <a:t>                    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ГОЛОДОМОР 1932-1933 РР.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ГЕНОЦИД УКРАЇНСЬКОГО НАР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и хоч плач, хоч ридай, а заяву в СОЗ пода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сюди плачі, всюди крики, селян учать, як їм жи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елянин без землі – як птаха без кри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лін хліба захотів, та й придумав куркулі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ж та їж, бо у СОЗі не даду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лін землю відібрав, наче руки відірва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уксир ходить попід хати. щоб у людей хліб забра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олод, голод в нашій хаті – ніщо їсти, ніде спа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Як стали робить на трудодні, то настали чорні д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рахувала 300 день – дайте хліба хоч на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й за тії колоски відбула я в Солов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 у СОЗі добре жить: один робить – сто леж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ша більшовицька весна і голодна, і піс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08120" y="1600200"/>
            <a:ext cx="353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32080" y="984240"/>
            <a:ext cx="62784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20880" y="277920"/>
            <a:ext cx="73008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50960" y="728640"/>
            <a:ext cx="584028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39257"/>
                </a:solidFill>
                <a:latin typeface="Arial"/>
              </a:rPr>
              <a:t>Розгортання Голодомору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сильницьке вилучення всі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пас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«Закон про п’ять колоскі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туральні штраф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локада голодуючих мешкан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кремих територій та всієї Украї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092560" y="1600200"/>
            <a:ext cx="3149640" cy="2185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304776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39257"/>
                </a:solidFill>
                <a:latin typeface="Arial"/>
              </a:rPr>
              <a:t>Розгортання Голодомору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«Чорні дошки» = смертний ви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внутрішніх паспортів 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іс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борона виїзду за межі Украї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«за хліб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33560" y="1600200"/>
            <a:ext cx="2886120" cy="2185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057320" y="3938760"/>
            <a:ext cx="2838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39257"/>
                </a:solidFill>
                <a:latin typeface="Arial"/>
              </a:rPr>
              <a:t>Свідчення очевидців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Arial"/>
              </a:rPr>
              <a:t>Шевцова Тетяна Корніївна, народилася 26.05.1924 р. у селі Прокопі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м’ятаю голод 1932-1933 рр. доб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ичиною голоду були податки і засуха. 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юдей відбирали все вирощене на городі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они забирали все. За те, що вони забира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 людей продукти їх нагороджували. Так ц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незами застосовували побиття, склада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яву на ту людину, яка не віддавала харч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езадовго вивозили куди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ули такі, які ходили із залізними палицям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ишпорили у хатах, хлівах, льохах. Їх зва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«десятники». До хати їх приходило чоловік 5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6. Записували в колгосп. Хто з села йш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бирати колоски пшениці у полі, то їм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зволяли і би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оді всі поля охоронялися сторож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юдей силою заставляли йти в колгосп д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их менше приходили до хати, а ті, хто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писався могли прийти по-декілька раз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ень, навіть уноч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238720" y="1600200"/>
            <a:ext cx="285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39257"/>
                </a:solidFill>
                <a:latin typeface="Arial"/>
              </a:rPr>
              <a:t>Голод на Шосткинщині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Старцева Анна Дмитрі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Народилася в 1926 р. Мешкає за адресою: м. Шостка, вул. Красна буд. 1 кв. 8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932 рік був неврожайний. Все зерно держава забрала до зернини. Хліб, який пекли зимою 1933 р., пекли з шалу пайок і гречаної полови. Він був чорний як земля. Весною, коли полову з’їли, почався страшний голод. У травні місяці на луках почав рости кінський щавель, з якого варили борщ. Багато людей повмирало наївшись молодого зер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71560" y="1600200"/>
            <a:ext cx="3209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374840" y="896760"/>
            <a:ext cx="63943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15880" y="976320"/>
            <a:ext cx="631224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490680"/>
            <a:ext cx="8229600" cy="54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862280" y="690480"/>
            <a:ext cx="541944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68160" y="1600200"/>
            <a:ext cx="3616560" cy="4525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853160" y="1600200"/>
            <a:ext cx="362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409680"/>
            <a:ext cx="82296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39257"/>
                </a:solidFill>
                <a:latin typeface="Arial"/>
              </a:rPr>
              <a:t>Наслідки Голодомору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146240" y="1600200"/>
            <a:ext cx="2660760" cy="21859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Україні від Голодомору вмира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7 людей щохвили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 тисяча – щогоди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5 тисяч – що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143000" y="4213080"/>
            <a:ext cx="26668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6633"/>
                </a:solidFill>
                <a:latin typeface="Arial"/>
              </a:rPr>
              <a:t>Великий голодомо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1932-1933 рр. в Україні забрав життя від </a:t>
            </a:r>
            <a:r>
              <a:rPr b="0" lang="uk-UA" sz="2800" spc="-1" strike="noStrike">
                <a:solidFill>
                  <a:srgbClr val="666633"/>
                </a:solidFill>
                <a:latin typeface="Arial"/>
              </a:rPr>
              <a:t>7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lang="uk-UA" sz="2800" spc="-1" strike="noStrike">
                <a:solidFill>
                  <a:srgbClr val="666633"/>
                </a:solidFill>
                <a:latin typeface="Arial"/>
              </a:rPr>
              <a:t>10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лн невинних жер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997520" y="1600200"/>
            <a:ext cx="334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6633"/>
                </a:solidFill>
                <a:latin typeface="Arial"/>
              </a:rPr>
              <a:t>Голодомо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це зумисне організований радянською владою у 1932-1933 рр. штучний голод, який призвів до смерті мільйони українців і є геноцидом українського на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11472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йтяжче постраждали від Голодомо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•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лтавс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2400" spc="-1" strike="noStrike">
                <a:solidFill>
                  <a:srgbClr val="666633"/>
                </a:solidFill>
                <a:latin typeface="Arial"/>
              </a:rPr>
              <a:t>• </a:t>
            </a:r>
            <a:r>
              <a:rPr b="0" lang="uk-UA" sz="2400" spc="-1" strike="noStrike" u="sng">
                <a:solidFill>
                  <a:srgbClr val="666633"/>
                </a:solidFill>
                <a:uFillTx/>
                <a:latin typeface="Arial"/>
              </a:rPr>
              <a:t>Сумс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•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Харківс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•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еркас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•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иївс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•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Житомирсь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бла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2496960"/>
            <a:ext cx="40384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b39257"/>
                </a:solidFill>
                <a:latin typeface="Arial"/>
              </a:rPr>
              <a:t>Країни, що визнали Голодомор 1932-1933 рр. геноцидом українського народу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395360" y="1600200"/>
            <a:ext cx="6351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b39257"/>
                </a:solidFill>
                <a:latin typeface="Arial"/>
              </a:rPr>
              <a:t>Вшанування пам</a:t>
            </a:r>
            <a:r>
              <a:rPr b="0" lang="uk-UA" sz="4000" spc="-1" strike="noStrike">
                <a:solidFill>
                  <a:srgbClr val="b39257"/>
                </a:solidFill>
                <a:latin typeface="Arial"/>
                <a:ea typeface="Arial"/>
              </a:rPr>
              <a:t>’</a:t>
            </a:r>
            <a:r>
              <a:rPr b="0" lang="uk-UA" sz="4000" spc="-1" strike="noStrike">
                <a:solidFill>
                  <a:srgbClr val="b39257"/>
                </a:solidFill>
                <a:latin typeface="Arial"/>
              </a:rPr>
              <a:t>яті жертв Голодомору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8 листопада 2006 року за пропозицією Президента України В.Ющенка Верховна Рада України ухвалила </a:t>
            </a:r>
            <a:r>
              <a:rPr b="0" lang="uk-UA" sz="1800" spc="-1" strike="noStrike">
                <a:solidFill>
                  <a:srgbClr val="666633"/>
                </a:solidFill>
                <a:latin typeface="Arial"/>
              </a:rPr>
              <a:t>Закон «Про Голодомор 1932-1933 рр. в Україні”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в якому заявле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«Стаття 1. Голодомор 1932-1933 рр. в Україні є геноцидом українського на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Стаття 2. Публічне заперечення Голодомору в 1932-1933 рр. в Україні визнається наругою над пам’яттю мільйонів жертв Голодомору, приниженням гідності українського народу і є протиправни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121360" y="1600200"/>
            <a:ext cx="309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Щорічно в Дні пам’яті жертв Голодомору в Україні відбувається всеукраїнська акція «Запали свічку» та Поминальні панахид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960480" y="1600200"/>
            <a:ext cx="3031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, миттєвосте, сті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й хвилин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спокуту до Пам’яті й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 хрестах я вивчаю род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Й колосок на надгріб’я  кла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.Забарний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2214720"/>
            <a:ext cx="40384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871560" y="1600200"/>
            <a:ext cx="3208320" cy="4525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067360" y="1600200"/>
            <a:ext cx="320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1720" y="274320"/>
            <a:ext cx="700056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79" name="Picture 2" descr="C:\Documents and Settings\Администратор\Рабочий стол\0b34faa04ed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39257"/>
                </a:solidFill>
                <a:latin typeface="Arial"/>
              </a:rPr>
              <a:t>Очікувані результати: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знайомитися з історичними передумовами виникнення Голодомо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знайомитися з політикою комуністичної партії більшовиків спрямованої проти українського нар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характеризувати наслідки Голодомо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остежити, як висвітлено питання Голодомору в українській літературі та фольклор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відатися про свідків Голодомору на Шосткинщині, їхні спог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’ясувати як вшановують пам'ять загиблих від голоду в 1932-1933 р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спілкуватися зі своїми однокласниками, а також розвивати навички виступу перед аудиторіє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розуміти, що саме ми можемо зробити сьогодні, щоб в майбутньому такі події не повторювал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39257"/>
                </a:solidFill>
                <a:latin typeface="Arial"/>
              </a:rPr>
              <a:t>Причини Голодомору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008240" cy="29178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3280" y="1557000"/>
            <a:ext cx="4043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уцільна насильницьк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лективіз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посильні для селян     хлібозаготів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сильницьке вилучення хліба 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довольчих запасів у сел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дмірний хлібний ек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изький ентузіазм селян працювати в колективних господарств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асовий терор проти селя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кономічні прорахунки, спроб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дійснити соціалістичне   будівництво воєнно-комуністичними мет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націоналізація і геноц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55640" y="4437000"/>
            <a:ext cx="3429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698480" y="770040"/>
            <a:ext cx="574524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20720" y="988920"/>
            <a:ext cx="590076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328760" y="1057320"/>
            <a:ext cx="648648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b39257"/>
                </a:solidFill>
                <a:latin typeface="Arial"/>
              </a:rPr>
              <a:t>Висвітлення Голодомору в українській літературі та фольклорі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атьку Сталін, подиви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 ми в СОЗі розжили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ата раком, клуня бок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ри коняки з одним ок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 на хаті серп і моло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 у хаті смерть і гол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іле літечко роби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о гречки зароби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о гречки, два яч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й журюся, де я зм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 шукайте домов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атько з’їв свою дит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бичем ходить бригади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ганяє у Сибі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830840" y="1600200"/>
            <a:ext cx="367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7:30:37Z</dcterms:created>
  <dc:creator>User_KM</dc:creator>
  <dc:description/>
  <dc:language>en-US</dc:language>
  <cp:lastModifiedBy>User_KM</cp:lastModifiedBy>
  <dcterms:modified xsi:type="dcterms:W3CDTF">2010-11-30T12:18:23Z</dcterms:modified>
  <cp:revision>3</cp:revision>
  <dc:subject/>
  <dc:title>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17000000000001024140</vt:lpwstr>
  </property>
</Properties>
</file>