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C5EE-389F-4BE3-B5AE-89B087BB1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A29E-428B-4CBC-8C2C-D903D977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8690-37AA-4D5E-9C14-017FC6613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8F5B-04F2-4CD7-9AAD-1A77C07E3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E542-4149-4CB0-A635-D797B7AF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E825-53D8-4112-BB77-E146E5A0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2E49-1677-48FF-8BCD-BCE4D3C9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BE12-3547-47B1-AB54-87943EE1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C056-A772-4DF0-B9A5-D1306714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9F25-40BF-4DA3-A1D6-B95395E6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8A9E-9B4F-4E18-AE55-03CFE422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E0B1-4707-445C-8AAD-1AD97CAA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400A-F65F-4804-905C-1F0A4F4B36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47520" y="0"/>
            <a:ext cx="90489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 Black"/>
              </a:rPr>
              <a:t>Загадкові назв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781360"/>
            <a:ext cx="64008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6436b"/>
                </a:solidFill>
                <a:latin typeface="Arial Black"/>
              </a:rPr>
              <a:t>Презентація до уроку з історії України,5 кла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6436b"/>
                </a:solidFill>
                <a:latin typeface="Arial Black"/>
              </a:rPr>
              <a:t>Автор:Бабир С.Г.,вчитель історії Жовтневого НВ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3851280" y="733320"/>
            <a:ext cx="4768920" cy="539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9" name="TextBox 1"/>
          <p:cNvSpPr/>
          <p:nvPr/>
        </p:nvSpPr>
        <p:spPr>
          <a:xfrm>
            <a:off x="684360" y="733320"/>
            <a:ext cx="2735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Музей народної архітектури та побуту України в Пирогов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4211640" y="482760"/>
            <a:ext cx="4330800" cy="5857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1" name="TextBox 1"/>
          <p:cNvSpPr/>
          <p:nvPr/>
        </p:nvSpPr>
        <p:spPr>
          <a:xfrm>
            <a:off x="755640" y="1413000"/>
            <a:ext cx="3168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Що розповідає літопис про заснування Києва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Пам'ятний знак засновникам міста Киє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8280" y="549000"/>
            <a:ext cx="400356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Кий мав </a:t>
            </a: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неабиякий полководницький хист,</a:t>
            </a: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здійснив чимало воєнних поході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663732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8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3995640" y="549360"/>
            <a:ext cx="4680000" cy="532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Город(місто)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-від слова «городити»,тобто укріпляти,обносити огорожею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57200" y="1844280"/>
            <a:ext cx="8229600" cy="4281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3"/>
          <a:stretch/>
        </p:blipFill>
        <p:spPr>
          <a:xfrm>
            <a:off x="611280" y="2997360"/>
            <a:ext cx="8064360" cy="316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4446720" y="476280"/>
            <a:ext cx="4373280" cy="5602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9" name="TextBox 1"/>
          <p:cNvSpPr/>
          <p:nvPr/>
        </p:nvSpPr>
        <p:spPr>
          <a:xfrm>
            <a:off x="684360" y="981000"/>
            <a:ext cx="3382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Скоро на Дніпрових схилах виросло місто, яке назвали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Несе свої води Дніпро, милується на величний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Calibri"/>
              </a:rPr>
              <a:t>ПЕРЕВІРТЕ СЕБ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Що є предметом вивчення етноніміки і топонімік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Поясніть походження назви Україна. Коли ця назва згадується у літописі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Як називалися давні українці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Що ви знаєте про заснування Києв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Чи знаєте ви історію назв міст, сіл, водойм рідного краю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Чи знаєте ви історію назв вулиць і майданів вашого міста/села/смт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Домашнє завданнн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Опрацювати п.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одумати над запитанням:»Що ви знаєте про походження назви нашого села, річок? Які назви вулиць, провулків відображають історичне минуле нашого краю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иконати завдання 4 на  сторінці 38 підруч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47520" y="0"/>
            <a:ext cx="904896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Щиро зичу успіхів та відкриттів</a:t>
            </a:r>
            <a:br>
              <a:rPr sz="4000"/>
            </a:b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 у пізнанні минулого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57200" y="6125760"/>
            <a:ext cx="822960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На цьому уроці ви навчитес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ояснювати,що вивчають етноніміка та топонімік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розрізняти умовні позначення на історичній карті та користуватися нею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оказувати на карті терени розселення слов'ян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розповідати про давніх слов'ян, легенду про заснування Киє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ОПОНІМИ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 назви, що стосуються міст і сіл, водойм, урочищ та ін.(географічні )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ЕТНОНІМИ-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зви народів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опоніміка і етноніміка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– науки, що займаються дослідженням і походженням назв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604360" y="-1097280"/>
            <a:ext cx="7128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ПРО НАЗВУ «Україн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зва Україна вперше зафіксована у літописі під 1187 р. для позначення Київщини, земель Переяславщини і Чернігівщини. Слово «Україна» має слов'янське походження. Воно означає „первісно край” або „територія”. Історики схиляються до думки, що назва має індоєвропейський корінь, що в перекладі означає „відокремлювати”. Єдиної думки щодо етимології слова немає, проте схиляються до прямого синонімічного зв'язку зі словом «князівство», що означає земля наділена, «відрізана» князю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Топоніми моєї сім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`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Прямая со стрелкой 4"/>
          <p:cNvCxnSpPr/>
          <p:nvPr/>
        </p:nvCxnSpPr>
        <p:spPr>
          <a:xfrm flipH="1">
            <a:off x="1618560" y="2420640"/>
            <a:ext cx="3313800" cy="1656360"/>
          </a:xfrm>
          <a:prstGeom prst="straightConnector1">
            <a:avLst/>
          </a:prstGeom>
          <a:ln w="9360">
            <a:solidFill>
              <a:srgbClr val="2bb3fc"/>
            </a:solidFill>
            <a:miter/>
            <a:tailEnd len="med" type="arrow" w="med"/>
          </a:ln>
        </p:spPr>
      </p:cxnSp>
      <p:cxnSp>
        <p:nvCxnSpPr>
          <p:cNvPr id="53" name="Прямая со стрелкой 6"/>
          <p:cNvCxnSpPr/>
          <p:nvPr/>
        </p:nvCxnSpPr>
        <p:spPr>
          <a:xfrm>
            <a:off x="5219640" y="2421000"/>
            <a:ext cx="216720" cy="2448720"/>
          </a:xfrm>
          <a:prstGeom prst="straightConnector1">
            <a:avLst/>
          </a:prstGeom>
          <a:ln w="9360">
            <a:solidFill>
              <a:srgbClr val="2bb3fc"/>
            </a:solidFill>
            <a:miter/>
            <a:tailEnd len="med" type="arrow" w="med"/>
          </a:ln>
        </p:spPr>
      </p:cxnSp>
      <p:cxnSp>
        <p:nvCxnSpPr>
          <p:cNvPr id="54" name="Прямая со стрелкой 8"/>
          <p:cNvCxnSpPr/>
          <p:nvPr/>
        </p:nvCxnSpPr>
        <p:spPr>
          <a:xfrm>
            <a:off x="5579640" y="2420640"/>
            <a:ext cx="2017080" cy="2088360"/>
          </a:xfrm>
          <a:prstGeom prst="straightConnector1">
            <a:avLst/>
          </a:prstGeom>
          <a:ln w="9360">
            <a:solidFill>
              <a:srgbClr val="2bb3fc"/>
            </a:solidFill>
            <a:miter/>
            <a:tailEnd len="med" type="arrow" w="med"/>
          </a:ln>
        </p:spPr>
      </p:cxnSp>
      <p:sp>
        <p:nvSpPr>
          <p:cNvPr id="55" name="Овал 9"/>
          <p:cNvSpPr/>
          <p:nvPr/>
        </p:nvSpPr>
        <p:spPr>
          <a:xfrm>
            <a:off x="179280" y="3933720"/>
            <a:ext cx="792360" cy="790560"/>
          </a:xfrm>
          <a:prstGeom prst="ellipse">
            <a:avLst/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Овал 10"/>
          <p:cNvSpPr/>
          <p:nvPr/>
        </p:nvSpPr>
        <p:spPr>
          <a:xfrm>
            <a:off x="5219640" y="5130720"/>
            <a:ext cx="720720" cy="720720"/>
          </a:xfrm>
          <a:prstGeom prst="ellipse">
            <a:avLst/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Овал 11"/>
          <p:cNvSpPr/>
          <p:nvPr/>
        </p:nvSpPr>
        <p:spPr>
          <a:xfrm>
            <a:off x="7380360" y="5084640"/>
            <a:ext cx="863640" cy="757440"/>
          </a:xfrm>
          <a:prstGeom prst="ellipse">
            <a:avLst/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ПРО ДАВНІХ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слов'ян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лов'ян умовно поділено на 3 гілки: західна, східна і південна. Українці, білоруси та росіяни – східна гілка слов'янських народів. Предками сучасних слов'янських народів є давні слов'яни. Вони жили племенами, періодами об'єднувалися в більші групи - племінні об'єднання (союзи племен). Літопис «Повість минулих літ» зберіг назви східнослов'янських союзів племен, що існували до 9 ст. (утворення держави зі столицею у Києві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Слов'яни жили поміж лісів,</a:t>
            </a:r>
            <a:br>
              <a:rPr sz="4000"/>
            </a:b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 в краю річок і озе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3"/>
          <a:stretch/>
        </p:blipFill>
        <p:spPr>
          <a:xfrm>
            <a:off x="539640" y="1585800"/>
            <a:ext cx="8136000" cy="4579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Давні слов'яни були язичниками, тобто обожнювали сили природи-сонце,небо,</a:t>
            </a: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грім та блискавку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755640" y="2492280"/>
            <a:ext cx="7883640" cy="4040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«Битва скіфів і слов'ян»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Автор –художник В. Васнєц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3"/>
          <a:stretch/>
        </p:blipFill>
        <p:spPr>
          <a:xfrm>
            <a:off x="179280" y="1557360"/>
            <a:ext cx="8640720" cy="468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7T18:32:25Z</dcterms:created>
  <dc:creator>Admin</dc:creator>
  <dc:description/>
  <dc:language>en-US</dc:language>
  <cp:lastModifiedBy>Admin</cp:lastModifiedBy>
  <dcterms:modified xsi:type="dcterms:W3CDTF">2012-06-25T09:28:46Z</dcterms:modified>
  <cp:revision>17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607000000000001024140</vt:lpwstr>
  </property>
</Properties>
</file>