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7CD3-9806-4799-B492-9C9407FAE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CBB-29F2-423A-B5C5-3529B9FD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E8B-6B77-45D7-AD4A-6DF92299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7660-DBEF-46BA-97C2-E0964516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9C07-EA63-4DB9-A8D9-50514E8E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38E4-4DD1-4EAB-AE87-E81323DA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3611-417F-4FA3-971E-AC3F33E8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F1F3-5259-492B-A240-934879CD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2FF3-842B-4AFE-ADAD-2F923074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2E9C-E80C-45A2-9F34-8AAFA3E9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9A4-D50D-4146-BE56-BA296091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17B4-9927-41A2-B1FC-9E587694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D008-609F-461F-8C6C-84DB21112D1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олег\5 клас\5f234d3ec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4240" y="3000240"/>
            <a:ext cx="7772400" cy="211320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Arial Black"/>
              </a:rPr>
              <a:t>Тема 2. КНЯЖА РУСЬ-Україна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урока: ДЕРЖАВА З ЦЕНТРОМ У КИЄВІ.  ПЕРШІ КНЯЗІ</a:t>
            </a:r>
            <a:br>
              <a:rPr sz="4000"/>
            </a:b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13880" y="0"/>
            <a:ext cx="7858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е листопада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на робота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3300"/>
                </a:solidFill>
                <a:latin typeface="Century Gothic"/>
              </a:rPr>
              <a:t>Домашнє </a:t>
            </a:r>
            <a:br>
              <a:rPr sz="4400"/>
            </a:br>
            <a:r>
              <a:rPr b="1" i="1" lang="uk-UA" sz="4400" spc="-1" strike="noStrike">
                <a:solidFill>
                  <a:srgbClr val="663300"/>
                </a:solidFill>
                <a:latin typeface="Century Gothic"/>
              </a:rPr>
              <a:t>завдання: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2920" y="1600200"/>
            <a:ext cx="492912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entury Gothic"/>
              </a:rPr>
              <a:t>Опрацювати матеріал підручників В.Власова та О.Данилевської §6 (стор. 41–46);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Виконати завдання на котурн</a:t>
            </a:r>
            <a:r>
              <a:rPr b="1" lang="uk-UA" sz="32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х</a:t>
            </a:r>
            <a:r>
              <a:rPr b="1" lang="uk-UA" sz="3200" spc="-1" strike="noStrike">
                <a:solidFill>
                  <a:srgbClr val="000000"/>
                </a:solidFill>
                <a:latin typeface="Century Gothic"/>
              </a:rPr>
              <a:t> картах стор. 3-4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rcRect l="0" t="0" r="-43" b="0"/>
          <a:stretch/>
        </p:blipFill>
        <p:spPr>
          <a:xfrm>
            <a:off x="5072040" y="0"/>
            <a:ext cx="407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14360" y="285480"/>
            <a:ext cx="497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3300"/>
                </a:solidFill>
                <a:latin typeface="Century Gothic"/>
              </a:rPr>
              <a:t>Подрож в минуле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2060"/>
                </a:solidFill>
                <a:latin typeface="Century Gothic"/>
              </a:rPr>
              <a:t>Мета : піднятись  сходинками історії від кнізівства Олега до князюваня Святослава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663300"/>
                </a:solidFill>
                <a:latin typeface="Century Gothic"/>
              </a:rPr>
              <a:t>Правила</a:t>
            </a:r>
            <a:r>
              <a:rPr b="1" i="1" lang="ru-RU" sz="4000" spc="-1" strike="noStrike">
                <a:solidFill>
                  <a:srgbClr val="663300"/>
                </a:solidFill>
                <a:latin typeface="Century Gothic"/>
              </a:rPr>
              <a:t> роботи в групі</a:t>
            </a:r>
            <a:r>
              <a:rPr b="1" i="1" lang="uk-UA" sz="4000" spc="-1" strike="noStrike">
                <a:solidFill>
                  <a:srgbClr val="663300"/>
                </a:solidFill>
                <a:latin typeface="Century Gothic"/>
              </a:rPr>
              <a:t>:</a:t>
            </a:r>
            <a:br>
              <a:rPr sz="4000"/>
            </a:b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1.  Уважно, не перебиваючи, вислуховуйте кожного учня в групі, що відповідає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.  Говоріть коротко і ясно, щоб всі могли висловитися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. Дотримуйтеся правила діалогу — не перебивайте того, хто говорить.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. Використовуйте під час обговорення такі слова: «Я вважаю...», «Мені здається...», «Вибач, але на мою думку...»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.  Під час роботи необхідно з повагою ставитися до товаришів: відкидаючи запропоновану ними ідею, робіть це ввічливо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.  Якщо нема бажаючих висловитися, діє правило: починає перший від капітана групи за годинниковою стрілкою.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entury Gothic"/>
              </a:rPr>
              <a:t>7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.  Виступати від імені групи почесно. Того, хто виступає, обирає та готує група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5071680"/>
            <a:ext cx="43578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скольд і Дір</a:t>
            </a:r>
            <a:br>
              <a:rPr sz="4000"/>
            </a:br>
            <a:endParaRPr b="1" i="1" lang="en-US" sz="40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49" name="Содержимое 7" descr="231.jpg"/>
          <p:cNvPicPr/>
          <p:nvPr/>
        </p:nvPicPr>
        <p:blipFill>
          <a:blip r:embed="rId1">
            <a:alphaModFix amt="10000"/>
          </a:blip>
          <a:stretch/>
        </p:blipFill>
        <p:spPr>
          <a:xfrm>
            <a:off x="357120" y="357120"/>
            <a:ext cx="3863880" cy="4643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357440" y="285480"/>
            <a:ext cx="4329000" cy="58402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 правління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– 882 р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льність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іплення держави та війська;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оба укріплення влади за допомогою релігії (християнства);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хід Київської держави на міжнародну арену (вдалий похід на Візантію у 860 р.)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3840" y="5071680"/>
            <a:ext cx="43578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лег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52" name="Содержимое 7" descr="231.jpg"/>
          <p:cNvPicPr/>
          <p:nvPr/>
        </p:nvPicPr>
        <p:blipFill>
          <a:blip r:embed="rId1">
            <a:alphaModFix amt="10000"/>
          </a:blip>
          <a:stretch/>
        </p:blipFill>
        <p:spPr>
          <a:xfrm>
            <a:off x="372960" y="357120"/>
            <a:ext cx="3832200" cy="4643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357440" y="285480"/>
            <a:ext cx="4329000" cy="58402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 правління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2 – 912 рр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льність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882 Олег здобув Киї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зятті Києва він убив київського князя Аскольда.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07 році Олег вируш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охід на Константинополь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иною його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буткі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важають похід на Константинополь і угоду з Візантією 911 р.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ег помер 9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. від укусу змії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840" y="5071680"/>
            <a:ext cx="43578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Ігор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55" name="Содержимое 7" descr="231.jpg"/>
          <p:cNvPicPr/>
          <p:nvPr/>
        </p:nvPicPr>
        <p:blipFill>
          <a:blip r:embed="rId1">
            <a:alphaModFix amt="10000"/>
          </a:blip>
          <a:stretch/>
        </p:blipFill>
        <p:spPr>
          <a:xfrm>
            <a:off x="446040" y="357120"/>
            <a:ext cx="3687840" cy="4643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214520" y="285480"/>
            <a:ext cx="4714920" cy="58402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 правління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12 – 945рр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льність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вірно відомі походи Ігоря на Константинополь (Царьград) у 941 та 943 роках.</a:t>
            </a:r>
            <a:endParaRPr b="1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944 році між Києвом і Царгородом було досягнуто згоди і укладено союзну і торговельну угоду.</a:t>
            </a:r>
            <a:endParaRPr b="1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вязали його до стовбурів двох нагнутих дерев, відпустили й дерева роздерли його тіло на дві частини. Літопис подає смерть Ігоря на 945 р.</a:t>
            </a:r>
            <a:endParaRPr b="1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840" y="5071680"/>
            <a:ext cx="43578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льга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58" name="Содержимое 7" descr="231.jpg"/>
          <p:cNvPicPr/>
          <p:nvPr/>
        </p:nvPicPr>
        <p:blipFill>
          <a:blip r:embed="rId1">
            <a:alphaModFix amt="10000"/>
          </a:blip>
          <a:stretch/>
        </p:blipFill>
        <p:spPr>
          <a:xfrm>
            <a:off x="590400" y="357120"/>
            <a:ext cx="3397320" cy="4643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357440" y="285480"/>
            <a:ext cx="4329000" cy="58402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 правління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45 – 964 рр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льність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 —київська княгиня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 945 року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Руссю в роки неповноліття свого сина Святослава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ько 955 прийняла християнство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4 р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к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хід Ольги від державних справ. 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840" y="5071680"/>
            <a:ext cx="43578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Святослав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61" name="Содержимое 7" descr="231.jpg"/>
          <p:cNvPicPr/>
          <p:nvPr/>
        </p:nvPicPr>
        <p:blipFill>
          <a:blip r:embed="rId1">
            <a:alphaModFix amt="10000"/>
          </a:blip>
          <a:stretch/>
        </p:blipFill>
        <p:spPr>
          <a:xfrm>
            <a:off x="561960" y="357120"/>
            <a:ext cx="3456000" cy="4643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357440" y="285480"/>
            <a:ext cx="4329000" cy="58402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 правління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4 – 972 рр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яльність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964 році князь Святослав здійснив свій перший похід на землі слов'янського племені в'ятичів. В'ятичі підкорилися Києву.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967 році Святослав переміг болгарське військо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сні 972 року князь на дніпровських порогах загинув у битві з печенегами.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олег\5 клас\5f234d3ec9.jpg"/>
          <p:cNvPicPr/>
          <p:nvPr/>
        </p:nvPicPr>
        <p:blipFill>
          <a:blip r:embed="rId1"/>
          <a:stretch/>
        </p:blipFill>
        <p:spPr>
          <a:xfrm>
            <a:off x="428760" y="4500720"/>
            <a:ext cx="2000160" cy="15001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63300"/>
                </a:solidFill>
                <a:latin typeface="Century Gothic"/>
              </a:rPr>
              <a:t>Сходинки історії</a:t>
            </a:r>
            <a:endParaRPr b="1" i="1" lang="en-US" sz="4400" spc="-1" strike="noStrike">
              <a:solidFill>
                <a:srgbClr val="663300"/>
              </a:solidFill>
              <a:latin typeface="Century Gothic"/>
            </a:endParaRPr>
          </a:p>
        </p:txBody>
      </p:sp>
      <p:pic>
        <p:nvPicPr>
          <p:cNvPr id="65" name="Содержимое 3" descr=""/>
          <p:cNvPicPr/>
          <p:nvPr/>
        </p:nvPicPr>
        <p:blipFill>
          <a:blip r:embed="rId2">
            <a:alphaModFix amt="10000"/>
          </a:blip>
          <a:stretch/>
        </p:blipFill>
        <p:spPr>
          <a:xfrm>
            <a:off x="428760" y="1143000"/>
            <a:ext cx="8501040" cy="535788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1"/>
          <p:cNvSpPr/>
          <p:nvPr/>
        </p:nvSpPr>
        <p:spPr>
          <a:xfrm>
            <a:off x="1357200" y="5929200"/>
            <a:ext cx="10717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2357280" y="5500800"/>
            <a:ext cx="107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2060"/>
                </a:solidFill>
                <a:latin typeface="Arial"/>
              </a:rPr>
              <a:t>Аскольд та Ді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3614040" y="4714920"/>
            <a:ext cx="101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Arial"/>
              </a:rPr>
              <a:t>Ол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Arial"/>
              </a:rPr>
              <a:t>882-9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Прямоугольник 10" descr=""/>
          <p:cNvPicPr/>
          <p:nvPr/>
        </p:nvPicPr>
        <p:blipFill>
          <a:blip r:embed="rId3"/>
          <a:stretch/>
        </p:blipFill>
        <p:spPr>
          <a:xfrm>
            <a:off x="3943440" y="4370400"/>
            <a:ext cx="4097160" cy="2421000"/>
          </a:xfrm>
          <a:prstGeom prst="rect">
            <a:avLst/>
          </a:prstGeom>
          <a:ln w="0">
            <a:noFill/>
          </a:ln>
        </p:spPr>
      </p:pic>
      <p:sp>
        <p:nvSpPr>
          <p:cNvPr id="70" name="Стрелка вправо 14"/>
          <p:cNvSpPr/>
          <p:nvPr/>
        </p:nvSpPr>
        <p:spPr>
          <a:xfrm rot="20223600">
            <a:off x="3204720" y="5292720"/>
            <a:ext cx="4840200" cy="198360"/>
          </a:xfrm>
          <a:prstGeom prst="rightArrow">
            <a:avLst>
              <a:gd name="adj1" fmla="val 50000"/>
              <a:gd name="adj2" fmla="val 49706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7" descr="231.jpg"/>
          <p:cNvPicPr/>
          <p:nvPr/>
        </p:nvPicPr>
        <p:blipFill>
          <a:blip r:embed="rId4"/>
          <a:stretch/>
        </p:blipFill>
        <p:spPr>
          <a:xfrm>
            <a:off x="2643120" y="4429080"/>
            <a:ext cx="900360" cy="108108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7" descr="231.jpg"/>
          <p:cNvPicPr/>
          <p:nvPr/>
        </p:nvPicPr>
        <p:blipFill>
          <a:blip r:embed="rId5"/>
          <a:stretch/>
        </p:blipFill>
        <p:spPr>
          <a:xfrm>
            <a:off x="3786120" y="3571920"/>
            <a:ext cx="900360" cy="109044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7" descr="231.jpg"/>
          <p:cNvPicPr/>
          <p:nvPr/>
        </p:nvPicPr>
        <p:blipFill>
          <a:blip r:embed="rId6"/>
          <a:stretch/>
        </p:blipFill>
        <p:spPr>
          <a:xfrm>
            <a:off x="4786200" y="2714760"/>
            <a:ext cx="900360" cy="1133280"/>
          </a:xfrm>
          <a:prstGeom prst="rect">
            <a:avLst/>
          </a:prstGeom>
          <a:ln w="0">
            <a:noFill/>
          </a:ln>
        </p:spPr>
      </p:pic>
      <p:pic>
        <p:nvPicPr>
          <p:cNvPr id="74" name="Содержимое 7" descr="231.jpg"/>
          <p:cNvPicPr/>
          <p:nvPr/>
        </p:nvPicPr>
        <p:blipFill>
          <a:blip r:embed="rId7"/>
          <a:stretch/>
        </p:blipFill>
        <p:spPr>
          <a:xfrm>
            <a:off x="5929200" y="1714680"/>
            <a:ext cx="900360" cy="123012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7" descr="231.jpg"/>
          <p:cNvPicPr/>
          <p:nvPr/>
        </p:nvPicPr>
        <p:blipFill>
          <a:blip r:embed="rId8"/>
          <a:stretch/>
        </p:blipFill>
        <p:spPr>
          <a:xfrm>
            <a:off x="7000920" y="857160"/>
            <a:ext cx="900000" cy="12096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21"/>
          <p:cNvSpPr/>
          <p:nvPr/>
        </p:nvSpPr>
        <p:spPr>
          <a:xfrm>
            <a:off x="428760" y="600084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Arial"/>
              </a:rPr>
              <a:t>Киї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03:52:28Z</dcterms:created>
  <dc:creator>user</dc:creator>
  <dc:description/>
  <dc:language>en-US</dc:language>
  <cp:lastModifiedBy>user</cp:lastModifiedBy>
  <dcterms:modified xsi:type="dcterms:W3CDTF">2011-11-02T04:36:25Z</dcterms:modified>
  <cp:revision>5</cp:revision>
  <dc:subject/>
  <dc:title>Тема 2. КНЯЖА РУСЬ-Україна    Тема урока: ДЕРЖАВА З ЦЕНТРОМ У КИЄВІ.  ПЕРШІ КНЯЗІ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15000000000001024140</vt:lpwstr>
  </property>
</Properties>
</file>