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929-243D-43F7-A11A-A591424F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F56-D9D0-4951-8E87-40BE517F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5C5-8609-4AFE-AE6E-593406F7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083-89E5-4D4F-9D06-23D9DBC4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33D-6686-40C6-9012-2BEDA2B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921-F06F-4663-9E5E-05EE54E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267-B52B-47F3-9AA9-072AB150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2AE-379F-47F5-A574-131D6732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CEB-F453-443D-ADF1-150D301C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2BD-B1B5-4704-A927-1468B825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C7D-30C1-4507-ADC5-AC95AF8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28A-5400-4B19-9BDB-1DB9955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03B0-46AC-449A-BD9D-A18F6F0F3C0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олег\5 клас\5f234d3ec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3000240"/>
            <a:ext cx="7772400" cy="21132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 Black"/>
              </a:rPr>
              <a:t>Тема 2. КНЯЖА РУСЬ-Украї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 ДЕРЖАВА З ЦЕНТРОМ У КИЄВІ.  ПЕРШІ КНЯЗІ</a:t>
            </a:r>
            <a:br>
              <a:rPr sz="4000"/>
            </a:b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3880" y="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е листопада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на робота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Домашнє </a:t>
            </a:r>
            <a:br>
              <a:rPr sz="4400"/>
            </a:b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завдання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920" y="1600200"/>
            <a:ext cx="492912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Опрацювати матеріал підручників В.Власова та О.Данилевської §6 (стор. 41–46);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иконати завдання на котурн</a:t>
            </a: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 картах стор. 3-4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0" t="0" r="-43" b="0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14360" y="285480"/>
            <a:ext cx="49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Подрож в минуле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entury Gothic"/>
              </a:rPr>
              <a:t>Мета : піднятись  сходинками історії від кнізівства Олега до князюваня Святослава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Century Gothic"/>
              </a:rPr>
              <a:t>Правила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роботи в групі</a:t>
            </a:r>
            <a:r>
              <a:rPr b="1" i="1" lang="uk-UA" sz="4000" spc="-1" strike="noStrike">
                <a:solidFill>
                  <a:srgbClr val="663300"/>
                </a:solidFill>
                <a:latin typeface="Century Gothic"/>
              </a:rPr>
              <a:t>:</a:t>
            </a:r>
            <a:br>
              <a:rPr sz="4000"/>
            </a:b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1.  Уважно, не перебиваючи, вислуховуйте кожного учня в групі, що відповідає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Говоріть коротко і ясно, щоб всі могли висловитися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Дотримуйтеся правила діалогу — не перебивайте того, хто говорить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Використовуйте під час обговорення такі слова: «Я вважаю...», «Мені здається...», «Вибач, але на мою думку...»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Під час роботи необхідно з повагою ставитися до товаришів: відкидаючи запропоновану ними ідею, робіть це ввічливо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Якщо нема бажаючих висловитися, діє правило: починає перший від капітана групи за годинниковою стрілкою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Виступати від імені групи почесно. Того, хто виступає, обирає та готує група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скольд і Дір</a:t>
            </a:r>
            <a:br>
              <a:rPr sz="4000"/>
            </a:b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49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357120" y="357120"/>
            <a:ext cx="3863880" cy="464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– 882 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іплення держави та війська;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ба укріплення влади за допомогою релігії (християнства);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 Київської держави на міжнародну арену (вдалий похід на Візантію у 860 р.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лег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52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372960" y="357120"/>
            <a:ext cx="383220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2 – 912 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882 Олег здобув Киї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зятті Києва він убив київського князя Аскольда.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7 році Олег вируш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хід на Константинополь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ою йог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буткі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ажають похід на Константинополь і угоду з Візантією 911 р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г помер 9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. від укусу змії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Ігор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55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446040" y="357120"/>
            <a:ext cx="3687840" cy="464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4520" y="285480"/>
            <a:ext cx="471492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2 – 945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вірно відомі походи Ігоря на Константинополь (Царьград) у 941 та 943 роках.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944 році між Києвом і Царгородом було досягнуто згоди і укладено союзну і торговельну угоду.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язали його до стовбурів двох нагнутих дерев, відпустили й дерева роздерли його тіло на дві частини. Літопис подає смерть Ігоря на 945 р.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льг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58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590400" y="357120"/>
            <a:ext cx="3397320" cy="464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5 – 964 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 —київська княги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945 року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уссю в роки неповноліття свого сина Святослава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ько 955 прийняла християнство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4 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к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ід Ольги від державних справ.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ятослав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61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561960" y="357120"/>
            <a:ext cx="3456000" cy="4643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4 – 972 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964 році князь Святослав здійснив свій перший похід на землі слов'янського племені в'ятичів. В'ятичі підкорилися Києву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967 році Святослав переміг болгарське військо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ні 972 року князь на дніпровських порогах загинув у битві з печенегами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олег\5 клас\5f234d3ec9.jpg"/>
          <p:cNvPicPr/>
          <p:nvPr/>
        </p:nvPicPr>
        <p:blipFill>
          <a:blip r:embed="rId1"/>
          <a:stretch/>
        </p:blipFill>
        <p:spPr>
          <a:xfrm>
            <a:off x="428760" y="4500720"/>
            <a:ext cx="2000160" cy="1500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Сходинки історії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428760" y="114300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1357200" y="5929200"/>
            <a:ext cx="1071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357280" y="5500800"/>
            <a:ext cx="107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Arial"/>
              </a:rPr>
              <a:t>Аскольд та Ді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614040" y="4714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О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882-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10" descr=""/>
          <p:cNvPicPr/>
          <p:nvPr/>
        </p:nvPicPr>
        <p:blipFill>
          <a:blip r:embed="rId3"/>
          <a:stretch/>
        </p:blipFill>
        <p:spPr>
          <a:xfrm>
            <a:off x="3943440" y="4370400"/>
            <a:ext cx="4097160" cy="2421000"/>
          </a:xfrm>
          <a:prstGeom prst="rect">
            <a:avLst/>
          </a:prstGeom>
          <a:ln w="0">
            <a:noFill/>
          </a:ln>
        </p:spPr>
      </p:pic>
      <p:sp>
        <p:nvSpPr>
          <p:cNvPr id="70" name="Стрелка вправо 14"/>
          <p:cNvSpPr/>
          <p:nvPr/>
        </p:nvSpPr>
        <p:spPr>
          <a:xfrm rot="20223600">
            <a:off x="3204720" y="5292720"/>
            <a:ext cx="4840200" cy="198360"/>
          </a:xfrm>
          <a:prstGeom prst="rightArrow">
            <a:avLst>
              <a:gd name="adj1" fmla="val 50000"/>
              <a:gd name="adj2" fmla="val 4970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7" descr="231.jpg"/>
          <p:cNvPicPr/>
          <p:nvPr/>
        </p:nvPicPr>
        <p:blipFill>
          <a:blip r:embed="rId4"/>
          <a:stretch/>
        </p:blipFill>
        <p:spPr>
          <a:xfrm>
            <a:off x="2643120" y="4429080"/>
            <a:ext cx="900360" cy="10810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7" descr="231.jpg"/>
          <p:cNvPicPr/>
          <p:nvPr/>
        </p:nvPicPr>
        <p:blipFill>
          <a:blip r:embed="rId5"/>
          <a:stretch/>
        </p:blipFill>
        <p:spPr>
          <a:xfrm>
            <a:off x="3786120" y="3571920"/>
            <a:ext cx="900360" cy="10904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231.jpg"/>
          <p:cNvPicPr/>
          <p:nvPr/>
        </p:nvPicPr>
        <p:blipFill>
          <a:blip r:embed="rId6"/>
          <a:stretch/>
        </p:blipFill>
        <p:spPr>
          <a:xfrm>
            <a:off x="4786200" y="2714760"/>
            <a:ext cx="900360" cy="113328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7" descr="231.jpg"/>
          <p:cNvPicPr/>
          <p:nvPr/>
        </p:nvPicPr>
        <p:blipFill>
          <a:blip r:embed="rId7"/>
          <a:stretch/>
        </p:blipFill>
        <p:spPr>
          <a:xfrm>
            <a:off x="5929200" y="1714680"/>
            <a:ext cx="900360" cy="123012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7" descr="231.jpg"/>
          <p:cNvPicPr/>
          <p:nvPr/>
        </p:nvPicPr>
        <p:blipFill>
          <a:blip r:embed="rId8"/>
          <a:stretch/>
        </p:blipFill>
        <p:spPr>
          <a:xfrm>
            <a:off x="7000920" y="857160"/>
            <a:ext cx="900000" cy="12096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1"/>
          <p:cNvSpPr/>
          <p:nvPr/>
        </p:nvSpPr>
        <p:spPr>
          <a:xfrm>
            <a:off x="428760" y="60008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3:52:28Z</dcterms:created>
  <dc:creator>user</dc:creator>
  <dc:description/>
  <dc:language>en-US</dc:language>
  <cp:lastModifiedBy>user</cp:lastModifiedBy>
  <dcterms:modified xsi:type="dcterms:W3CDTF">2011-11-02T04:36:25Z</dcterms:modified>
  <cp:revision>5</cp:revision>
  <dc:subject/>
  <dc:title>Тема 2. КНЯЖА РУСЬ-Україна    Тема урока: ДЕРЖАВА З ЦЕНТРОМ У КИЄВІ.  ПЕРШІ КНЯЗІ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15000000000001024140</vt:lpwstr>
  </property>
</Properties>
</file>