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21.png" ContentType="image/png"/>
  <Override PartName="/ppt/media/image19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5AF4-AD43-4ABD-BA1E-E9862BE8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A7C9-AB00-40A2-9B1E-0C9E7B8B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F1E5-C565-4CA6-BE6E-40DDD941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5C45-6838-4232-90D8-BE5F3712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7BA3-D5AC-4B31-9670-FD61155F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A043-8251-4AA2-B58E-036368D8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2A49-E096-4BA7-AA1D-F216AB71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D22B-1D3A-412A-891A-938F39E4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2936-4ACD-48BF-BF9C-BFA6D6B3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E9A3-4A61-4B80-A2FF-5684DF3A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F75B-1D89-473B-81AE-8B73F52B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4E3C-8320-46FF-9CCB-ECCB6DD5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9047-2853-455C-B1C5-6803BDFE88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tonnel.ru/fonoteka/ispol/97720289_tonnel.gif"/>
          <p:cNvPicPr/>
          <p:nvPr/>
        </p:nvPicPr>
        <p:blipFill>
          <a:blip r:embed="rId1"/>
          <a:stretch/>
        </p:blipFill>
        <p:spPr>
          <a:xfrm>
            <a:off x="189000" y="476280"/>
            <a:ext cx="4174920" cy="56926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4992840" y="469800"/>
            <a:ext cx="3657600" cy="19321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5425200" y="3143160"/>
            <a:ext cx="291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«Спят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курганы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Темные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Bernes_Mark-Spyat_Kurgani_Temnie.mp3" descr=""/>
          <p:cNvPicPr/>
          <p:nvPr/>
        </p:nvPicPr>
        <p:blipFill>
          <a:blip r:embed="rId3"/>
          <a:stretch/>
        </p:blipFill>
        <p:spPr>
          <a:xfrm>
            <a:off x="857268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ttp://classdevchat.ru/uploads/posts/2009-07/1246897414_photo1.jpg"/>
          <p:cNvPicPr/>
          <p:nvPr/>
        </p:nvPicPr>
        <p:blipFill>
          <a:blip r:embed="rId1"/>
          <a:stretch/>
        </p:blipFill>
        <p:spPr>
          <a:xfrm>
            <a:off x="81000" y="714240"/>
            <a:ext cx="9021600" cy="6143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://www.film.ru/img/photo/173/03.jpg"/>
          <p:cNvPicPr/>
          <p:nvPr/>
        </p:nvPicPr>
        <p:blipFill>
          <a:blip r:embed="rId2"/>
          <a:stretch/>
        </p:blipFill>
        <p:spPr>
          <a:xfrm>
            <a:off x="1206360" y="3206880"/>
            <a:ext cx="4140360" cy="35179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>
            <a:off x="1726920" y="642960"/>
            <a:ext cx="25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Девушк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пригож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4714920" y="71424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Тихой </a:t>
            </a:r>
            <a:r>
              <a:rPr b="1" i="1" lang="uk-UA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песней встретили,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visualrian.ru/storage/PreviewWM/0322/33/0322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285840" y="50007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И в забой направился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3500280" y="56577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Парень молодой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6000"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http://classdevchat.ru/uploads/posts/2009-07/1246897414_photo1.jpg"/>
          <p:cNvPicPr/>
          <p:nvPr/>
        </p:nvPicPr>
        <p:blipFill>
          <a:blip r:embed="rId1"/>
          <a:stretch/>
        </p:blipFill>
        <p:spPr>
          <a:xfrm>
            <a:off x="81000" y="714240"/>
            <a:ext cx="9021600" cy="6143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www.film.ru/img/photo/173/03.jpg"/>
          <p:cNvPicPr/>
          <p:nvPr/>
        </p:nvPicPr>
        <p:blipFill>
          <a:blip r:embed="rId2"/>
          <a:stretch/>
        </p:blipFill>
        <p:spPr>
          <a:xfrm>
            <a:off x="1206360" y="3206880"/>
            <a:ext cx="4140360" cy="35179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3"/>
          <p:cNvSpPr/>
          <p:nvPr/>
        </p:nvSpPr>
        <p:spPr>
          <a:xfrm>
            <a:off x="1726920" y="642960"/>
            <a:ext cx="25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Девушк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пригож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4714920" y="71424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Тихой </a:t>
            </a:r>
            <a:r>
              <a:rPr b="1" i="1" lang="uk-UA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песней встретили,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visualrian.ru/storage/PreviewWM/0322/33/0322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2"/>
          <p:cNvSpPr/>
          <p:nvPr/>
        </p:nvSpPr>
        <p:spPr>
          <a:xfrm>
            <a:off x="285840" y="50007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И в забой направился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3500280" y="56577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Парень молодой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20000"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content.foto.mail.ru/community/lovekrasnoarmey/110/i-1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5016600"/>
            <a:ext cx="9156960" cy="22557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Про утренний тума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500040" y="500076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И туман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Случайно забредя в туман"/>
          <p:cNvPicPr/>
          <p:nvPr/>
        </p:nvPicPr>
        <p:blipFill>
          <a:blip r:embed="rId2"/>
          <a:stretch/>
        </p:blipFill>
        <p:spPr>
          <a:xfrm>
            <a:off x="208080" y="853920"/>
            <a:ext cx="8654760" cy="58280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1357200" y="5357880"/>
            <a:ext cx="18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белы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Беглецы"/>
          <p:cNvPicPr/>
          <p:nvPr/>
        </p:nvPicPr>
        <p:blipFill>
          <a:blip r:embed="rId3"/>
          <a:stretch/>
        </p:blipFill>
        <p:spPr>
          <a:xfrm>
            <a:off x="3365640" y="1920960"/>
            <a:ext cx="5705280" cy="38894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3143160" y="5857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ходят чередой..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Березки в лесу "/>
          <p:cNvPicPr/>
          <p:nvPr/>
        </p:nvPicPr>
        <p:blipFill>
          <a:blip r:embed="rId1"/>
          <a:srcRect l="0" t="0" r="0" b="14"/>
          <a:stretch/>
        </p:blipFill>
        <p:spPr>
          <a:xfrm>
            <a:off x="0" y="-214200"/>
            <a:ext cx="9178920" cy="70722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2" descr=""/>
          <p:cNvPicPr/>
          <p:nvPr/>
        </p:nvPicPr>
        <p:blipFill>
          <a:blip r:embed="rId2"/>
          <a:stretch/>
        </p:blipFill>
        <p:spPr>
          <a:xfrm>
            <a:off x="23760" y="5619600"/>
            <a:ext cx="4829400" cy="750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www.zastavki.com/pictures/1280x800/2008/Widescreen_Greenfields_Sweden_005193_.jpg"/>
          <p:cNvPicPr/>
          <p:nvPr/>
        </p:nvPicPr>
        <p:blipFill>
          <a:blip r:embed="rId3"/>
          <a:stretch/>
        </p:blipFill>
        <p:spPr>
          <a:xfrm>
            <a:off x="0" y="-214200"/>
            <a:ext cx="9144000" cy="678636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4" descr=""/>
          <p:cNvPicPr/>
          <p:nvPr/>
        </p:nvPicPr>
        <p:blipFill>
          <a:blip r:embed="rId4"/>
          <a:stretch/>
        </p:blipFill>
        <p:spPr>
          <a:xfrm>
            <a:off x="2882880" y="5565600"/>
            <a:ext cx="3657600" cy="1298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in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1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18" presetSubtype="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www.photoukraine.com/i/articles/Donetskaya%20Vozvyshennost%20Photos/018.jpg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171360" y="5121360"/>
            <a:ext cx="5735880" cy="743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http://smoking-room.ru/data/pnp/professii/3.jpg"/>
          <p:cNvPicPr/>
          <p:nvPr/>
        </p:nvPicPr>
        <p:blipFill>
          <a:blip r:embed="rId3"/>
          <a:stretch/>
        </p:blipFill>
        <p:spPr>
          <a:xfrm>
            <a:off x="920880" y="281160"/>
            <a:ext cx="2444760" cy="50828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4" descr=""/>
          <p:cNvPicPr/>
          <p:nvPr/>
        </p:nvPicPr>
        <p:blipFill>
          <a:blip r:embed="rId4"/>
          <a:stretch/>
        </p:blipFill>
        <p:spPr>
          <a:xfrm>
            <a:off x="4383000" y="5565600"/>
            <a:ext cx="4127760" cy="129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Березки в лесу "/>
          <p:cNvPicPr/>
          <p:nvPr/>
        </p:nvPicPr>
        <p:blipFill>
          <a:blip r:embed="rId1"/>
          <a:srcRect l="0" t="0" r="0" b="14"/>
          <a:stretch/>
        </p:blipFill>
        <p:spPr>
          <a:xfrm>
            <a:off x="0" y="-214200"/>
            <a:ext cx="9178920" cy="7072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www.zastavki.com/pictures/1280x800/2008/Widescreen_Greenfields_Sweden_005193_.jpg"/>
          <p:cNvPicPr/>
          <p:nvPr/>
        </p:nvPicPr>
        <p:blipFill>
          <a:blip r:embed="rId2"/>
          <a:stretch/>
        </p:blipFill>
        <p:spPr>
          <a:xfrm>
            <a:off x="0" y="-214200"/>
            <a:ext cx="9144000" cy="6786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in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www.photoukraine.com/i/articles/Donetskaya%20Vozvyshennost%20Photos/018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357120" y="5214960"/>
            <a:ext cx="1843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://smoking-room.ru/data/pnp/professii/3.jpg"/>
          <p:cNvPicPr/>
          <p:nvPr/>
        </p:nvPicPr>
        <p:blipFill>
          <a:blip r:embed="rId2"/>
          <a:stretch/>
        </p:blipFill>
        <p:spPr>
          <a:xfrm>
            <a:off x="920880" y="281160"/>
            <a:ext cx="2444760" cy="50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znich.org.ua/img/shakhta1/1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357120" y="28584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Там, на шахте угольной,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http://i165.photobucket.com/albums/u54/devol_photo/stahanov_molot.jpg"/>
          <p:cNvPicPr/>
          <p:nvPr/>
        </p:nvPicPr>
        <p:blipFill>
          <a:blip r:embed="rId2"/>
          <a:stretch/>
        </p:blipFill>
        <p:spPr>
          <a:xfrm>
            <a:off x="3498840" y="2779560"/>
            <a:ext cx="5364000" cy="391968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5"/>
          <p:cNvSpPr/>
          <p:nvPr/>
        </p:nvSpPr>
        <p:spPr>
          <a:xfrm>
            <a:off x="500040" y="1071720"/>
            <a:ext cx="507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Паренька приметили,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http://images.v-teme.com/media/images/albumimages/viewphoto/29441.png?rand=372926370"/>
          <p:cNvPicPr/>
          <p:nvPr/>
        </p:nvPicPr>
        <p:blipFill>
          <a:blip r:embed="rId1"/>
          <a:srcRect l="0" t="0" r="0" b="39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3"/>
          <p:cNvSpPr/>
          <p:nvPr/>
        </p:nvSpPr>
        <p:spPr>
          <a:xfrm>
            <a:off x="285840" y="4287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Руку дружбы подали,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Повели с собой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6000">
    <p:wedg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0T04:58:07Z</dcterms:created>
  <dc:creator>Zver</dc:creator>
  <dc:description/>
  <dc:language>en-US</dc:language>
  <cp:lastModifiedBy>Maincomp</cp:lastModifiedBy>
  <dcterms:modified xsi:type="dcterms:W3CDTF">2010-05-31T08:46:41Z</dcterms:modified>
  <cp:revision>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838000000000001024140</vt:lpwstr>
  </property>
</Properties>
</file>