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2A4-9546-44DA-934C-D9227695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88B-B0D2-4A53-8BA1-66BC392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DD3-EBB7-4D01-BFB9-8BD3081B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8A1-4EE6-4ACE-810E-E9355E3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7B3-8FF0-40E9-8078-FDDF3948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4ED-86ED-47CB-933A-0AF19C2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31D-2C95-4002-AC2A-C2B9BD1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41B-C999-4BF3-AE39-F6322E8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2D6-B0A3-4E97-A3E9-0BD17EB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0B0-55E8-4639-99D4-D21314B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356-1A78-4E36-9DF7-D2BCFC0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4FB-AF81-4ABD-AEFB-63E7D5E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A8A-2E60-45E7-8DF0-96B22E40E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onnel.ru/fonoteka/ispol/97720289_tonnel.gif"/>
          <p:cNvPicPr/>
          <p:nvPr/>
        </p:nvPicPr>
        <p:blipFill>
          <a:blip r:embed="rId1"/>
          <a:stretch/>
        </p:blipFill>
        <p:spPr>
          <a:xfrm>
            <a:off x="189000" y="476280"/>
            <a:ext cx="4174920" cy="569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92840" y="469800"/>
            <a:ext cx="3657600" cy="1932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425200" y="3143160"/>
            <a:ext cx="29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«Спя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курга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Темн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Bernes_Mark-Spyat_Kurgani_Temnie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ontent.foto.mail.ru/community/lovekrasnoarmey/110/i-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016600"/>
            <a:ext cx="9156960" cy="2255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Про утренний тум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00040" y="5000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 тума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Случайно забредя в туман"/>
          <p:cNvPicPr/>
          <p:nvPr/>
        </p:nvPicPr>
        <p:blipFill>
          <a:blip r:embed="rId2"/>
          <a:stretch/>
        </p:blipFill>
        <p:spPr>
          <a:xfrm>
            <a:off x="208080" y="853920"/>
            <a:ext cx="8654760" cy="5828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1357200" y="53578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ел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Беглецы"/>
          <p:cNvPicPr/>
          <p:nvPr/>
        </p:nvPicPr>
        <p:blipFill>
          <a:blip r:embed="rId3"/>
          <a:stretch/>
        </p:blipFill>
        <p:spPr>
          <a:xfrm>
            <a:off x="3365640" y="1920960"/>
            <a:ext cx="5705280" cy="3889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143160" y="585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ходят чередой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5619600"/>
            <a:ext cx="4829400" cy="7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zastavki.com/pictures/1280x800/2008/Widescreen_Greenfields_Sweden_005193_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2882880" y="5565600"/>
            <a:ext cx="3657600" cy="129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5121360"/>
            <a:ext cx="5735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moking-room.ru/data/pnp/professii/3.jpg"/>
          <p:cNvPicPr/>
          <p:nvPr/>
        </p:nvPicPr>
        <p:blipFill>
          <a:blip r:embed="rId3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383000" y="5565600"/>
            <a:ext cx="41277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zastavki.com/pictures/1280x800/2008/Widescreen_Greenfields_Sweden_005193_.jpg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57120" y="521496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smoking-room.ru/data/pnp/professii/3.jpg"/>
          <p:cNvPicPr/>
          <p:nvPr/>
        </p:nvPicPr>
        <p:blipFill>
          <a:blip r:embed="rId2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znich.org.ua/img/shakhta1/1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2858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ам, на шахте угольной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165.photobucket.com/albums/u54/devol_photo/stahanov_molot.jpg"/>
          <p:cNvPicPr/>
          <p:nvPr/>
        </p:nvPicPr>
        <p:blipFill>
          <a:blip r:embed="rId2"/>
          <a:stretch/>
        </p:blipFill>
        <p:spPr>
          <a:xfrm>
            <a:off x="3498840" y="2779560"/>
            <a:ext cx="536400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00040" y="10717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ка прим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ages.v-teme.com/media/images/albumimages/viewphoto/29441.png?rand=372926370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28584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уку дружбы подал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овели с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4:58:07Z</dcterms:created>
  <dc:creator>Zver</dc:creator>
  <dc:description/>
  <dc:language>en-US</dc:language>
  <cp:lastModifiedBy>Maincomp</cp:lastModifiedBy>
  <dcterms:modified xsi:type="dcterms:W3CDTF">2010-05-31T08:46:4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8000000000001024140</vt:lpwstr>
  </property>
</Properties>
</file>