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E88-8804-47C6-A895-17B43F86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48C-B71D-4ABF-8167-89A4A40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AC2-178F-49D7-AF9E-19AC458D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11D-D02C-41FF-BFA3-A1C65CE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805-3D96-480D-AF73-2BA8543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1ED-6753-4832-A485-25C215A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814-5E27-49BE-962D-8711BE7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D46-6B81-4572-B30A-1FF52694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07E-7AE2-4791-A640-13474ED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593-48CD-476A-AAC9-FC0C2C9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E63-F8F3-4F7F-8EEA-BB4C905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F5B-FD41-4628-B330-2EA31386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3B3-F176-4A8B-85B5-0C3ABCADF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onnel.ru/fonoteka/ispol/97720289_tonnel.gif"/>
          <p:cNvPicPr/>
          <p:nvPr/>
        </p:nvPicPr>
        <p:blipFill>
          <a:blip r:embed="rId1"/>
          <a:stretch/>
        </p:blipFill>
        <p:spPr>
          <a:xfrm>
            <a:off x="189000" y="476280"/>
            <a:ext cx="4174920" cy="569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92840" y="469800"/>
            <a:ext cx="3657600" cy="1932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425200" y="3143160"/>
            <a:ext cx="29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«Спя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курга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Темн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Bernes_Mark-Spyat_Kurgani_Temnie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ontent.foto.mail.ru/community/lovekrasnoarmey/110/i-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016600"/>
            <a:ext cx="9156960" cy="2255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Про утренний тум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00040" y="5000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 тума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Случайно забредя в туман"/>
          <p:cNvPicPr/>
          <p:nvPr/>
        </p:nvPicPr>
        <p:blipFill>
          <a:blip r:embed="rId2"/>
          <a:stretch/>
        </p:blipFill>
        <p:spPr>
          <a:xfrm>
            <a:off x="208080" y="853920"/>
            <a:ext cx="8654760" cy="5828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1357200" y="53578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ел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Беглецы"/>
          <p:cNvPicPr/>
          <p:nvPr/>
        </p:nvPicPr>
        <p:blipFill>
          <a:blip r:embed="rId3"/>
          <a:stretch/>
        </p:blipFill>
        <p:spPr>
          <a:xfrm>
            <a:off x="3365640" y="1920960"/>
            <a:ext cx="5705280" cy="3889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143160" y="585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ходят чередой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5619600"/>
            <a:ext cx="4829400" cy="7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zastavki.com/pictures/1280x800/2008/Widescreen_Greenfields_Sweden_005193_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2882880" y="5565600"/>
            <a:ext cx="3657600" cy="129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5121360"/>
            <a:ext cx="5735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moking-room.ru/data/pnp/professii/3.jpg"/>
          <p:cNvPicPr/>
          <p:nvPr/>
        </p:nvPicPr>
        <p:blipFill>
          <a:blip r:embed="rId3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383000" y="5565600"/>
            <a:ext cx="41277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zastavki.com/pictures/1280x800/2008/Widescreen_Greenfields_Sweden_005193_.jpg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57120" y="521496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smoking-room.ru/data/pnp/professii/3.jpg"/>
          <p:cNvPicPr/>
          <p:nvPr/>
        </p:nvPicPr>
        <p:blipFill>
          <a:blip r:embed="rId2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znich.org.ua/img/shakhta1/1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2858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ам, на шахте угольной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165.photobucket.com/albums/u54/devol_photo/stahanov_molot.jpg"/>
          <p:cNvPicPr/>
          <p:nvPr/>
        </p:nvPicPr>
        <p:blipFill>
          <a:blip r:embed="rId2"/>
          <a:stretch/>
        </p:blipFill>
        <p:spPr>
          <a:xfrm>
            <a:off x="3498840" y="2779560"/>
            <a:ext cx="536400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00040" y="10717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ка прим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ages.v-teme.com/media/images/albumimages/viewphoto/29441.png?rand=372926370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28584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уку дружбы подал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овели с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4:58:07Z</dcterms:created>
  <dc:creator>Zver</dc:creator>
  <dc:description/>
  <dc:language>en-US</dc:language>
  <cp:lastModifiedBy>Maincomp</cp:lastModifiedBy>
  <dcterms:modified xsi:type="dcterms:W3CDTF">2010-05-31T08:46:4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8000000000001024140</vt:lpwstr>
  </property>
</Properties>
</file>