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D81-B263-4BFD-936F-C50AF4DB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8A1-E911-4130-92F1-853612BC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443-63A1-4489-B272-1F127ED4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103-170C-4A0E-84D6-CE0B713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337-7AE7-4AC7-A9D2-96242DA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EB-4984-4B1F-957F-58B898A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2FF-E1B9-40F8-AD74-E0616CB0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45C-6E90-47A3-BD8F-57EF6B16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408-EBAA-422C-A023-17F1557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6D0-10A4-4E7E-8D45-17F840D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B2F-DF7E-4D89-8FBC-0C474A58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641-B304-410E-A558-508C1B0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A06-47F7-4DDF-B830-C3E39708B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tonnel.ru/fonoteka/ispol/97720289_tonnel.gif"/>
          <p:cNvPicPr/>
          <p:nvPr/>
        </p:nvPicPr>
        <p:blipFill>
          <a:blip r:embed="rId1"/>
          <a:stretch/>
        </p:blipFill>
        <p:spPr>
          <a:xfrm>
            <a:off x="189000" y="476280"/>
            <a:ext cx="4174920" cy="56926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992840" y="469800"/>
            <a:ext cx="3657600" cy="19321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425200" y="3143160"/>
            <a:ext cx="29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«Спя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курган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Темные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Bernes_Mark-Spyat_Kurgani_Temnie.mp3" descr=""/>
          <p:cNvPicPr/>
          <p:nvPr/>
        </p:nvPicPr>
        <p:blipFill>
          <a:blip r:embed="rId3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http://classdevchat.ru/uploads/posts/2009-07/1246897414_photo1.jpg"/>
          <p:cNvPicPr/>
          <p:nvPr/>
        </p:nvPicPr>
        <p:blipFill>
          <a:blip r:embed="rId1"/>
          <a:stretch/>
        </p:blipFill>
        <p:spPr>
          <a:xfrm>
            <a:off x="81000" y="714240"/>
            <a:ext cx="9021600" cy="6143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film.ru/img/photo/173/03.jpg"/>
          <p:cNvPicPr/>
          <p:nvPr/>
        </p:nvPicPr>
        <p:blipFill>
          <a:blip r:embed="rId2"/>
          <a:stretch/>
        </p:blipFill>
        <p:spPr>
          <a:xfrm>
            <a:off x="1206360" y="3206880"/>
            <a:ext cx="4140360" cy="3517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1726920" y="642960"/>
            <a:ext cx="25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евуш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гож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714920" y="71424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ихой </a:t>
            </a:r>
            <a:r>
              <a:rPr b="1" i="1" lang="uk-U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есней встр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visualrian.ru/storage/PreviewWM/0322/33/0322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85840" y="50007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 в забой направился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350028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 молод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content.foto.mail.ru/community/lovekrasnoarmey/110/i-1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5016600"/>
            <a:ext cx="9156960" cy="2255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Про утренний тума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500040" y="50007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И туман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Случайно забредя в туман"/>
          <p:cNvPicPr/>
          <p:nvPr/>
        </p:nvPicPr>
        <p:blipFill>
          <a:blip r:embed="rId2"/>
          <a:stretch/>
        </p:blipFill>
        <p:spPr>
          <a:xfrm>
            <a:off x="208080" y="853920"/>
            <a:ext cx="8654760" cy="58280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1357200" y="53578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ел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Беглецы"/>
          <p:cNvPicPr/>
          <p:nvPr/>
        </p:nvPicPr>
        <p:blipFill>
          <a:blip r:embed="rId3"/>
          <a:stretch/>
        </p:blipFill>
        <p:spPr>
          <a:xfrm>
            <a:off x="3365640" y="1920960"/>
            <a:ext cx="5705280" cy="3889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3143160" y="5857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ходят чередой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23760" y="5619600"/>
            <a:ext cx="4829400" cy="7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zastavki.com/pictures/1280x800/2008/Widescreen_Greenfields_Sweden_005193_.jp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2882880" y="5565600"/>
            <a:ext cx="3657600" cy="1298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5121360"/>
            <a:ext cx="5735880" cy="7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smoking-room.ru/data/pnp/professii/3.jpg"/>
          <p:cNvPicPr/>
          <p:nvPr/>
        </p:nvPicPr>
        <p:blipFill>
          <a:blip r:embed="rId3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383000" y="5565600"/>
            <a:ext cx="41277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Березки в лесу "/>
          <p:cNvPicPr/>
          <p:nvPr/>
        </p:nvPicPr>
        <p:blipFill>
          <a:blip r:embed="rId1"/>
          <a:srcRect l="0" t="0" r="0" b="14"/>
          <a:stretch/>
        </p:blipFill>
        <p:spPr>
          <a:xfrm>
            <a:off x="0" y="-214200"/>
            <a:ext cx="9178920" cy="707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zastavki.com/pictures/1280x800/2008/Widescreen_Greenfields_Sweden_005193_.jpg"/>
          <p:cNvPicPr/>
          <p:nvPr/>
        </p:nvPicPr>
        <p:blipFill>
          <a:blip r:embed="rId2"/>
          <a:stretch/>
        </p:blipFill>
        <p:spPr>
          <a:xfrm>
            <a:off x="0" y="-214200"/>
            <a:ext cx="9144000" cy="67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photoukraine.com/i/articles/Donetskaya%20Vozvyshennost%20Photos/0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357120" y="521496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smoking-room.ru/data/pnp/professii/3.jpg"/>
          <p:cNvPicPr/>
          <p:nvPr/>
        </p:nvPicPr>
        <p:blipFill>
          <a:blip r:embed="rId2"/>
          <a:stretch/>
        </p:blipFill>
        <p:spPr>
          <a:xfrm>
            <a:off x="920880" y="281160"/>
            <a:ext cx="2444760" cy="50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znich.org.ua/img/shakhta1/1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357120" y="28584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Там, на шахте угольной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165.photobucket.com/albums/u54/devol_photo/stahanov_molot.jpg"/>
          <p:cNvPicPr/>
          <p:nvPr/>
        </p:nvPicPr>
        <p:blipFill>
          <a:blip r:embed="rId2"/>
          <a:stretch/>
        </p:blipFill>
        <p:spPr>
          <a:xfrm>
            <a:off x="3498840" y="2779560"/>
            <a:ext cx="536400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00040" y="107172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аренька приметили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ages.v-teme.com/media/images/albumimages/viewphoto/29441.png?rand=372926370"/>
          <p:cNvPicPr/>
          <p:nvPr/>
        </p:nvPicPr>
        <p:blipFill>
          <a:blip r:embed="rId1"/>
          <a:srcRect l="0" t="0" r="0" b="39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285840" y="428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Руку дружбы подал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Повели с соб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4:58:07Z</dcterms:created>
  <dc:creator>Zver</dc:creator>
  <dc:description/>
  <dc:language>en-US</dc:language>
  <cp:lastModifiedBy>Maincomp</cp:lastModifiedBy>
  <dcterms:modified xsi:type="dcterms:W3CDTF">2010-05-31T08:46:41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38000000000001024140</vt:lpwstr>
  </property>
</Properties>
</file>