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458-BCEC-4876-88EE-6C9A1FEA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5EC-0889-48C5-B9A7-9C11E33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E08-33C6-4591-9FFB-7335586D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A9E-1ED5-4370-98BB-758BDF6B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E68-84F8-405D-9D89-F0A2555C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E06-1077-494F-8F6E-5AFA5161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EEC-70C6-4C01-8224-DBDBCFDC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73A-A0ED-44F8-8612-3921FBDD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331-F284-4367-B8BF-8D170201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5CD-10C3-4671-B4C1-F842EC8A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D72-A818-4806-A616-C25DE31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25D-CD4B-4BD4-9E18-4E91B873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6981-C6DA-4C97-A5A0-74CFEAB7B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user\Рабочий стол\малюнки\Альпы\tayur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  рельєфу  суходолу</a:t>
            </a:r>
            <a:br>
              <a:rPr sz="4800"/>
            </a:b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: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ти втрачену інформаці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00280"/>
          <a:ext cx="8229600" cy="3871800"/>
        </p:xfrm>
        <a:graphic>
          <a:graphicData uri="http://schemas.openxmlformats.org/drawingml/2006/table">
            <a:tbl>
              <a:tblPr/>
              <a:tblGrid>
                <a:gridCol w="2057400"/>
                <a:gridCol w="2046240"/>
                <a:gridCol w="206856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мала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-Кін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: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ти втрачену інформаці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700280"/>
          <a:ext cx="8229600" cy="4236840"/>
        </p:xfrm>
        <a:graphic>
          <a:graphicData uri="http://schemas.openxmlformats.org/drawingml/2006/table">
            <a:tbl>
              <a:tblPr/>
              <a:tblGrid>
                <a:gridCol w="2057400"/>
                <a:gridCol w="2046240"/>
                <a:gridCol w="206856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мала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Евер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враз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льє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-Кін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конкагу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ий Вододільний хр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осцюш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user\Рабочий стол\малюнки2\Эверест\everest_north_face.jpg"/>
          <p:cNvPicPr/>
          <p:nvPr/>
        </p:nvPicPr>
        <p:blipFill>
          <a:blip r:embed="rId1"/>
          <a:stretch/>
        </p:blipFill>
        <p:spPr>
          <a:xfrm>
            <a:off x="-122400" y="-92160"/>
            <a:ext cx="9266400" cy="6950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357280" y="635796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г. Джомолунгма (Еверест) – найвища вершина сві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C:\Documents and Settings\user\Рабочий стол\малюнки2\Говерла -1\говерла фото.jpe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00040" y="42876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г. Говерла – найвища вершина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820101"/>
                </a:solidFill>
                <a:uFillTx/>
                <a:latin typeface="Times New Roman"/>
                <a:ea typeface="Times New Roman"/>
              </a:rPr>
              <a:t>утворенням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поділяються н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низ 3"/>
          <p:cNvSpPr/>
          <p:nvPr/>
        </p:nvSpPr>
        <p:spPr>
          <a:xfrm>
            <a:off x="928800" y="928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4"/>
          <p:cNvSpPr/>
          <p:nvPr/>
        </p:nvSpPr>
        <p:spPr>
          <a:xfrm>
            <a:off x="4572000" y="907920"/>
            <a:ext cx="357120" cy="285840"/>
          </a:xfrm>
          <a:prstGeom prst="downArrow">
            <a:avLst>
              <a:gd name="adj1" fmla="val 50000"/>
              <a:gd name="adj2" fmla="val 53083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5"/>
          <p:cNvSpPr/>
          <p:nvPr/>
        </p:nvSpPr>
        <p:spPr>
          <a:xfrm>
            <a:off x="7929720" y="928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142920" y="1214280"/>
            <a:ext cx="178596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складч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3276720" y="1197000"/>
            <a:ext cx="285732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складчасто-брил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6786720" y="1214280"/>
            <a:ext cx="221436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вулканіч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571680" y="3786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785880" y="621504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дильє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Documents and Settings\user\Рабочий стол\малюнки2\Карпаты\1260.jpg"/>
          <p:cNvPicPr/>
          <p:nvPr/>
        </p:nvPicPr>
        <p:blipFill>
          <a:blip r:embed="rId1"/>
          <a:stretch/>
        </p:blipFill>
        <p:spPr>
          <a:xfrm>
            <a:off x="142920" y="1714680"/>
            <a:ext cx="2786040" cy="207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user\Рабочий стол\малюнки2\Мауна-Кеа.jpg"/>
          <p:cNvPicPr/>
          <p:nvPr/>
        </p:nvPicPr>
        <p:blipFill>
          <a:blip r:embed="rId2"/>
          <a:stretch/>
        </p:blipFill>
        <p:spPr>
          <a:xfrm>
            <a:off x="6143760" y="4000680"/>
            <a:ext cx="2857320" cy="2187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0"/>
          <p:cNvSpPr/>
          <p:nvPr/>
        </p:nvSpPr>
        <p:spPr>
          <a:xfrm>
            <a:off x="7572240" y="6143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. Мауна-Ке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:\Documents and Settings\user\Рабочий стол\малюнки2\вулканы.jpg"/>
          <p:cNvPicPr/>
          <p:nvPr/>
        </p:nvPicPr>
        <p:blipFill>
          <a:blip r:embed="rId3"/>
          <a:stretch/>
        </p:blipFill>
        <p:spPr>
          <a:xfrm>
            <a:off x="6411960" y="1785960"/>
            <a:ext cx="257184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C:\Documents and Settings\user\Рабочий стол\малюнки2\Тянь-Шань\tian-shan-range-521042-lw.jpg"/>
          <p:cNvPicPr/>
          <p:nvPr/>
        </p:nvPicPr>
        <p:blipFill>
          <a:blip r:embed="rId4"/>
          <a:stretch/>
        </p:blipFill>
        <p:spPr>
          <a:xfrm>
            <a:off x="3203640" y="1700280"/>
            <a:ext cx="3025800" cy="2270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2"/>
          <p:cNvSpPr/>
          <p:nvPr/>
        </p:nvSpPr>
        <p:spPr>
          <a:xfrm>
            <a:off x="3924360" y="40053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янь-Ш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4" descr="C:\Documents and Settings\user\Рабочий стол\малюнки2\Алтай.jpg"/>
          <p:cNvPicPr/>
          <p:nvPr/>
        </p:nvPicPr>
        <p:blipFill>
          <a:blip r:embed="rId5"/>
          <a:stretch/>
        </p:blipFill>
        <p:spPr>
          <a:xfrm>
            <a:off x="3203640" y="4437000"/>
            <a:ext cx="2786040" cy="1928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7"/>
          <p:cNvSpPr/>
          <p:nvPr/>
        </p:nvSpPr>
        <p:spPr>
          <a:xfrm>
            <a:off x="3708360" y="63086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л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C:\Users\Концеба\Desktop\images.jpg"/>
          <p:cNvPicPr/>
          <p:nvPr/>
        </p:nvPicPr>
        <p:blipFill>
          <a:blip r:embed="rId6"/>
          <a:stretch/>
        </p:blipFill>
        <p:spPr>
          <a:xfrm>
            <a:off x="101520" y="4329000"/>
            <a:ext cx="2932200" cy="1886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Концеба\Desktop\9145768.jpg"/>
          <p:cNvPicPr/>
          <p:nvPr/>
        </p:nvPicPr>
        <p:blipFill>
          <a:blip r:embed="rId1"/>
          <a:stretch/>
        </p:blipFill>
        <p:spPr>
          <a:xfrm>
            <a:off x="2862360" y="3645000"/>
            <a:ext cx="6072120" cy="321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Концеба\Desktop\кавказ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1960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-131760" y="5702400"/>
            <a:ext cx="296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ькі г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820101"/>
                </a:solidFill>
                <a:uFillTx/>
                <a:latin typeface="Times New Roman"/>
                <a:ea typeface="Times New Roman"/>
              </a:rPr>
              <a:t>віком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бувают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трелка вниз 4"/>
          <p:cNvSpPr/>
          <p:nvPr/>
        </p:nvSpPr>
        <p:spPr>
          <a:xfrm>
            <a:off x="2500200" y="785880"/>
            <a:ext cx="214560" cy="285840"/>
          </a:xfrm>
          <a:prstGeom prst="downArrow">
            <a:avLst>
              <a:gd name="adj1" fmla="val 57713"/>
              <a:gd name="adj2" fmla="val 4995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низ 5"/>
          <p:cNvSpPr/>
          <p:nvPr/>
        </p:nvSpPr>
        <p:spPr>
          <a:xfrm>
            <a:off x="6500880" y="85716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1857240" y="1071720"/>
            <a:ext cx="1428840" cy="28548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д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5929200" y="1143000"/>
            <a:ext cx="1428840" cy="28584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user\Рабочий стол\малюнки2\Памир\pamir.jpg"/>
          <p:cNvPicPr/>
          <p:nvPr/>
        </p:nvPicPr>
        <p:blipFill>
          <a:blip r:embed="rId1"/>
          <a:stretch/>
        </p:blipFill>
        <p:spPr>
          <a:xfrm>
            <a:off x="1214280" y="142884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3571920" y="3571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а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42920" y="2928960"/>
            <a:ext cx="30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імала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Documents and Settings\user\Рабочий стол\малюнки2\Большой Водораздельный хребет\polonina_runa.jpg"/>
          <p:cNvPicPr/>
          <p:nvPr/>
        </p:nvPicPr>
        <p:blipFill>
          <a:blip r:embed="rId2"/>
          <a:stretch/>
        </p:blipFill>
        <p:spPr>
          <a:xfrm>
            <a:off x="5238720" y="1500120"/>
            <a:ext cx="3333960" cy="2500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3"/>
          <p:cNvSpPr/>
          <p:nvPr/>
        </p:nvSpPr>
        <p:spPr>
          <a:xfrm>
            <a:off x="5572080" y="4000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еликий Вододільний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user\Рабочий стол\малюнки2\Кавказ\_MG_2872-7-pp.jpg"/>
          <p:cNvPicPr/>
          <p:nvPr/>
        </p:nvPicPr>
        <p:blipFill>
          <a:blip r:embed="rId3"/>
          <a:stretch/>
        </p:blipFill>
        <p:spPr>
          <a:xfrm>
            <a:off x="2857680" y="4071960"/>
            <a:ext cx="2500200" cy="2171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5"/>
          <p:cNvSpPr/>
          <p:nvPr/>
        </p:nvSpPr>
        <p:spPr>
          <a:xfrm>
            <a:off x="3929040" y="6286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в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C:\Documents and Settings\user\Рабочий стол\малюнки2\Урал\1624247.jpg"/>
          <p:cNvPicPr/>
          <p:nvPr/>
        </p:nvPicPr>
        <p:blipFill>
          <a:blip r:embed="rId4"/>
          <a:stretch/>
        </p:blipFill>
        <p:spPr>
          <a:xfrm>
            <a:off x="5641920" y="4357800"/>
            <a:ext cx="3144960" cy="21636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8"/>
          <p:cNvSpPr/>
          <p:nvPr/>
        </p:nvSpPr>
        <p:spPr>
          <a:xfrm>
            <a:off x="7000920" y="6429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раль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0" y="63579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C:\Documents and Settings\user\Рабочий стол\малюнки2\Карпаты\karpati1.jpg"/>
          <p:cNvPicPr/>
          <p:nvPr/>
        </p:nvPicPr>
        <p:blipFill>
          <a:blip r:embed="rId5"/>
          <a:stretch/>
        </p:blipFill>
        <p:spPr>
          <a:xfrm>
            <a:off x="928800" y="514368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C:\Documents and Settings\user\Рабочий стол\малюнки2\Гималаи\9fc1a435eeab0aae63f7c390a963a53b_big.jpg"/>
          <p:cNvPicPr/>
          <p:nvPr/>
        </p:nvPicPr>
        <p:blipFill>
          <a:blip r:embed="rId6"/>
          <a:stretch/>
        </p:blipFill>
        <p:spPr>
          <a:xfrm>
            <a:off x="142920" y="3286080"/>
            <a:ext cx="2690640" cy="1785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і  гори                Старі гор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острі верш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сокі г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руті сх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 вершинах  лежить сні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 вулк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бъект 2"/>
          <p:cNvSpPr/>
          <p:nvPr/>
        </p:nvSpPr>
        <p:spPr>
          <a:xfrm>
            <a:off x="4932360" y="1628640"/>
            <a:ext cx="368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круглі  верш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изькі г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логі сх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ає вулка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бре освоєні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2286000" y="0"/>
            <a:ext cx="518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192888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 flipV="1" rot="15448800">
            <a:off x="2179440" y="3637080"/>
            <a:ext cx="32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К о р д и л ь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Calibri"/>
              </a:rPr>
              <a:t>є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р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 2" descr=""/>
          <p:cNvPicPr/>
          <p:nvPr/>
        </p:nvPicPr>
        <p:blipFill>
          <a:blip r:embed="rId2"/>
          <a:stretch/>
        </p:blipFill>
        <p:spPr>
          <a:xfrm>
            <a:off x="2987640" y="2060640"/>
            <a:ext cx="227808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и</a:t>
            </a: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лянки земної поверхні, які високо підняті  над прилеглою поверхне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user\Рабочий стол\малюнки2\Альпы\g20907.jpg"/>
          <p:cNvPicPr/>
          <p:nvPr/>
        </p:nvPicPr>
        <p:blipFill>
          <a:blip r:embed="rId1"/>
          <a:stretch/>
        </p:blipFill>
        <p:spPr>
          <a:xfrm>
            <a:off x="571680" y="1285920"/>
            <a:ext cx="3714480" cy="2679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4286160" y="2928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ль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Documents and Settings\user\Рабочий стол\малюнки2\Скандинавские горы\skandinavskiy.jpg"/>
          <p:cNvPicPr/>
          <p:nvPr/>
        </p:nvPicPr>
        <p:blipFill>
          <a:blip r:embed="rId2"/>
          <a:stretch/>
        </p:blipFill>
        <p:spPr>
          <a:xfrm>
            <a:off x="5429160" y="1214280"/>
            <a:ext cx="3398760" cy="4905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6786720" y="6072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кандинав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Documents and Settings\user\Рабочий стол\малюнки2\Кордильеры\4208244058_91a7269178_o.jpg"/>
          <p:cNvPicPr/>
          <p:nvPr/>
        </p:nvPicPr>
        <p:blipFill>
          <a:blip r:embed="rId3"/>
          <a:stretch/>
        </p:blipFill>
        <p:spPr>
          <a:xfrm>
            <a:off x="428760" y="4000680"/>
            <a:ext cx="4460760" cy="2714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4857840" y="62866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дильє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1979640" y="-24300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 rot="4237800">
            <a:off x="2471040" y="3872520"/>
            <a:ext cx="31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К о р д и л ь єр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928960" y="221508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г.Мак-К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і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нл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і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 6194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8"/>
          <p:cNvSpPr/>
          <p:nvPr/>
        </p:nvSpPr>
        <p:spPr>
          <a:xfrm>
            <a:off x="3276720" y="2205000"/>
            <a:ext cx="142920" cy="142920"/>
          </a:xfrm>
          <a:prstGeom prst="ellipse">
            <a:avLst/>
          </a:prstGeom>
          <a:solidFill>
            <a:srgbClr val="ad010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Ink 8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21808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рацювати параграф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конати завдання 6,7 картк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уч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ве завд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 пластиліну виліпити модель гірської краї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пик.jpg"/>
          <p:cNvPicPr/>
          <p:nvPr/>
        </p:nvPicPr>
        <p:blipFill>
          <a:blip r:embed="rId1"/>
          <a:stretch/>
        </p:blipFill>
        <p:spPr>
          <a:xfrm>
            <a:off x="2346480" y="0"/>
            <a:ext cx="6797520" cy="6854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40" y="31680"/>
            <a:ext cx="39672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хребет.jpg"/>
          <p:cNvPicPr/>
          <p:nvPr/>
        </p:nvPicPr>
        <p:blipFill>
          <a:blip r:embed="rId1"/>
          <a:stretch/>
        </p:blipFill>
        <p:spPr>
          <a:xfrm>
            <a:off x="214200" y="214200"/>
            <a:ext cx="8859960" cy="6383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ий хре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інь хреб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080640" cy="5834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200" y="90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перевал.jpg"/>
          <p:cNvPicPr/>
          <p:nvPr/>
        </p:nvPicPr>
        <p:blipFill>
          <a:blip r:embed="rId1"/>
          <a:stretch/>
        </p:blipFill>
        <p:spPr>
          <a:xfrm>
            <a:off x="214200" y="357120"/>
            <a:ext cx="8701200" cy="621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lick to see next picture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lick to see next pictu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долина  - зниження між хребт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горная страна.jpg"/>
          <p:cNvPicPr/>
          <p:nvPr/>
        </p:nvPicPr>
        <p:blipFill>
          <a:blip r:embed="rId1"/>
          <a:stretch/>
        </p:blipFill>
        <p:spPr>
          <a:xfrm>
            <a:off x="214200" y="142920"/>
            <a:ext cx="8572680" cy="6429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  краї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244440" y="5421240"/>
            <a:ext cx="345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Б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исотою над рівнем моря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буваю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низ 4"/>
          <p:cNvSpPr/>
          <p:nvPr/>
        </p:nvSpPr>
        <p:spPr>
          <a:xfrm>
            <a:off x="1571760" y="78588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8"/>
          <p:cNvSpPr/>
          <p:nvPr/>
        </p:nvSpPr>
        <p:spPr>
          <a:xfrm>
            <a:off x="4500720" y="85716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9"/>
          <p:cNvSpPr/>
          <p:nvPr/>
        </p:nvSpPr>
        <p:spPr>
          <a:xfrm>
            <a:off x="7643880" y="85716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857160" y="1143000"/>
            <a:ext cx="1643040" cy="50004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низь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до 1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3714840" y="1214280"/>
            <a:ext cx="1857240" cy="50040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серед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1000-2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6929280" y="1214280"/>
            <a:ext cx="1857600" cy="50040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висо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вище 2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7786800" y="6429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н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user\Рабочий стол\малюнки2\Гималаи\himalayas.jpg"/>
          <p:cNvPicPr/>
          <p:nvPr/>
        </p:nvPicPr>
        <p:blipFill>
          <a:blip r:embed="rId1"/>
          <a:stretch/>
        </p:blipFill>
        <p:spPr>
          <a:xfrm>
            <a:off x="6286680" y="1785960"/>
            <a:ext cx="2690640" cy="2211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8"/>
          <p:cNvSpPr/>
          <p:nvPr/>
        </p:nvSpPr>
        <p:spPr>
          <a:xfrm>
            <a:off x="7929720" y="39290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імала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Documents and Settings\user\Рабочий стол\малюнки2\Карпаты\_______________8.jpg"/>
          <p:cNvPicPr/>
          <p:nvPr/>
        </p:nvPicPr>
        <p:blipFill>
          <a:blip r:embed="rId2"/>
          <a:stretch/>
        </p:blipFill>
        <p:spPr>
          <a:xfrm>
            <a:off x="3143160" y="1785960"/>
            <a:ext cx="293364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0"/>
          <p:cNvSpPr/>
          <p:nvPr/>
        </p:nvSpPr>
        <p:spPr>
          <a:xfrm>
            <a:off x="4714920" y="3857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Documents and Settings\user\Рабочий стол\малюнки2\Бразильське пл.jpg"/>
          <p:cNvPicPr/>
          <p:nvPr/>
        </p:nvPicPr>
        <p:blipFill>
          <a:blip r:embed="rId3"/>
          <a:stretch/>
        </p:blipFill>
        <p:spPr>
          <a:xfrm>
            <a:off x="214200" y="1714680"/>
            <a:ext cx="2826000" cy="2071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4"/>
          <p:cNvSpPr/>
          <p:nvPr/>
        </p:nvSpPr>
        <p:spPr>
          <a:xfrm>
            <a:off x="1285920" y="3714840"/>
            <a:ext cx="17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раль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C:\Documents and Settings\user\Рабочий стол\малюнки2\Крымские горы\65.jpg"/>
          <p:cNvPicPr/>
          <p:nvPr/>
        </p:nvPicPr>
        <p:blipFill>
          <a:blip r:embed="rId4"/>
          <a:stretch/>
        </p:blipFill>
        <p:spPr>
          <a:xfrm>
            <a:off x="142920" y="4071960"/>
            <a:ext cx="2944800" cy="2214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6"/>
          <p:cNvSpPr/>
          <p:nvPr/>
        </p:nvSpPr>
        <p:spPr>
          <a:xfrm>
            <a:off x="1428840" y="63579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им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C:\Documents and Settings\user\Рабочий стол\малюнки2\Скандинавские горы\07.jpg"/>
          <p:cNvPicPr/>
          <p:nvPr/>
        </p:nvPicPr>
        <p:blipFill>
          <a:blip r:embed="rId5"/>
          <a:stretch/>
        </p:blipFill>
        <p:spPr>
          <a:xfrm>
            <a:off x="3214800" y="4214880"/>
            <a:ext cx="2857320" cy="2225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30"/>
          <p:cNvSpPr/>
          <p:nvPr/>
        </p:nvSpPr>
        <p:spPr>
          <a:xfrm>
            <a:off x="3857760" y="63579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кандинав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C:\Documents and Settings\user\Рабочий стол\малюнки2\Анди\andes.jpg"/>
          <p:cNvPicPr/>
          <p:nvPr/>
        </p:nvPicPr>
        <p:blipFill>
          <a:blip r:embed="rId6"/>
          <a:stretch/>
        </p:blipFill>
        <p:spPr>
          <a:xfrm>
            <a:off x="6286680" y="4286160"/>
            <a:ext cx="2768400" cy="22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9:14:40Z</dcterms:created>
  <dc:creator>user</dc:creator>
  <dc:description/>
  <dc:language>en-US</dc:language>
  <cp:lastModifiedBy>Інна</cp:lastModifiedBy>
  <dcterms:modified xsi:type="dcterms:W3CDTF">2015-01-02T19:06:04Z</dcterms:modified>
  <cp:revision>103</cp:revision>
  <dc:subject/>
  <dc:title>Форми  рельєфу  суход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15000000000001024140</vt:lpwstr>
  </property>
</Properties>
</file>