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7AF-89F2-4493-9149-E559C4A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492-9698-46B1-8876-D0E8517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70A-F5EC-4259-8D1E-45A140B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53D-F11F-43F3-8FDD-875FF8C7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5E1-A6F7-4BF2-8BB2-8CD26D8E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C5A-FE3C-421F-A076-A587EA5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D30-1810-4874-9CE8-B8DE157A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EFB-8DDE-4673-A938-2F66484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A26-82EF-4A96-8E0D-8BE8153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254-68C1-4155-B519-8FCF7A72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CBF-A575-4402-8C5F-F9A3F98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D59-F3C7-488E-A32A-5FC0C07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F17-28DE-4089-9645-DFC0AD4F5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малюнки\Альпы\tayur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  рельєфу  суходолу</a:t>
            </a:r>
            <a:br>
              <a:rPr sz="48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00280"/>
          <a:ext cx="8229600" cy="387180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700280"/>
          <a:ext cx="8229600" cy="423684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аз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льє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конкагу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Вододільн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user\Рабочий стол\малюнки2\Эверест\everest_north_face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357280" y="6357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. Джомолунгма (Еверест) – найвища вершина св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Documents and Settings\user\Рабочий стол\малюнки2\Говерла -1\говерла фото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00040" y="4287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. Говерла – найвища вершина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утворення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поділяються 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3"/>
          <p:cNvSpPr/>
          <p:nvPr/>
        </p:nvSpPr>
        <p:spPr>
          <a:xfrm>
            <a:off x="92880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572000" y="907920"/>
            <a:ext cx="357120" cy="285840"/>
          </a:xfrm>
          <a:prstGeom prst="downArrow">
            <a:avLst>
              <a:gd name="adj1" fmla="val 50000"/>
              <a:gd name="adj2" fmla="val 53083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792972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2920" y="1214280"/>
            <a:ext cx="17859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276720" y="1197000"/>
            <a:ext cx="285732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о-брил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786720" y="1214280"/>
            <a:ext cx="22143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вулкан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7168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785880" y="621504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малюнки2\Карпаты\1260.jpg"/>
          <p:cNvPicPr/>
          <p:nvPr/>
        </p:nvPicPr>
        <p:blipFill>
          <a:blip r:embed="rId1"/>
          <a:stretch/>
        </p:blipFill>
        <p:spPr>
          <a:xfrm>
            <a:off x="142920" y="1714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малюнки2\Мауна-Кеа.jpg"/>
          <p:cNvPicPr/>
          <p:nvPr/>
        </p:nvPicPr>
        <p:blipFill>
          <a:blip r:embed="rId2"/>
          <a:stretch/>
        </p:blipFill>
        <p:spPr>
          <a:xfrm>
            <a:off x="6143760" y="4000680"/>
            <a:ext cx="285732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"/>
          <p:cNvSpPr/>
          <p:nvPr/>
        </p:nvSpPr>
        <p:spPr>
          <a:xfrm>
            <a:off x="7572240" y="6143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. Мауна-К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user\Рабочий стол\малюнки2\вулканы.jpg"/>
          <p:cNvPicPr/>
          <p:nvPr/>
        </p:nvPicPr>
        <p:blipFill>
          <a:blip r:embed="rId3"/>
          <a:stretch/>
        </p:blipFill>
        <p:spPr>
          <a:xfrm>
            <a:off x="6411960" y="178596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C:\Documents and Settings\user\Рабочий стол\малюнки2\Тянь-Шань\tian-shan-range-521042-lw.jpg"/>
          <p:cNvPicPr/>
          <p:nvPr/>
        </p:nvPicPr>
        <p:blipFill>
          <a:blip r:embed="rId4"/>
          <a:stretch/>
        </p:blipFill>
        <p:spPr>
          <a:xfrm>
            <a:off x="3203640" y="170028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2"/>
          <p:cNvSpPr/>
          <p:nvPr/>
        </p:nvSpPr>
        <p:spPr>
          <a:xfrm>
            <a:off x="3924360" y="40053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янь-Ш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C:\Documents and Settings\user\Рабочий стол\малюнки2\Алтай.jpg"/>
          <p:cNvPicPr/>
          <p:nvPr/>
        </p:nvPicPr>
        <p:blipFill>
          <a:blip r:embed="rId5"/>
          <a:stretch/>
        </p:blipFill>
        <p:spPr>
          <a:xfrm>
            <a:off x="3203640" y="4437000"/>
            <a:ext cx="2786040" cy="1928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7"/>
          <p:cNvSpPr/>
          <p:nvPr/>
        </p:nvSpPr>
        <p:spPr>
          <a:xfrm>
            <a:off x="3708360" y="6308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C:\Users\Концеба\Desktop\images.jpg"/>
          <p:cNvPicPr/>
          <p:nvPr/>
        </p:nvPicPr>
        <p:blipFill>
          <a:blip r:embed="rId6"/>
          <a:stretch/>
        </p:blipFill>
        <p:spPr>
          <a:xfrm>
            <a:off x="101520" y="4329000"/>
            <a:ext cx="293220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Концеба\Desktop\9145768.jpg"/>
          <p:cNvPicPr/>
          <p:nvPr/>
        </p:nvPicPr>
        <p:blipFill>
          <a:blip r:embed="rId1"/>
          <a:stretch/>
        </p:blipFill>
        <p:spPr>
          <a:xfrm>
            <a:off x="2862360" y="3645000"/>
            <a:ext cx="607212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Концеба\Desktop\кавказ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196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-131760" y="5702400"/>
            <a:ext cx="29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ькі г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віко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2500200" y="785880"/>
            <a:ext cx="214560" cy="285840"/>
          </a:xfrm>
          <a:prstGeom prst="downArrow">
            <a:avLst>
              <a:gd name="adj1" fmla="val 57713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5"/>
          <p:cNvSpPr/>
          <p:nvPr/>
        </p:nvSpPr>
        <p:spPr>
          <a:xfrm>
            <a:off x="6500880" y="8571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857240" y="1071720"/>
            <a:ext cx="1428840" cy="28548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5929200" y="1143000"/>
            <a:ext cx="1428840" cy="2858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user\Рабочий стол\малюнки2\Памир\pamir.jpg"/>
          <p:cNvPicPr/>
          <p:nvPr/>
        </p:nvPicPr>
        <p:blipFill>
          <a:blip r:embed="rId1"/>
          <a:stretch/>
        </p:blipFill>
        <p:spPr>
          <a:xfrm>
            <a:off x="1214280" y="14288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920" y="3571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а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42920" y="29289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Documents and Settings\user\Рабочий стол\малюнки2\Большой Водораздельный хребет\polonina_runa.jpg"/>
          <p:cNvPicPr/>
          <p:nvPr/>
        </p:nvPicPr>
        <p:blipFill>
          <a:blip r:embed="rId2"/>
          <a:stretch/>
        </p:blipFill>
        <p:spPr>
          <a:xfrm>
            <a:off x="5238720" y="1500120"/>
            <a:ext cx="3333960" cy="2500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572080" y="4000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ий Вододільни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малюнки2\Кавказ\_MG_2872-7-pp.jpg"/>
          <p:cNvPicPr/>
          <p:nvPr/>
        </p:nvPicPr>
        <p:blipFill>
          <a:blip r:embed="rId3"/>
          <a:stretch/>
        </p:blipFill>
        <p:spPr>
          <a:xfrm>
            <a:off x="2857680" y="4071960"/>
            <a:ext cx="2500200" cy="2171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392904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:\Documents and Settings\user\Рабочий стол\малюнки2\Урал\1624247.jpg"/>
          <p:cNvPicPr/>
          <p:nvPr/>
        </p:nvPicPr>
        <p:blipFill>
          <a:blip r:embed="rId4"/>
          <a:stretch/>
        </p:blipFill>
        <p:spPr>
          <a:xfrm>
            <a:off x="5641920" y="4357800"/>
            <a:ext cx="3144960" cy="2163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8"/>
          <p:cNvSpPr/>
          <p:nvPr/>
        </p:nvSpPr>
        <p:spPr>
          <a:xfrm>
            <a:off x="7000920" y="6429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0" y="63579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C:\Documents and Settings\user\Рабочий стол\малюнки2\Карпаты\karpati1.jpg"/>
          <p:cNvPicPr/>
          <p:nvPr/>
        </p:nvPicPr>
        <p:blipFill>
          <a:blip r:embed="rId5"/>
          <a:stretch/>
        </p:blipFill>
        <p:spPr>
          <a:xfrm>
            <a:off x="928800" y="514368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:\Documents and Settings\user\Рабочий стол\малюнки2\Гималаи\9fc1a435eeab0aae63f7c390a963a53b_big.jpg"/>
          <p:cNvPicPr/>
          <p:nvPr/>
        </p:nvPicPr>
        <p:blipFill>
          <a:blip r:embed="rId6"/>
          <a:stretch/>
        </p:blipFill>
        <p:spPr>
          <a:xfrm>
            <a:off x="142920" y="3286080"/>
            <a:ext cx="2690640" cy="17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і  гори                Старі гор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стрі верш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сокі г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уті сх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вершинах  лежить сні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вул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93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руглі  вер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изькі г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огі сх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ає вулка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бре освоєні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228600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288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 flipV="1" rot="15448800">
            <a:off x="2179440" y="36370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К о р д и л ь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є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р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 2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27808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</a:t>
            </a: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янки земної поверхні, які високо підняті  над прилеглою поверхне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ser\Рабочий стол\малюнки2\Альпы\g20907.jpg"/>
          <p:cNvPicPr/>
          <p:nvPr/>
        </p:nvPicPr>
        <p:blipFill>
          <a:blip r:embed="rId1"/>
          <a:stretch/>
        </p:blipFill>
        <p:spPr>
          <a:xfrm>
            <a:off x="571680" y="1285920"/>
            <a:ext cx="37144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861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ь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user\Рабочий стол\малюнки2\Скандинавские горы\skandinavskiy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98760" cy="490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78672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er\Рабочий стол\малюнки2\Кордильеры\4208244058_91a7269178_o.jpg"/>
          <p:cNvPicPr/>
          <p:nvPr/>
        </p:nvPicPr>
        <p:blipFill>
          <a:blip r:embed="rId3"/>
          <a:stretch/>
        </p:blipFill>
        <p:spPr>
          <a:xfrm>
            <a:off x="428760" y="4000680"/>
            <a:ext cx="446076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4857840" y="6286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79640" y="-24300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rot="4237800">
            <a:off x="2471040" y="387252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 о р д и л ь є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28960" y="22150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г.Мак-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нл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6194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3276720" y="2205000"/>
            <a:ext cx="142920" cy="142920"/>
          </a:xfrm>
          <a:prstGeom prst="ellipse">
            <a:avLst/>
          </a:prstGeom>
          <a:solidFill>
            <a:srgbClr val="ad01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nk 8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1808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араграф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6,7 карт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уч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е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пластиліну виліпити модель гірської 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ик.jpg"/>
          <p:cNvPicPr/>
          <p:nvPr/>
        </p:nvPicPr>
        <p:blipFill>
          <a:blip r:embed="rId1"/>
          <a:stretch/>
        </p:blipFill>
        <p:spPr>
          <a:xfrm>
            <a:off x="2346480" y="0"/>
            <a:ext cx="679752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40" y="31680"/>
            <a:ext cx="3967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еб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859960" cy="638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ий хре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інь хреб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80640" cy="583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2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еревал.jpg"/>
          <p:cNvPicPr/>
          <p:nvPr/>
        </p:nvPicPr>
        <p:blipFill>
          <a:blip r:embed="rId1"/>
          <a:stretch/>
        </p:blipFill>
        <p:spPr>
          <a:xfrm>
            <a:off x="214200" y="357120"/>
            <a:ext cx="87012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lick to see next 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долина  - зниження між хреб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горная страна.jpg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  краї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44440" y="5421240"/>
            <a:ext cx="345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исотою над рівнем мор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4"/>
          <p:cNvSpPr/>
          <p:nvPr/>
        </p:nvSpPr>
        <p:spPr>
          <a:xfrm>
            <a:off x="1571760" y="7858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4500720" y="857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9"/>
          <p:cNvSpPr/>
          <p:nvPr/>
        </p:nvSpPr>
        <p:spPr>
          <a:xfrm>
            <a:off x="7643880" y="8571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857160" y="1143000"/>
            <a:ext cx="1643040" cy="5000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изь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до 1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3714840" y="1214280"/>
            <a:ext cx="185724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1000-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6929280" y="1214280"/>
            <a:ext cx="185760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висо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вище 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786800" y="6429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user\Рабочий стол\малюнки2\Гималаи\himalayas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90640" cy="2211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8"/>
          <p:cNvSpPr/>
          <p:nvPr/>
        </p:nvSpPr>
        <p:spPr>
          <a:xfrm>
            <a:off x="792972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Documents and Settings\user\Рабочий стол\малюнки2\Карпаты\_______________8.jpg"/>
          <p:cNvPicPr/>
          <p:nvPr/>
        </p:nvPicPr>
        <p:blipFill>
          <a:blip r:embed="rId2"/>
          <a:stretch/>
        </p:blipFill>
        <p:spPr>
          <a:xfrm>
            <a:off x="3143160" y="1785960"/>
            <a:ext cx="293364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0"/>
          <p:cNvSpPr/>
          <p:nvPr/>
        </p:nvSpPr>
        <p:spPr>
          <a:xfrm>
            <a:off x="4714920" y="3857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user\Рабочий стол\малюнки2\Бразильське пл.jpg"/>
          <p:cNvPicPr/>
          <p:nvPr/>
        </p:nvPicPr>
        <p:blipFill>
          <a:blip r:embed="rId3"/>
          <a:stretch/>
        </p:blipFill>
        <p:spPr>
          <a:xfrm>
            <a:off x="214200" y="1714680"/>
            <a:ext cx="2826000" cy="2071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4"/>
          <p:cNvSpPr/>
          <p:nvPr/>
        </p:nvSpPr>
        <p:spPr>
          <a:xfrm>
            <a:off x="1285920" y="37148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:\Documents and Settings\user\Рабочий стол\малюнки2\Крымские горы\65.jpg"/>
          <p:cNvPicPr/>
          <p:nvPr/>
        </p:nvPicPr>
        <p:blipFill>
          <a:blip r:embed="rId4"/>
          <a:stretch/>
        </p:blipFill>
        <p:spPr>
          <a:xfrm>
            <a:off x="142920" y="4071960"/>
            <a:ext cx="29448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6"/>
          <p:cNvSpPr/>
          <p:nvPr/>
        </p:nvSpPr>
        <p:spPr>
          <a:xfrm>
            <a:off x="1428840" y="6357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м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Documents and Settings\user\Рабочий стол\малюнки2\Скандинавские горы\07.jpg"/>
          <p:cNvPicPr/>
          <p:nvPr/>
        </p:nvPicPr>
        <p:blipFill>
          <a:blip r:embed="rId5"/>
          <a:stretch/>
        </p:blipFill>
        <p:spPr>
          <a:xfrm>
            <a:off x="3214800" y="4214880"/>
            <a:ext cx="28573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0"/>
          <p:cNvSpPr/>
          <p:nvPr/>
        </p:nvSpPr>
        <p:spPr>
          <a:xfrm>
            <a:off x="3857760" y="6357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Documents and Settings\user\Рабочий стол\малюнки2\Анди\andes.jpg"/>
          <p:cNvPicPr/>
          <p:nvPr/>
        </p:nvPicPr>
        <p:blipFill>
          <a:blip r:embed="rId6"/>
          <a:stretch/>
        </p:blipFill>
        <p:spPr>
          <a:xfrm>
            <a:off x="6286680" y="4286160"/>
            <a:ext cx="27684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9:14:40Z</dcterms:created>
  <dc:creator>user</dc:creator>
  <dc:description/>
  <dc:language>en-US</dc:language>
  <cp:lastModifiedBy>Інна</cp:lastModifiedBy>
  <dcterms:modified xsi:type="dcterms:W3CDTF">2015-01-02T19:06:04Z</dcterms:modified>
  <cp:revision>103</cp:revision>
  <dc:subject/>
  <dc:title>Форми  рельєфу  суход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5000000000001024140</vt:lpwstr>
  </property>
</Properties>
</file>