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5E4C-538F-409C-A1C5-9F51C5276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5174-FE20-4A35-9F4C-2B8943E8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99CC-EE73-44AB-9638-905A39E71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A273-7F64-4854-A555-4E0822574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19C6-84BF-4221-8CCA-427B3632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C029-93D0-4CBC-AB17-6ADB3B97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379E-6AB0-49D0-934F-3D05842B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D4E1-2710-49AB-9388-1610AA68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1A4E-5D00-4888-B27B-3E240A9C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7A72-0504-4286-991A-6BBEA5E2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8D1C-2912-4B44-9A77-BBFE5B1C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F7E1-0B84-4534-A40D-73F99F7E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DBCE-B6B8-43EB-97F3-72D78DEEDB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6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Calibri"/>
              </a:rPr>
              <a:t>Загальні особливості клімату. Кліматичні пояси і типи клімату Австралії. </a:t>
            </a:r>
            <a:br>
              <a:rPr sz="4400"/>
            </a:br>
            <a:r>
              <a:rPr b="1" lang="uk-UA" sz="4400" spc="-1" strike="noStrike">
                <a:solidFill>
                  <a:srgbClr val="ff0000"/>
                </a:solidFill>
                <a:latin typeface="Calibri"/>
              </a:rPr>
              <a:t>Води суходолу</a:t>
            </a:r>
            <a:br>
              <a:rPr sz="2800"/>
            </a:b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D:\репетитор ЗНО\images (5).jpg"/>
          <p:cNvPicPr/>
          <p:nvPr/>
        </p:nvPicPr>
        <p:blipFill>
          <a:blip r:embed="rId1"/>
          <a:stretch/>
        </p:blipFill>
        <p:spPr>
          <a:xfrm>
            <a:off x="85680" y="3857760"/>
            <a:ext cx="3630600" cy="2714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D:\репетитор ЗНО\images (6).jpg"/>
          <p:cNvPicPr/>
          <p:nvPr/>
        </p:nvPicPr>
        <p:blipFill>
          <a:blip r:embed="rId2"/>
          <a:stretch/>
        </p:blipFill>
        <p:spPr>
          <a:xfrm>
            <a:off x="3976560" y="3857760"/>
            <a:ext cx="4988160" cy="27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i="1" lang="uk-UA" sz="48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1" i="1" lang="uk-UA" sz="4800" spc="-1" strike="noStrike">
                <a:solidFill>
                  <a:srgbClr val="000000"/>
                </a:solidFill>
                <a:latin typeface="Calibri"/>
              </a:rPr>
              <a:t>Назвіть холодні та теплі течії біля берегів Австралії.</a:t>
            </a:r>
            <a:br>
              <a:rPr sz="4800"/>
            </a:br>
            <a:br>
              <a:rPr sz="4800"/>
            </a:br>
            <a:r>
              <a:rPr b="1" i="1" lang="uk-UA" sz="4800" spc="-1" strike="noStrike">
                <a:solidFill>
                  <a:srgbClr val="000000"/>
                </a:solidFill>
                <a:latin typeface="Calibri"/>
              </a:rPr>
              <a:t>•    Прослідкуйте за кліматичною картою, як течії впливають на розподіл опадів на материку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•  </a:t>
            </a: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i="1" lang="uk-UA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i="1" lang="uk-UA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гадайте, що таке основні та перехідні кліматичні пояси.</a:t>
            </a:r>
            <a:br>
              <a:rPr sz="4000"/>
            </a:br>
            <a:br>
              <a:rPr sz="4000"/>
            </a:br>
            <a:r>
              <a:rPr b="1" i="1" lang="uk-UA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•    Назвіть кліматичні пояси, в межах Австралії.</a:t>
            </a:r>
            <a:br>
              <a:rPr sz="4000"/>
            </a:br>
            <a:br>
              <a:rPr sz="4000"/>
            </a:br>
            <a:r>
              <a:rPr b="1" i="1" lang="uk-UA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•    Який кліматичний пояс відсутній в Австралії? </a:t>
            </a:r>
            <a:br>
              <a:rPr sz="4000"/>
            </a:br>
            <a:br>
              <a:rPr sz="25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D:\репетитор ЗНО\img4 (2).jpg"/>
          <p:cNvPicPr/>
          <p:nvPr/>
        </p:nvPicPr>
        <p:blipFill>
          <a:blip r:embed="rId1"/>
          <a:stretch/>
        </p:blipFill>
        <p:spPr>
          <a:xfrm>
            <a:off x="285840" y="160200"/>
            <a:ext cx="8643960" cy="64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D:\репетитор ЗНО\img5 (3).jpg"/>
          <p:cNvPicPr/>
          <p:nvPr/>
        </p:nvPicPr>
        <p:blipFill>
          <a:blip r:embed="rId1"/>
          <a:stretch/>
        </p:blipFill>
        <p:spPr>
          <a:xfrm>
            <a:off x="285840" y="214200"/>
            <a:ext cx="857232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D:\репетитор ЗНО\img6 (5).jpg"/>
          <p:cNvPicPr/>
          <p:nvPr/>
        </p:nvPicPr>
        <p:blipFill>
          <a:blip r:embed="rId1"/>
          <a:stretch/>
        </p:blipFill>
        <p:spPr>
          <a:xfrm>
            <a:off x="285840" y="160200"/>
            <a:ext cx="8643960" cy="64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D:\репетитор ЗНО\img7 (3).jpg"/>
          <p:cNvPicPr/>
          <p:nvPr/>
        </p:nvPicPr>
        <p:blipFill>
          <a:blip r:embed="rId1"/>
          <a:stretch/>
        </p:blipFill>
        <p:spPr>
          <a:xfrm>
            <a:off x="190440" y="160200"/>
            <a:ext cx="8739360" cy="65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D:\репетитор ЗНО\10.png"/>
          <p:cNvPicPr/>
          <p:nvPr/>
        </p:nvPicPr>
        <p:blipFill>
          <a:blip r:embed="rId1"/>
          <a:stretch/>
        </p:blipFill>
        <p:spPr>
          <a:xfrm>
            <a:off x="727200" y="-11160"/>
            <a:ext cx="741672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80880" y="214200"/>
            <a:ext cx="8477280" cy="6357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572320" cy="62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1" lang="uk-UA" sz="2800" spc="-1" strike="noStrike">
                <a:solidFill>
                  <a:srgbClr val="ffffff"/>
                </a:solidFill>
                <a:latin typeface="Calibri"/>
              </a:rPr>
              <a:t>В Австралії жаркий клімат, причиною чого є розташування материка поблизу екватора і на Південному тропіку.</a:t>
            </a:r>
            <a:br>
              <a:rPr sz="2800"/>
            </a:br>
            <a:br>
              <a:rPr sz="2800"/>
            </a:br>
            <a:r>
              <a:rPr b="1" lang="uk-UA" sz="2800" spc="-1" strike="noStrike">
                <a:solidFill>
                  <a:srgbClr val="ffffff"/>
                </a:solidFill>
                <a:latin typeface="Calibri"/>
              </a:rPr>
              <a:t>• В Австралії сухий клімат, бо тропік перетинає материк посередині, а Великий Вододільний хребет не пропускає вологу з океану у внутрішні райони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• </a:t>
            </a:r>
            <a:r>
              <a:rPr b="1" lang="uk-UA" sz="2800" spc="-1" strike="noStrike">
                <a:solidFill>
                  <a:srgbClr val="ffffff"/>
                </a:solidFill>
                <a:latin typeface="Calibri"/>
              </a:rPr>
              <a:t>Австралія розташована у трьох кліматичних поясах, в субтропічному і тропічному, виділяють ще кліматичні області за зволоженням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Води суходолу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D:\репетитор ЗНО\220px-Le_lac_Hume_près_de_Tallangatta.jpg"/>
          <p:cNvPicPr/>
          <p:nvPr/>
        </p:nvPicPr>
        <p:blipFill>
          <a:blip r:embed="rId1"/>
          <a:stretch/>
        </p:blipFill>
        <p:spPr>
          <a:xfrm>
            <a:off x="0" y="1571760"/>
            <a:ext cx="5619600" cy="4214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D:\репетитор ЗНО\220px-Murray_(fleuve).jpg"/>
          <p:cNvPicPr/>
          <p:nvPr/>
        </p:nvPicPr>
        <p:blipFill>
          <a:blip r:embed="rId2"/>
          <a:stretch/>
        </p:blipFill>
        <p:spPr>
          <a:xfrm>
            <a:off x="4357800" y="3714840"/>
            <a:ext cx="4341600" cy="29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D:\репетитор ЗНО\img8 (4).jpg"/>
          <p:cNvPicPr/>
          <p:nvPr/>
        </p:nvPicPr>
        <p:blipFill>
          <a:blip r:embed="rId1"/>
          <a:stretch/>
        </p:blipFill>
        <p:spPr>
          <a:xfrm>
            <a:off x="285840" y="142920"/>
            <a:ext cx="866772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96840" y="-152280"/>
            <a:ext cx="8475840" cy="701028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3571920" y="135720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00"/>
                </a:solidFill>
                <a:latin typeface="Arial Black"/>
              </a:rPr>
              <a:t>Австралі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картами атласу визначте, якими формами рельєфу проходять вододіли басейнів стоку річок Австралії.</a:t>
            </a:r>
            <a:br>
              <a:rPr sz="3200"/>
            </a:b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    Поясніть причини неоднакової площі басейнів та їх розміщення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•   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йдіть на карті витоки річок Муррея та Дарлінгу і поясніть, чому Муррей від безводдя терпить менше, ніж Дарлінг.</a:t>
            </a:r>
            <a:br>
              <a:rPr sz="3200"/>
            </a:b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D:\репетитор ЗНО\img10 (2).jpg"/>
          <p:cNvPicPr/>
          <p:nvPr/>
        </p:nvPicPr>
        <p:blipFill>
          <a:blip r:embed="rId1"/>
          <a:stretch/>
        </p:blipFill>
        <p:spPr>
          <a:xfrm>
            <a:off x="214200" y="214200"/>
            <a:ext cx="8643960" cy="64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D:\репетитор ЗНО\img12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D:\репетитор ЗНО\img13 (2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:\репетитор ЗНО\img16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D:\репетитор ЗНО\img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D:\репетитор ЗНО\img14 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1000080" y="1285920"/>
            <a:ext cx="7072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uk-UA" sz="5400" spc="-1" strike="noStrike">
                <a:solidFill>
                  <a:srgbClr val="000000"/>
                </a:solidFill>
                <a:latin typeface="Calibri"/>
              </a:rPr>
              <a:t>Річок та озер обмаль, бо сухий клімат. Кріки - тимчасові водотоки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5. Практична робота 8 (продовження).</a:t>
            </a:r>
            <a:r>
              <a:rPr b="1" i="1" lang="uk-UA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означення на контурній карті назв основних географічних об’єктів Австралії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 (Самостійне виконання практичної роботи учнями з використанням атласу та контурних карт)</a:t>
            </a:r>
            <a:br>
              <a:rPr sz="3200"/>
            </a:br>
            <a:r>
              <a:rPr b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Мета: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 позначити основні географічні об’єкти Австралії на контурній карті та запам’ятати їх місцезнаходження. </a:t>
            </a:r>
            <a:br>
              <a:rPr sz="3200"/>
            </a:br>
            <a:r>
              <a:rPr b="1" lang="uk-UA" sz="3200" spc="-1" strike="noStrike" u="sng">
                <a:solidFill>
                  <a:srgbClr val="000000"/>
                </a:solidFill>
                <a:uFillTx/>
                <a:latin typeface="Calibri"/>
              </a:rPr>
              <a:t>Використання карт: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 фізична карта Австралії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«Закінчить речення»</a:t>
            </a:r>
            <a:br>
              <a:rPr sz="3200"/>
            </a:b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1. Австралія – самий…………материк на Землі.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2.Більша частина материка лежить в………. поясі. 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3.В північній частині материка до 20˚  пд..ш. розташований  ……. пояс. 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4.Більша кількість опадів випадає на ……… материка.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5. Самий жаркий місяць в Австралії - ……. 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«Так – ні»</a:t>
            </a:r>
            <a:br>
              <a:rPr sz="2400"/>
            </a:b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Австралія найменший материк Землі.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На материку є діючі вулкани.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В Австралії є високі гори.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Материк не має територій із сучасним зледенінням.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Вздовж північно-східної частини материка простягнувся Великий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Бар’єрний риф.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Австралію відкрили китайці.</a:t>
            </a:r>
            <a:br>
              <a:rPr sz="2800"/>
            </a:b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В Австралії багато родовищ нафти та природного газу.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1800" y="33480"/>
            <a:ext cx="18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17604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uk-UA" sz="4000" spc="-1" strike="noStrike">
                <a:solidFill>
                  <a:srgbClr val="000000"/>
                </a:solidFill>
                <a:latin typeface="Calibri"/>
              </a:rPr>
              <a:t>Прийом «Мікрофон»</a:t>
            </a:r>
            <a:br>
              <a:rPr sz="2500"/>
            </a:br>
            <a:br>
              <a:rPr sz="2500"/>
            </a:br>
            <a:r>
              <a:rPr b="1" lang="uk-UA" sz="29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uk-UA" sz="2900" spc="-1" strike="noStrike">
                <a:solidFill>
                  <a:srgbClr val="000000"/>
                </a:solidFill>
                <a:latin typeface="Calibri"/>
              </a:rPr>
              <a:t>Доведіть, що Австралія — найсухіший материк Землі.</a:t>
            </a:r>
            <a:br>
              <a:rPr sz="2900"/>
            </a:br>
            <a:r>
              <a:rPr b="1" lang="uk-UA" sz="29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uk-UA" sz="2900" spc="-1" strike="noStrike">
                <a:solidFill>
                  <a:srgbClr val="000000"/>
                </a:solidFill>
                <a:latin typeface="Calibri"/>
              </a:rPr>
              <a:t>У яких кліматичних поясах знаходиться Австралія?</a:t>
            </a:r>
            <a:br>
              <a:rPr sz="2900"/>
            </a:br>
            <a:r>
              <a:rPr b="1" lang="uk-UA" sz="29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uk-UA" sz="2900" spc="-1" strike="noStrike">
                <a:solidFill>
                  <a:srgbClr val="000000"/>
                </a:solidFill>
                <a:latin typeface="Calibri"/>
              </a:rPr>
              <a:t>Чим зумовлена відмінність клімату на заході і сході Австралії?</a:t>
            </a:r>
            <a:br>
              <a:rPr sz="2900"/>
            </a:br>
            <a:r>
              <a:rPr b="1" lang="uk-UA" sz="29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uk-UA" sz="2900" spc="-1" strike="noStrike">
                <a:solidFill>
                  <a:srgbClr val="000000"/>
                </a:solidFill>
                <a:latin typeface="Calibri"/>
              </a:rPr>
              <a:t>Якими водами живляться річки Австралії?</a:t>
            </a:r>
            <a:br>
              <a:rPr sz="2900"/>
            </a:br>
            <a:r>
              <a:rPr b="1" lang="uk-UA" sz="29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uk-UA" sz="2900" spc="-1" strike="noStrike">
                <a:solidFill>
                  <a:srgbClr val="000000"/>
                </a:solidFill>
                <a:latin typeface="Calibri"/>
              </a:rPr>
              <a:t>Я ке озеро називають «мертвим серцем Австралії»?</a:t>
            </a:r>
            <a:br>
              <a:rPr sz="2900"/>
            </a:br>
            <a:br>
              <a:rPr sz="2900"/>
            </a:br>
            <a:r>
              <a:rPr b="1" lang="uk-UA" sz="29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5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5840" y="428760"/>
            <a:ext cx="857232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 Black"/>
              </a:rPr>
              <a:t>Домашнє завдання</a:t>
            </a:r>
            <a:br>
              <a:rPr sz="2200"/>
            </a:b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uk-UA" sz="2900" spc="-1" strike="noStrike">
                <a:solidFill>
                  <a:srgbClr val="000000"/>
                </a:solidFill>
                <a:latin typeface="Calibri"/>
              </a:rPr>
              <a:t>Опрацювати текст підручника.</a:t>
            </a:r>
            <a:br>
              <a:rPr sz="2900"/>
            </a:br>
            <a:r>
              <a:rPr b="0" lang="uk-UA" sz="2900" spc="-1" strike="noStrike">
                <a:solidFill>
                  <a:srgbClr val="000000"/>
                </a:solidFill>
                <a:latin typeface="Calibri"/>
              </a:rPr>
              <a:t>• Підготувати повідомлення про Великий Бар’єрний риф.</a:t>
            </a:r>
            <a:br>
              <a:rPr sz="2900"/>
            </a:br>
            <a:r>
              <a:rPr b="0" lang="uk-UA" sz="2900" spc="-1" strike="noStrike">
                <a:solidFill>
                  <a:srgbClr val="000000"/>
                </a:solidFill>
                <a:latin typeface="Calibri"/>
              </a:rPr>
              <a:t>• Підготувати повідомлення про тварин і рослини Австралії.</a:t>
            </a:r>
            <a:br>
              <a:rPr sz="22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D:\репетитор ЗНО\images (4).jpg"/>
          <p:cNvPicPr/>
          <p:nvPr/>
        </p:nvPicPr>
        <p:blipFill>
          <a:blip r:embed="rId1"/>
          <a:stretch/>
        </p:blipFill>
        <p:spPr>
          <a:xfrm>
            <a:off x="3403440" y="3429000"/>
            <a:ext cx="5613480" cy="3143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D:\репетитор ЗНО\images (5).jpg"/>
          <p:cNvPicPr/>
          <p:nvPr/>
        </p:nvPicPr>
        <p:blipFill>
          <a:blip r:embed="rId2"/>
          <a:stretch/>
        </p:blipFill>
        <p:spPr>
          <a:xfrm>
            <a:off x="285840" y="285840"/>
            <a:ext cx="4626000" cy="2960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D:\репетитор ЗНО\images (5).jpg"/>
          <p:cNvPicPr/>
          <p:nvPr/>
        </p:nvPicPr>
        <p:blipFill>
          <a:blip r:embed="rId3"/>
          <a:stretch/>
        </p:blipFill>
        <p:spPr>
          <a:xfrm>
            <a:off x="4286160" y="285840"/>
            <a:ext cx="4680000" cy="3143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D:\репетитор ЗНО\images (4).jpg"/>
          <p:cNvPicPr/>
          <p:nvPr/>
        </p:nvPicPr>
        <p:blipFill>
          <a:blip r:embed="rId4"/>
          <a:stretch/>
        </p:blipFill>
        <p:spPr>
          <a:xfrm>
            <a:off x="214200" y="3214800"/>
            <a:ext cx="4586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Прийом «Мозковий штурм»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Загальні риси клімату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Цей материк найсухіший в світі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Треба продовжити речення, запропонувавши будь-які можливі вірні варіанти:</a:t>
            </a:r>
            <a:br>
              <a:rPr sz="4000"/>
            </a:b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а) клімат жаркий, тому що...</a:t>
            </a:r>
            <a:br>
              <a:rPr sz="4000"/>
            </a:b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б) клімат сухий, тому що..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репетитор ЗНО\img1 (1).jpg"/>
          <p:cNvPicPr/>
          <p:nvPr/>
        </p:nvPicPr>
        <p:blipFill>
          <a:blip r:embed="rId1"/>
          <a:stretch/>
        </p:blipFill>
        <p:spPr>
          <a:xfrm>
            <a:off x="285840" y="160200"/>
            <a:ext cx="8643960" cy="64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D:\репетитор ЗНО\img2 (2).jpg"/>
          <p:cNvPicPr/>
          <p:nvPr/>
        </p:nvPicPr>
        <p:blipFill>
          <a:blip r:embed="rId1"/>
          <a:stretch/>
        </p:blipFill>
        <p:spPr>
          <a:xfrm>
            <a:off x="285840" y="160200"/>
            <a:ext cx="8643960" cy="648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0000"/>
                </a:solidFill>
                <a:latin typeface="Calibri"/>
              </a:rPr>
              <a:t>•    </a:t>
            </a:r>
            <a:r>
              <a:rPr b="0" i="1" lang="uk-UA" sz="4400" spc="-1" strike="noStrike">
                <a:solidFill>
                  <a:srgbClr val="000000"/>
                </a:solidFill>
                <a:latin typeface="Calibri"/>
              </a:rPr>
              <a:t>Поясніть, як формуються пасати? </a:t>
            </a:r>
            <a:br>
              <a:rPr sz="4400"/>
            </a:br>
            <a:r>
              <a:rPr b="0" i="1" lang="uk-UA" sz="4400" spc="-1" strike="noStrike">
                <a:solidFill>
                  <a:srgbClr val="000000"/>
                </a:solidFill>
                <a:latin typeface="Calibri"/>
              </a:rPr>
              <a:t>•    Поміркуйте, який влив має південно-східний пасат на клімат Австралії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:\репетитор ЗНО\img3 (2).jpg"/>
          <p:cNvPicPr/>
          <p:nvPr/>
        </p:nvPicPr>
        <p:blipFill>
          <a:blip r:embed="rId1"/>
          <a:stretch/>
        </p:blipFill>
        <p:spPr>
          <a:xfrm>
            <a:off x="214200" y="160200"/>
            <a:ext cx="8715600" cy="653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12-30T09:05:24Z</dcterms:modified>
  <cp:revision>4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81b000000000001024140</vt:lpwstr>
  </property>
</Properties>
</file>