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7C2-4178-4E8E-928E-6CDBAAD9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640-344C-463E-A77F-7084B2F8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383-614E-4828-B479-422498E8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9DC-DE3A-4039-B06E-60A5EE51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D87-AB10-4B17-A6FB-B1C55F80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191-E8E4-4691-8299-86FCA3A7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0F9-22A0-4F3A-82CF-1A4BAF4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A14-8DEC-43D5-83BC-80512CE4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C16-AD6D-4D15-B9F9-8B6B64BB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115-0277-4369-B86C-CDBBF4A7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AC0-9825-4191-B53E-E412A42D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E39-B406-49A0-AD8D-59E2F224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A5B4-7222-4F7E-9C68-FC77AEEAC0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Загальні особливості клімату. Кліматичні пояси і типи клімату Австралії.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Води суходолу</a:t>
            </a:r>
            <a:br>
              <a:rPr sz="2800"/>
            </a:b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D:\репетитор ЗНО\images (5).jpg"/>
          <p:cNvPicPr/>
          <p:nvPr/>
        </p:nvPicPr>
        <p:blipFill>
          <a:blip r:embed="rId1"/>
          <a:stretch/>
        </p:blipFill>
        <p:spPr>
          <a:xfrm>
            <a:off x="85680" y="3857760"/>
            <a:ext cx="3630600" cy="27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репетитор ЗНО\images (6).jpg"/>
          <p:cNvPicPr/>
          <p:nvPr/>
        </p:nvPicPr>
        <p:blipFill>
          <a:blip r:embed="rId2"/>
          <a:stretch/>
        </p:blipFill>
        <p:spPr>
          <a:xfrm>
            <a:off x="3976560" y="3857760"/>
            <a:ext cx="498816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i="1" lang="uk-UA" sz="4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Назвіть холодні та теплі течії біля берегів Австралії.</a:t>
            </a:r>
            <a:br>
              <a:rPr sz="4800"/>
            </a:br>
            <a:br>
              <a:rPr sz="4800"/>
            </a:b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•    Прослідкуйте за кліматичною картою, як течії впливають на розподіл опадів на материку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гадайте, що таке основні та перехідні кліматичні пояси.</a:t>
            </a:r>
            <a:br>
              <a:rPr sz="4000"/>
            </a:b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•    Назвіть кліматичні пояси, в межах Австралії.</a:t>
            </a:r>
            <a:br>
              <a:rPr sz="4000"/>
            </a:b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•    Який кліматичний пояс відсутній в Австралії? </a:t>
            </a:r>
            <a:br>
              <a:rPr sz="4000"/>
            </a:b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репетитор ЗНО\img4 (2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репетитор ЗНО\img5 (3)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репетитор ЗНО\img6 (5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D:\репетитор ЗНО\img7 (3).jpg"/>
          <p:cNvPicPr/>
          <p:nvPr/>
        </p:nvPicPr>
        <p:blipFill>
          <a:blip r:embed="rId1"/>
          <a:stretch/>
        </p:blipFill>
        <p:spPr>
          <a:xfrm>
            <a:off x="190440" y="16020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репетитор ЗНО\10.png"/>
          <p:cNvPicPr/>
          <p:nvPr/>
        </p:nvPicPr>
        <p:blipFill>
          <a:blip r:embed="rId1"/>
          <a:stretch/>
        </p:blipFill>
        <p:spPr>
          <a:xfrm>
            <a:off x="727200" y="-11160"/>
            <a:ext cx="7416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214200"/>
            <a:ext cx="8477280" cy="6357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В Австралії жаркий клімат, причиною чого є розташування материка поблизу екватора і на Південному тропіку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• В Австралії сухий клімат, бо тропік перетинає материк посередині, а Великий Вододільний хребет не пропускає вологу з океану у внутрішні райони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Австралія розташована у трьох кліматичних поясах, в субтропічному і тропічному, виділяють ще кліматичні області за зволоження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Води суходол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:\репетитор ЗНО\220px-Le_lac_Hume_près_de_Tallangatta.jpg"/>
          <p:cNvPicPr/>
          <p:nvPr/>
        </p:nvPicPr>
        <p:blipFill>
          <a:blip r:embed="rId1"/>
          <a:stretch/>
        </p:blipFill>
        <p:spPr>
          <a:xfrm>
            <a:off x="0" y="1571760"/>
            <a:ext cx="5619600" cy="4214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D:\репетитор ЗНО\220px-Murray_(fleuve).jpg"/>
          <p:cNvPicPr/>
          <p:nvPr/>
        </p:nvPicPr>
        <p:blipFill>
          <a:blip r:embed="rId2"/>
          <a:stretch/>
        </p:blipFill>
        <p:spPr>
          <a:xfrm>
            <a:off x="4357800" y="3714840"/>
            <a:ext cx="434160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репетитор ЗНО\img8 (4).jpg"/>
          <p:cNvPicPr/>
          <p:nvPr/>
        </p:nvPicPr>
        <p:blipFill>
          <a:blip r:embed="rId1"/>
          <a:stretch/>
        </p:blipFill>
        <p:spPr>
          <a:xfrm>
            <a:off x="285840" y="14292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6840" y="-152280"/>
            <a:ext cx="8475840" cy="7010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571920" y="13572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 Black"/>
              </a:rPr>
              <a:t>Австрал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ртами атласу визначте, якими формами рельєфу проходять вододіли басейнів стоку річок Австралії.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   Поясніть причини неоднакової площі басейнів та їх розміщенн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   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іть на карті витоки річок Муррея та Дарлінгу і поясніть, чому Муррей від безводдя терпить менше, ніж Дарлінг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репетитор ЗНО\img10 (2)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репетитор ЗНО\img12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репетитор ЗНО\img13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репетитор ЗНО\img16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репетитор ЗНО\img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репетитор ЗНО\img1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000080" y="1285920"/>
            <a:ext cx="70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Річок та озер обмаль, бо сухий клімат. Кріки - тимчасові водоток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5. Практична робота 8 (продовження).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значення на контурній карті назв основних географічних об’єктів Австралії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(Самостійне виконання практичної роботи учнями з використанням атласу та контурних карт)</a:t>
            </a:r>
            <a:br>
              <a:rPr sz="3200"/>
            </a:b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Мета: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позначити основні географічні об’єкти Австралії на контурній карті та запам’ятати їх місцезнаходження. </a:t>
            </a:r>
            <a:br>
              <a:rPr sz="3200"/>
            </a:b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Використання карт: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фізична карта Австралі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«Закінчить речення»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Австралія – самий…………материк на Землі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Більша частина материка лежить в………. поясі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В північній частині материка до 20˚  пд..ш. розташований  ……. пояс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Більша кількість опадів випадає на ……… материка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5. Самий жаркий місяць в Австралії - …….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«Так – ні»</a:t>
            </a:r>
            <a:br>
              <a:rPr sz="24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встралія найменший материк Землі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 материку є діючі вулкани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 Австралії є високі гори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атерик не має територій із сучасним зледенінням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здовж північно-східної частини материка простягнувся Великий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ар’єрний риф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встралію відкрили китайці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 Австралії багато родовищ нафти та природного газу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800" y="334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1760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Прийом «Мікрофон»</a:t>
            </a:r>
            <a:br>
              <a:rPr sz="2500"/>
            </a:br>
            <a:br>
              <a:rPr sz="25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Доведіть, що Австралія — найсухіший материк Землі.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У яких кліматичних поясах знаходиться Австралія?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Чим зумовлена відмінність клімату на заході і сході Австралії?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Якими водами живляться річки Австралії?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Я ке озеро називають «мертвим серцем Австралії»?</a:t>
            </a:r>
            <a:br>
              <a:rPr sz="2900"/>
            </a:b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Домашнє завдання</a:t>
            </a:r>
            <a:br>
              <a:rPr sz="22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Опрацювати текст підручника.</a:t>
            </a:r>
            <a:br>
              <a:rPr sz="2900"/>
            </a:b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• Підготувати повідомлення про Великий Бар’єрний риф.</a:t>
            </a:r>
            <a:br>
              <a:rPr sz="2900"/>
            </a:b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• Підготувати повідомлення про тварин і рослини Австралії.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:\репетитор ЗНО\images (4).jpg"/>
          <p:cNvPicPr/>
          <p:nvPr/>
        </p:nvPicPr>
        <p:blipFill>
          <a:blip r:embed="rId1"/>
          <a:stretch/>
        </p:blipFill>
        <p:spPr>
          <a:xfrm>
            <a:off x="3403440" y="3429000"/>
            <a:ext cx="5613480" cy="314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репетитор ЗНО\images (5).jpg"/>
          <p:cNvPicPr/>
          <p:nvPr/>
        </p:nvPicPr>
        <p:blipFill>
          <a:blip r:embed="rId2"/>
          <a:stretch/>
        </p:blipFill>
        <p:spPr>
          <a:xfrm>
            <a:off x="285840" y="285840"/>
            <a:ext cx="4626000" cy="296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D:\репетитор ЗНО\images (5).jpg"/>
          <p:cNvPicPr/>
          <p:nvPr/>
        </p:nvPicPr>
        <p:blipFill>
          <a:blip r:embed="rId3"/>
          <a:stretch/>
        </p:blipFill>
        <p:spPr>
          <a:xfrm>
            <a:off x="4286160" y="285840"/>
            <a:ext cx="4680000" cy="314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репетитор ЗНО\images (4).jpg"/>
          <p:cNvPicPr/>
          <p:nvPr/>
        </p:nvPicPr>
        <p:blipFill>
          <a:blip r:embed="rId4"/>
          <a:stretch/>
        </p:blipFill>
        <p:spPr>
          <a:xfrm>
            <a:off x="214200" y="3214800"/>
            <a:ext cx="458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рийом «Мозковий штурм»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Загальні риси кліма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Цей материк найсухіший в світі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Треба продовжити речення, запропонувавши будь-які можливі вірні варіанти: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а) клімат жаркий, тому що...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) клімат сухий, тому що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репетитор ЗНО\img1 (1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репетитор ЗНО\img2 (2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•   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Поясніть, як формуються пасати? 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•    Поміркуйте, який влив має південно-східний пасат на клімат Австралії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репетитор ЗНО\img3 (2).jpg"/>
          <p:cNvPicPr/>
          <p:nvPr/>
        </p:nvPicPr>
        <p:blipFill>
          <a:blip r:embed="rId1"/>
          <a:stretch/>
        </p:blipFill>
        <p:spPr>
          <a:xfrm>
            <a:off x="214200" y="160200"/>
            <a:ext cx="87156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30T09:05:24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b000000000001024140</vt:lpwstr>
  </property>
</Properties>
</file>