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8B63-EB7B-4D47-85CE-5144485AB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и з швидкіст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6B12-C929-46EE-B727-2687FDFC1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6CE-E931-4FF3-B148-73EBA435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5AC-B414-4536-9112-5BA1D179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59F-DAC0-4A08-87A0-0EF51457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2BF-25A2-4594-B38F-501D78D4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9F9-A894-4B07-B926-4C5112B2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9BE-F391-4E36-AF11-1732FCF5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3FA-B744-4E2F-BCB1-4A5FC8C0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B78-B193-42A9-B746-A0A75FFA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82A-F44D-4185-A436-DE7CCA6B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F3A-779F-4A92-A334-A910A9A3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450-D078-472D-997C-868A0064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434-6CC5-445E-B091-DEBD8E3B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6D87-D8A0-42F2-B7A7-C44EDDAFB77B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image" Target="../media/image30.jpe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18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8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18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18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1024x768_48573_[www.ArtFile.ru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20880" y="281160"/>
            <a:ext cx="7589880" cy="2322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280px-Location_Antarctica.svg.png"/>
          <p:cNvPicPr/>
          <p:nvPr/>
        </p:nvPicPr>
        <p:blipFill>
          <a:blip r:embed="rId3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Antarctic_expedition_map_(Amundsen_-_Scott)-ru.svg.JPG"/>
          <p:cNvPicPr/>
          <p:nvPr/>
        </p:nvPicPr>
        <p:blipFill>
          <a:blip r:embed="rId1"/>
          <a:stretch/>
        </p:blipFill>
        <p:spPr>
          <a:xfrm>
            <a:off x="368280" y="714240"/>
            <a:ext cx="5191200" cy="5102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285840" y="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місяць пізніше (18 січня 1912) полюсу досягла група, очолювана англійським дослідником Робертом Скот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357120" y="592920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Шляхи експедицій Амундсена (червоний) і Скотта (зеле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715000" y="785880"/>
            <a:ext cx="328608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На зворотному шляху в 18 км від базового табору Скотт і його супутники загинули. Їхні тіла, а також записи і щоденники були знайдені через вісім місяц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Але якою великою була сила духу цих мандрівників можна відчути по словах, записаних у щоденнику </a:t>
            </a:r>
            <a:br>
              <a:rPr sz="1800"/>
            </a:b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Р. Скотта </a:t>
            </a:r>
            <a:r>
              <a:rPr b="1" lang="uk-UA" sz="1800" spc="-1" strike="noStrike">
                <a:solidFill>
                  <a:srgbClr val="c00000"/>
                </a:solidFill>
                <a:latin typeface="Arial"/>
              </a:rPr>
              <a:t>«Боротись, шукати, знайти, не здавати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1024px-Scottgroup.jpg"/>
          <p:cNvPicPr/>
          <p:nvPr/>
        </p:nvPicPr>
        <p:blipFill>
          <a:blip r:embed="rId1"/>
          <a:stretch/>
        </p:blipFill>
        <p:spPr>
          <a:xfrm>
            <a:off x="285840" y="1219320"/>
            <a:ext cx="5643360" cy="3609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Cross_on_Observation_Hill_-_Scott_memorial.jpg"/>
          <p:cNvPicPr/>
          <p:nvPr/>
        </p:nvPicPr>
        <p:blipFill>
          <a:blip r:embed="rId2"/>
          <a:stretch/>
        </p:blipFill>
        <p:spPr>
          <a:xfrm>
            <a:off x="6286680" y="1219320"/>
            <a:ext cx="2428560" cy="35798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285840" y="50007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Члени експедиції Р. Скот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929200" y="5000760"/>
            <a:ext cx="25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Місце поховання Р. Скотта і його товариш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357120" y="13968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честь першовідкривачів Південного полюсу була названа американська  полярна станція Амундсен-Скотт, що знаходиться майже на самому полю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Антон Омельченко_Скотт.jpg"/>
          <p:cNvPicPr/>
          <p:nvPr/>
        </p:nvPicPr>
        <p:blipFill>
          <a:blip r:embed="rId1"/>
          <a:stretch/>
        </p:blipFill>
        <p:spPr>
          <a:xfrm>
            <a:off x="500040" y="642960"/>
            <a:ext cx="3387600" cy="49244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571680" y="557208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Антон Омельченко</a:t>
            </a:r>
            <a:br>
              <a:rPr sz="1800"/>
            </a:b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 (мал. Р. Скот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429080" y="1285920"/>
            <a:ext cx="407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У допоміжному загоні англійської антарктичної експедиції Скотта був і українець, полтавчанин, Антон Омельчен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 експедиції Антон Омельченко на конях провів її учасників до середини шельфового льодовика Ро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 честь першого українця, що побував на Південному полюсі, названа одна з бухт в Антаркти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357120" y="14292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грудня 1959 року, 12 держав підписали договір про Антарктиду. Згідно з урядовими угодами, на континенті заборонена будь – яка господарська та військова діяльність, а роботу вчених узгоджує міжнародна Наукова Рада з дослідження Антаркти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2" descr="амундсен-скотт.jpg"/>
          <p:cNvPicPr/>
          <p:nvPr/>
        </p:nvPicPr>
        <p:blipFill>
          <a:blip r:embed="rId1"/>
          <a:srcRect l="0" t="0" r="0" b="86"/>
          <a:stretch/>
        </p:blipFill>
        <p:spPr>
          <a:xfrm>
            <a:off x="1357200" y="1500120"/>
            <a:ext cx="670716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1214280" y="5429160"/>
            <a:ext cx="70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Американська наукова станція Амундсен-Скот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00040" y="585792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ні в Антарктиді на 39 станціях працюють науковці із 18 країн сві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571680" y="35712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1995 році дев'ять членів 36-й японської наукової експедиції провели перші дослідження на антарктичній станції "Купол Фудзі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чені спостерігали незвичне і досить загадкове явище. Хороший мороз, від -60 до -70 градусів нижче нуля, і слабкий вітер за допомогою електростатичних сил сформували на поверхні снігу снігові кулі правильної форми. Японські вчені  досліджували процес формування кульок і назвали їх "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кімарімо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" descr="юкімарімо.jpg"/>
          <p:cNvPicPr/>
          <p:nvPr/>
        </p:nvPicPr>
        <p:blipFill>
          <a:blip r:embed="rId1"/>
          <a:stretch/>
        </p:blipFill>
        <p:spPr>
          <a:xfrm>
            <a:off x="1714680" y="2357280"/>
            <a:ext cx="61689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357120" y="2142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янський Союз, до складу якого входила України приймав активну участь у дослідженні Антарктиди, а представники України брали участь у всіх антарктичних експедиціях колишнього СР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есок України в антарктичні дослідження вагомий — забезпечення транспортними засобами: судна «Михайло Сомов», «Вітус Берінґ», снігохід «Харків’янка», літаки АН28, АН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3" descr="харків’янка.jpg"/>
          <p:cNvPicPr/>
          <p:nvPr/>
        </p:nvPicPr>
        <p:blipFill>
          <a:blip r:embed="rId1"/>
          <a:stretch/>
        </p:blipFill>
        <p:spPr>
          <a:xfrm>
            <a:off x="1120680" y="2000160"/>
            <a:ext cx="2880000" cy="30718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харків2.jpg"/>
          <p:cNvPicPr/>
          <p:nvPr/>
        </p:nvPicPr>
        <p:blipFill>
          <a:blip r:embed="rId2"/>
          <a:stretch/>
        </p:blipFill>
        <p:spPr>
          <a:xfrm>
            <a:off x="5357880" y="2000160"/>
            <a:ext cx="2508120" cy="30006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500040" y="528624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нігохід «Харків’янка важив 35 т, міг їхати з швидкістю 30 км/год, підніматись по схилу до 30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і тягнути 70 тонний прицеп. «Харків’янка» могла і плавати, занурившись на пів-кабіни.  Кабіна мала площу 28 кв м. і висоту 2,1 м. Жилий салон розрахований на 6-8 спальних місц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е на цьому снігоході радянські дослідники вперше досягли Південного полю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500040" y="142920"/>
            <a:ext cx="828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ісля розпаду Радянського Союзу Росія оголосила всі антарктичні станції своєю власністю і підняла на них російський прап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ді уряд Великобританії підтримав нашу країну, подарувавши їй у 1996 році англійську станцію «Фарадей». Тепер ця станція має назву «Академік Вернадськ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ція «Фарадей» була розташована на невеличкому острові Голіндез. Заснована в 1947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2" descr="передача станції.jpg"/>
          <p:cNvPicPr/>
          <p:nvPr/>
        </p:nvPicPr>
        <p:blipFill>
          <a:blip r:embed="rId1"/>
          <a:stretch/>
        </p:blipFill>
        <p:spPr>
          <a:xfrm>
            <a:off x="5857920" y="2211480"/>
            <a:ext cx="2582640" cy="38574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5857920" y="60688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Передача станції Украї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6" descr="Фарадей.jpg"/>
          <p:cNvPicPr/>
          <p:nvPr/>
        </p:nvPicPr>
        <p:blipFill>
          <a:blip r:embed="rId2"/>
          <a:stretch/>
        </p:blipFill>
        <p:spPr>
          <a:xfrm>
            <a:off x="285840" y="2211480"/>
            <a:ext cx="4410000" cy="37144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7"/>
          <p:cNvSpPr/>
          <p:nvPr/>
        </p:nvSpPr>
        <p:spPr>
          <a:xfrm>
            <a:off x="357120" y="606888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Англійські полярники на ст. «Фарад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1947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500040" y="42876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гідно Меморандуму між англійською та українською академіями наук українські вчені зобов'язалися продовжувати дослідження, які раніше виконували англійські вчені.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ція використовується як полігон для розробки й апробації нових методів радіодіагностики навколоземного прост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4" descr="Вернадський2.jpg"/>
          <p:cNvPicPr/>
          <p:nvPr/>
        </p:nvPicPr>
        <p:blipFill>
          <a:blip r:embed="rId1"/>
          <a:stretch/>
        </p:blipFill>
        <p:spPr>
          <a:xfrm>
            <a:off x="0" y="2214720"/>
            <a:ext cx="4572000" cy="34318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642960" y="5857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Українська антарктична станція «Академік Вернадсь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7" descr="полярна ст.jpg"/>
          <p:cNvPicPr/>
          <p:nvPr/>
        </p:nvPicPr>
        <p:blipFill>
          <a:blip r:embed="rId2"/>
          <a:stretch/>
        </p:blipFill>
        <p:spPr>
          <a:xfrm>
            <a:off x="4000680" y="2214720"/>
            <a:ext cx="5143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1024px-Fryxellsee_Opt.jpg"/>
          <p:cNvPicPr/>
          <p:nvPr/>
        </p:nvPicPr>
        <p:blipFill>
          <a:blip r:embed="rId1"/>
          <a:srcRect l="0" t="0" r="-20" b="0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857160" y="50004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КРІПЛЕННЯ ВИВЧЕ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28760" y="3571920"/>
          <a:ext cx="8286480" cy="1828800"/>
        </p:xfrm>
        <a:graphic>
          <a:graphicData uri="http://schemas.openxmlformats.org/drawingml/2006/table">
            <a:tbl>
              <a:tblPr/>
              <a:tblGrid>
                <a:gridCol w="1714320"/>
                <a:gridCol w="857160"/>
                <a:gridCol w="857520"/>
                <a:gridCol w="928440"/>
                <a:gridCol w="1071720"/>
                <a:gridCol w="785880"/>
                <a:gridCol w="1036440"/>
                <a:gridCol w="1035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еографічне положення Антаркт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Історія дослідження Антаркт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55" name="Рисунок 4" descr="220px-Flag_of_Antarctica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8224920" y="6243480"/>
            <a:ext cx="91908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785880" y="64296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В межах якого кола знаходиться практично вся Антаркти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2" descr="280px-Location_Antarctica.svg.png"/>
          <p:cNvPicPr/>
          <p:nvPr/>
        </p:nvPicPr>
        <p:blipFill>
          <a:blip r:embed="rId1"/>
          <a:stretch/>
        </p:blipFill>
        <p:spPr>
          <a:xfrm>
            <a:off x="3214800" y="135720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1071720" y="478620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Південного полярного 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пінгвін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1024x768_803347_[www.ArtFile.ru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2786040" y="50004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orbel"/>
              </a:rPr>
              <a:t>Сьогодні на уро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85840" y="121428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orbel"/>
              </a:rPr>
              <a:t>1. Дізнаємося про особливості географічного положення Антарктиди, їх вплив на природу материка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85840" y="385776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orbel"/>
              </a:rPr>
              <a:t>4. Поглибимо свої знання про історію відкриття Антаркт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285840" y="450072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orbel"/>
              </a:rPr>
              <a:t>5. Познайомимося з історією відкриття Південного полюсу та  досліджень Антаркт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285840" y="557208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orbel"/>
              </a:rPr>
              <a:t>6. Дізнаємося про внесок України у вивчення Антаркт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285840" y="22860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orbel"/>
              </a:rPr>
              <a:t>2. Відпрацюємо вміння знаходити об’єкти за географічними координатами та відстані за градусною сітк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285840" y="321480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Corbel"/>
              </a:rPr>
              <a:t>3. Вивчимо номенклатуру  берегової  лінії Антаркт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714240" y="42876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</a:rPr>
              <a:t>Скільки і яких полюсів має Антаркти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2" descr="640px-Antarctica_6400px_from_Blue_Marble.jpg"/>
          <p:cNvPicPr/>
          <p:nvPr/>
        </p:nvPicPr>
        <p:blipFill>
          <a:blip r:embed="rId1"/>
          <a:stretch/>
        </p:blipFill>
        <p:spPr>
          <a:xfrm>
            <a:off x="2786040" y="92880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642960" y="4643280"/>
            <a:ext cx="5572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5 полюс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808b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Піденний географічний полю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808b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Південний магнітний полю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808b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Полюс Віт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808b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Полюс Недоступ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808b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Полюс Хол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4" descr="пінгвін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571680" y="35712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</a:rPr>
              <a:t>Який об’єкт берегової лінії Антарктиди зображено на малюн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3" descr="HSAntarctica.svg.png"/>
          <p:cNvPicPr/>
          <p:nvPr/>
        </p:nvPicPr>
        <p:blipFill>
          <a:blip r:embed="rId1"/>
          <a:srcRect l="0" t="0" r="384" b="0"/>
          <a:stretch/>
        </p:blipFill>
        <p:spPr>
          <a:xfrm>
            <a:off x="2714760" y="1143000"/>
            <a:ext cx="3157560" cy="18572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642960" y="378612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Півострів Антарктич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5" descr="пінгвін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285920" y="35712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Який океан не омиває береги Антаркти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3" descr="640px-Antarctica-ru.svg.png"/>
          <p:cNvPicPr/>
          <p:nvPr/>
        </p:nvPicPr>
        <p:blipFill>
          <a:blip r:embed="rId1"/>
          <a:srcRect l="0" t="28349" r="0" b="0"/>
          <a:stretch/>
        </p:blipFill>
        <p:spPr>
          <a:xfrm>
            <a:off x="2071800" y="1785960"/>
            <a:ext cx="3786120" cy="2708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785880" y="507204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Антарктиду не омиває Північний Льодовити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5" descr="пінгвін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640px-Antarctica-ru.svg.png"/>
          <p:cNvPicPr/>
          <p:nvPr/>
        </p:nvPicPr>
        <p:blipFill>
          <a:blip r:embed="rId1"/>
          <a:stretch/>
        </p:blipFill>
        <p:spPr>
          <a:xfrm>
            <a:off x="1523880" y="-357120"/>
            <a:ext cx="6096240" cy="6086520"/>
          </a:xfrm>
          <a:prstGeom prst="rect">
            <a:avLst/>
          </a:prstGeom>
          <a:ln w="0">
            <a:noFill/>
          </a:ln>
        </p:spPr>
      </p:pic>
      <p:sp>
        <p:nvSpPr>
          <p:cNvPr id="173" name="Овал 2"/>
          <p:cNvSpPr/>
          <p:nvPr/>
        </p:nvSpPr>
        <p:spPr>
          <a:xfrm>
            <a:off x="5929200" y="38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357120" y="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Який полюс зображено на карт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428760" y="592920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Полюс Хол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пінгвін.jpg"/>
          <p:cNvPicPr/>
          <p:nvPr/>
        </p:nvPicPr>
        <p:blipFill>
          <a:blip r:embed="rId2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2"/>
          <p:cNvSpPr/>
          <p:nvPr/>
        </p:nvSpPr>
        <p:spPr>
          <a:xfrm>
            <a:off x="642960" y="35712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Які особливості географічного положення «зашифровані» у самій назві матер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4" descr="карта_.jpg"/>
          <p:cNvPicPr/>
          <p:nvPr/>
        </p:nvPicPr>
        <p:blipFill>
          <a:blip r:embed="rId1"/>
          <a:srcRect l="0" t="0" r="-25" b="0"/>
          <a:stretch/>
        </p:blipFill>
        <p:spPr>
          <a:xfrm>
            <a:off x="2143080" y="1000080"/>
            <a:ext cx="5342040" cy="32148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785880" y="4714920"/>
            <a:ext cx="77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b8"/>
                </a:solidFill>
                <a:latin typeface="Arial"/>
              </a:rPr>
              <a:t>У перекладі з грецької мови «анти» означає проти, тобто та, що лежить проти північної полярної області земної кулі — Арк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b8"/>
                </a:solidFill>
                <a:latin typeface="Arial"/>
              </a:rPr>
              <a:t>Назва північної полярної області «Арктика» походить від давньогрецького «арктос» — «ведмідь». Тому, що над Аркикою завжди знаходиться сузір’я Великої Ведмедиц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6" descr="пінгвін.jpg"/>
          <p:cNvPicPr/>
          <p:nvPr/>
        </p:nvPicPr>
        <p:blipFill>
          <a:blip r:embed="rId2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571680" y="0"/>
            <a:ext cx="81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Які особливості природи Антарктиди можна передбачити, знаючи її географічне положен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2" descr="280px-Location_Antarctica.svg.png"/>
          <p:cNvPicPr/>
          <p:nvPr/>
        </p:nvPicPr>
        <p:blipFill>
          <a:blip r:embed="rId1"/>
          <a:stretch/>
        </p:blipFill>
        <p:spPr>
          <a:xfrm>
            <a:off x="3214800" y="12859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3"/>
          <p:cNvSpPr/>
          <p:nvPr/>
        </p:nvSpPr>
        <p:spPr>
          <a:xfrm>
            <a:off x="428760" y="435780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Антарктида — найхолодніший материк, на якому розрізняють не пори року, а полярну ніч та полярний день. В Антарктиді найсильніші вітри і найбільша їх кількість. Материк покритий льодами весь рі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4" descr="пінгвін.jpg"/>
          <p:cNvPicPr/>
          <p:nvPr/>
        </p:nvPicPr>
        <p:blipFill>
          <a:blip r:embed="rId2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000080" y="50004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У якому році і ким був відкритий материк Антаркти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2" descr="640px-Soviet_Union-1965-Stamp-0.10._145_Years_of_Discovery_of_Antarctica.jpg"/>
          <p:cNvPicPr/>
          <p:nvPr/>
        </p:nvPicPr>
        <p:blipFill>
          <a:blip r:embed="rId1"/>
          <a:srcRect l="18485" t="12960" r="29586" b="22220"/>
          <a:stretch/>
        </p:blipFill>
        <p:spPr>
          <a:xfrm>
            <a:off x="3500280" y="1214280"/>
            <a:ext cx="2000520" cy="25005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857160" y="41432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Антарктида відкрита у 1820 році російськими мореплавцями </a:t>
            </a:r>
            <a:br>
              <a:rPr sz="1800"/>
            </a:b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Ф. Беллінсгаузеном та М. Лазарєв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4" descr="пінгвін.jpg"/>
          <p:cNvPicPr/>
          <p:nvPr/>
        </p:nvPicPr>
        <p:blipFill>
          <a:blip r:embed="rId2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071720" y="928800"/>
            <a:ext cx="71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У якому році і хто досягнув Південного полюс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Aan_de_Zuidpool_-_p1913-160.jpg"/>
          <p:cNvPicPr/>
          <p:nvPr/>
        </p:nvPicPr>
        <p:blipFill>
          <a:blip r:embed="rId1"/>
          <a:stretch/>
        </p:blipFill>
        <p:spPr>
          <a:xfrm>
            <a:off x="2500200" y="1643040"/>
            <a:ext cx="3845160" cy="25383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857160" y="478620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Експедиція Руаля Амундсена, норвезького дослідника, у 1911 ро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4" descr="пінгвін.jpg"/>
          <p:cNvPicPr/>
          <p:nvPr/>
        </p:nvPicPr>
        <p:blipFill>
          <a:blip r:embed="rId2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714240" y="500040"/>
            <a:ext cx="7643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З якого року діє українська антарктична станція та як вона назва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" descr="полярники.jpg"/>
          <p:cNvPicPr/>
          <p:nvPr/>
        </p:nvPicPr>
        <p:blipFill>
          <a:blip r:embed="rId1"/>
          <a:stretch/>
        </p:blipFill>
        <p:spPr>
          <a:xfrm>
            <a:off x="2643120" y="1357200"/>
            <a:ext cx="4427640" cy="33242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857160" y="521496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Академік Вернадський, діє з 1996 р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4" descr="пінгвін.jpg"/>
          <p:cNvPicPr/>
          <p:nvPr/>
        </p:nvPicPr>
        <p:blipFill>
          <a:blip r:embed="rId2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571680" y="5000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У чиїй експедиції приймав участь українець Антон Омельчен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2" descr="Антон Омельченко_Скотт.jpg"/>
          <p:cNvPicPr/>
          <p:nvPr/>
        </p:nvPicPr>
        <p:blipFill>
          <a:blip r:embed="rId1"/>
          <a:srcRect l="7040" t="3231" r="15497" b="46718"/>
          <a:stretch/>
        </p:blipFill>
        <p:spPr>
          <a:xfrm>
            <a:off x="3143160" y="1071720"/>
            <a:ext cx="2357640" cy="2214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714240" y="428616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В експедиції Роберта Скотта до Південного полю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4" descr="пінгвін.jpg"/>
          <p:cNvPicPr/>
          <p:nvPr/>
        </p:nvPicPr>
        <p:blipFill>
          <a:blip r:embed="rId2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карта антарктиди.jpg"/>
          <p:cNvPicPr/>
          <p:nvPr/>
        </p:nvPicPr>
        <p:blipFill>
          <a:blip r:embed="rId1"/>
          <a:stretch/>
        </p:blipFill>
        <p:spPr>
          <a:xfrm>
            <a:off x="142920" y="544680"/>
            <a:ext cx="9144000" cy="63133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rbel"/>
              </a:rPr>
              <a:t>Визначення географічного положення Антаркт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5"/>
          <p:cNvSpPr/>
          <p:nvPr/>
        </p:nvSpPr>
        <p:spPr>
          <a:xfrm>
            <a:off x="1428840" y="500040"/>
            <a:ext cx="6072120" cy="6072120"/>
          </a:xfrm>
          <a:prstGeom prst="ellipse">
            <a:avLst/>
          </a:prstGeom>
          <a:noFill/>
          <a:ln w="3816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0" y="785880"/>
            <a:ext cx="4572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Визначити положення Антарктиди відносно нульового меридіану та екв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0" y="1428840"/>
            <a:ext cx="4429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тарктида знаходиться у південній півкулі, майже повністю у межах південного полярного 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0" y="2357280"/>
            <a:ext cx="4429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ульовий меридіан перетинає Антарктиду посередині і ділить на Західну та Східну части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8"/>
          <p:cNvSpPr/>
          <p:nvPr/>
        </p:nvSpPr>
        <p:spPr>
          <a:xfrm>
            <a:off x="4465800" y="785880"/>
            <a:ext cx="0" cy="5786280"/>
          </a:xfrm>
          <a:prstGeom prst="line">
            <a:avLst/>
          </a:prstGeom>
          <a:ln w="1908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0" y="3357720"/>
            <a:ext cx="4429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значте протяжність Антарктиди вздовж меридіану 90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Зх. Д. та 90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х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0" y="4071960"/>
            <a:ext cx="27147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+ 24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42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2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∙ 111,2 км = 4 670 к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0" y="4786200"/>
            <a:ext cx="38577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фізичною картою світу визначте, які океани омивають береги Антарктиди. Підпишіть їх на контурній кар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4643280" y="785880"/>
            <a:ext cx="40719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фізичною картою охарактеризуйте розташування Антарктиди відносно інших материк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7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2681c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928800" y="71424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Що зображено на цій радянській марц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2" descr="1024px-Soviet_Union-1963-stamp-Antarctica-4K.jpg"/>
          <p:cNvPicPr/>
          <p:nvPr/>
        </p:nvPicPr>
        <p:blipFill>
          <a:blip r:embed="rId1"/>
          <a:stretch/>
        </p:blipFill>
        <p:spPr>
          <a:xfrm>
            <a:off x="2428920" y="1643040"/>
            <a:ext cx="3000240" cy="21556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3"/>
          <p:cNvSpPr/>
          <p:nvPr/>
        </p:nvSpPr>
        <p:spPr>
          <a:xfrm>
            <a:off x="857160" y="457200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Снігохід «Харків’янка», створений в Украї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4" descr="пінгвін.jpg"/>
          <p:cNvPicPr/>
          <p:nvPr/>
        </p:nvPicPr>
        <p:blipFill>
          <a:blip r:embed="rId2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571680" y="5000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Як ви гадаєте, якій країні належить ця марка і чо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2" descr="Norgestamps1957.jpg"/>
          <p:cNvPicPr/>
          <p:nvPr/>
        </p:nvPicPr>
        <p:blipFill>
          <a:blip r:embed="rId1"/>
          <a:stretch/>
        </p:blipFill>
        <p:spPr>
          <a:xfrm>
            <a:off x="3286080" y="1214280"/>
            <a:ext cx="3770280" cy="32418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642960" y="535788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b8"/>
                </a:solidFill>
                <a:latin typeface="Arial"/>
              </a:rPr>
              <a:t>Норвегії. На ній зображений Амундсен, першовідкривач Південного полю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4" descr="пінгвін.jpg"/>
          <p:cNvPicPr/>
          <p:nvPr/>
        </p:nvPicPr>
        <p:blipFill>
          <a:blip r:embed="rId2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785880" y="3571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Чи згодні ви з висловлюванням Джеймса Кука про те, що Південний материк, якщо і буде знайдений буде нікому не потрібний? Обгрунтуйте свою дум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2" descr="КУк.jpg"/>
          <p:cNvPicPr/>
          <p:nvPr/>
        </p:nvPicPr>
        <p:blipFill>
          <a:blip r:embed="rId1"/>
          <a:srcRect l="13338" t="0" r="16664" b="52559"/>
          <a:stretch/>
        </p:blipFill>
        <p:spPr>
          <a:xfrm>
            <a:off x="3071880" y="1357200"/>
            <a:ext cx="3000240" cy="26528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928800" y="471492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ff"/>
                </a:solidFill>
                <a:latin typeface="Arial"/>
              </a:rPr>
              <a:t>Ні, дослідження Антарктиди допомагають прогнозувати погоду, зміни озонового шару, там знайдено багато корисних копалин,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4" descr="пінгвін.jpg"/>
          <p:cNvPicPr/>
          <p:nvPr/>
        </p:nvPicPr>
        <p:blipFill>
          <a:blip r:embed="rId2"/>
          <a:stretch/>
        </p:blipFill>
        <p:spPr>
          <a:xfrm>
            <a:off x="8167680" y="5881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1071720" y="7858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Домашнє завд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Опрацювати §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Нанести на контурну карту всі елементи берегової лінії Антарктиди (робочий зош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3" descr="контур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214200" y="142920"/>
            <a:ext cx="8498160" cy="58690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5500800" y="0"/>
            <a:ext cx="3643200" cy="15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йти і нанести на контурну карту Антарктиди основні елементи берегової лінії: моря Ведделла, Росса, Беллінсгаузена. Півострів Антарктичний; шельфові льодовики Росса, Ларсена, Рон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 rot="1142400">
            <a:off x="3481920" y="4402080"/>
            <a:ext cx="11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М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РО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 rot="3820200">
            <a:off x="1548360" y="277632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Е БЕЛЛІНСГАУЗ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 rot="19801800">
            <a:off x="2583360" y="1674720"/>
            <a:ext cx="200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ЕДД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43"/>
          <p:cNvGrpSpPr/>
          <p:nvPr/>
        </p:nvGrpSpPr>
        <p:grpSpPr>
          <a:xfrm>
            <a:off x="3573000" y="3349800"/>
            <a:ext cx="1311480" cy="1222200"/>
            <a:chOff x="3573000" y="3349800"/>
            <a:chExt cx="1311480" cy="1222200"/>
          </a:xfrm>
        </p:grpSpPr>
        <p:sp>
          <p:nvSpPr>
            <p:cNvPr id="76" name="Полилиния 7"/>
            <p:cNvSpPr/>
            <p:nvPr/>
          </p:nvSpPr>
          <p:spPr>
            <a:xfrm>
              <a:off x="3627360" y="3349800"/>
              <a:ext cx="1158840" cy="1222200"/>
            </a:xfrm>
            <a:prstGeom prst="pie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8"/>
            <p:cNvSpPr/>
            <p:nvPr/>
          </p:nvSpPr>
          <p:spPr>
            <a:xfrm rot="634200">
              <a:off x="3621240" y="3605400"/>
              <a:ext cx="1214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808b8"/>
                  </a:solidFill>
                  <a:latin typeface="Times New Roman"/>
                  <a:ea typeface="Times New Roman"/>
                </a:rPr>
                <a:t>Шельфовий </a:t>
              </a:r>
              <a:br>
                <a:rPr sz="1200"/>
              </a:br>
              <a:r>
                <a:rPr b="0" lang="uk-UA" sz="1200" spc="-1" strike="noStrike">
                  <a:solidFill>
                    <a:srgbClr val="0808b8"/>
                  </a:solidFill>
                  <a:latin typeface="Times New Roman"/>
                  <a:ea typeface="Times New Roman"/>
                </a:rPr>
                <a:t>льодовик </a:t>
              </a:r>
              <a:br>
                <a:rPr sz="1200"/>
              </a:br>
              <a:r>
                <a:rPr b="0" lang="uk-UA" sz="1200" spc="-1" strike="noStrike">
                  <a:solidFill>
                    <a:srgbClr val="0808b8"/>
                  </a:solidFill>
                  <a:latin typeface="Times New Roman"/>
                  <a:ea typeface="Times New Roman"/>
                </a:rPr>
                <a:t>Рос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Группа 29"/>
          <p:cNvGrpSpPr/>
          <p:nvPr/>
        </p:nvGrpSpPr>
        <p:grpSpPr>
          <a:xfrm>
            <a:off x="4214880" y="2428920"/>
            <a:ext cx="214200" cy="570960"/>
            <a:chOff x="4214880" y="2428920"/>
            <a:chExt cx="214200" cy="570960"/>
          </a:xfrm>
        </p:grpSpPr>
        <p:sp>
          <p:nvSpPr>
            <p:cNvPr id="79" name="Овал 19"/>
            <p:cNvSpPr/>
            <p:nvPr/>
          </p:nvSpPr>
          <p:spPr>
            <a:xfrm>
              <a:off x="4214880" y="2857320"/>
              <a:ext cx="142920" cy="1425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24"/>
            <p:cNvSpPr/>
            <p:nvPr/>
          </p:nvSpPr>
          <p:spPr>
            <a:xfrm>
              <a:off x="4214880" y="2428920"/>
              <a:ext cx="214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33"/>
          <p:cNvGrpSpPr/>
          <p:nvPr/>
        </p:nvGrpSpPr>
        <p:grpSpPr>
          <a:xfrm>
            <a:off x="6215040" y="4786200"/>
            <a:ext cx="428400" cy="428760"/>
            <a:chOff x="6215040" y="4786200"/>
            <a:chExt cx="428400" cy="428760"/>
          </a:xfrm>
        </p:grpSpPr>
        <p:sp>
          <p:nvSpPr>
            <p:cNvPr id="82" name="Овал 23"/>
            <p:cNvSpPr/>
            <p:nvPr/>
          </p:nvSpPr>
          <p:spPr>
            <a:xfrm>
              <a:off x="6215040" y="50720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5"/>
            <p:cNvSpPr/>
            <p:nvPr/>
          </p:nvSpPr>
          <p:spPr>
            <a:xfrm>
              <a:off x="6429240" y="4786200"/>
              <a:ext cx="214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Группа 30"/>
          <p:cNvGrpSpPr/>
          <p:nvPr/>
        </p:nvGrpSpPr>
        <p:grpSpPr>
          <a:xfrm>
            <a:off x="2857680" y="3714840"/>
            <a:ext cx="214200" cy="571320"/>
            <a:chOff x="2857680" y="3714840"/>
            <a:chExt cx="214200" cy="571320"/>
          </a:xfrm>
        </p:grpSpPr>
        <p:sp>
          <p:nvSpPr>
            <p:cNvPr id="85" name="Овал 22"/>
            <p:cNvSpPr/>
            <p:nvPr/>
          </p:nvSpPr>
          <p:spPr>
            <a:xfrm>
              <a:off x="2857680" y="41432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26"/>
            <p:cNvSpPr/>
            <p:nvPr/>
          </p:nvSpPr>
          <p:spPr>
            <a:xfrm>
              <a:off x="2857680" y="3714840"/>
              <a:ext cx="214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32"/>
          <p:cNvGrpSpPr/>
          <p:nvPr/>
        </p:nvGrpSpPr>
        <p:grpSpPr>
          <a:xfrm>
            <a:off x="5072040" y="1857240"/>
            <a:ext cx="428400" cy="500040"/>
            <a:chOff x="5072040" y="1857240"/>
            <a:chExt cx="428400" cy="500040"/>
          </a:xfrm>
        </p:grpSpPr>
        <p:sp>
          <p:nvSpPr>
            <p:cNvPr id="88" name="Овал 21"/>
            <p:cNvSpPr/>
            <p:nvPr/>
          </p:nvSpPr>
          <p:spPr>
            <a:xfrm>
              <a:off x="5072040" y="22143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27"/>
            <p:cNvSpPr/>
            <p:nvPr/>
          </p:nvSpPr>
          <p:spPr>
            <a:xfrm>
              <a:off x="5286240" y="1857240"/>
              <a:ext cx="214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31"/>
          <p:cNvGrpSpPr/>
          <p:nvPr/>
        </p:nvGrpSpPr>
        <p:grpSpPr>
          <a:xfrm>
            <a:off x="5572080" y="3214800"/>
            <a:ext cx="428400" cy="368280"/>
            <a:chOff x="5572080" y="3214800"/>
            <a:chExt cx="428400" cy="368280"/>
          </a:xfrm>
        </p:grpSpPr>
        <p:sp>
          <p:nvSpPr>
            <p:cNvPr id="91" name="Овал 20"/>
            <p:cNvSpPr/>
            <p:nvPr/>
          </p:nvSpPr>
          <p:spPr>
            <a:xfrm>
              <a:off x="5572080" y="328608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8"/>
            <p:cNvSpPr/>
            <p:nvPr/>
          </p:nvSpPr>
          <p:spPr>
            <a:xfrm>
              <a:off x="5786280" y="3214800"/>
              <a:ext cx="214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34"/>
          <p:cNvSpPr/>
          <p:nvPr/>
        </p:nvSpPr>
        <p:spPr>
          <a:xfrm>
            <a:off x="0" y="4395960"/>
            <a:ext cx="3429000" cy="222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нести на контурну карту 5 полюсів Антарктиди за заданими координат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іденний географічний полюс: 0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д. 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івденний магнітний полюс:</a:t>
            </a:r>
            <a:br>
              <a:rPr sz="1400"/>
            </a:b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3 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д.ш., 138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х. 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юс Вітрів 74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д. ш., 136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Зх. 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юс Недоступності: 82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д. ш., 55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х. 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юс Холоду: 78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д. ш., </a:t>
            </a:r>
            <a:br>
              <a:rPr sz="1400"/>
            </a:b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6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х. 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 rot="2718600">
            <a:off x="1234440" y="1644840"/>
            <a:ext cx="1633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-ів Антарктич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42"/>
          <p:cNvGrpSpPr/>
          <p:nvPr/>
        </p:nvGrpSpPr>
        <p:grpSpPr>
          <a:xfrm>
            <a:off x="2572200" y="1269360"/>
            <a:ext cx="1326960" cy="1517040"/>
            <a:chOff x="2572200" y="1269360"/>
            <a:chExt cx="1326960" cy="1517040"/>
          </a:xfrm>
        </p:grpSpPr>
        <p:sp>
          <p:nvSpPr>
            <p:cNvPr id="96" name="Полилиния 39"/>
            <p:cNvSpPr/>
            <p:nvPr/>
          </p:nvSpPr>
          <p:spPr>
            <a:xfrm rot="21201000">
              <a:off x="2649600" y="1326960"/>
              <a:ext cx="1078200" cy="1401480"/>
            </a:xfrm>
            <a:prstGeom prst="pie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 rot="19936800">
              <a:off x="2806560" y="1767600"/>
              <a:ext cx="1000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808b8"/>
                  </a:solidFill>
                  <a:latin typeface="Times New Roman"/>
                  <a:ea typeface="Times New Roman"/>
                </a:rPr>
                <a:t>Шельфовий </a:t>
              </a:r>
              <a:br>
                <a:rPr sz="1200"/>
              </a:br>
              <a:r>
                <a:rPr b="0" lang="uk-UA" sz="1200" spc="-1" strike="noStrike">
                  <a:solidFill>
                    <a:srgbClr val="0808b8"/>
                  </a:solidFill>
                  <a:latin typeface="Times New Roman"/>
                  <a:ea typeface="Times New Roman"/>
                </a:rPr>
                <a:t>льодовик </a:t>
              </a:r>
              <a:br>
                <a:rPr sz="1200"/>
              </a:br>
              <a:r>
                <a:rPr b="0" lang="uk-UA" sz="1200" spc="-1" strike="noStrike">
                  <a:solidFill>
                    <a:srgbClr val="0808b8"/>
                  </a:solidFill>
                  <a:latin typeface="Times New Roman"/>
                  <a:ea typeface="Times New Roman"/>
                </a:rPr>
                <a:t>Рон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40"/>
          <p:cNvSpPr/>
          <p:nvPr/>
        </p:nvSpPr>
        <p:spPr>
          <a:xfrm rot="19174800">
            <a:off x="2100600" y="108756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МОРЕ ВЕДД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1"/>
          <p:cNvSpPr/>
          <p:nvPr/>
        </p:nvSpPr>
        <p:spPr>
          <a:xfrm rot="3765000">
            <a:off x="466200" y="19375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МОРЕ БЕЛЛІНСГАУЗ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1600x1200_48368_[www.ArtFile.ru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" descr=""/>
          <p:cNvPicPr/>
          <p:nvPr/>
        </p:nvPicPr>
        <p:blipFill>
          <a:blip r:embed="rId2"/>
          <a:stretch/>
        </p:blipFill>
        <p:spPr>
          <a:xfrm>
            <a:off x="1305000" y="-85680"/>
            <a:ext cx="69674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14200" y="21420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Одним із мореплавців, які шукали Південний материк був Джеймс К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КУк.jpg"/>
          <p:cNvPicPr/>
          <p:nvPr/>
        </p:nvPicPr>
        <p:blipFill>
          <a:blip r:embed="rId1"/>
          <a:stretch/>
        </p:blipFill>
        <p:spPr>
          <a:xfrm>
            <a:off x="318960" y="642960"/>
            <a:ext cx="3395880" cy="44290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У 1772-1775 Кук в другій експедиції, присвяченій пошукам південного материка, першим з мореплавців перетнув Південне полярне коло, однак материка він не вияв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James_Cook_-_A_Chart_of_the_Southern_Hemisphere_(1776).jpg"/>
          <p:cNvPicPr/>
          <p:nvPr/>
        </p:nvPicPr>
        <p:blipFill>
          <a:blip r:embed="rId2"/>
          <a:stretch/>
        </p:blipFill>
        <p:spPr>
          <a:xfrm>
            <a:off x="4159080" y="642960"/>
            <a:ext cx="4270680" cy="4476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4286160" y="5072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Карта Джеймса К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571680" y="4429080"/>
            <a:ext cx="8072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Ця країна приречена на вічний холод і похована під потужним шаром криги і снігу, що ніколи не тануть. Кожен корабель, що зайде у гавань, ризикує залишитися там назавжди..</a:t>
            </a: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А якщо ця земля і буде знайдена, то це відкриття не дасть ніякої користі»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. - так говорив Джеймс Кук</a:t>
            </a: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 про Антаркт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6_Белая_пустыня_antarktida(flickr_eliduke).jpg"/>
          <p:cNvPicPr/>
          <p:nvPr/>
        </p:nvPicPr>
        <p:blipFill>
          <a:blip r:embed="rId1"/>
          <a:stretch/>
        </p:blipFill>
        <p:spPr>
          <a:xfrm>
            <a:off x="1714680" y="285840"/>
            <a:ext cx="6000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71680" y="28584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ідкриття Антарктиди як материка здійснено 28 січня 1820 російською експедицією Ф. Ф. Беллінсгаузена, яка на двох судах («Восток» під командуванням Беллінсгаузена, і «Мирний» - М. П. Лазарє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2" descr="Беллінсгаузен.jpg"/>
          <p:cNvPicPr/>
          <p:nvPr/>
        </p:nvPicPr>
        <p:blipFill>
          <a:blip r:embed="rId1"/>
          <a:stretch/>
        </p:blipFill>
        <p:spPr>
          <a:xfrm>
            <a:off x="69840" y="1731960"/>
            <a:ext cx="2930400" cy="3197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Scott_of_the_Antarctic_crop.jpg"/>
          <p:cNvPicPr/>
          <p:nvPr/>
        </p:nvPicPr>
        <p:blipFill>
          <a:blip r:embed="rId2"/>
          <a:stretch/>
        </p:blipFill>
        <p:spPr>
          <a:xfrm>
            <a:off x="6072120" y="1714680"/>
            <a:ext cx="2975040" cy="3214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357120" y="54291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Фадей Беллінсгауз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6072120" y="51436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Михайло Лазарє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6" descr="640px-Soviet_Union-1965-Stamp-0.10._145_Years_of_Discovery_of_Antarctica.jpg"/>
          <p:cNvPicPr/>
          <p:nvPr/>
        </p:nvPicPr>
        <p:blipFill>
          <a:blip r:embed="rId3"/>
          <a:stretch/>
        </p:blipFill>
        <p:spPr>
          <a:xfrm>
            <a:off x="3143160" y="3214800"/>
            <a:ext cx="2853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714240" y="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ідкриття Південного Полю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500040" y="57168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шим досяг Південного полюса норвезький полярник, мандрівник і дослідник Руаль Амундсен, який у січні 1911 висадився на шельфовий льодовик Росса і 14 грудня 1911 з чотирма супутниками досяг Південного полю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4" descr="427px-Nlc_amundsen.jpg"/>
          <p:cNvPicPr/>
          <p:nvPr/>
        </p:nvPicPr>
        <p:blipFill>
          <a:blip r:embed="rId1"/>
          <a:stretch/>
        </p:blipFill>
        <p:spPr>
          <a:xfrm>
            <a:off x="480960" y="1785960"/>
            <a:ext cx="244008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Aan_de_Zuidpool_-_p1913-160.jpg"/>
          <p:cNvPicPr/>
          <p:nvPr/>
        </p:nvPicPr>
        <p:blipFill>
          <a:blip r:embed="rId2"/>
          <a:stretch/>
        </p:blipFill>
        <p:spPr>
          <a:xfrm>
            <a:off x="3429000" y="1714680"/>
            <a:ext cx="5299200" cy="3500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00040" y="54291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Руаль Амундс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429000" y="54291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808b8"/>
                </a:solidFill>
                <a:latin typeface="Times New Roman"/>
                <a:ea typeface="Times New Roman"/>
              </a:rPr>
              <a:t>Експедиція Амундсена встановила Норвезький прапор над полю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9:12:58Z</dcterms:created>
  <dc:creator>Admin</dc:creator>
  <dc:description/>
  <dc:language>en-US</dc:language>
  <cp:lastModifiedBy>Admin</cp:lastModifiedBy>
  <dcterms:modified xsi:type="dcterms:W3CDTF">2014-12-04T18:36:06Z</dcterms:modified>
  <cp:revision>10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1d000000000001024140</vt:lpwstr>
  </property>
</Properties>
</file>