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8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C5E-3996-4EC6-9F9B-F14A2EF2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3DB-9808-4004-BF08-0E011EB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583-8F90-473C-AF01-A97772A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197-C699-46F9-80DE-CD7FF139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0FC9-2312-450F-80F9-042A986F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6AC7-4B7D-462A-8832-99781D3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957-5B99-4049-AF5A-38E2093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5D35-1499-47DF-825B-30F1E69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8656-6622-453E-9631-34A2FC10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A9F-E2A6-4DCB-9C44-980BD87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13A-B05B-4239-89D9-6F8114D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334-1C2C-4DE6-8D5F-B9EDAC20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31D-210B-439A-B0A2-29E9674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41F4-CFE9-458F-9AE5-DAB13DCF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8A82-5212-4D91-9355-7D218CC3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D8D-B136-43D4-927E-A8AFDE05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D98-1484-414C-ABD5-6740F1F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87DF-DFA6-4145-85F4-7488738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8142-F0EC-4BA8-B003-2F7DD4C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ABF3-D26A-4A1E-B964-FB20D2F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3C01-F83B-43BE-BC2F-4C37BB4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467D-D527-4CFC-A123-C7CDC7A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0F6-8A63-4B14-AEBA-F91CF2F9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DC9B-72F9-45B6-84EC-4C034FA1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2ECB-2204-48DE-8D58-EE45634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F659-11D2-453E-927D-6AFAC245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CD93-99F1-41B6-A7D8-093FD31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B2B9-E6DD-4542-B080-EFEA99D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4989-EC67-4E86-A78A-E9301A16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D086-EEC7-4881-B46D-A61CB04D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13B3-A958-4896-B934-DD2B7F39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7440-8CD0-4B33-B06F-9484FEEA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67A0-8242-4A55-9872-65954E44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C14-6620-47B6-BCC4-B8E600F9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AFA0-311D-4A84-95E4-C2275B8C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C338-A1A9-41E5-A1DB-0F8D797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D567-A524-4109-8ADD-1A1103C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5AB6A-D1A8-4380-9D6B-766BF04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FB26-70D1-4778-BF4F-AFF0584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B8AC-A141-4163-8FEB-121512A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407D-8DA9-4B53-A3F8-CE15375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A1DF-C76F-4CE8-8898-3BA617B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5BF8-3931-49FF-AC4D-D4AD2EC2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DA25-CDBB-4E49-93C8-3CC587D3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45A-FFFB-4694-893B-FE97E324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4657-65F8-4E20-90A8-05D06510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C1CF-B87A-424C-9101-BE21104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404F-B4F1-46BC-B5AB-7CB6FFA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A8B1-70BD-4020-B25E-8566CB7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7AE0-006C-4D7F-8B78-5E25C36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A289-1BE5-4F95-AC71-D469595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8066-D0FD-4C84-9515-107E40E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C88F-37A2-4CAE-818F-1B54920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6C81-6D38-40EA-91D1-B5FF72F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60D4-9C5B-49CB-BC52-7A700EEF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9DB-388A-4C67-AE5A-B2B7BE7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9A38-043E-4A0D-9B3A-886E59B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259-A474-4847-B846-3572CB04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E17-50D7-4858-B171-D297CF8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384-6981-46B8-B27E-C724C50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451-1032-4769-BE16-8685139695D1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1181-6854-42FE-92F3-CF2707E9A39E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61F5-3952-45AE-8049-C2A56E53B102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DDE-44BE-4E26-9612-25F33AD69F93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9284-CF16-46CC-B090-711F8189C09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Тема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fe6d0"/>
                </a:solidFill>
                <a:latin typeface="Calibri"/>
              </a:rPr>
              <a:t>Гірські породи і мінерали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irc_mi" descr="http://900igr.net/datas/okruzhajuschij-mir/Mineraly-i-porody/0007-007-Granit.jpg"/>
          <p:cNvPicPr/>
          <p:nvPr/>
        </p:nvPicPr>
        <p:blipFill>
          <a:blip r:embed="rId3"/>
          <a:stretch/>
        </p:blipFill>
        <p:spPr>
          <a:xfrm>
            <a:off x="7020000" y="0"/>
            <a:ext cx="2251080" cy="252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E:\фото різне\космос\earth3.jpg"/>
          <p:cNvPicPr/>
          <p:nvPr/>
        </p:nvPicPr>
        <p:blipFill>
          <a:blip r:embed="rId4"/>
          <a:stretch/>
        </p:blipFill>
        <p:spPr>
          <a:xfrm>
            <a:off x="0" y="4437000"/>
            <a:ext cx="190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11680"/>
            <a:ext cx="746748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900" spc="-1" strike="noStrike">
              <a:solidFill>
                <a:srgbClr val="4e4d3e"/>
              </a:solidFill>
              <a:latin typeface="Calibri"/>
            </a:endParaRPr>
          </a:p>
        </p:txBody>
      </p:sp>
      <p:pic>
        <p:nvPicPr>
          <p:cNvPr id="416" name="Объект 3" descr="http://images.myshared.ru/288120/slide_5.jpg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Це сили , які здатні рухати плити літосфери і зароджуються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всередині Земл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Внутрішні сили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e6d0"/>
                </a:solidFill>
                <a:latin typeface="Tw Cen MT"/>
              </a:rPr>
              <a:t>           </a:t>
            </a: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Горизонтальні    Вертикальні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Прямая соединительная линия 5"/>
          <p:cNvSpPr/>
          <p:nvPr/>
        </p:nvSpPr>
        <p:spPr>
          <a:xfrm flipH="1">
            <a:off x="2987280" y="4797360"/>
            <a:ext cx="158436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Прямая соединительная линия 7"/>
          <p:cNvSpPr/>
          <p:nvPr/>
        </p:nvSpPr>
        <p:spPr>
          <a:xfrm>
            <a:off x="4572000" y="4797360"/>
            <a:ext cx="187164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1" name="Picture 2" descr="E:\фото різне\оболонки\оболонки\Bio10_2_4.jpg"/>
          <p:cNvPicPr/>
          <p:nvPr/>
        </p:nvPicPr>
        <p:blipFill>
          <a:blip r:embed="rId3"/>
          <a:stretch/>
        </p:blipFill>
        <p:spPr>
          <a:xfrm>
            <a:off x="6875640" y="2421000"/>
            <a:ext cx="194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7480440" cy="8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ух літосферних плит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4" name="Объект 3" descr="http://images.myshared.ru/288120/slide_6.jpg"/>
          <p:cNvPicPr/>
          <p:nvPr/>
        </p:nvPicPr>
        <p:blipFill>
          <a:blip r:embed="rId3"/>
          <a:stretch/>
        </p:blipFill>
        <p:spPr>
          <a:xfrm>
            <a:off x="468360" y="1700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3" descr="http://subject.com.ua/textbook/geography/7klas/7klas.files/image010.jpg"/>
          <p:cNvPicPr/>
          <p:nvPr/>
        </p:nvPicPr>
        <p:blipFill>
          <a:blip r:embed="rId3"/>
          <a:stretch/>
        </p:blipFill>
        <p:spPr>
          <a:xfrm>
            <a:off x="5707080" y="1557360"/>
            <a:ext cx="3436920" cy="25923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1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1.Розсування літосферних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плит 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 . Зближення ( стик)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літосферних плит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E:\фото різне\оболонки\к.jpeg"/>
          <p:cNvPicPr/>
          <p:nvPr/>
        </p:nvPicPr>
        <p:blipFill>
          <a:blip r:embed="rId4"/>
          <a:stretch/>
        </p:blipFill>
        <p:spPr>
          <a:xfrm>
            <a:off x="5724360" y="4221000"/>
            <a:ext cx="341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165240"/>
            <a:ext cx="7480440" cy="96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Це повільні піднімання та опускання ділянок земної кор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творюються  горст і грабен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ертикальні рухи називаються – коливними ( коливальними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внічна частина Скандинавського півострова піднімається на 1 с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збережжя Нідерландів опускається із швидкістю 3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На сх. Кіровоградської та пн. Житомирської областей зафіксовано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дняття на 9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1" name="Picture 2" descr="E:\фото різне\оболонки\д.jpeg"/>
          <p:cNvPicPr/>
          <p:nvPr/>
        </p:nvPicPr>
        <p:blipFill>
          <a:blip r:embed="rId3"/>
          <a:stretch/>
        </p:blipFill>
        <p:spPr>
          <a:xfrm>
            <a:off x="6875640" y="4653000"/>
            <a:ext cx="2381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94920" y="2349000"/>
            <a:ext cx="75294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§ 19 читати, переказувати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Вивчити основні 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літосферні плити,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Малюнки на с 76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намалювати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Picture 2" descr="E:\фото різне\карти2\карти3\2.jpg"/>
          <p:cNvPicPr/>
          <p:nvPr/>
        </p:nvPicPr>
        <p:blipFill>
          <a:blip r:embed="rId3"/>
          <a:stretch/>
        </p:blipFill>
        <p:spPr>
          <a:xfrm>
            <a:off x="5508720" y="2276640"/>
            <a:ext cx="3506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0720" y="-536400"/>
            <a:ext cx="8448840" cy="231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1.Заповнити картки. 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Робота на картках. Намалювати схематично утворення гірських порід та розповісти про їх утворення: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агматичні породи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уламков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хім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орган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етаморфічні.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6" name="Picture 2" descr="E:\фото різне\проблеми фото\земля фото\Б.jpeg"/>
          <p:cNvPicPr/>
          <p:nvPr/>
        </p:nvPicPr>
        <p:blipFill>
          <a:blip r:embed="rId3"/>
          <a:stretch/>
        </p:blipFill>
        <p:spPr>
          <a:xfrm>
            <a:off x="5219640" y="3860640"/>
            <a:ext cx="26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-360" y="549000"/>
            <a:ext cx="79930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.Розв’язати різнорівневі завд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3. Конкурс «Впізнай корисну копалину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4.Заповніть пропуски в таблиц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5. Конкурс «Вірю – не вірю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6.Усне опитув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8" name="Picture 2" descr="E:\фото різне\оболонки\е.jpeg"/>
          <p:cNvPicPr/>
          <p:nvPr/>
        </p:nvPicPr>
        <p:blipFill>
          <a:blip r:embed="rId2"/>
          <a:stretch/>
        </p:blipFill>
        <p:spPr>
          <a:xfrm>
            <a:off x="5796000" y="3716280"/>
            <a:ext cx="309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536400" y="328680"/>
            <a:ext cx="7480440" cy="860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.Земля – це зір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2.Ядро – тверда зовніш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3.Мантія – з грецької «покривало», «плащ»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4.Земна кора – верх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5.Материкова земна кора має товщину 30 – 80 км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6.Океанічна кора складається з осадових порід і базальту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7.Астеносфера – верхня частина мантії, в'яз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8.Материкова земна кора складається з двох шарів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9.Гірські породи – не природні утворення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0. Магматичні породи утворились під час виверження вулкан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146160" y="1627200"/>
            <a:ext cx="4749840" cy="2109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e4d3e"/>
                </a:solidFill>
                <a:latin typeface="Calibri"/>
              </a:rPr>
              <a:t>Урок з географії  в 6 – б класі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3" name="Рисунок 3" descr="http://berezivka-zhyt-internat.edukit.zt.ua/files2/images/%D0%B8%D0%BE.jpg?size=11"/>
          <p:cNvPicPr/>
          <p:nvPr/>
        </p:nvPicPr>
        <p:blipFill>
          <a:blip r:embed="rId3"/>
          <a:stretch/>
        </p:blipFill>
        <p:spPr>
          <a:xfrm>
            <a:off x="5724360" y="2565360"/>
            <a:ext cx="331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24000" y="1052280"/>
            <a:ext cx="85471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родовжувати формувати знання учнів з теми «Літосфера»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дати первинні знання про літосферн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лити, їх рух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навчити розрізняти найбільші літосферні плити Землі, розповісти про межі літосферних плит, де утворились сейсмічні пояс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ознайомити з гіпотезами походження материків 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океанів; удосконалювати навички роботи з тематичними картами, схемами, таблицям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озвивати і виховувати зацікавленість у вивченні Землі, географічне мислення,  любов до Земл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6" name="Picture 2" descr="E:\фото різне\оболонки\1270359900_easter.png"/>
          <p:cNvPicPr/>
          <p:nvPr/>
        </p:nvPicPr>
        <p:blipFill>
          <a:blip r:embed="rId3"/>
          <a:stretch/>
        </p:blipFill>
        <p:spPr>
          <a:xfrm>
            <a:off x="7308720" y="4943520"/>
            <a:ext cx="2016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85360" y="1573200"/>
            <a:ext cx="782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явлення про будову земної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кори спираються н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гіпотезу дрейфу материків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ЇЇ висунув німецький вче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Альфред Вегенер в 1912 роц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ін припустив, що мільйони років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тому на Землі існував один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материк, який розколовся на 2, 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зніше на 6 сучасних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9" name="Объект 3" descr="http://school.xvatit.com/images/0/0b/As58.jpg"/>
          <p:cNvPicPr/>
          <p:nvPr/>
        </p:nvPicPr>
        <p:blipFill>
          <a:blip r:embed="rId3"/>
          <a:stretch/>
        </p:blipFill>
        <p:spPr>
          <a:xfrm>
            <a:off x="6111720" y="189000"/>
            <a:ext cx="30592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Лавразія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</a:t>
            </a: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Гондвана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    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фрик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Євразія     </a:t>
            </a:r>
            <a:r>
              <a:rPr b="1" lang="uk-UA" sz="5400" spc="-1" strike="noStrike">
                <a:solidFill>
                  <a:srgbClr val="b7d3df"/>
                </a:solidFill>
                <a:latin typeface="Calibri"/>
              </a:rPr>
              <a:t>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встралія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івнічна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нтарктид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мерика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д.Америка 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12" name="Picture 2" descr="E:\фото різне\оболонки\оболонки\чч.jpeg"/>
          <p:cNvPicPr/>
          <p:nvPr/>
        </p:nvPicPr>
        <p:blipFill>
          <a:blip r:embed="rId3"/>
          <a:stretch/>
        </p:blipFill>
        <p:spPr>
          <a:xfrm>
            <a:off x="3592440" y="2355840"/>
            <a:ext cx="18716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7480440" cy="1090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68280"/>
            <a:ext cx="8507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e6d0"/>
                </a:solidFill>
                <a:latin typeface="Calibri"/>
              </a:rPr>
              <a:t>Великі блоки літосфери обмежовані глибинними розломами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e6d0"/>
                </a:solidFill>
                <a:latin typeface="Calibri"/>
              </a:rPr>
              <a:t>( літосферні плити тримають материки і Тихий океан)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2T16:35:01Z</dcterms:modified>
  <cp:revision>42</cp:revision>
  <dc:subject/>
  <dc:title>Літосферні пли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