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6.png" ContentType="image/png"/>
  <Override PartName="/ppt/media/image8.jpeg" ContentType="image/jpeg"/>
  <Override PartName="/ppt/media/image9.png" ContentType="image/png"/>
  <Override PartName="/ppt/media/image13.png" ContentType="image/png"/>
  <Override PartName="/ppt/media/image30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11.jpeg" ContentType="image/jpe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6E4-DB3A-4DDB-9569-8AB7A74D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2A3-BEF4-4DA3-AB76-92E372A8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942-0C77-497C-973D-47B53A9D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2B9-EBC5-452C-A42C-06F4E88D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CF8A-C046-4E6D-889A-2561A896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EDF4-4072-48DA-B4EE-F517C5B0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D30C-70DE-4BCE-972A-18FADC6C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E04C-47EF-40DD-8778-E2C77C50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F804-F258-4ABD-855F-6788C335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18ED-4871-4FA2-A0B5-3BCAD790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8129-4103-4AEB-BC34-4674623D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4B08-FAFD-4C10-B6C9-B000C293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1331-C33A-4DF1-A019-AE40B562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B917-6561-4626-82DE-3320FF3F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8559-F062-4132-B458-D65D3C14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2044-969D-4786-847A-113F129C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7EF2-C626-4BC9-944C-814D1D5B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82BD6-BD3A-426B-AAB4-C606CFF7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59151-8380-41D5-8327-915E36FC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A0B89-8E0C-4ED3-9162-52BF8784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BFA93-2EA1-45E8-A89A-F3E3E4AF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B1D16-8D1A-4105-9103-65E3817C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8D9E-2F7D-4338-8117-F39E0F40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DAD9E-646E-4DAF-869A-5617C3E2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998BA-3F47-4816-8D92-65F77C32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50034-F6C4-45FC-B5F8-873A4AA7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4BEF6-05D4-4201-9533-ADBA6A0E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A8B87-A065-490D-A53B-5A5479CF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9AA35-2131-4D5D-B423-0468CC1F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7D2FC-75E4-4923-99F3-E3FFF782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73913-67D7-4CFC-85F0-88CA08B3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17A37-BA64-4C21-B9E8-8CE7DBF2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9F342-64DD-4436-9EAA-2B7FA4FE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715-73A0-4039-8025-168D608B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7EE9E-E40E-40E0-B0C8-419A3959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32F0E-D506-4140-A549-57471999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4A9C5-AAF2-4B1A-94FF-CFCCC9A2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B1CEE-F589-4153-A63D-9BB9E532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4CEA6-A09B-4029-AD4A-5BC8A8B1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58D2B-541A-42E3-89AB-1C3F780B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E3363-DE83-4642-9361-0C1DED79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BFBEE-AEAD-4DBD-B580-E9A382AF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AFC5F-2DFC-4275-BC44-471FCE3A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6F744-209F-426F-8659-E105B5F2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F5F0-4701-4B73-A860-B5383E46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ABDB3-DBC3-4A2C-A9EE-B596A2A0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D7D05-0CE1-4301-AC6B-3D90FC49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8C4C2-403A-4402-AA07-D1AD482B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AA5E4-1E26-46E1-96B2-86050C48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C9571-4892-4203-9DCC-60484F9A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13FDB-1E4F-4A8D-91DB-B56E0C95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212DD-8E26-440A-B132-0CD32A27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50B3A-BDAF-439B-A2EF-2BBECAF8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5BED7-A979-4454-914E-53BAA641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B95A2-97FD-4215-95A7-5126029A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CCE-182E-4A8A-8014-C8C92C21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AA651-A77C-4D80-83C2-6DA13187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D2B3-903F-4E21-821B-1A5CBC68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C85-4DEB-452B-B014-1952D03C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665-BF1E-46C2-8CB3-D8B1C722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439E-1211-40B8-932B-8CB79815439C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E157-E712-452D-A272-0733417069E7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7CF3-D6D5-433A-8651-5E36E140E3D9}" type="slidenum">
              <a:rPr b="0" lang="ru-RU" sz="1200" spc="-1" strike="noStrike">
                <a:solidFill>
                  <a:srgbClr val="1d364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1ACE-9A0C-4462-AF25-36FDDDED6EE6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CD02-99B8-4F6C-967D-BBEFB24FF770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Тема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fe6d0"/>
                </a:solidFill>
                <a:latin typeface="Calibri"/>
              </a:rPr>
              <a:t>Гірські породи і мінерали</a:t>
            </a: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134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392" name="irc_mi" descr="http://900igr.net/datas/okruzhajuschij-mir/Mineraly-i-porody/0007-007-Granit.jpg"/>
          <p:cNvPicPr/>
          <p:nvPr/>
        </p:nvPicPr>
        <p:blipFill>
          <a:blip r:embed="rId3"/>
          <a:stretch/>
        </p:blipFill>
        <p:spPr>
          <a:xfrm>
            <a:off x="7020000" y="0"/>
            <a:ext cx="2251080" cy="2521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E:\фото різне\космос\earth3.jpg"/>
          <p:cNvPicPr/>
          <p:nvPr/>
        </p:nvPicPr>
        <p:blipFill>
          <a:blip r:embed="rId4"/>
          <a:stretch/>
        </p:blipFill>
        <p:spPr>
          <a:xfrm>
            <a:off x="0" y="4437000"/>
            <a:ext cx="190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11680"/>
            <a:ext cx="7467480" cy="8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900" spc="-1" strike="noStrike">
              <a:solidFill>
                <a:srgbClr val="4e4d3e"/>
              </a:solidFill>
              <a:latin typeface="Calibri"/>
            </a:endParaRPr>
          </a:p>
        </p:txBody>
      </p:sp>
      <p:pic>
        <p:nvPicPr>
          <p:cNvPr id="416" name="Объект 3" descr="http://images.myshared.ru/288120/slide_5.jpg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20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Calibri"/>
              </a:rPr>
              <a:t>Це сили , які здатні рухати плити літосфери і зароджуються 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Calibri"/>
              </a:rPr>
              <a:t>всередині Землі.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Внутрішні сили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e6d0"/>
                </a:solidFill>
                <a:latin typeface="Tw Cen MT"/>
              </a:rPr>
              <a:t>           </a:t>
            </a: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Горизонтальні    Вертикальні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9" name="Прямая соединительная линия 5"/>
          <p:cNvSpPr/>
          <p:nvPr/>
        </p:nvSpPr>
        <p:spPr>
          <a:xfrm flipH="1">
            <a:off x="2987280" y="4797360"/>
            <a:ext cx="1584360" cy="719280"/>
          </a:xfrm>
          <a:prstGeom prst="line">
            <a:avLst/>
          </a:prstGeom>
          <a:ln w="9360">
            <a:solidFill>
              <a:srgbClr val="759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Прямая соединительная линия 7"/>
          <p:cNvSpPr/>
          <p:nvPr/>
        </p:nvSpPr>
        <p:spPr>
          <a:xfrm>
            <a:off x="4572000" y="4797360"/>
            <a:ext cx="1871640" cy="719280"/>
          </a:xfrm>
          <a:prstGeom prst="line">
            <a:avLst/>
          </a:prstGeom>
          <a:ln w="9360">
            <a:solidFill>
              <a:srgbClr val="759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1" name="Picture 2" descr="E:\фото різне\оболонки\оболонки\Bio10_2_4.jpg"/>
          <p:cNvPicPr/>
          <p:nvPr/>
        </p:nvPicPr>
        <p:blipFill>
          <a:blip r:embed="rId3"/>
          <a:stretch/>
        </p:blipFill>
        <p:spPr>
          <a:xfrm>
            <a:off x="6875640" y="2421000"/>
            <a:ext cx="1944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2"/>
          <a:stretch/>
        </p:blipFill>
        <p:spPr>
          <a:xfrm>
            <a:off x="450720" y="-49320"/>
            <a:ext cx="7480440" cy="890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6840" y="1052280"/>
            <a:ext cx="74674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Рух літосферних плит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24" name="Объект 3" descr="http://images.myshared.ru/288120/slide_6.jpg"/>
          <p:cNvPicPr/>
          <p:nvPr/>
        </p:nvPicPr>
        <p:blipFill>
          <a:blip r:embed="rId3"/>
          <a:stretch/>
        </p:blipFill>
        <p:spPr>
          <a:xfrm>
            <a:off x="468360" y="1700280"/>
            <a:ext cx="8136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26" name="Объект 3" descr="http://subject.com.ua/textbook/geography/7klas/7klas.files/image010.jpg"/>
          <p:cNvPicPr/>
          <p:nvPr/>
        </p:nvPicPr>
        <p:blipFill>
          <a:blip r:embed="rId3"/>
          <a:stretch/>
        </p:blipFill>
        <p:spPr>
          <a:xfrm>
            <a:off x="5707080" y="1557360"/>
            <a:ext cx="3436920" cy="259236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23640" y="1844280"/>
            <a:ext cx="81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1.Розсування літосферних 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плит  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2 . Зближення ( стик) 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літосферних плит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28" name="Picture 2" descr="E:\фото різне\оболонки\к.jpeg"/>
          <p:cNvPicPr/>
          <p:nvPr/>
        </p:nvPicPr>
        <p:blipFill>
          <a:blip r:embed="rId4"/>
          <a:stretch/>
        </p:blipFill>
        <p:spPr>
          <a:xfrm>
            <a:off x="5724360" y="4221000"/>
            <a:ext cx="3419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2"/>
          <a:stretch/>
        </p:blipFill>
        <p:spPr>
          <a:xfrm>
            <a:off x="450720" y="165240"/>
            <a:ext cx="7480440" cy="9684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6840" y="1268280"/>
            <a:ext cx="746748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Це повільні піднімання та опускання ділянок земної кори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Утворюються  горст і грабен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Вертикальні рухи називаються – коливними ( коливальними)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Північна частина Скандинавського півострова піднімається на 1 см за рік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Узбережжя Нідерландів опускається із швидкістю 3 мм за рік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На сх. Кіровоградської та пн. Житомирської областей зафіксовано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    </a:t>
            </a: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підняття на 9 мм за рік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31" name="Picture 2" descr="E:\фото різне\оболонки\д.jpeg"/>
          <p:cNvPicPr/>
          <p:nvPr/>
        </p:nvPicPr>
        <p:blipFill>
          <a:blip r:embed="rId3"/>
          <a:stretch/>
        </p:blipFill>
        <p:spPr>
          <a:xfrm>
            <a:off x="6875640" y="4653000"/>
            <a:ext cx="23810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94920" y="2349000"/>
            <a:ext cx="752940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fe6d0"/>
                </a:solidFill>
                <a:latin typeface="Calibri"/>
              </a:rPr>
              <a:t>§ 19 читати, переказувати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fe6d0"/>
                </a:solidFill>
                <a:latin typeface="Calibri"/>
              </a:rPr>
              <a:t>Вивчити основні 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fe6d0"/>
                </a:solidFill>
                <a:latin typeface="Calibri"/>
              </a:rPr>
              <a:t>   </a:t>
            </a:r>
            <a:r>
              <a:rPr b="1" lang="uk-UA" sz="3200" spc="-1" strike="noStrike">
                <a:solidFill>
                  <a:srgbClr val="dfe6d0"/>
                </a:solidFill>
                <a:latin typeface="Calibri"/>
              </a:rPr>
              <a:t>літосферні плити,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fe6d0"/>
                </a:solidFill>
                <a:latin typeface="Calibri"/>
              </a:rPr>
              <a:t>Малюнки на с 76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fe6d0"/>
                </a:solidFill>
                <a:latin typeface="Calibri"/>
              </a:rPr>
              <a:t>    </a:t>
            </a:r>
            <a:r>
              <a:rPr b="1" lang="uk-UA" sz="3200" spc="-1" strike="noStrike">
                <a:solidFill>
                  <a:srgbClr val="dfe6d0"/>
                </a:solidFill>
                <a:latin typeface="Calibri"/>
              </a:rPr>
              <a:t>намалювати.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34" name="Picture 2" descr="E:\фото різне\карти2\карти3\2.jpg"/>
          <p:cNvPicPr/>
          <p:nvPr/>
        </p:nvPicPr>
        <p:blipFill>
          <a:blip r:embed="rId3"/>
          <a:stretch/>
        </p:blipFill>
        <p:spPr>
          <a:xfrm>
            <a:off x="5508720" y="2276640"/>
            <a:ext cx="35067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450720" y="-536400"/>
            <a:ext cx="8448840" cy="23158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6840" y="1413000"/>
            <a:ext cx="800244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fe6d0"/>
                </a:solidFill>
                <a:latin typeface="Calibri"/>
              </a:rPr>
              <a:t>1.Заповнити картки. 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fe6d0"/>
                </a:solidFill>
                <a:latin typeface="Calibri"/>
              </a:rPr>
              <a:t>Робота на картках. Намалювати схематично утворення гірських порід та розповісти про їх утворення: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fe6d0"/>
                </a:solidFill>
                <a:latin typeface="Calibri"/>
              </a:rPr>
              <a:t>- магматичні породи;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fe6d0"/>
                </a:solidFill>
                <a:latin typeface="Calibri"/>
              </a:rPr>
              <a:t>- осадові уламкові;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fe6d0"/>
                </a:solidFill>
                <a:latin typeface="Calibri"/>
              </a:rPr>
              <a:t>- осадові хімічні;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fe6d0"/>
                </a:solidFill>
                <a:latin typeface="Calibri"/>
              </a:rPr>
              <a:t>- осадові органічні;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fe6d0"/>
                </a:solidFill>
                <a:latin typeface="Calibri"/>
              </a:rPr>
              <a:t>- метаморфічні.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396" name="Picture 2" descr="E:\фото різне\проблеми фото\земля фото\Б.jpeg"/>
          <p:cNvPicPr/>
          <p:nvPr/>
        </p:nvPicPr>
        <p:blipFill>
          <a:blip r:embed="rId3"/>
          <a:stretch/>
        </p:blipFill>
        <p:spPr>
          <a:xfrm>
            <a:off x="5219640" y="3860640"/>
            <a:ext cx="2665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-360" y="549000"/>
            <a:ext cx="799308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2.Розв’язати різнорівневі завдання.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3. Конкурс «Впізнай корисну копалину».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4.Заповніть пропуски в таблиці.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5. Конкурс «Вірю – не вірю».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6.Усне опитування.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398" name="Picture 2" descr="E:\фото різне\оболонки\е.jpeg"/>
          <p:cNvPicPr/>
          <p:nvPr/>
        </p:nvPicPr>
        <p:blipFill>
          <a:blip r:embed="rId2"/>
          <a:stretch/>
        </p:blipFill>
        <p:spPr>
          <a:xfrm>
            <a:off x="5796000" y="3716280"/>
            <a:ext cx="3097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536400" y="328680"/>
            <a:ext cx="7480440" cy="8604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412640"/>
            <a:ext cx="8291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1.Земля – це зірка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2.Ядро – тверда зовнішня частина Землі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3.Мантія – з грецької «покривало», «плащ»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4.Земна кора – верхня частина землі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5.Материкова земна кора має товщину 30 – 80 км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6.Океанічна кора складається з осадових порід і базальту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7.Астеносфера – верхня частина мантії, в'язка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8.Материкова земна кора складається з двох шарів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9.Гірські породи – не природні утворення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10. Магматичні породи утворились під час виверження вулкана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2"/>
          <a:stretch/>
        </p:blipFill>
        <p:spPr>
          <a:xfrm>
            <a:off x="146160" y="1627200"/>
            <a:ext cx="4749840" cy="21096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e4d3e"/>
                </a:solidFill>
                <a:latin typeface="Calibri"/>
              </a:rPr>
              <a:t>Урок з географії  в 6 – б класі</a:t>
            </a:r>
            <a:endParaRPr b="0" lang="en-US" sz="40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03" name="Рисунок 3" descr="http://berezivka-zhyt-internat.edukit.zt.ua/files2/images/%D0%B8%D0%BE.jpg?size=11"/>
          <p:cNvPicPr/>
          <p:nvPr/>
        </p:nvPicPr>
        <p:blipFill>
          <a:blip r:embed="rId3"/>
          <a:stretch/>
        </p:blipFill>
        <p:spPr>
          <a:xfrm>
            <a:off x="5724360" y="2565360"/>
            <a:ext cx="3311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7480440" cy="8654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24000" y="1052280"/>
            <a:ext cx="85471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продовжувати формувати знання учнів з теми «Літосфера»;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дати первинні знання про літосферні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плити, їх рух;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навчити розрізняти найбільші літосферні плити Землі, розповісти про межі літосферних плит, де утворились сейсмічні пояси;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познайомити з гіпотезами походження материків і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океанів; удосконалювати навички роботи з тематичними картами, схемами, таблицями;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розвивати і виховувати зацікавленість у вивченні Землі, географічне мислення,  любов до Землі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06" name="Picture 2" descr="E:\фото різне\оболонки\1270359900_easter.png"/>
          <p:cNvPicPr/>
          <p:nvPr/>
        </p:nvPicPr>
        <p:blipFill>
          <a:blip r:embed="rId3"/>
          <a:stretch/>
        </p:blipFill>
        <p:spPr>
          <a:xfrm>
            <a:off x="7308720" y="4943520"/>
            <a:ext cx="201636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585360" y="1573200"/>
            <a:ext cx="78282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Уявлення про будову земної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    </a:t>
            </a: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кори спираються на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    </a:t>
            </a: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гіпотезу дрейфу материків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ЇЇ висунув німецький вчени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  </a:t>
            </a: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Альфред Вегенер в 1912 році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Він припустив, що мільйони років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тому на Землі існував один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материк, який розколовся на 2, а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пізніше на 6 сучасних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09" name="Объект 3" descr="http://school.xvatit.com/images/0/0b/As58.jpg"/>
          <p:cNvPicPr/>
          <p:nvPr/>
        </p:nvPicPr>
        <p:blipFill>
          <a:blip r:embed="rId3"/>
          <a:stretch/>
        </p:blipFill>
        <p:spPr>
          <a:xfrm>
            <a:off x="6111720" y="189000"/>
            <a:ext cx="305928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2"/>
          <a:stretch/>
        </p:blipFill>
        <p:spPr>
          <a:xfrm>
            <a:off x="450720" y="109440"/>
            <a:ext cx="8242560" cy="13176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00200"/>
            <a:ext cx="86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b7d3df"/>
                </a:solidFill>
                <a:latin typeface="Calibri"/>
              </a:rPr>
              <a:t>Лавразія </a:t>
            </a: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           </a:t>
            </a:r>
            <a:r>
              <a:rPr b="0" lang="en-US" sz="5400" spc="-1" strike="noStrike">
                <a:solidFill>
                  <a:srgbClr val="b7d3df"/>
                </a:solidFill>
                <a:latin typeface="Tw Cen MT"/>
              </a:rPr>
              <a:t>        </a:t>
            </a:r>
            <a:r>
              <a:rPr b="0" lang="uk-UA" sz="4800" spc="-1" strike="noStrike">
                <a:solidFill>
                  <a:srgbClr val="b7d3df"/>
                </a:solidFill>
                <a:latin typeface="Calibri"/>
              </a:rPr>
              <a:t>Гондвана</a:t>
            </a:r>
            <a:endParaRPr b="0" lang="en-US" sz="4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                          </a:t>
            </a:r>
            <a:r>
              <a:rPr b="0" lang="en-US" sz="5400" spc="-1" strike="noStrike">
                <a:solidFill>
                  <a:srgbClr val="b7d3df"/>
                </a:solidFill>
                <a:latin typeface="Tw Cen MT"/>
              </a:rPr>
              <a:t>         </a:t>
            </a: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Африка</a:t>
            </a: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Євразія     </a:t>
            </a:r>
            <a:r>
              <a:rPr b="1" lang="uk-UA" sz="5400" spc="-1" strike="noStrike">
                <a:solidFill>
                  <a:srgbClr val="b7d3df"/>
                </a:solidFill>
                <a:latin typeface="Calibri"/>
              </a:rPr>
              <a:t> </a:t>
            </a: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     </a:t>
            </a:r>
            <a:r>
              <a:rPr b="0" lang="en-US" sz="5400" spc="-1" strike="noStrike">
                <a:solidFill>
                  <a:srgbClr val="b7d3df"/>
                </a:solidFill>
                <a:latin typeface="Tw Cen MT"/>
              </a:rPr>
              <a:t>       </a:t>
            </a: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Австралія</a:t>
            </a: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Північна       </a:t>
            </a:r>
            <a:r>
              <a:rPr b="0" lang="en-US" sz="5400" spc="-1" strike="noStrike">
                <a:solidFill>
                  <a:srgbClr val="b7d3df"/>
                </a:solidFill>
                <a:latin typeface="Tw Cen MT"/>
              </a:rPr>
              <a:t>       </a:t>
            </a: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Антарктида</a:t>
            </a: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Америка      </a:t>
            </a:r>
            <a:r>
              <a:rPr b="0" lang="en-US" sz="5400" spc="-1" strike="noStrike">
                <a:solidFill>
                  <a:srgbClr val="b7d3df"/>
                </a:solidFill>
                <a:latin typeface="Tw Cen MT"/>
              </a:rPr>
              <a:t>       </a:t>
            </a: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Пд.Америка </a:t>
            </a: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12" name="Picture 2" descr="E:\фото різне\оболонки\оболонки\чч.jpeg"/>
          <p:cNvPicPr/>
          <p:nvPr/>
        </p:nvPicPr>
        <p:blipFill>
          <a:blip r:embed="rId3"/>
          <a:stretch/>
        </p:blipFill>
        <p:spPr>
          <a:xfrm>
            <a:off x="3592440" y="2355840"/>
            <a:ext cx="18716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2"/>
          <a:stretch/>
        </p:blipFill>
        <p:spPr>
          <a:xfrm>
            <a:off x="450720" y="109440"/>
            <a:ext cx="7480440" cy="10908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268280"/>
            <a:ext cx="850752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fe6d0"/>
                </a:solidFill>
                <a:latin typeface="Calibri"/>
              </a:rPr>
              <a:t>Великі блоки літосфери обмежовані глибинними розломами</a:t>
            </a:r>
            <a:endParaRPr b="0" lang="en-US" sz="4400" spc="-1" strike="noStrike">
              <a:solidFill>
                <a:srgbClr val="dfe6d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e6d0"/>
                </a:solidFill>
                <a:latin typeface="Calibri"/>
              </a:rPr>
              <a:t>( літосферні плити тримають материки і Тихий океан)</a:t>
            </a:r>
            <a:endParaRPr b="0" lang="en-US" sz="4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2-12T16:35:01Z</dcterms:modified>
  <cp:revision>42</cp:revision>
  <dc:subject/>
  <dc:title>Літосферні пли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12000000000001024140</vt:lpwstr>
  </property>
</Properties>
</file>