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7.jpeg" ContentType="image/jpe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46.png" ContentType="image/png"/>
  <Override PartName="/ppt/media/image48.png" ContentType="image/png"/>
  <Override PartName="/ppt/media/image9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E722-BEEF-4E99-AA44-F90FE62A22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6189-E82A-45C3-BB70-712CE1B72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A3B-4B5E-405B-8002-4025EA3E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657-E81D-4FD1-8DE3-EFF129CE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E8DE5-0C5D-40EE-B7A8-567731D0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08A23-328D-4718-8CF7-3C887DF1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86DB9-B07D-4F1C-B977-C308009E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8D4E1-BBED-4B4C-99C1-79FA9626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2F49E-BAB8-4952-9124-8DE3057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3BDD7-367D-4044-996C-19B3989D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FF195-65AE-4AD6-994F-D6463DE7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6223-D961-47C5-9F4F-51EC11D0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95818-8EE9-4E43-A128-F855D1A6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43331-B4BE-46AC-8696-B4E5A624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C72-E2B6-404F-82A8-860B278E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A633C-200F-4744-A356-32FE2992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9497B-80D5-429B-AE48-1DD1F7BE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F8B9F-4DBE-4E60-9041-BDA20CF5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4037B-065F-4592-9887-282CC9C8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297E4-5AF9-4D38-9926-FEA52DF3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BD1E6-342C-4F32-8081-1056ECE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0AE69-6ED3-49B1-BF3A-3046776E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75092-3DA6-443C-967D-46601F6B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6905F-8840-48AF-80EE-AC5CC1F2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8FD71-8274-469C-9D71-90E172C1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AEB-97B3-48FF-B4A3-5DDB8CBB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0EDA2-FCFD-4C3C-BED2-A8BD891F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E0093-6CFB-47EC-8DCE-DA3E6032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74BE6-68A8-4C4B-999C-6A29CDE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853E6-94FF-4444-985A-C41915FB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3315B-5FB6-43B1-98F4-A27CA274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3C802-9A42-4232-94A3-8CABEA15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87D3D-CEDC-4B45-A6E8-31A663E1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2E9CA-91CB-47C8-B30B-F048D10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21D45-63AE-4551-82CD-6468471A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F33DC-CB07-45B1-8925-AF0633D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56AE-0D85-4A6E-BF17-9D346D94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1825B-7B0F-4E48-B0DC-420A9FBF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59A07-2ACB-4B7A-99BD-E6FE5555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ED178-FB16-4D35-A988-BC4C8ACA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43E28-9591-4356-ACE4-A423870C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98637-733A-47F3-9AE4-CAB32B3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29722-BE04-481C-AC5D-CAE02E51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926D6-8D04-48ED-8C5F-211E9825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40B02-108A-4893-8BFC-4280B6E5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6143A-BCC5-412B-A86D-4188EC44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89433-85B3-4976-A0D1-268981C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4A71-E693-4441-9B40-54BC8D7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BBEC3-459B-48BD-9D1A-983AFB0E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B952C-1E15-4E4A-9530-9FFCC727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04FF4-0BC1-4B9D-B981-6F20995D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DC17A-F8D4-428C-AC2D-4F25C2C5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058AF-3B46-4164-B0DC-43508E9C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2D3E6-2DA0-4042-9A05-C31B817F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9AD7D-DF1D-4D1F-A208-38945CF8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E00DD-3F96-4DF2-B4D7-123D37D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E5657-37B5-43E5-99A6-9C62EFA5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688D7-1ED2-4F09-83B2-A90F58DE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9973-0503-452A-BFF0-0A82C7E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3843E-E723-482D-AE7F-7FF38575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9781E-E8B5-4A76-9699-A147474B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3CB68-96CC-4A18-88EE-69E2F0C2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2C851-4460-40B4-A8AD-454412F7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38F5D-81F4-4A24-A7A6-B8C5D42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0E18A-1B1F-4DAB-8389-FB63751D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09D5A-2101-49CC-8069-30B580FD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B7220-ECD4-461A-9042-D83293D6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FDA57-D705-4AA6-9A55-81F000AC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D5A00-CA4F-4603-BFFD-74F72A89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5070-38E7-4DCF-963C-06E48D6B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541BF-81F1-4461-A92C-30A8037D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0347E-DC57-4D1B-9A35-E3B921CA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DB04E-61DA-4129-9061-C1E1842F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33DE1-AD31-47B7-80B5-B10016CF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97820-D167-4329-B785-A122FAE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EE5F4-EC3E-42D0-B16A-09B3504C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C5C50-CD78-43F7-9C57-31631774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B6D8B-4D78-4FD4-8B04-D6D39DF8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1F143-2D4E-4C5D-A06F-B366FBE6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B90F6-E360-4E2B-B5D6-13CFA847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48C3-B51C-4B57-99CB-B588A5F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BC0E7-346D-4881-8B8E-E049B158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56F14-4B29-41BD-A473-EF72B3E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941E7-C72D-4CDC-B861-C51023E1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28DB8-F4EA-4A36-B2BC-36EB03F9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8FD07-CE43-4E69-8DB9-E8004EC3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216A4-6C6D-48F3-A7A4-F08E868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5D44B-C5DA-4492-AA7A-979564E2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AC391-D95F-4C34-B6FC-637EF083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4415E-25C5-485E-A61A-BEF66E1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E3CF7-369C-45A9-8689-370F254E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776B-DE3E-478A-90C9-D7A308DE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B10F1-3BD5-4D8F-AF1D-3862619D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D515-F12A-48AF-94C9-CC808D15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792-567C-4DB6-8061-5A89ADF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E77D-F056-43BB-B9DF-AE7BD14B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BC25-343C-4101-9D56-A1F092E0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E6A5-1B0B-48AA-9F41-17B03E13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134F-855F-486D-BD18-F7FBEF3A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5633-41C4-4D07-842D-8088198D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9D22-0581-483B-B7F5-1F262570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4E65-8A03-4FC3-94E8-A19DD6A1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19E9-B6AD-43A7-A5A0-A89E0D3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7825-14F2-45ED-9677-311942C8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50DE-5C6F-4D07-A72F-BFA0EF47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EA2-AEE1-4B25-AE96-D1F9F324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7428-CFD4-4B72-AEE2-1C87DF9C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3FF6-CEF6-497D-9148-FE9DF9D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EB4F-EA58-4853-8D63-EC7527C5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D6CB-EF19-44B8-920C-BE0A07FF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71B9C-EBC8-413E-BE7B-FD6197EE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37DD-38D6-4F9D-89A1-E43E8BC6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0AE1-3DD4-4A38-8246-AA902794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CF76-5A2A-444F-9DA9-D274010C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1096A-4FA9-441F-8323-6A91C743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72D4-EF3C-42CB-B670-507AA486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57C-FB8D-4E27-B536-2DD004BE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A7420-D86B-4BCD-97FB-282FC603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7F34-D28C-4FE0-AFDA-F5F9D095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3CFD-0B96-4C3A-922B-B152622A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2EBB-4BF0-46CC-AAC4-AC523E7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93AE-E307-417A-835D-0B376CF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BCFCD-284A-4E3F-BE10-E643891E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FB33-1321-4F9C-A6AA-F0FDF077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9AFCC-A5F8-4CFA-AD14-ADC9ACAD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B9B2B-06B0-402B-98B6-394333BC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E722C-DA15-41A4-B00E-E0D1F1AE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FCF-8E5C-48DD-9190-F6999329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BB64D-8906-49FE-A140-92ED32B4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549D-7A62-4701-8C50-B957A531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AD5F-4B0A-4201-A804-F01FD5FC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D1A38-8FBE-4E00-9DA1-3A7C38B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FA16-1FD5-4781-923F-946E992D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0826D-C6A7-4893-8674-A9E05BA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A1982-7692-4CFD-80E2-B60F107B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E2B8-DA0D-4571-B6EA-2010EE6F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47D01-F938-4048-9FFD-258B2A6F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6F15E-D891-43EE-A151-4686A737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755-AE79-454D-9915-DC896079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9203-AA5A-4B19-8202-369CE501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ACE5C-356B-45C7-8885-85ED0FDF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0D58D-902E-4043-AE43-7826541E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D7F42-9AEF-49AA-B260-2C51CC9C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9C30E-56A2-47EE-B2CD-8302A5AB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C2CC-5E00-403E-A8A3-D6124DBE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860FF-81D7-4CCB-9411-518137FD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9D9F7-154A-4CBE-AAA8-64268ED2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2FE4-E665-4FE1-8A45-BE31C907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1D84-6ECF-431F-A219-55C7ACE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F89-0244-4366-A05C-324524B0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A48B6-24E4-4DA6-A473-31ACD4D0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BCDC9-32EA-40BA-A357-0F8A7C62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50B31-B8DD-4653-92DC-07EA41C0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8F531-AA57-4668-8810-A4F03C5B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B6E8B-D5BB-49DB-AC9B-2B2732B9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31142-9C86-4758-BBD3-5D546076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3BAC8-85B2-4C55-AF82-F91218BE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321EC-6F79-4A90-B7F1-A9E33377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063F3-31B9-4E99-B2A2-05787C03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6C45B-48C7-4CAE-9152-360FF7E0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E17-B0FD-4474-88A3-C569C188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5F0CD-FC3B-42E5-8D2C-16E6E60A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907B6-27E0-4DE5-8FA2-2559FEF2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E3146-3CEE-4656-835B-205CABCF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BBFD-F729-43DB-BA27-8631231C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2AE0C-8C69-4869-8864-A157A215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9559-A728-4D2C-A1BA-C6A5B625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F1B7C-2620-47EE-AFEE-4BBE3CB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00F9D-AEDD-4B3B-8918-317E0AB9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97C0-949D-49C7-9EC3-BC76F16E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50FDC-F6C6-45D1-BC0E-91CF33EC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EE8-F9F2-4B03-8935-4D254EE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ACCA8-A6E0-4B46-8870-F8FBDF15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FF6DC-B6BE-498D-BE36-94FC2F2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A5AC8-4ABA-4D37-AC90-080C476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6B63F-E225-41F3-8C55-BABB94F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54A64-BC14-4DA9-9CE1-A0439E33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E06A7-9F39-4DFF-846C-E07CB695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732E4-51DE-4477-85A5-03FC3003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9CC5A-AA8A-4E76-BF2D-C13B5CB0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8EDE0-8A3D-46E9-9687-6E46405B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218CD-FDAB-4C54-BC5E-B7E0BD7C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12c7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1A9C-698D-4830-BCEC-D7F91A3285F1}" type="slidenum">
              <a:rPr b="0" lang="ru-RU" sz="1000" spc="-1" strike="noStrike">
                <a:solidFill>
                  <a:srgbClr val="812c7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39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ecb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3ecb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ecb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3ecb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ecb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3ecb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ecb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3ecb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ecb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3ecb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ecb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3ecb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ecb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3ecb9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ecb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3ecb9"/>
              </a:solidFill>
              <a:latin typeface="Franklin Gothic Medium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CC13-8392-4FD1-89A2-FB0D3161797B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44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DAD0-7802-4425-9442-912ECF90F4EE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CC6A-E95A-47BD-8733-8329EC5587F4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52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095F-D03E-4D7F-B70D-E514976D1BE5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33C4-FDA9-4704-A9D7-3EB38423C1F2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ED1F-5EA7-473E-A8DA-F89365034C2E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3036-C25D-4A85-82C0-DD4B45AFA74B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12c7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A4A7-D381-4FE2-8F61-2B784919AB34}" type="slidenum">
              <a:rPr b="0" lang="ru-RU" sz="1000" spc="-1" strike="noStrike">
                <a:solidFill>
                  <a:srgbClr val="812c7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12c7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932F-ED1C-47EB-A393-FAF9971DCBD8}" type="slidenum">
              <a:rPr b="0" lang="ru-RU" sz="1000" spc="-1" strike="noStrike">
                <a:solidFill>
                  <a:srgbClr val="812c7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12c7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6549-666F-409A-83C1-6FBD354CB879}" type="slidenum">
              <a:rPr b="0" lang="ru-RU" sz="1000" spc="-1" strike="noStrike">
                <a:solidFill>
                  <a:srgbClr val="812c7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12c7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C747-5BB9-4064-9DCD-92D7B442E6B2}" type="slidenum">
              <a:rPr b="0" lang="ru-RU" sz="1000" spc="-1" strike="noStrike">
                <a:solidFill>
                  <a:srgbClr val="812c7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12c7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1AC0-7E00-4BF0-A397-3FE2F70DFEC4}" type="slidenum">
              <a:rPr b="0" lang="ru-RU" sz="1000" spc="-1" strike="noStrike">
                <a:solidFill>
                  <a:srgbClr val="812c7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30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B3DE-8A05-4AB9-A020-D482C3E1A871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FBC5-2F53-4ECD-AE77-D7DF11855AAF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072200"/>
          </a:xfrm>
          <a:prstGeom prst="rect">
            <a:avLst/>
          </a:prstGeom>
          <a:ln w="0">
            <a:noFill/>
          </a:ln>
        </p:spPr>
      </p:pic>
      <p:pic>
        <p:nvPicPr>
          <p:cNvPr id="662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298440"/>
            <a:ext cx="8442000" cy="388944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5"/>
          <p:cNvSpPr/>
          <p:nvPr/>
        </p:nvSpPr>
        <p:spPr>
          <a:xfrm>
            <a:off x="4214880" y="46116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fd666"/>
                </a:solidFill>
                <a:latin typeface="Arial"/>
              </a:rPr>
              <a:t>           </a:t>
            </a: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Девіз уро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«Щоб Україну любити, треба її добре пізна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uk-UA" sz="2800" spc="-1" strike="noStrike">
                <a:solidFill>
                  <a:srgbClr val="9fd666"/>
                </a:solidFill>
                <a:latin typeface="Arial"/>
              </a:rPr>
              <a:t>С. Рудниц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Заголовок 2" descr=""/>
          <p:cNvPicPr/>
          <p:nvPr/>
        </p:nvPicPr>
        <p:blipFill>
          <a:blip r:embed="rId1"/>
          <a:stretch/>
        </p:blipFill>
        <p:spPr>
          <a:xfrm>
            <a:off x="493560" y="249120"/>
            <a:ext cx="7785360" cy="17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4" name=""/>
          <p:cNvGraphicFramePr/>
          <p:nvPr/>
        </p:nvGraphicFramePr>
        <p:xfrm>
          <a:off x="714240" y="1785960"/>
          <a:ext cx="7786800" cy="2286000"/>
        </p:xfrm>
        <a:graphic>
          <a:graphicData uri="http://schemas.openxmlformats.org/drawingml/2006/table">
            <a:tbl>
              <a:tblPr/>
              <a:tblGrid>
                <a:gridCol w="2551320"/>
                <a:gridCol w="2766960"/>
                <a:gridCol w="2468520"/>
              </a:tblGrid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ьєф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и пошир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ьєф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TextBox 4"/>
          <p:cNvSpPr/>
          <p:nvPr/>
        </p:nvSpPr>
        <p:spPr>
          <a:xfrm>
            <a:off x="0" y="43578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 гр.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Говерл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- тектонічні, вулканічні, денудаційні, гравітацій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І гр.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Берда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водно-ерозійні, водноакумулятивні, карст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ІІ гр.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Роман-Кош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- льодовикові, еолові, суфозій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р.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Камул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морські абразивні, морські акумулятивні, техноген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Заголовок 2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7785360" cy="17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"/>
          <p:cNvGraphicFramePr/>
          <p:nvPr/>
        </p:nvGraphicFramePr>
        <p:xfrm>
          <a:off x="857160" y="428760"/>
          <a:ext cx="7786800" cy="6446880"/>
        </p:xfrm>
        <a:graphic>
          <a:graphicData uri="http://schemas.openxmlformats.org/drawingml/2006/table">
            <a:tbl>
              <a:tblPr/>
              <a:tblGrid>
                <a:gridCol w="2551320"/>
                <a:gridCol w="2766960"/>
                <a:gridCol w="246852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ьєф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и пошир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ьєф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тоніч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пати, Кримські г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адчасто- брилові гори, оста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каніч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мські гори, Закарпат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ченський півост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канічний хре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да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кан Джау-Те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удацій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мські гори, Карп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ільська висо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ма, вали , Товтри,уступи,оста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вітацій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режжя мо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у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о-ерозій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внини, г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чкові долини, каньйони, балки, я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муля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илинах рі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ви, тера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стов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ілля, Крим, Карп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йки, печери, колодяз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500040" y="1143000"/>
          <a:ext cx="7786800" cy="4653000"/>
        </p:xfrm>
        <a:graphic>
          <a:graphicData uri="http://schemas.openxmlformats.org/drawingml/2006/table">
            <a:tbl>
              <a:tblPr/>
              <a:tblGrid>
                <a:gridCol w="2550960"/>
                <a:gridCol w="2767320"/>
                <a:gridCol w="246852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ьєф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и пошир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ьєф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олов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лісся, Причорномор’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рби, пасма, дю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уфозій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чорномор’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ди, степові блюдц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рські абраз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збережжя мо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ступи, ск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арадазькі вор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рські акумуля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режжя мо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и, пляж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ехноге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иторія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и, терикони, дамби, на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одовиков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ісся, Карп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и, ози, занд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0" y="3786120"/>
            <a:ext cx="5572080" cy="3071880"/>
          </a:xfrm>
          <a:prstGeom prst="rect">
            <a:avLst/>
          </a:prstGeom>
          <a:ln w="0">
            <a:noFill/>
          </a:ln>
        </p:spPr>
      </p:pic>
      <p:pic>
        <p:nvPicPr>
          <p:cNvPr id="690" name="Заголовок 4" descr=""/>
          <p:cNvPicPr/>
          <p:nvPr/>
        </p:nvPicPr>
        <p:blipFill>
          <a:blip r:embed="rId2"/>
          <a:stretch/>
        </p:blipFill>
        <p:spPr>
          <a:xfrm>
            <a:off x="371520" y="189000"/>
            <a:ext cx="6688080" cy="2401920"/>
          </a:xfrm>
          <a:prstGeom prst="rect">
            <a:avLst/>
          </a:prstGeom>
          <a:ln w="0">
            <a:noFill/>
          </a:ln>
        </p:spPr>
      </p:pic>
      <p:sp>
        <p:nvSpPr>
          <p:cNvPr id="691" name="TextBox 6"/>
          <p:cNvSpPr/>
          <p:nvPr/>
        </p:nvSpPr>
        <p:spPr>
          <a:xfrm>
            <a:off x="2787840" y="35002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Содержимое 3"/>
          <p:cNvSpPr/>
          <p:nvPr/>
        </p:nvSpPr>
        <p:spPr>
          <a:xfrm>
            <a:off x="1357200" y="1214280"/>
            <a:ext cx="57150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Рекорди Україн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Найдовшим каньйоном в Україні є Дністровський, довжина якого становить 250 км. Дністер від гирла р. Золота Липа до р. Збруч врізається в породи поверхні, формуючи вузьку долину завглибшки 150 – 180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3"/>
          <a:stretch/>
        </p:blipFill>
        <p:spPr>
          <a:xfrm>
            <a:off x="4572000" y="3786120"/>
            <a:ext cx="457200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357120" y="571680"/>
            <a:ext cx="3857760" cy="53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c535f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Franklin Gothic Book"/>
              </a:rPr>
              <a:t>Рекорди природи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c535f"/>
                </a:solidFill>
                <a:latin typeface="Franklin Gothic Book"/>
              </a:rPr>
              <a:t>Найбільша в світі печера в гіпсових породах – Оптимістична, розташована в Україні на Подільській  височині (с. КоролівкаТернопільська область). Її підземні лабіринти мають протяжність понад 165 км</a:t>
            </a:r>
            <a:endParaRPr b="0" lang="en-US" sz="20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4c535f"/>
                </a:solidFill>
                <a:latin typeface="Franklin Gothic Book"/>
              </a:rPr>
              <a:t>У Кримських горах - найглибша в Україні — Солдатська (понад 500 м). </a:t>
            </a: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c535f"/>
                </a:solidFill>
                <a:latin typeface="Franklin Gothic Book"/>
              </a:rPr>
              <a:t>. </a:t>
            </a:r>
            <a:endParaRPr b="0" lang="en-US" sz="20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c535f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695" name="Picture 1" descr=""/>
          <p:cNvPicPr/>
          <p:nvPr/>
        </p:nvPicPr>
        <p:blipFill>
          <a:blip r:embed="rId1"/>
          <a:stretch/>
        </p:blipFill>
        <p:spPr>
          <a:xfrm>
            <a:off x="4357800" y="0"/>
            <a:ext cx="4786200" cy="664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Заголовок 1" descr=""/>
          <p:cNvPicPr/>
          <p:nvPr/>
        </p:nvPicPr>
        <p:blipFill>
          <a:blip r:embed="rId1"/>
          <a:stretch/>
        </p:blipFill>
        <p:spPr>
          <a:xfrm>
            <a:off x="365040" y="2139840"/>
            <a:ext cx="8040600" cy="371160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1643040" y="428760"/>
            <a:ext cx="61437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Franklin Gothic Book"/>
              </a:rPr>
              <a:t>Цікава географія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668c4"/>
                </a:solidFill>
                <a:latin typeface="Franklin Gothic Book"/>
              </a:rPr>
              <a:t>Олешківські піски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698" name="13 Reflection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3068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571680" y="1000080"/>
            <a:ext cx="8143560" cy="5515200"/>
          </a:xfrm>
          <a:prstGeom prst="rect">
            <a:avLst/>
          </a:prstGeom>
          <a:ln w="0">
            <a:noFill/>
          </a:ln>
        </p:spPr>
      </p:pic>
      <p:sp>
        <p:nvSpPr>
          <p:cNvPr id="700" name="TextBox 2"/>
          <p:cNvSpPr/>
          <p:nvPr/>
        </p:nvSpPr>
        <p:spPr>
          <a:xfrm>
            <a:off x="658080" y="35712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668c4"/>
                </a:solidFill>
                <a:latin typeface="Arial"/>
              </a:rPr>
              <a:t>Грязьові вулкани Керченського пів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"/>
          <p:cNvSpPr/>
          <p:nvPr/>
        </p:nvSpPr>
        <p:spPr>
          <a:xfrm>
            <a:off x="500040" y="1000080"/>
            <a:ext cx="837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a3d01"/>
                </a:solidFill>
                <a:latin typeface="Arial"/>
              </a:rPr>
              <a:t>Більшість грязьових вулканів Керченського півострова 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a3d01"/>
                </a:solidFill>
                <a:latin typeface="Arial"/>
              </a:rPr>
              <a:t>згаслими. Проте є й постійно або періодично діючі. Їх виверження іноді супроводжується вибухами, місцевими землетрусами або самозайманням газу.  Найбільшим діючим вулканом  півострова є Джау-Тепе (“ворожа вершина”). Його абсолютна висота 120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Рисунок 4" descr="C:\Users\admin\Documents\Зсуви у Криму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703" name="TextBox 2"/>
          <p:cNvSpPr/>
          <p:nvPr/>
        </p:nvSpPr>
        <p:spPr>
          <a:xfrm>
            <a:off x="2581200" y="500040"/>
            <a:ext cx="35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суви на  Кримсь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збережж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TextBox 3"/>
          <p:cNvSpPr/>
          <p:nvPr/>
        </p:nvSpPr>
        <p:spPr>
          <a:xfrm>
            <a:off x="1306440" y="5000760"/>
            <a:ext cx="466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одільська височ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c535f"/>
              </a:solidFill>
              <a:latin typeface="Franklin Gothic Book"/>
            </a:endParaRPr>
          </a:p>
        </p:txBody>
      </p:sp>
      <p:pic>
        <p:nvPicPr>
          <p:cNvPr id="708" name="Picture 2" descr=""/>
          <p:cNvPicPr/>
          <p:nvPr/>
        </p:nvPicPr>
        <p:blipFill>
          <a:blip r:embed="rId1"/>
          <a:stretch/>
        </p:blipFill>
        <p:spPr>
          <a:xfrm>
            <a:off x="0" y="2411280"/>
            <a:ext cx="9144000" cy="44467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989920" cy="30718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5"/>
          <p:cNvSpPr/>
          <p:nvPr/>
        </p:nvSpPr>
        <p:spPr>
          <a:xfrm>
            <a:off x="225720" y="142920"/>
            <a:ext cx="214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423b"/>
                </a:solidFill>
                <a:latin typeface="Arial"/>
              </a:rPr>
              <a:t>Опіл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6"/>
          <p:cNvSpPr/>
          <p:nvPr/>
        </p:nvSpPr>
        <p:spPr>
          <a:xfrm>
            <a:off x="3737520" y="3071880"/>
            <a:ext cx="51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Кременецький кря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66680" y="1066680"/>
            <a:ext cx="8763120" cy="5654880"/>
          </a:xfrm>
          <a:prstGeom prst="rect">
            <a:avLst/>
          </a:prstGeom>
          <a:ln w="0">
            <a:noFill/>
          </a:ln>
        </p:spPr>
      </p:pic>
      <p:pic>
        <p:nvPicPr>
          <p:cNvPr id="665" name="TextBox 4" descr=""/>
          <p:cNvPicPr/>
          <p:nvPr/>
        </p:nvPicPr>
        <p:blipFill>
          <a:blip r:embed="rId2"/>
          <a:stretch/>
        </p:blipFill>
        <p:spPr>
          <a:xfrm>
            <a:off x="-85680" y="23760"/>
            <a:ext cx="7126200" cy="83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4578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"/>
          <p:cNvPicPr/>
          <p:nvPr/>
        </p:nvPicPr>
        <p:blipFill>
          <a:blip r:embed="rId2"/>
          <a:stretch/>
        </p:blipFill>
        <p:spPr>
          <a:xfrm>
            <a:off x="0" y="3143160"/>
            <a:ext cx="9144000" cy="3714840"/>
          </a:xfrm>
          <a:prstGeom prst="rect">
            <a:avLst/>
          </a:prstGeom>
          <a:ln w="0">
            <a:noFill/>
          </a:ln>
        </p:spPr>
      </p:pic>
      <p:sp>
        <p:nvSpPr>
          <p:cNvPr id="714" name="TextBox 4"/>
          <p:cNvSpPr/>
          <p:nvPr/>
        </p:nvSpPr>
        <p:spPr>
          <a:xfrm>
            <a:off x="0" y="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Arial"/>
              </a:rPr>
              <a:t>Придніпровс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eb687"/>
                </a:solidFill>
                <a:latin typeface="Arial"/>
              </a:rPr>
              <a:t>височ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2" descr=""/>
          <p:cNvPicPr/>
          <p:nvPr/>
        </p:nvPicPr>
        <p:blipFill>
          <a:blip r:embed="rId3"/>
          <a:srcRect l="0" t="0" r="0" b="43"/>
          <a:stretch/>
        </p:blipFill>
        <p:spPr>
          <a:xfrm>
            <a:off x="5591160" y="0"/>
            <a:ext cx="3552840" cy="41702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7"/>
          <p:cNvSpPr/>
          <p:nvPr/>
        </p:nvSpPr>
        <p:spPr>
          <a:xfrm>
            <a:off x="5648040" y="0"/>
            <a:ext cx="348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Arial"/>
              </a:rPr>
              <a:t>Придніпров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Arial"/>
              </a:rPr>
              <a:t>Низов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c535f"/>
              </a:solidFill>
              <a:latin typeface="Franklin Gothic Book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" descr="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26431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800520" cy="2533680"/>
          </a:xfrm>
          <a:prstGeom prst="rect">
            <a:avLst/>
          </a:prstGeom>
          <a:ln w="0">
            <a:noFill/>
          </a:ln>
        </p:spPr>
      </p:pic>
      <p:sp>
        <p:nvSpPr>
          <p:cNvPr id="722" name="TextBox 7"/>
          <p:cNvSpPr/>
          <p:nvPr/>
        </p:nvSpPr>
        <p:spPr>
          <a:xfrm>
            <a:off x="3947760" y="285840"/>
            <a:ext cx="23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44583"/>
                </a:solidFill>
                <a:latin typeface="Arial"/>
              </a:rPr>
              <a:t>Карпа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44583"/>
                </a:solidFill>
                <a:latin typeface="Arial"/>
              </a:rPr>
              <a:t>Говер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44583"/>
                </a:solidFill>
                <a:latin typeface="Arial"/>
              </a:rPr>
              <a:t>2061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c535f"/>
              </a:solidFill>
              <a:latin typeface="Franklin Gothic Book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tretch/>
        </p:blipFill>
        <p:spPr>
          <a:xfrm>
            <a:off x="0" y="1469880"/>
            <a:ext cx="9144000" cy="53881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71800"/>
          </a:xfrm>
          <a:prstGeom prst="rect">
            <a:avLst/>
          </a:prstGeom>
          <a:ln w="0">
            <a:noFill/>
          </a:ln>
        </p:spPr>
      </p:pic>
      <p:sp>
        <p:nvSpPr>
          <p:cNvPr id="727" name="TextBox 5"/>
          <p:cNvSpPr/>
          <p:nvPr/>
        </p:nvSpPr>
        <p:spPr>
          <a:xfrm>
            <a:off x="16200" y="2428920"/>
            <a:ext cx="526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a3d01"/>
                </a:solidFill>
                <a:latin typeface="Arial"/>
              </a:rPr>
              <a:t>Полтавська рів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6"/>
          <p:cNvSpPr/>
          <p:nvPr/>
        </p:nvSpPr>
        <p:spPr>
          <a:xfrm>
            <a:off x="4024080" y="142920"/>
            <a:ext cx="43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a3d01"/>
                </a:solidFill>
                <a:latin typeface="Arial"/>
              </a:rPr>
              <a:t>Донецький кря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c535f"/>
              </a:solidFill>
              <a:latin typeface="Franklin Gothic Book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2867040"/>
          </a:xfrm>
          <a:prstGeom prst="rect">
            <a:avLst/>
          </a:prstGeom>
          <a:ln w="0">
            <a:noFill/>
          </a:ln>
        </p:spPr>
      </p:pic>
      <p:sp>
        <p:nvSpPr>
          <p:cNvPr id="733" name="TextBox 5"/>
          <p:cNvSpPr/>
          <p:nvPr/>
        </p:nvSpPr>
        <p:spPr>
          <a:xfrm>
            <a:off x="4929120" y="357120"/>
            <a:ext cx="35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95d63"/>
                </a:solidFill>
                <a:latin typeface="Calibri"/>
              </a:rPr>
              <a:t>Ку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95d63"/>
                </a:solidFill>
                <a:latin typeface="Calibri"/>
              </a:rPr>
              <a:t>Могила Мече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"/>
          <p:cNvPicPr/>
          <p:nvPr/>
        </p:nvPicPr>
        <p:blipFill>
          <a:blip r:embed="rId2"/>
          <a:stretch/>
        </p:blipFill>
        <p:spPr>
          <a:xfrm>
            <a:off x="4836960" y="0"/>
            <a:ext cx="4307040" cy="305280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6356160" y="214200"/>
            <a:ext cx="25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95d63"/>
                </a:solidFill>
                <a:latin typeface="Calibri"/>
              </a:rPr>
              <a:t>г. Роман-К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6"/>
          <p:cNvSpPr/>
          <p:nvPr/>
        </p:nvSpPr>
        <p:spPr>
          <a:xfrm>
            <a:off x="214200" y="1285920"/>
            <a:ext cx="349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95d63"/>
                </a:solidFill>
                <a:latin typeface="Calibri"/>
              </a:rPr>
              <a:t>Куестовий рельє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95d63"/>
                </a:solidFill>
                <a:latin typeface="Calibri"/>
              </a:rPr>
              <a:t>Кримських гі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c535f"/>
              </a:solidFill>
              <a:latin typeface="Franklin Gothic Book"/>
            </a:endParaRPr>
          </a:p>
        </p:txBody>
      </p:sp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" descr=""/>
          <p:cNvPicPr/>
          <p:nvPr/>
        </p:nvPicPr>
        <p:blipFill>
          <a:blip r:embed="rId2"/>
          <a:stretch/>
        </p:blipFill>
        <p:spPr>
          <a:xfrm>
            <a:off x="5576760" y="0"/>
            <a:ext cx="3567240" cy="2678040"/>
          </a:xfrm>
          <a:prstGeom prst="rect">
            <a:avLst/>
          </a:prstGeom>
          <a:ln w="0">
            <a:noFill/>
          </a:ln>
        </p:spPr>
      </p:pic>
      <p:pic>
        <p:nvPicPr>
          <p:cNvPr id="742" name="TextBox 4" descr=""/>
          <p:cNvPicPr/>
          <p:nvPr/>
        </p:nvPicPr>
        <p:blipFill>
          <a:blip r:embed="rId3"/>
          <a:stretch/>
        </p:blipFill>
        <p:spPr>
          <a:xfrm>
            <a:off x="-109440" y="152280"/>
            <a:ext cx="5808600" cy="2262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4" name=""/>
          <p:cNvGraphicFramePr/>
          <p:nvPr/>
        </p:nvGraphicFramePr>
        <p:xfrm>
          <a:off x="1000080" y="2332080"/>
          <a:ext cx="7215120" cy="3657600"/>
        </p:xfrm>
        <a:graphic>
          <a:graphicData uri="http://schemas.openxmlformats.org/drawingml/2006/table">
            <a:tbl>
              <a:tblPr/>
              <a:tblGrid>
                <a:gridCol w="3571920"/>
                <a:gridCol w="3643200"/>
              </a:tblGrid>
              <a:tr h="4575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Зсу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ітрова ероз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Ко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арстов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ч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уффозій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тепові блюдц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орські акумуляти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Дю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нтропоген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О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Гравітаційні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.Терик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Льодовиков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"/>
          <p:cNvSpPr/>
          <p:nvPr/>
        </p:nvSpPr>
        <p:spPr>
          <a:xfrm>
            <a:off x="500040" y="521280"/>
            <a:ext cx="8001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ові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цес накопичення продуктів руйн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денудація Б) ерозія В) акумуляці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ходження рельєфу та закономірності його розміщення відображає кар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ізична;   Б) геологічна;  В) геоморфологі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улканогенні форми рельєфу найбільш розповсюджен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 Українському щиті; Б) в горах;В) Донецькому кряж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ьодовикові форми рельєфу розповсюджені на території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країнського Полісся  Б). Кримських гі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чорноморській низови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ри, цирки, ози відносять до форм рельєф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стових Б) гравітаційних В) льодовиков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 водно ерозійних віднос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яри. Б) степові блюдця В) морські ко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2" descr=""/>
          <p:cNvPicPr/>
          <p:nvPr/>
        </p:nvPicPr>
        <p:blipFill>
          <a:blip r:embed="rId1"/>
          <a:stretch/>
        </p:blipFill>
        <p:spPr>
          <a:xfrm>
            <a:off x="6286680" y="4429080"/>
            <a:ext cx="285732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 txBox="1"/>
          <p:nvPr/>
        </p:nvSpPr>
        <p:spPr>
          <a:xfrm>
            <a:off x="304920" y="1553760"/>
            <a:ext cx="841032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  <a:ea typeface="FrankRuehl"/>
              </a:rPr>
              <a:t>Геоморфологія – наука про походження та закономірності поширення  різних форм і типів рельєфу. </a:t>
            </a: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44583"/>
                </a:solidFill>
                <a:latin typeface="Franklin Gothic Book"/>
                <a:ea typeface="FrankRuehl"/>
              </a:rPr>
              <a:t>Відповідно до прояву внутрішніх і зовнішніх процесів розрізняють різні типи рельєфу: тектонічний, вулканічний, гравітаційний, водноерозійний, водноакумулятивний, карстовий, льодовиковий,  еоловий, суфозійний, береговий, техногенний.</a:t>
            </a: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  <a:ea typeface="FrankRuehl"/>
              </a:rPr>
              <a:t>Вивчення рельєфу має велике значення для життєдіяльності людини.</a:t>
            </a: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9" name="TextBox 3"/>
          <p:cNvSpPr/>
          <p:nvPr/>
        </p:nvSpPr>
        <p:spPr>
          <a:xfrm>
            <a:off x="1510920" y="4429080"/>
            <a:ext cx="6327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668c4"/>
                </a:solidFill>
                <a:latin typeface="Arial"/>
              </a:rPr>
              <a:t>Напиши «есемес» учителю  (продовжити фраз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ні найбільше запам'яталось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оловне, що я хочу сказат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ля мене цей час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ля чого потрібно вивчати сьогоднішню т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7929360" cy="4214880"/>
          </a:xfrm>
          <a:prstGeom prst="rect">
            <a:avLst/>
          </a:prstGeom>
          <a:ln w="0">
            <a:noFill/>
          </a:ln>
        </p:spPr>
      </p:pic>
      <p:pic>
        <p:nvPicPr>
          <p:cNvPr id="751" name="Прямоугольник 5" descr=""/>
          <p:cNvPicPr/>
          <p:nvPr/>
        </p:nvPicPr>
        <p:blipFill>
          <a:blip r:embed="rId2"/>
          <a:stretch/>
        </p:blipFill>
        <p:spPr>
          <a:xfrm>
            <a:off x="444600" y="219240"/>
            <a:ext cx="8632800" cy="4906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642960" y="1928880"/>
          <a:ext cx="7858080" cy="3657600"/>
        </p:xfrm>
        <a:graphic>
          <a:graphicData uri="http://schemas.openxmlformats.org/drawingml/2006/table">
            <a:tbl>
              <a:tblPr/>
              <a:tblGrid>
                <a:gridCol w="3973320"/>
                <a:gridCol w="3884760"/>
              </a:tblGrid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льєф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тонічна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орноморська низов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ніпровська височ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іська низов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ільська височ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нецька височ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уська височ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ніпровська низов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5437c"/>
                      </a:solidFill>
                    </a:lnL>
                    <a:lnR w="5760">
                      <a:solidFill>
                        <a:srgbClr val="25437c"/>
                      </a:solidFill>
                    </a:lnR>
                    <a:lnT w="5760">
                      <a:solidFill>
                        <a:srgbClr val="25437c"/>
                      </a:solidFill>
                    </a:lnT>
                    <a:lnB w="5760">
                      <a:solidFill>
                        <a:srgbClr val="25437c"/>
                      </a:solidFill>
                    </a:lnB>
                    <a:solidFill>
                      <a:srgbClr val="e3eaf7"/>
                    </a:solidFill>
                  </a:tcPr>
                </a:tc>
              </a:tr>
            </a:tbl>
          </a:graphicData>
        </a:graphic>
      </p:graphicFrame>
      <p:sp>
        <p:nvSpPr>
          <p:cNvPr id="667" name="Rectangle 1"/>
          <p:cNvSpPr/>
          <p:nvPr/>
        </p:nvSpPr>
        <p:spPr>
          <a:xfrm>
            <a:off x="214200" y="290160"/>
            <a:ext cx="8929800" cy="1191240"/>
          </a:xfrm>
          <a:prstGeom prst="rect">
            <a:avLst/>
          </a:prstGeom>
          <a:gradFill rotWithShape="0">
            <a:gsLst>
              <a:gs pos="0">
                <a:srgbClr val="ffd5c1"/>
              </a:gs>
              <a:gs pos="100000">
                <a:srgbClr val="ff842c"/>
              </a:gs>
            </a:gsLst>
            <a:lin ang="5400000"/>
          </a:gradFill>
          <a:ln w="10080">
            <a:solidFill>
              <a:srgbClr val="fe8637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снує взаємозв</a:t>
            </a:r>
            <a:r>
              <a:rPr b="1" lang="uk-UA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ок між низовинами, височинами та тектонічними структурами. Доведіть 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ивши таблиц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c535f"/>
                </a:solidFill>
                <a:latin typeface="Franklin Gothic Book"/>
              </a:rPr>
              <a:t>Підготувала вчитель географії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c535f"/>
                </a:solidFill>
                <a:latin typeface="Franklin Gothic Book"/>
              </a:rPr>
              <a:t>Андрушків Дарія Степанівна,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c535f"/>
                </a:solidFill>
                <a:latin typeface="Franklin Gothic Book"/>
              </a:rPr>
              <a:t>лауреат  конкурсу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c535f"/>
                </a:solidFill>
                <a:latin typeface="Franklin Gothic Book"/>
              </a:rPr>
              <a:t>“</a:t>
            </a:r>
            <a:r>
              <a:rPr b="0" lang="uk-UA" sz="3200" spc="-1" strike="noStrike">
                <a:solidFill>
                  <a:srgbClr val="4c535f"/>
                </a:solidFill>
                <a:latin typeface="Franklin Gothic Book"/>
              </a:rPr>
              <a:t>Учитель року – 2014” ,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c535f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4c535f"/>
                </a:solidFill>
                <a:latin typeface="Franklin Gothic Book"/>
              </a:rPr>
              <a:t>Ріпинецька ЗОШ І-ІІ ступенів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c535f"/>
                </a:solidFill>
                <a:latin typeface="Franklin Gothic Book"/>
              </a:rPr>
              <a:t>Бучацький р-н Тернопільська обл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" descr=""/>
          <p:cNvPicPr/>
          <p:nvPr/>
        </p:nvPicPr>
        <p:blipFill>
          <a:blip r:embed="rId1"/>
          <a:stretch/>
        </p:blipFill>
        <p:spPr>
          <a:xfrm>
            <a:off x="0" y="2214720"/>
            <a:ext cx="9144000" cy="4641840"/>
          </a:xfrm>
          <a:prstGeom prst="rect">
            <a:avLst/>
          </a:prstGeom>
          <a:ln w="0">
            <a:noFill/>
          </a:ln>
        </p:spPr>
      </p:pic>
      <p:pic>
        <p:nvPicPr>
          <p:cNvPr id="669" name="Rectangle 3" descr=""/>
          <p:cNvPicPr/>
          <p:nvPr/>
        </p:nvPicPr>
        <p:blipFill>
          <a:blip r:embed="rId2"/>
          <a:stretch/>
        </p:blipFill>
        <p:spPr>
          <a:xfrm>
            <a:off x="208080" y="-66600"/>
            <a:ext cx="8942400" cy="284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Заголовок 1" descr=""/>
          <p:cNvPicPr/>
          <p:nvPr/>
        </p:nvPicPr>
        <p:blipFill>
          <a:blip r:embed="rId2"/>
          <a:stretch/>
        </p:blipFill>
        <p:spPr>
          <a:xfrm>
            <a:off x="2494080" y="208080"/>
            <a:ext cx="4645080" cy="10602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1571760" y="1856880"/>
            <a:ext cx="5857920" cy="4025880"/>
          </a:xfrm>
          <a:prstGeom prst="rect">
            <a:avLst/>
          </a:prstGeom>
          <a:solidFill>
            <a:srgbClr val="bee39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Івано-Франківськ – Ужгород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        </a:t>
            </a: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Херсон – Київ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        </a:t>
            </a: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Тернопіль – Рівне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         </a:t>
            </a: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Донецьк – Полтава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         </a:t>
            </a: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Вінниця – Черкаси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         </a:t>
            </a:r>
            <a:r>
              <a:rPr b="1" lang="uk-UA" sz="3200" spc="-1" strike="noStrike">
                <a:solidFill>
                  <a:srgbClr val="575f6d"/>
                </a:solidFill>
                <a:latin typeface="Franklin Gothic Book"/>
              </a:rPr>
              <a:t>Кіровоград - Одеса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4000320" cy="27860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429080" y="142920"/>
            <a:ext cx="4500720" cy="30718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" descr=""/>
          <p:cNvPicPr/>
          <p:nvPr/>
        </p:nvPicPr>
        <p:blipFill>
          <a:blip r:embed="rId3"/>
          <a:stretch/>
        </p:blipFill>
        <p:spPr>
          <a:xfrm>
            <a:off x="214200" y="3143160"/>
            <a:ext cx="4214880" cy="321624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4"/>
          <p:cNvSpPr/>
          <p:nvPr/>
        </p:nvSpPr>
        <p:spPr>
          <a:xfrm>
            <a:off x="4572000" y="4429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ке  практичне значення має знання рельєфу будь-якої місцевості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 flipV="1" rot="10800000">
            <a:off x="428760" y="936720"/>
            <a:ext cx="8286480" cy="5091480"/>
          </a:xfrm>
          <a:prstGeom prst="rect">
            <a:avLst/>
          </a:prstGeom>
          <a:solidFill>
            <a:srgbClr val="9fd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uk-UA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уро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орфологія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ука про походження та закономірності поширення різних форм і типів рельєф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еоморфологічна будова та геоморфологічна кар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сновні типи рельєф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28400" y="357120"/>
            <a:ext cx="8358120" cy="2681280"/>
          </a:xfrm>
          <a:prstGeom prst="rect">
            <a:avLst/>
          </a:prstGeom>
          <a:solidFill>
            <a:srgbClr val="bee398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c535f"/>
                </a:solidFill>
                <a:latin typeface="Franklin Gothic Book"/>
              </a:rPr>
              <a:t>Геоморфоло́гія</a:t>
            </a:r>
            <a:r>
              <a:rPr b="0" lang="uk-UA" sz="2800" spc="-1" strike="noStrike">
                <a:solidFill>
                  <a:srgbClr val="4c535f"/>
                </a:solidFill>
                <a:latin typeface="Franklin Gothic Book"/>
              </a:rPr>
              <a:t> — наука про походження та закономірності поширення  різних форм і типів рельєфу. 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c535f"/>
                </a:solidFill>
                <a:latin typeface="Franklin Gothic Book"/>
              </a:rPr>
              <a:t> </a:t>
            </a:r>
            <a:r>
              <a:rPr b="1" lang="uk-UA" sz="2800" spc="-1" strike="noStrike">
                <a:solidFill>
                  <a:srgbClr val="4c535f"/>
                </a:solidFill>
                <a:latin typeface="Franklin Gothic Book"/>
              </a:rPr>
              <a:t>Геоморфологічна будова – </a:t>
            </a:r>
            <a:r>
              <a:rPr b="0" lang="uk-UA" sz="2800" spc="-1" strike="noStrike">
                <a:solidFill>
                  <a:srgbClr val="4c535f"/>
                </a:solidFill>
                <a:latin typeface="Franklin Gothic Book"/>
              </a:rPr>
              <a:t>закономірне утворення та розташування  форм рельєфу на певній території.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4714920" y="3071880"/>
            <a:ext cx="4027320" cy="34671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" descr=""/>
          <p:cNvPicPr/>
          <p:nvPr/>
        </p:nvPicPr>
        <p:blipFill>
          <a:blip r:embed="rId2"/>
          <a:stretch/>
        </p:blipFill>
        <p:spPr>
          <a:xfrm>
            <a:off x="428760" y="3000240"/>
            <a:ext cx="3929040" cy="3586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Рисунок 3" descr="C:\Users\admin\Documents\Геоморфологічна будова.gif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  <p:sp>
        <p:nvSpPr>
          <p:cNvPr id="682" name="TextBox 2"/>
          <p:cNvSpPr/>
          <p:nvPr/>
        </p:nvSpPr>
        <p:spPr>
          <a:xfrm>
            <a:off x="2642760" y="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еоморфологічна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04T14:38:1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36000000000001024140</vt:lpwstr>
  </property>
  <property fmtid="{D5CDD505-2E9C-101B-9397-08002B2CF9AE}" pid="3" name="PPT_Export_sFileName">
    <vt:lpwstr>D:\География))))\Все уроки 8 класс Величко О.А\Урок 15 Основные формы рельефа\P-Урок 15 Основные формы рельефа.Ppt</vt:lpwstr>
  </property>
</Properties>
</file>