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2.png" ContentType="image/png"/>
  <Override PartName="/ppt/media/image19.gif" ContentType="image/gif"/>
  <Override PartName="/ppt/media/image1.jpeg" ContentType="image/jpeg"/>
  <Override PartName="/ppt/media/image2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564-BEF6-45B8-B7A3-735BECC6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1ED-CC82-4EE2-950E-765711E3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E35-4D63-463A-9E83-C756D92A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5EE3-174D-4F08-BFFF-5700340C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2DAA-65B1-4AAE-9A77-B7BC63B2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B03-8AC7-4EB2-B2A8-14303930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399-5DF1-4A28-9880-B75EDA97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FC1-4DE1-488D-8881-6CB3AFA7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D9E-F3F6-47DA-B70B-2FDAF2D6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8229-7DDC-42D7-8DDE-3C122354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63A-1A02-4461-9DD6-4191B50F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4FE-AF06-40A0-8342-3A1C18DC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AB78-C886-42EF-BDAE-0712240F72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Во ле Виконт"/>
          <p:cNvPicPr/>
          <p:nvPr/>
        </p:nvPicPr>
        <p:blipFill>
          <a:blip r:embed="rId1"/>
          <a:stretch/>
        </p:blipFill>
        <p:spPr>
          <a:xfrm rot="21387000">
            <a:off x="95040" y="167760"/>
            <a:ext cx="4419360" cy="3483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0" descr="zamok_Chateau_de_Chambord"/>
          <p:cNvPicPr/>
          <p:nvPr/>
        </p:nvPicPr>
        <p:blipFill>
          <a:blip r:embed="rId2"/>
          <a:stretch/>
        </p:blipFill>
        <p:spPr>
          <a:xfrm>
            <a:off x="0" y="3646440"/>
            <a:ext cx="4591080" cy="3211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4" descr="арка"/>
          <p:cNvPicPr/>
          <p:nvPr/>
        </p:nvPicPr>
        <p:blipFill>
          <a:blip r:embed="rId3"/>
          <a:stretch/>
        </p:blipFill>
        <p:spPr>
          <a:xfrm rot="282000">
            <a:off x="4637160" y="174240"/>
            <a:ext cx="4386240" cy="313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sacre"/>
          <p:cNvPicPr/>
          <p:nvPr/>
        </p:nvPicPr>
        <p:blipFill>
          <a:blip r:embed="rId4"/>
          <a:stretch/>
        </p:blipFill>
        <p:spPr>
          <a:xfrm rot="20637000">
            <a:off x="4247640" y="3301560"/>
            <a:ext cx="4572000" cy="2982960"/>
          </a:xfrm>
          <a:prstGeom prst="rect">
            <a:avLst/>
          </a:prstGeom>
          <a:ln w="0">
            <a:noFill/>
          </a:ln>
        </p:spPr>
      </p:pic>
      <p:pic>
        <p:nvPicPr>
          <p:cNvPr id="45" name="01_edith_piaf_non_je_ne_regrette_rien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3" descr="башня"/>
          <p:cNvPicPr/>
          <p:nvPr/>
        </p:nvPicPr>
        <p:blipFill>
          <a:blip r:embed="rId1"/>
          <a:stretch/>
        </p:blipFill>
        <p:spPr>
          <a:xfrm rot="21020400">
            <a:off x="4365360" y="76320"/>
            <a:ext cx="4651200" cy="3902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vigne2"/>
          <p:cNvPicPr/>
          <p:nvPr/>
        </p:nvPicPr>
        <p:blipFill>
          <a:blip r:embed="rId2"/>
          <a:stretch/>
        </p:blipFill>
        <p:spPr>
          <a:xfrm rot="21376200">
            <a:off x="101520" y="151920"/>
            <a:ext cx="4786560" cy="3270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paris"/>
          <p:cNvPicPr/>
          <p:nvPr/>
        </p:nvPicPr>
        <p:blipFill>
          <a:blip r:embed="rId3"/>
          <a:stretch/>
        </p:blipFill>
        <p:spPr>
          <a:xfrm>
            <a:off x="1071720" y="2556000"/>
            <a:ext cx="67150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fg_franc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6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Прямоугольник 2"/>
          <p:cNvSpPr/>
          <p:nvPr/>
        </p:nvSpPr>
        <p:spPr>
          <a:xfrm>
            <a:off x="1857240" y="1571760"/>
            <a:ext cx="55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uk-UA" sz="8800" spc="-1" strike="noStrike">
                <a:solidFill>
                  <a:srgbClr val="ff0000"/>
                </a:solidFill>
                <a:latin typeface="Arial"/>
              </a:rPr>
              <a:t>РАНЦ</a:t>
            </a:r>
            <a:r>
              <a:rPr b="1" lang="uk-UA" sz="8800" spc="-1" strike="noStrike">
                <a:solidFill>
                  <a:srgbClr val="17375e"/>
                </a:solidFill>
                <a:latin typeface="Arial"/>
              </a:rPr>
              <a:t>І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8a86b5d3ddf9t.jpg"/>
          <p:cNvPicPr/>
          <p:nvPr/>
        </p:nvPicPr>
        <p:blipFill>
          <a:blip r:embed="rId1"/>
          <a:srcRect l="0" t="0" r="0" b="93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4284720" y="0"/>
            <a:ext cx="46450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Французька республі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eorgia"/>
              </a:rPr>
              <a:t>Площа - 544 тис. кв.к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eorgia"/>
              </a:rPr>
              <a:t>Населення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( перепис 2009 р.) – 65, 07 млн. чо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eorgia"/>
              </a:rPr>
              <a:t>Столиця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 - Париж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eorgia"/>
              </a:rPr>
              <a:t>Офіційна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 мова - </a:t>
            </a:r>
            <a:r>
              <a:rPr b="1" lang="uk-UA" sz="1800" spc="-1" strike="noStrike">
                <a:solidFill>
                  <a:srgbClr val="002060"/>
                </a:solidFill>
                <a:latin typeface="Georgia"/>
              </a:rPr>
              <a:t>французька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eorgia"/>
              </a:rPr>
              <a:t>Державний лад – президентська республі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Президент - Франсуа Оллан                                                                  Прем'єр-міністр – Жан-Марк Эр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5292720" y="3786120"/>
            <a:ext cx="385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ісце країни в світі – краї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еликої сімки”, член ЄС, НАТ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РЄ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дерна держа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Релігія – християнство (католик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Грошова одиниця – євр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рім континентальної частин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до складу держави входя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острів Корсика,заморськ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департаменти і територ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528840" y="500040"/>
            <a:ext cx="819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Природно - ресурсний потенці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008520" y="1357200"/>
            <a:ext cx="36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15968"/>
                </a:solidFill>
                <a:latin typeface="Calibri"/>
              </a:rPr>
              <a:t>ПРИРОДНІ РЕСУР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1880" y="271476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Мінеральн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144520" y="342900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Водн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433320" y="378612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Земельн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368040" y="285768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креаційн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5651640" y="34290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Лісов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Прямая со стрелкой 10"/>
          <p:cNvCxnSpPr/>
          <p:nvPr/>
        </p:nvCxnSpPr>
        <p:spPr>
          <a:xfrm flipH="1">
            <a:off x="2142360" y="1856160"/>
            <a:ext cx="1072440" cy="10011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14"/>
          <p:cNvCxnSpPr/>
          <p:nvPr/>
        </p:nvCxnSpPr>
        <p:spPr>
          <a:xfrm flipH="1">
            <a:off x="2999880" y="2214360"/>
            <a:ext cx="572400" cy="12862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7"/>
          <p:cNvCxnSpPr/>
          <p:nvPr/>
        </p:nvCxnSpPr>
        <p:spPr>
          <a:xfrm flipH="1">
            <a:off x="4642560" y="2428920"/>
            <a:ext cx="2520" cy="1288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19"/>
          <p:cNvCxnSpPr/>
          <p:nvPr/>
        </p:nvCxnSpPr>
        <p:spPr>
          <a:xfrm>
            <a:off x="5644080" y="2143080"/>
            <a:ext cx="284400" cy="12153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1"/>
          <p:cNvCxnSpPr/>
          <p:nvPr/>
        </p:nvCxnSpPr>
        <p:spPr>
          <a:xfrm>
            <a:off x="6644160" y="1928880"/>
            <a:ext cx="499320" cy="1072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6" name="Рисунок 23" descr="15.gif"/>
          <p:cNvPicPr/>
          <p:nvPr/>
        </p:nvPicPr>
        <p:blipFill>
          <a:blip r:embed="rId1"/>
          <a:stretch/>
        </p:blipFill>
        <p:spPr>
          <a:xfrm>
            <a:off x="1000080" y="5072040"/>
            <a:ext cx="723420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Frantzia_Mapa_Ukr.png"/>
          <p:cNvPicPr/>
          <p:nvPr/>
        </p:nvPicPr>
        <p:blipFill>
          <a:blip r:embed="rId1"/>
          <a:srcRect l="219" t="0" r="0" b="0"/>
          <a:stretch/>
        </p:blipFill>
        <p:spPr>
          <a:xfrm>
            <a:off x="2786040" y="0"/>
            <a:ext cx="63579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0" y="500040"/>
            <a:ext cx="300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ПРИРОДН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ЕСУРС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авнобедренный треугольник 3" descr=""/>
          <p:cNvPicPr/>
          <p:nvPr/>
        </p:nvPicPr>
        <p:blipFill>
          <a:blip r:embed="rId2"/>
          <a:stretch/>
        </p:blipFill>
        <p:spPr>
          <a:xfrm>
            <a:off x="6272280" y="1663560"/>
            <a:ext cx="377640" cy="451080"/>
          </a:xfrm>
          <a:prstGeom prst="rect">
            <a:avLst/>
          </a:prstGeom>
          <a:ln w="0">
            <a:noFill/>
          </a:ln>
        </p:spPr>
      </p:pic>
      <p:sp>
        <p:nvSpPr>
          <p:cNvPr id="70" name="Овал 4"/>
          <p:cNvSpPr/>
          <p:nvPr/>
        </p:nvSpPr>
        <p:spPr>
          <a:xfrm>
            <a:off x="6929280" y="4500720"/>
            <a:ext cx="428760" cy="428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7000920" y="4572000"/>
            <a:ext cx="285840" cy="285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вал 6"/>
          <p:cNvSpPr/>
          <p:nvPr/>
        </p:nvSpPr>
        <p:spPr>
          <a:xfrm>
            <a:off x="7072200" y="4643280"/>
            <a:ext cx="142920" cy="1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7"/>
          <p:cNvSpPr/>
          <p:nvPr/>
        </p:nvSpPr>
        <p:spPr>
          <a:xfrm>
            <a:off x="428760" y="2428920"/>
            <a:ext cx="42840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вал 8"/>
          <p:cNvSpPr/>
          <p:nvPr/>
        </p:nvSpPr>
        <p:spPr>
          <a:xfrm>
            <a:off x="571680" y="2571840"/>
            <a:ext cx="142560" cy="1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500040" y="2500200"/>
            <a:ext cx="285840" cy="285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Овал 10"/>
          <p:cNvSpPr/>
          <p:nvPr/>
        </p:nvSpPr>
        <p:spPr>
          <a:xfrm>
            <a:off x="571680" y="2571840"/>
            <a:ext cx="142560" cy="1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Прямоугольник 11" descr=""/>
          <p:cNvPicPr/>
          <p:nvPr/>
        </p:nvPicPr>
        <p:blipFill>
          <a:blip r:embed="rId3"/>
          <a:stretch/>
        </p:blipFill>
        <p:spPr>
          <a:xfrm>
            <a:off x="871560" y="2090880"/>
            <a:ext cx="1908000" cy="890280"/>
          </a:xfrm>
          <a:prstGeom prst="rect">
            <a:avLst/>
          </a:prstGeom>
          <a:ln w="0">
            <a:noFill/>
          </a:ln>
        </p:spPr>
      </p:pic>
      <p:pic>
        <p:nvPicPr>
          <p:cNvPr id="78" name="Равнобедренный треугольник 12" descr=""/>
          <p:cNvPicPr/>
          <p:nvPr/>
        </p:nvPicPr>
        <p:blipFill>
          <a:blip r:embed="rId4"/>
          <a:stretch/>
        </p:blipFill>
        <p:spPr>
          <a:xfrm>
            <a:off x="480960" y="3303720"/>
            <a:ext cx="384120" cy="45720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3" descr=""/>
          <p:cNvPicPr/>
          <p:nvPr/>
        </p:nvPicPr>
        <p:blipFill>
          <a:blip r:embed="rId5"/>
          <a:stretch/>
        </p:blipFill>
        <p:spPr>
          <a:xfrm>
            <a:off x="993600" y="3017880"/>
            <a:ext cx="1749600" cy="8888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4"/>
          <p:cNvSpPr/>
          <p:nvPr/>
        </p:nvSpPr>
        <p:spPr>
          <a:xfrm>
            <a:off x="500040" y="4357800"/>
            <a:ext cx="285840" cy="3571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Прямоугольник 15" descr=""/>
          <p:cNvPicPr/>
          <p:nvPr/>
        </p:nvPicPr>
        <p:blipFill>
          <a:blip r:embed="rId6"/>
          <a:stretch/>
        </p:blipFill>
        <p:spPr>
          <a:xfrm>
            <a:off x="993600" y="4091040"/>
            <a:ext cx="1749600" cy="88884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6"/>
          <p:cNvSpPr/>
          <p:nvPr/>
        </p:nvSpPr>
        <p:spPr>
          <a:xfrm>
            <a:off x="5572080" y="928800"/>
            <a:ext cx="285840" cy="285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7"/>
          <p:cNvSpPr/>
          <p:nvPr/>
        </p:nvSpPr>
        <p:spPr>
          <a:xfrm>
            <a:off x="500040" y="5429160"/>
            <a:ext cx="285840" cy="3571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Овал 18"/>
          <p:cNvSpPr/>
          <p:nvPr/>
        </p:nvSpPr>
        <p:spPr>
          <a:xfrm>
            <a:off x="500040" y="5429160"/>
            <a:ext cx="28584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9"/>
          <p:cNvSpPr/>
          <p:nvPr/>
        </p:nvSpPr>
        <p:spPr>
          <a:xfrm>
            <a:off x="5214960" y="3429000"/>
            <a:ext cx="285840" cy="285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Овал 20"/>
          <p:cNvSpPr/>
          <p:nvPr/>
        </p:nvSpPr>
        <p:spPr>
          <a:xfrm>
            <a:off x="5286240" y="3500280"/>
            <a:ext cx="142920" cy="1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Прямоугольник 21" descr=""/>
          <p:cNvPicPr/>
          <p:nvPr/>
        </p:nvPicPr>
        <p:blipFill>
          <a:blip r:embed="rId7"/>
          <a:stretch/>
        </p:blipFill>
        <p:spPr>
          <a:xfrm>
            <a:off x="993600" y="5303880"/>
            <a:ext cx="1749600" cy="888840"/>
          </a:xfrm>
          <a:prstGeom prst="rect">
            <a:avLst/>
          </a:prstGeom>
          <a:ln w="0">
            <a:noFill/>
          </a:ln>
        </p:spPr>
      </p:pic>
      <p:sp>
        <p:nvSpPr>
          <p:cNvPr id="88" name="Овал 22"/>
          <p:cNvSpPr/>
          <p:nvPr/>
        </p:nvSpPr>
        <p:spPr>
          <a:xfrm flipH="1">
            <a:off x="5357880" y="3571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3"/>
          <p:cNvSpPr/>
          <p:nvPr/>
        </p:nvSpPr>
        <p:spPr>
          <a:xfrm>
            <a:off x="571680" y="5500800"/>
            <a:ext cx="117360" cy="117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" dur="2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" dur="2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3" dur="2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2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" dur="2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" dur="2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Frantzia_Mapa_Ukr.png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0" y="500040"/>
            <a:ext cx="300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НАЙБІЛЬШІ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4" descr="skrep32.gif"/>
          <p:cNvPicPr/>
          <p:nvPr/>
        </p:nvPicPr>
        <p:blipFill>
          <a:blip r:embed="rId2"/>
          <a:stretch/>
        </p:blipFill>
        <p:spPr>
          <a:xfrm>
            <a:off x="5715000" y="1928880"/>
            <a:ext cx="254160" cy="5713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skrep32.gif"/>
          <p:cNvPicPr/>
          <p:nvPr/>
        </p:nvPicPr>
        <p:blipFill>
          <a:blip r:embed="rId3"/>
          <a:stretch/>
        </p:blipFill>
        <p:spPr>
          <a:xfrm>
            <a:off x="6929280" y="4929120"/>
            <a:ext cx="254160" cy="5716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skrep32.gif"/>
          <p:cNvPicPr/>
          <p:nvPr/>
        </p:nvPicPr>
        <p:blipFill>
          <a:blip r:embed="rId4"/>
          <a:stretch/>
        </p:blipFill>
        <p:spPr>
          <a:xfrm>
            <a:off x="6786720" y="3429000"/>
            <a:ext cx="253800" cy="5716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skrep32.gif"/>
          <p:cNvPicPr/>
          <p:nvPr/>
        </p:nvPicPr>
        <p:blipFill>
          <a:blip r:embed="rId5"/>
          <a:stretch/>
        </p:blipFill>
        <p:spPr>
          <a:xfrm>
            <a:off x="5357880" y="4572000"/>
            <a:ext cx="253800" cy="5716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skrep32.gif"/>
          <p:cNvPicPr/>
          <p:nvPr/>
        </p:nvPicPr>
        <p:blipFill>
          <a:blip r:embed="rId6"/>
          <a:stretch/>
        </p:blipFill>
        <p:spPr>
          <a:xfrm>
            <a:off x="7786800" y="4572000"/>
            <a:ext cx="253800" cy="5716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skrep32.gif"/>
          <p:cNvPicPr/>
          <p:nvPr/>
        </p:nvPicPr>
        <p:blipFill>
          <a:blip r:embed="rId7"/>
          <a:stretch/>
        </p:blipFill>
        <p:spPr>
          <a:xfrm>
            <a:off x="4214880" y="2857680"/>
            <a:ext cx="253800" cy="5713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1" descr="skrep32.gif"/>
          <p:cNvPicPr/>
          <p:nvPr/>
        </p:nvPicPr>
        <p:blipFill>
          <a:blip r:embed="rId8"/>
          <a:stretch/>
        </p:blipFill>
        <p:spPr>
          <a:xfrm>
            <a:off x="6143760" y="785880"/>
            <a:ext cx="253800" cy="5713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2" descr="skrep32.gif"/>
          <p:cNvPicPr/>
          <p:nvPr/>
        </p:nvPicPr>
        <p:blipFill>
          <a:blip r:embed="rId9"/>
          <a:stretch/>
        </p:blipFill>
        <p:spPr>
          <a:xfrm>
            <a:off x="7215120" y="5072040"/>
            <a:ext cx="222480" cy="5000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skrep32.gif"/>
          <p:cNvPicPr/>
          <p:nvPr/>
        </p:nvPicPr>
        <p:blipFill>
          <a:blip r:embed="rId10"/>
          <a:stretch/>
        </p:blipFill>
        <p:spPr>
          <a:xfrm>
            <a:off x="7715160" y="1857240"/>
            <a:ext cx="2541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eef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Диаграмма 3" descr=""/>
          <p:cNvPicPr/>
          <p:nvPr/>
        </p:nvPicPr>
        <p:blipFill>
          <a:blip r:embed="rId1"/>
          <a:stretch/>
        </p:blipFill>
        <p:spPr>
          <a:xfrm>
            <a:off x="420840" y="1206360"/>
            <a:ext cx="8229600" cy="523080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4" descr=""/>
          <p:cNvPicPr/>
          <p:nvPr/>
        </p:nvPicPr>
        <p:blipFill>
          <a:blip r:embed="rId2"/>
          <a:stretch/>
        </p:blipFill>
        <p:spPr>
          <a:xfrm>
            <a:off x="895320" y="317520"/>
            <a:ext cx="76327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6" descr="vigne2"/>
          <p:cNvPicPr/>
          <p:nvPr/>
        </p:nvPicPr>
        <p:blipFill>
          <a:blip r:embed="rId1"/>
          <a:srcRect l="0" t="0" r="808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Овал 1"/>
          <p:cNvSpPr/>
          <p:nvPr/>
        </p:nvSpPr>
        <p:spPr>
          <a:xfrm>
            <a:off x="1258920" y="214200"/>
            <a:ext cx="1944720" cy="207180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Високороз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вине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Овал 2"/>
          <p:cNvSpPr/>
          <p:nvPr/>
        </p:nvSpPr>
        <p:spPr>
          <a:xfrm>
            <a:off x="2786040" y="1214280"/>
            <a:ext cx="1641600" cy="171468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ст</a:t>
            </a: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індустріаль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3"/>
          <p:cNvSpPr/>
          <p:nvPr/>
        </p:nvSpPr>
        <p:spPr>
          <a:xfrm>
            <a:off x="3929040" y="1989000"/>
            <a:ext cx="1579680" cy="179712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Країна “Великої сімка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Овал 4"/>
          <p:cNvSpPr/>
          <p:nvPr/>
        </p:nvSpPr>
        <p:spPr>
          <a:xfrm>
            <a:off x="5143680" y="2928960"/>
            <a:ext cx="1515960" cy="157176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ЄС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НА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1332000" y="1928880"/>
            <a:ext cx="1525680" cy="157140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Високо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урбанізова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Овал 7"/>
          <p:cNvSpPr/>
          <p:nvPr/>
        </p:nvSpPr>
        <p:spPr>
          <a:xfrm>
            <a:off x="2571840" y="2714760"/>
            <a:ext cx="1643040" cy="171432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eorgia"/>
              </a:rPr>
              <a:t>Високий рівень НТ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8"/>
          <p:cNvSpPr/>
          <p:nvPr/>
        </p:nvSpPr>
        <p:spPr>
          <a:xfrm>
            <a:off x="971640" y="3284640"/>
            <a:ext cx="1814400" cy="185904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Єлисейськ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пол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2571840" y="4500720"/>
            <a:ext cx="1784160" cy="180792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Тріумфаль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ар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826920" y="4869000"/>
            <a:ext cx="1859040" cy="171612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Ейфеле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веж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олилиния 16"/>
          <p:cNvSpPr/>
          <p:nvPr/>
        </p:nvSpPr>
        <p:spPr>
          <a:xfrm rot="21312000">
            <a:off x="4298760" y="352440"/>
            <a:ext cx="2900160" cy="2201760"/>
          </a:xfrm>
          <a:custGeom>
            <a:avLst/>
            <a:gdLst/>
            <a:ahLst/>
            <a:rect l="l" t="t" r="r" b="b"/>
            <a:pathLst>
              <a:path w="2613573" h="2325543">
                <a:moveTo>
                  <a:pt x="943897" y="341412"/>
                </a:moveTo>
                <a:cubicBezTo>
                  <a:pt x="977712" y="239964"/>
                  <a:pt x="931459" y="363179"/>
                  <a:pt x="1002890" y="238174"/>
                </a:cubicBezTo>
                <a:cubicBezTo>
                  <a:pt x="1010603" y="224676"/>
                  <a:pt x="1006645" y="204921"/>
                  <a:pt x="1017638" y="193928"/>
                </a:cubicBezTo>
                <a:cubicBezTo>
                  <a:pt x="1033184" y="178382"/>
                  <a:pt x="1057543" y="175340"/>
                  <a:pt x="1076632" y="164432"/>
                </a:cubicBezTo>
                <a:cubicBezTo>
                  <a:pt x="1092022" y="155638"/>
                  <a:pt x="1104679" y="142134"/>
                  <a:pt x="1120877" y="134935"/>
                </a:cubicBezTo>
                <a:cubicBezTo>
                  <a:pt x="1149290" y="122307"/>
                  <a:pt x="1209368" y="105438"/>
                  <a:pt x="1209368" y="105438"/>
                </a:cubicBezTo>
                <a:cubicBezTo>
                  <a:pt x="1325188" y="114348"/>
                  <a:pt x="1377703" y="110652"/>
                  <a:pt x="1474838" y="134935"/>
                </a:cubicBezTo>
                <a:cubicBezTo>
                  <a:pt x="1489920" y="138705"/>
                  <a:pt x="1504335" y="144767"/>
                  <a:pt x="1519084" y="149683"/>
                </a:cubicBezTo>
                <a:cubicBezTo>
                  <a:pt x="1584274" y="144468"/>
                  <a:pt x="1967006" y="0"/>
                  <a:pt x="1873045" y="164432"/>
                </a:cubicBezTo>
                <a:cubicBezTo>
                  <a:pt x="1860850" y="185774"/>
                  <a:pt x="1843548" y="203761"/>
                  <a:pt x="1828800" y="223425"/>
                </a:cubicBezTo>
                <a:cubicBezTo>
                  <a:pt x="1766324" y="442090"/>
                  <a:pt x="1831857" y="236733"/>
                  <a:pt x="1769806" y="385657"/>
                </a:cubicBezTo>
                <a:cubicBezTo>
                  <a:pt x="1753651" y="424430"/>
                  <a:pt x="1741716" y="464872"/>
                  <a:pt x="1725561" y="503645"/>
                </a:cubicBezTo>
                <a:cubicBezTo>
                  <a:pt x="1708872" y="543698"/>
                  <a:pt x="1682644" y="590807"/>
                  <a:pt x="1651819" y="621632"/>
                </a:cubicBezTo>
                <a:cubicBezTo>
                  <a:pt x="1634438" y="639013"/>
                  <a:pt x="1612490" y="651129"/>
                  <a:pt x="1592826" y="665877"/>
                </a:cubicBezTo>
                <a:cubicBezTo>
                  <a:pt x="1664992" y="738043"/>
                  <a:pt x="1603631" y="691858"/>
                  <a:pt x="1696064" y="724870"/>
                </a:cubicBezTo>
                <a:cubicBezTo>
                  <a:pt x="1748026" y="743428"/>
                  <a:pt x="1915598" y="817995"/>
                  <a:pt x="1976284" y="828109"/>
                </a:cubicBezTo>
                <a:lnTo>
                  <a:pt x="2064774" y="842857"/>
                </a:lnTo>
                <a:cubicBezTo>
                  <a:pt x="2094271" y="852689"/>
                  <a:pt x="2122645" y="866951"/>
                  <a:pt x="2153264" y="872354"/>
                </a:cubicBezTo>
                <a:cubicBezTo>
                  <a:pt x="2206738" y="881791"/>
                  <a:pt x="2266929" y="862819"/>
                  <a:pt x="2315497" y="887103"/>
                </a:cubicBezTo>
                <a:cubicBezTo>
                  <a:pt x="2333627" y="896168"/>
                  <a:pt x="2310592" y="928377"/>
                  <a:pt x="2300748" y="946096"/>
                </a:cubicBezTo>
                <a:cubicBezTo>
                  <a:pt x="2285461" y="973613"/>
                  <a:pt x="2257950" y="992845"/>
                  <a:pt x="2241755" y="1019838"/>
                </a:cubicBezTo>
                <a:cubicBezTo>
                  <a:pt x="2228134" y="1042539"/>
                  <a:pt x="2224098" y="1069901"/>
                  <a:pt x="2212258" y="1093580"/>
                </a:cubicBezTo>
                <a:cubicBezTo>
                  <a:pt x="2199438" y="1119219"/>
                  <a:pt x="2180833" y="1141683"/>
                  <a:pt x="2168013" y="1167322"/>
                </a:cubicBezTo>
                <a:cubicBezTo>
                  <a:pt x="2140954" y="1221440"/>
                  <a:pt x="2171923" y="1213875"/>
                  <a:pt x="2109019" y="1255812"/>
                </a:cubicBezTo>
                <a:cubicBezTo>
                  <a:pt x="2089581" y="1268771"/>
                  <a:pt x="2001673" y="1283181"/>
                  <a:pt x="1991032" y="1285309"/>
                </a:cubicBezTo>
                <a:cubicBezTo>
                  <a:pt x="2020529" y="1290225"/>
                  <a:pt x="2050331" y="1293570"/>
                  <a:pt x="2079522" y="1300057"/>
                </a:cubicBezTo>
                <a:cubicBezTo>
                  <a:pt x="2105532" y="1305837"/>
                  <a:pt x="2183156" y="1338562"/>
                  <a:pt x="2197509" y="1344303"/>
                </a:cubicBezTo>
                <a:cubicBezTo>
                  <a:pt x="2267223" y="1414016"/>
                  <a:pt x="2299585" y="1463732"/>
                  <a:pt x="2374490" y="1506535"/>
                </a:cubicBezTo>
                <a:cubicBezTo>
                  <a:pt x="2393579" y="1517443"/>
                  <a:pt x="2414395" y="1525124"/>
                  <a:pt x="2433484" y="1536032"/>
                </a:cubicBezTo>
                <a:cubicBezTo>
                  <a:pt x="2513537" y="1581776"/>
                  <a:pt x="2440853" y="1553235"/>
                  <a:pt x="2521974" y="1580277"/>
                </a:cubicBezTo>
                <a:cubicBezTo>
                  <a:pt x="2536722" y="1599941"/>
                  <a:pt x="2550222" y="1620607"/>
                  <a:pt x="2566219" y="1639270"/>
                </a:cubicBezTo>
                <a:cubicBezTo>
                  <a:pt x="2579793" y="1655106"/>
                  <a:pt x="2607514" y="1662868"/>
                  <a:pt x="2610464" y="1683516"/>
                </a:cubicBezTo>
                <a:cubicBezTo>
                  <a:pt x="2613573" y="1705280"/>
                  <a:pt x="2591876" y="1723420"/>
                  <a:pt x="2580968" y="1742509"/>
                </a:cubicBezTo>
                <a:cubicBezTo>
                  <a:pt x="2543307" y="1808415"/>
                  <a:pt x="2512298" y="1825927"/>
                  <a:pt x="2448232" y="1889993"/>
                </a:cubicBezTo>
                <a:lnTo>
                  <a:pt x="2256503" y="2081722"/>
                </a:lnTo>
                <a:cubicBezTo>
                  <a:pt x="2226086" y="2112139"/>
                  <a:pt x="2179136" y="2164651"/>
                  <a:pt x="2138516" y="2184961"/>
                </a:cubicBezTo>
                <a:cubicBezTo>
                  <a:pt x="1985078" y="2261680"/>
                  <a:pt x="2000644" y="2252185"/>
                  <a:pt x="1873045" y="2273451"/>
                </a:cubicBezTo>
                <a:cubicBezTo>
                  <a:pt x="1848464" y="2283283"/>
                  <a:pt x="1825750" y="2301746"/>
                  <a:pt x="1799303" y="2302948"/>
                </a:cubicBezTo>
                <a:cubicBezTo>
                  <a:pt x="1697079" y="2307594"/>
                  <a:pt x="1540371" y="2325543"/>
                  <a:pt x="1460090" y="2229206"/>
                </a:cubicBezTo>
                <a:cubicBezTo>
                  <a:pt x="1270402" y="2001582"/>
                  <a:pt x="1461851" y="2245056"/>
                  <a:pt x="1356851" y="2081722"/>
                </a:cubicBezTo>
                <a:cubicBezTo>
                  <a:pt x="1324401" y="2031244"/>
                  <a:pt x="1253613" y="1934238"/>
                  <a:pt x="1253613" y="1934238"/>
                </a:cubicBezTo>
                <a:cubicBezTo>
                  <a:pt x="1237622" y="1966219"/>
                  <a:pt x="1216602" y="2001307"/>
                  <a:pt x="1209368" y="2037477"/>
                </a:cubicBezTo>
                <a:cubicBezTo>
                  <a:pt x="1207406" y="2047286"/>
                  <a:pt x="1198910" y="2156403"/>
                  <a:pt x="1179871" y="2184961"/>
                </a:cubicBezTo>
                <a:cubicBezTo>
                  <a:pt x="1168302" y="2202315"/>
                  <a:pt x="1152980" y="2217637"/>
                  <a:pt x="1135626" y="2229206"/>
                </a:cubicBezTo>
                <a:cubicBezTo>
                  <a:pt x="1122691" y="2237829"/>
                  <a:pt x="1106129" y="2239038"/>
                  <a:pt x="1091380" y="2243954"/>
                </a:cubicBezTo>
                <a:cubicBezTo>
                  <a:pt x="1076632" y="2234122"/>
                  <a:pt x="1062525" y="2223251"/>
                  <a:pt x="1047135" y="2214457"/>
                </a:cubicBezTo>
                <a:cubicBezTo>
                  <a:pt x="1028046" y="2203549"/>
                  <a:pt x="1005032" y="2199036"/>
                  <a:pt x="988142" y="2184961"/>
                </a:cubicBezTo>
                <a:cubicBezTo>
                  <a:pt x="974525" y="2173614"/>
                  <a:pt x="971179" y="2153250"/>
                  <a:pt x="958645" y="2140716"/>
                </a:cubicBezTo>
                <a:cubicBezTo>
                  <a:pt x="946111" y="2128182"/>
                  <a:pt x="929148" y="2121051"/>
                  <a:pt x="914400" y="2111219"/>
                </a:cubicBezTo>
                <a:cubicBezTo>
                  <a:pt x="909484" y="2096471"/>
                  <a:pt x="905110" y="2081530"/>
                  <a:pt x="899651" y="2066974"/>
                </a:cubicBezTo>
                <a:cubicBezTo>
                  <a:pt x="890355" y="2042186"/>
                  <a:pt x="876976" y="2018812"/>
                  <a:pt x="870155" y="1993232"/>
                </a:cubicBezTo>
                <a:cubicBezTo>
                  <a:pt x="857237" y="1944790"/>
                  <a:pt x="850490" y="1894909"/>
                  <a:pt x="840658" y="1845748"/>
                </a:cubicBezTo>
                <a:cubicBezTo>
                  <a:pt x="834560" y="1815259"/>
                  <a:pt x="820993" y="1786754"/>
                  <a:pt x="811161" y="1757257"/>
                </a:cubicBezTo>
                <a:cubicBezTo>
                  <a:pt x="806245" y="1742509"/>
                  <a:pt x="811161" y="1717928"/>
                  <a:pt x="796413" y="1713012"/>
                </a:cubicBezTo>
                <a:lnTo>
                  <a:pt x="752168" y="1698264"/>
                </a:lnTo>
                <a:cubicBezTo>
                  <a:pt x="717755" y="1708096"/>
                  <a:pt x="684704" y="1726739"/>
                  <a:pt x="648929" y="1727761"/>
                </a:cubicBezTo>
                <a:cubicBezTo>
                  <a:pt x="334117" y="1736755"/>
                  <a:pt x="348618" y="1735540"/>
                  <a:pt x="162232" y="1698264"/>
                </a:cubicBezTo>
                <a:cubicBezTo>
                  <a:pt x="88491" y="1649103"/>
                  <a:pt x="127818" y="1683514"/>
                  <a:pt x="58993" y="1580277"/>
                </a:cubicBezTo>
                <a:lnTo>
                  <a:pt x="29497" y="1536032"/>
                </a:lnTo>
                <a:lnTo>
                  <a:pt x="0" y="1491787"/>
                </a:lnTo>
                <a:cubicBezTo>
                  <a:pt x="8658" y="1448498"/>
                  <a:pt x="12489" y="1413485"/>
                  <a:pt x="29497" y="1373799"/>
                </a:cubicBezTo>
                <a:cubicBezTo>
                  <a:pt x="38157" y="1353591"/>
                  <a:pt x="46214" y="1332696"/>
                  <a:pt x="58993" y="1314806"/>
                </a:cubicBezTo>
                <a:cubicBezTo>
                  <a:pt x="71116" y="1297834"/>
                  <a:pt x="90970" y="1287429"/>
                  <a:pt x="103238" y="1270561"/>
                </a:cubicBezTo>
                <a:cubicBezTo>
                  <a:pt x="238912" y="1084009"/>
                  <a:pt x="121304" y="1208250"/>
                  <a:pt x="221226" y="1108328"/>
                </a:cubicBezTo>
                <a:cubicBezTo>
                  <a:pt x="231058" y="1078831"/>
                  <a:pt x="236817" y="1047648"/>
                  <a:pt x="250722" y="1019838"/>
                </a:cubicBezTo>
                <a:cubicBezTo>
                  <a:pt x="302895" y="915494"/>
                  <a:pt x="276675" y="958788"/>
                  <a:pt x="324464" y="887103"/>
                </a:cubicBezTo>
                <a:cubicBezTo>
                  <a:pt x="329380" y="867438"/>
                  <a:pt x="332803" y="847339"/>
                  <a:pt x="339213" y="828109"/>
                </a:cubicBezTo>
                <a:cubicBezTo>
                  <a:pt x="360088" y="765483"/>
                  <a:pt x="382865" y="726056"/>
                  <a:pt x="412955" y="665877"/>
                </a:cubicBezTo>
                <a:cubicBezTo>
                  <a:pt x="417871" y="641296"/>
                  <a:pt x="417522" y="615042"/>
                  <a:pt x="427703" y="592135"/>
                </a:cubicBezTo>
                <a:cubicBezTo>
                  <a:pt x="437686" y="569673"/>
                  <a:pt x="457661" y="553143"/>
                  <a:pt x="471948" y="533141"/>
                </a:cubicBezTo>
                <a:cubicBezTo>
                  <a:pt x="482251" y="518717"/>
                  <a:pt x="488911" y="501430"/>
                  <a:pt x="501445" y="488896"/>
                </a:cubicBezTo>
                <a:cubicBezTo>
                  <a:pt x="513979" y="476362"/>
                  <a:pt x="533156" y="471933"/>
                  <a:pt x="545690" y="459399"/>
                </a:cubicBezTo>
                <a:cubicBezTo>
                  <a:pt x="563071" y="442018"/>
                  <a:pt x="572554" y="417787"/>
                  <a:pt x="589935" y="400406"/>
                </a:cubicBezTo>
                <a:cubicBezTo>
                  <a:pt x="602469" y="387872"/>
                  <a:pt x="620563" y="382256"/>
                  <a:pt x="634180" y="370909"/>
                </a:cubicBezTo>
                <a:cubicBezTo>
                  <a:pt x="692929" y="321952"/>
                  <a:pt x="694745" y="280378"/>
                  <a:pt x="796413" y="267670"/>
                </a:cubicBezTo>
                <a:lnTo>
                  <a:pt x="914400" y="252922"/>
                </a:lnTo>
                <a:lnTo>
                  <a:pt x="973393" y="26767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1c66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олилиния 18"/>
          <p:cNvSpPr/>
          <p:nvPr/>
        </p:nvSpPr>
        <p:spPr>
          <a:xfrm>
            <a:off x="5413320" y="615960"/>
            <a:ext cx="432000" cy="239760"/>
          </a:xfrm>
          <a:custGeom>
            <a:avLst/>
            <a:gdLst/>
            <a:ahLst/>
            <a:rect l="l" t="t" r="r" b="b"/>
            <a:pathLst>
              <a:path w="431794" h="240065">
                <a:moveTo>
                  <a:pt x="0" y="240065"/>
                </a:moveTo>
                <a:cubicBezTo>
                  <a:pt x="54077" y="235149"/>
                  <a:pt x="108758" y="234754"/>
                  <a:pt x="162232" y="225317"/>
                </a:cubicBezTo>
                <a:cubicBezTo>
                  <a:pt x="192851" y="219914"/>
                  <a:pt x="250723" y="195820"/>
                  <a:pt x="250723" y="195820"/>
                </a:cubicBezTo>
                <a:cubicBezTo>
                  <a:pt x="320236" y="91548"/>
                  <a:pt x="229453" y="217090"/>
                  <a:pt x="339213" y="107330"/>
                </a:cubicBezTo>
                <a:cubicBezTo>
                  <a:pt x="356594" y="89949"/>
                  <a:pt x="366077" y="65717"/>
                  <a:pt x="383458" y="48336"/>
                </a:cubicBezTo>
                <a:cubicBezTo>
                  <a:pt x="431794" y="0"/>
                  <a:pt x="427703" y="41034"/>
                  <a:pt x="427703" y="4091"/>
                </a:cubicBezTo>
              </a:path>
            </a:pathLst>
          </a:custGeom>
          <a:noFill/>
          <a:ln w="25560">
            <a:solidFill>
              <a:srgbClr val="125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олилиния 19"/>
          <p:cNvSpPr/>
          <p:nvPr/>
        </p:nvSpPr>
        <p:spPr>
          <a:xfrm rot="17850600">
            <a:off x="5327280" y="1318680"/>
            <a:ext cx="576360" cy="560520"/>
          </a:xfrm>
          <a:custGeom>
            <a:avLst/>
            <a:gdLst/>
            <a:ahLst/>
            <a:rect l="l" t="t" r="r" b="b"/>
            <a:pathLst>
              <a:path w="431794" h="240065">
                <a:moveTo>
                  <a:pt x="0" y="240065"/>
                </a:moveTo>
                <a:cubicBezTo>
                  <a:pt x="54077" y="235149"/>
                  <a:pt x="108758" y="234754"/>
                  <a:pt x="162232" y="225317"/>
                </a:cubicBezTo>
                <a:cubicBezTo>
                  <a:pt x="192851" y="219914"/>
                  <a:pt x="250723" y="195820"/>
                  <a:pt x="250723" y="195820"/>
                </a:cubicBezTo>
                <a:cubicBezTo>
                  <a:pt x="320236" y="91548"/>
                  <a:pt x="229453" y="217090"/>
                  <a:pt x="339213" y="107330"/>
                </a:cubicBezTo>
                <a:cubicBezTo>
                  <a:pt x="356594" y="89949"/>
                  <a:pt x="366077" y="65717"/>
                  <a:pt x="383458" y="48336"/>
                </a:cubicBezTo>
                <a:cubicBezTo>
                  <a:pt x="431794" y="0"/>
                  <a:pt x="427703" y="41034"/>
                  <a:pt x="427703" y="4091"/>
                </a:cubicBezTo>
              </a:path>
            </a:pathLst>
          </a:custGeom>
          <a:noFill/>
          <a:ln w="25560">
            <a:solidFill>
              <a:srgbClr val="125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олилиния 20"/>
          <p:cNvSpPr/>
          <p:nvPr/>
        </p:nvSpPr>
        <p:spPr>
          <a:xfrm rot="1083600">
            <a:off x="5884560" y="1160640"/>
            <a:ext cx="617400" cy="274320"/>
          </a:xfrm>
          <a:custGeom>
            <a:avLst/>
            <a:gdLst/>
            <a:ahLst/>
            <a:rect l="l" t="t" r="r" b="b"/>
            <a:pathLst>
              <a:path w="431794" h="240065">
                <a:moveTo>
                  <a:pt x="0" y="240065"/>
                </a:moveTo>
                <a:cubicBezTo>
                  <a:pt x="54077" y="235149"/>
                  <a:pt x="108758" y="234754"/>
                  <a:pt x="162232" y="225317"/>
                </a:cubicBezTo>
                <a:cubicBezTo>
                  <a:pt x="192851" y="219914"/>
                  <a:pt x="250723" y="195820"/>
                  <a:pt x="250723" y="195820"/>
                </a:cubicBezTo>
                <a:cubicBezTo>
                  <a:pt x="320236" y="91548"/>
                  <a:pt x="229453" y="217090"/>
                  <a:pt x="339213" y="107330"/>
                </a:cubicBezTo>
                <a:cubicBezTo>
                  <a:pt x="356594" y="89949"/>
                  <a:pt x="366077" y="65717"/>
                  <a:pt x="383458" y="48336"/>
                </a:cubicBezTo>
                <a:cubicBezTo>
                  <a:pt x="431794" y="0"/>
                  <a:pt x="427703" y="41034"/>
                  <a:pt x="427703" y="4091"/>
                </a:cubicBezTo>
              </a:path>
            </a:pathLst>
          </a:custGeom>
          <a:noFill/>
          <a:ln w="25560">
            <a:solidFill>
              <a:srgbClr val="125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Овал 24"/>
          <p:cNvSpPr/>
          <p:nvPr/>
        </p:nvSpPr>
        <p:spPr>
          <a:xfrm>
            <a:off x="3857760" y="3786120"/>
            <a:ext cx="1643040" cy="171468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Високий рівен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добробу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eiffel 1"/>
          <p:cNvPicPr/>
          <p:nvPr/>
        </p:nvPicPr>
        <p:blipFill>
          <a:blip r:embed="rId2"/>
          <a:stretch/>
        </p:blipFill>
        <p:spPr>
          <a:xfrm>
            <a:off x="7156440" y="2523960"/>
            <a:ext cx="1994040" cy="4340520"/>
          </a:xfrm>
          <a:prstGeom prst="rect">
            <a:avLst/>
          </a:prstGeom>
          <a:ln w="0">
            <a:noFill/>
          </a:ln>
        </p:spPr>
      </p:pic>
      <p:sp>
        <p:nvSpPr>
          <p:cNvPr id="120" name="Полилиния 17"/>
          <p:cNvSpPr/>
          <p:nvPr/>
        </p:nvSpPr>
        <p:spPr>
          <a:xfrm>
            <a:off x="3924360" y="819000"/>
            <a:ext cx="934920" cy="449280"/>
          </a:xfrm>
          <a:custGeom>
            <a:avLst/>
            <a:gdLst/>
            <a:ahLst/>
            <a:rect l="l" t="t" r="r" b="b"/>
            <a:pathLst>
              <a:path w="971514" h="532262">
                <a:moveTo>
                  <a:pt x="971514" y="0"/>
                </a:moveTo>
                <a:cubicBezTo>
                  <a:pt x="871430" y="4549"/>
                  <a:pt x="771131" y="5658"/>
                  <a:pt x="671263" y="13647"/>
                </a:cubicBezTo>
                <a:cubicBezTo>
                  <a:pt x="656923" y="14794"/>
                  <a:pt x="644363" y="24174"/>
                  <a:pt x="630320" y="27295"/>
                </a:cubicBezTo>
                <a:cubicBezTo>
                  <a:pt x="329155" y="94222"/>
                  <a:pt x="711371" y="208"/>
                  <a:pt x="493842" y="54591"/>
                </a:cubicBezTo>
                <a:cubicBezTo>
                  <a:pt x="480194" y="63689"/>
                  <a:pt x="467888" y="75224"/>
                  <a:pt x="452899" y="81886"/>
                </a:cubicBezTo>
                <a:cubicBezTo>
                  <a:pt x="426607" y="93571"/>
                  <a:pt x="394952" y="93222"/>
                  <a:pt x="371012" y="109182"/>
                </a:cubicBezTo>
                <a:cubicBezTo>
                  <a:pt x="343717" y="127379"/>
                  <a:pt x="312323" y="140577"/>
                  <a:pt x="289126" y="163773"/>
                </a:cubicBezTo>
                <a:cubicBezTo>
                  <a:pt x="195641" y="257257"/>
                  <a:pt x="239357" y="224246"/>
                  <a:pt x="166296" y="272955"/>
                </a:cubicBezTo>
                <a:cubicBezTo>
                  <a:pt x="157198" y="286603"/>
                  <a:pt x="150599" y="302300"/>
                  <a:pt x="139001" y="313898"/>
                </a:cubicBezTo>
                <a:cubicBezTo>
                  <a:pt x="127402" y="325497"/>
                  <a:pt x="108304" y="328386"/>
                  <a:pt x="98057" y="341194"/>
                </a:cubicBezTo>
                <a:cubicBezTo>
                  <a:pt x="89070" y="352427"/>
                  <a:pt x="90844" y="369270"/>
                  <a:pt x="84410" y="382137"/>
                </a:cubicBezTo>
                <a:cubicBezTo>
                  <a:pt x="77075" y="396808"/>
                  <a:pt x="65252" y="408839"/>
                  <a:pt x="57114" y="423080"/>
                </a:cubicBezTo>
                <a:cubicBezTo>
                  <a:pt x="47020" y="440744"/>
                  <a:pt x="39912" y="460007"/>
                  <a:pt x="29818" y="477671"/>
                </a:cubicBezTo>
                <a:cubicBezTo>
                  <a:pt x="0" y="529853"/>
                  <a:pt x="2523" y="500145"/>
                  <a:pt x="2523" y="532262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0:48:50Z</dcterms:created>
  <dc:creator>Admin</dc:creator>
  <dc:description/>
  <dc:language>en-US</dc:language>
  <cp:lastModifiedBy>Admin</cp:lastModifiedBy>
  <dcterms:modified xsi:type="dcterms:W3CDTF">2014-09-04T05:52:17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c000000000001024140</vt:lpwstr>
  </property>
</Properties>
</file>