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8F0-107E-4108-980D-FA317233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220-891F-4D52-83EF-C9F4134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9C7-9B05-4A72-A919-32AC3E60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F81-A348-46D7-BE51-BA704FC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202-F71D-489E-ADB2-176C73A0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FAF-D82F-4212-8895-1CB7F7CB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03E-6881-4D17-B784-5AF1EA91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026-16D8-4D8F-AC03-053480C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BCF-5722-4170-8B3D-A7A4BCA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232-9FBE-4C7D-8550-611801A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773-5FDE-4B7D-9E5E-669393B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510-A971-4A11-93EB-F6FFF02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503B-653D-4163-ADCE-0D0BC6C15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017720"/>
            <a:ext cx="769932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2236680" y="3938760"/>
            <a:ext cx="46767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питання-малюнок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) Які форми рельєфу зображено на малюнку-схемі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) Чим відрізняються ці форми рельєф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) Наведіть приклад кожної з них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8" b="208"/>
          <a:stretch/>
        </p:blipFill>
        <p:spPr>
          <a:xfrm>
            <a:off x="228600" y="3733920"/>
            <a:ext cx="85597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ль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єф дна Світового оке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-64"/>
          <a:stretch/>
        </p:blipFill>
        <p:spPr>
          <a:xfrm>
            <a:off x="457200" y="1828800"/>
            <a:ext cx="82296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питання для роботи в пара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кі форми рельєфу є планетарни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Материки і оке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Які основні форми рельєф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Гори і рівн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Чи є гори і рівнини на дні океа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Так, вирівняну частину ложа океану можна назвати рівнин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) Який тип земної кори під океан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Океаніч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) Позначити на малюнку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-схемі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де який тип земної кор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) Територія на якій поширений материковий тип земної кор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Матер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7) Затоплена частина материк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Шельф (0 – 200 м) і материковий схил (200 – 4 000 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8) Тріщини у земній корі по яких розходяться літосферні пли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Arial"/>
              </a:rPr>
              <a:t>Рифтова з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питання для роботи в па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) Територі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іж ложем океану і материком у місці зіткнення літосферних плит з материкового і океанічного типу будовою земної кор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ерехідна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) 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т вулканічного походження, що утворився в рифтовій зоні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Серединноокеанічний хре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1) 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т, утворений в результаті зминання окраїни материка у складки під час зіткнення літосферних плит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ідводний складчастий хре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2)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ідводний складчастий хребет у перехідній зоні, який виступає на поверхню вод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Острівна 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3) 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ина материка, затоплена океаном і відмежована від відкритого океану острівною дугою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Окраїнн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4) 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ина перехідної зони з зануреною під материкову океанічною земною кор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Глибоководний жол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5) Частина літосфери з земною корою океанічного типу і вирівняною поверхн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Ложе оке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працювати § 17, заповнити таблицю, поставивши знак «+», у колонку при наявності такої форми рельєф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*Скласти ребуси за темою «Рельєф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895480"/>
          <a:ext cx="8077320" cy="18288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 рельєф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ді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вн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олоб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Зна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форми рельєфу Оке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міти: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одити приклади і показуват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арті різноманітні форми рельєфу Оке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яснювати причини виникнення тих 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нших форм рельєфу Оке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ацювати у групі (команді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бговорювати пробле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осити пропозиції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налізувати навчальний матері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атизувати отримані знан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бити 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Цінувати: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віру одноклас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Кросворд «Рельє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762120"/>
          <a:ext cx="7238880" cy="5790960"/>
        </p:xfrm>
        <a:graphic>
          <a:graphicData uri="http://schemas.openxmlformats.org/drawingml/2006/table">
            <a:tbl>
              <a:tblPr/>
              <a:tblGrid>
                <a:gridCol w="347400"/>
                <a:gridCol w="339840"/>
                <a:gridCol w="347760"/>
                <a:gridCol w="342720"/>
                <a:gridCol w="347760"/>
                <a:gridCol w="339840"/>
                <a:gridCol w="347400"/>
                <a:gridCol w="347760"/>
                <a:gridCol w="339840"/>
                <a:gridCol w="347760"/>
                <a:gridCol w="342720"/>
                <a:gridCol w="347760"/>
                <a:gridCol w="339480"/>
                <a:gridCol w="347760"/>
                <a:gridCol w="347760"/>
                <a:gridCol w="339840"/>
                <a:gridCol w="347400"/>
                <a:gridCol w="343080"/>
                <a:gridCol w="347760"/>
                <a:gridCol w="339480"/>
                <a:gridCol w="347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Кросворд «Рельє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838080"/>
          <a:ext cx="7238880" cy="5791320"/>
        </p:xfrm>
        <a:graphic>
          <a:graphicData uri="http://schemas.openxmlformats.org/drawingml/2006/table">
            <a:tbl>
              <a:tblPr/>
              <a:tblGrid>
                <a:gridCol w="345960"/>
                <a:gridCol w="343080"/>
                <a:gridCol w="345960"/>
                <a:gridCol w="343080"/>
                <a:gridCol w="345960"/>
                <a:gridCol w="342720"/>
                <a:gridCol w="346320"/>
                <a:gridCol w="345960"/>
                <a:gridCol w="343080"/>
                <a:gridCol w="345960"/>
                <a:gridCol w="342720"/>
                <a:gridCol w="346320"/>
                <a:gridCol w="342720"/>
                <a:gridCol w="346320"/>
                <a:gridCol w="345960"/>
                <a:gridCol w="342720"/>
                <a:gridCol w="346320"/>
                <a:gridCol w="342720"/>
                <a:gridCol w="346320"/>
                <a:gridCol w="342720"/>
                <a:gridCol w="345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d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9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Фотозавданн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 яких рівнин за зовнішнім вигля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лежить рівнина на фот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105.r.photoshare.ru/01052/00a08adf171a1f99edba01e77c27e1e0c6791f9f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143000" y="2249640"/>
            <a:ext cx="708660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отозавд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ори з плоскими вершинами, урвист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бо східчастими схилами, альпійськ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кладчастост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міще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Украї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crimea-tour.ru/volsheb_krym/ai_petri_3.JPG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отозавдання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ори з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шпиляст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ерш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узь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ірсь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щелин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сок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 віком є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alpclub.com.ua/sites/default/files/images/stati/pik_klary_tsetkin.jpg"/>
          <p:cNvPicPr/>
          <p:nvPr/>
        </p:nvPicPr>
        <p:blipFill>
          <a:blip r:embed="rId1"/>
          <a:stretch/>
        </p:blipFill>
        <p:spPr>
          <a:xfrm>
            <a:off x="2666880" y="1295280"/>
            <a:ext cx="61722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отозавданн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изовина, утворена річковими наносами за походженням належить до..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geomasters.ru/wp-content/uploads/zrclip-019n4e16a096.png"/>
          <p:cNvPicPr/>
          <p:nvPr/>
        </p:nvPicPr>
        <p:blipFill>
          <a:blip r:embed="rId1"/>
          <a:stretch/>
        </p:blipFill>
        <p:spPr>
          <a:xfrm>
            <a:off x="1219320" y="1905120"/>
            <a:ext cx="65786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питання-малюно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) Які гори за походженням зображені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юнку-схемі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) До яких гі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 віком в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леж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) Наведі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кл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аких гір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5737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3-10-20T12:13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20000000000001024140</vt:lpwstr>
  </property>
  <property fmtid="{D5CDD505-2E9C-101B-9397-08002B2CF9AE}" pid="3" name="Version">
    <vt:r8>1</vt:r8>
  </property>
</Properties>
</file>