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1.jpeg" ContentType="image/jpeg"/>
  <Override PartName="/ppt/media/image29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31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FB1-2C7B-4B49-85F2-3FAA5FE0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45E-DACD-4C1B-9B0C-C46C56DF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257-1451-4C66-95CA-70782924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513-5EE2-48FD-AFFB-FED49273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C452-55BB-4826-A578-10A17494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4A99-9147-4007-B37F-3DC9A14E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F89D-1D93-4026-8DD9-5852158E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08CB-D1B7-4EF2-8CCA-B4C89D20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FBD1-A0C6-44B3-B522-8BF9B49F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0BCE-9A91-44D1-A381-40D121CF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DE71-2D6B-40C0-B313-1ECED025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CB1-27BC-4A7C-9866-7AAB40CE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32F7-B402-44FB-ACB5-E933C9EB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25B7-FEC5-437F-A54A-B340C96A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DF03-39F3-4818-9AC7-98042E10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F934-9541-41EE-8FCC-01E27518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C26D-0592-4762-9603-97B23BC4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E6B25-317E-446E-96A5-97D43D5A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55560-D245-4D09-8817-2EC41956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23539-C129-449A-BF5F-9221F8B2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73AE4-5BD1-48FD-B7F0-EA71ADC8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3E54D-FA22-4275-8BFD-2AC1A38C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9533-49CF-4BF7-8EB2-02B5BB69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06216-2900-425F-954F-472483F6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47266-7D6C-4FC3-8349-14178AE1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CDF0E-C8E2-4F24-8B30-1B10B52D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6250B-ABEC-4A82-87D0-15245702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6064F-A221-4778-839F-06C44085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571B3-106B-402A-8598-F909CA65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D7DB7-51BA-4DF4-A70E-84DE9F02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C526C-31B8-4679-958F-CBCF8D8B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DE6D9-5F6E-4559-973D-C430678A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F6940-A1DA-4483-AEB0-4BBDCBE2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5B4F-91B1-4FED-BC3E-FF3FE4C7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FAF75-DEFB-4C85-8B71-5B54B521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87438-EF1B-47AD-913E-F92AE29D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47FC0-58C3-41E0-9236-EB6B9EDB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F437A-1511-4C71-B9F5-B494C04F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47FE4-CB4C-4A77-9B96-A9A0E296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FA825-F2FB-477F-832D-89012DE8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EC792-8539-4D15-980C-23150B28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653CC-8A14-4C0A-A29C-39043D42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4ECE6-1DF9-4916-B80A-A0DC3A5C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711B3-FF9A-4EB9-B959-59ADB012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DBFB-2513-4473-9C5A-EEB31267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8429A-50D9-474E-B6A5-B89E3781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BC7FA-3881-4735-A589-20F8353A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83039-C457-4B11-B9AD-04627064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EEFE9-1811-47BC-B6FC-7C267375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337C8-6B59-437E-816E-95A388DF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7DA3D-A6FD-42D1-90CE-96C1003A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BA0F7-AC6E-4444-B053-BED80111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DE795-3985-4F77-AC5B-B7255AB9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AE8F4-6EAE-4AFE-AA8B-D51F5E40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52516-54D9-4861-ABD1-879C962B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277-9DD6-4F1F-A954-96273E62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F844F-CF7C-4D33-8A31-B27DB69E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E414C-EC4A-42B3-96D6-26000ED5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F1CB5-88A1-4673-BBC8-B6505AAB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6F1FB-1D31-4328-A976-C49A816D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A2808-6D85-4EDB-9B16-C47C831E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AFB06-60B2-4D8E-8190-F3B7B1ED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DAC1A-B95B-485A-AB4A-B9B62086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BD865-D5BC-4392-A874-23D89CCF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5E768-DB84-4B9A-9C80-4371E207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6693F-2DFC-4402-83C4-88C72C8B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92AE-AF46-4178-BF44-17789A34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2CF9D-DA5F-4757-BD01-94E1F17C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2D05D-4220-488F-83FB-12553DF4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45668-0A0F-492C-844F-76326513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C04-15EC-47FE-9E4F-7BF68E7A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E4C-24AC-4868-9F03-722C69AD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Users\malves\AppData\Local\Microsoft\Windows\Temporary Internet Files\Content.IE5\54I5HWCN\MPj0437247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86840" cy="687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26A9-10E6-4874-BDCA-42206B242768}" type="slidenum"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C:\Users\malves\AppData\Local\Microsoft\Windows\Temporary Internet Files\Content.IE5\54I5HWCN\MPj0437247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86840" cy="6870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malves\AppData\Local\Microsoft\Windows\Temporary Internet Files\Content.IE5\54I5HWCN\MPj04372470000[1].jpg"/>
          <p:cNvPicPr/>
          <p:nvPr/>
        </p:nvPicPr>
        <p:blipFill>
          <a:blip r:embed="rId3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01D1-1C91-40EC-91AB-04A81154CACC}" type="slidenum"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:\Users\malves\AppData\Local\Microsoft\Windows\Temporary Internet Files\Content.IE5\54I5HWCN\MPj0437247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86840" cy="6870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8BD5-C307-494D-9456-03B5CD84E7A6}" type="slidenum"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:\Users\malves\AppData\Local\Microsoft\Windows\Temporary Internet Files\Content.IE5\54I5HWCN\MPj0437247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86840" cy="68709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AD42-9B98-4BD2-A0A9-5A48A6BC382F}" type="slidenum"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C:\Users\malves\AppData\Local\Microsoft\Windows\Temporary Internet Files\Content.IE5\54I5HWCN\MPj0437247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86840" cy="68709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DDB3-7C5B-4A23-B146-880AA917EA8D}" type="slidenum"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C:\Users\malves\AppData\Local\Microsoft\Windows\Temporary Internet Files\Content.IE5\54I5HWCN\MPj0437247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86840" cy="68709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6FE8-782A-4B6B-96D4-ED6E76C31C42}" type="slidenum"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6" descr=""/>
          <p:cNvPicPr/>
          <p:nvPr/>
        </p:nvPicPr>
        <p:blipFill>
          <a:blip r:embed="rId1"/>
          <a:stretch/>
        </p:blipFill>
        <p:spPr>
          <a:xfrm>
            <a:off x="749160" y="530280"/>
            <a:ext cx="7785360" cy="15364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476360" y="2276280"/>
            <a:ext cx="64008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53735"/>
                </a:solidFill>
                <a:latin typeface="Times New Roman"/>
              </a:rPr>
              <a:t>Озера, озерні улоговини та їх утворенн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4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85840" y="1904760"/>
            <a:ext cx="36432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Утворилися в западинах, які після себе залишили льодовики. Такі озера мають велику протяжність, малу ширину та глиб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(Лох - Нес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7" descr="лох-несс"/>
          <p:cNvPicPr/>
          <p:nvPr/>
        </p:nvPicPr>
        <p:blipFill>
          <a:blip r:embed="rId2"/>
          <a:stretch/>
        </p:blipFill>
        <p:spPr>
          <a:xfrm>
            <a:off x="4214880" y="1643040"/>
            <a:ext cx="4667040" cy="350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8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Утворюються в долинах річок. При переміщені річка формує нове русло, , а ділянки старих втрачаючи зв’язок з новими перетворюються на озера.(багато в долинах річок Об, Єнісей, Лен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11" descr="Озеро старицы в пойме реки Олым"/>
          <p:cNvPicPr/>
          <p:nvPr/>
        </p:nvPicPr>
        <p:blipFill>
          <a:blip r:embed="rId2"/>
          <a:stretch/>
        </p:blipFill>
        <p:spPr>
          <a:xfrm>
            <a:off x="4643280" y="1714680"/>
            <a:ext cx="4259520" cy="44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4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Утворення внаслідок відокремлення від моря косою, або пересип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(найбільше в Україні - Сасик ; найбільше в світі – Маракайб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9" descr="маракайбо"/>
          <p:cNvPicPr/>
          <p:nvPr/>
        </p:nvPicPr>
        <p:blipFill>
          <a:blip r:embed="rId2"/>
          <a:stretch/>
        </p:blipFill>
        <p:spPr>
          <a:xfrm>
            <a:off x="4859280" y="1484280"/>
            <a:ext cx="3816360" cy="240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3" name="Picture 10" descr="иаракайбо 2"/>
          <p:cNvPicPr/>
          <p:nvPr/>
        </p:nvPicPr>
        <p:blipFill>
          <a:blip r:embed="rId3"/>
          <a:stretch/>
        </p:blipFill>
        <p:spPr>
          <a:xfrm>
            <a:off x="4857840" y="4038480"/>
            <a:ext cx="3786120" cy="247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8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354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Утворилися внаслідок перегородження річки під час гірських обвал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(Синеви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11" descr="Сарезьке"/>
          <p:cNvPicPr/>
          <p:nvPr/>
        </p:nvPicPr>
        <p:blipFill>
          <a:blip r:embed="rId2"/>
          <a:stretch/>
        </p:blipFill>
        <p:spPr>
          <a:xfrm>
            <a:off x="4143240" y="1643040"/>
            <a:ext cx="4537080" cy="373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695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28760" y="1928880"/>
            <a:ext cx="8229600" cy="20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рісні ( солоність до 1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  <a:ea typeface="Tahoma"/>
              </a:rPr>
              <a:t>‰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  <a:ea typeface="Tahoma"/>
              </a:rPr>
              <a:t>Солоні ( солоність до 47 ‰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4" descr=""/>
          <p:cNvPicPr/>
          <p:nvPr/>
        </p:nvPicPr>
        <p:blipFill>
          <a:blip r:embed="rId1"/>
          <a:stretch/>
        </p:blipFill>
        <p:spPr>
          <a:xfrm>
            <a:off x="450720" y="-189000"/>
            <a:ext cx="8242560" cy="18716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Розташоване в тектонічній западині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Tahoma"/>
              </a:rPr>
              <a:t>Концентрація солей 260 - 270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Tahoma"/>
              </a:rPr>
              <a:t>Річка Йордан єдине велике джерело, що живить річ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6" descr="мертве море"/>
          <p:cNvPicPr/>
          <p:nvPr/>
        </p:nvPicPr>
        <p:blipFill>
          <a:blip r:embed="rId2"/>
          <a:stretch/>
        </p:blipFill>
        <p:spPr>
          <a:xfrm>
            <a:off x="1619280" y="3357720"/>
            <a:ext cx="568944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2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Стічне                    Безстіч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Oval 4"/>
          <p:cNvSpPr/>
          <p:nvPr/>
        </p:nvSpPr>
        <p:spPr>
          <a:xfrm>
            <a:off x="900000" y="3500280"/>
            <a:ext cx="2519640" cy="12956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"/>
          <p:cNvSpPr/>
          <p:nvPr/>
        </p:nvSpPr>
        <p:spPr>
          <a:xfrm>
            <a:off x="1979640" y="2565360"/>
            <a:ext cx="360360" cy="936720"/>
          </a:xfrm>
          <a:prstGeom prst="downArrow">
            <a:avLst>
              <a:gd name="adj1" fmla="val 50000"/>
              <a:gd name="adj2" fmla="val 6498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2050920" y="4797360"/>
            <a:ext cx="287640" cy="865080"/>
          </a:xfrm>
          <a:prstGeom prst="downArrow">
            <a:avLst>
              <a:gd name="adj1" fmla="val 50000"/>
              <a:gd name="adj2" fmla="val 7518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0"/>
          <p:cNvSpPr/>
          <p:nvPr/>
        </p:nvSpPr>
        <p:spPr>
          <a:xfrm>
            <a:off x="6588000" y="2565360"/>
            <a:ext cx="289080" cy="934920"/>
          </a:xfrm>
          <a:prstGeom prst="downArrow">
            <a:avLst>
              <a:gd name="adj1" fmla="val 50000"/>
              <a:gd name="adj2" fmla="val 8085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1"/>
          <p:cNvSpPr/>
          <p:nvPr/>
        </p:nvSpPr>
        <p:spPr>
          <a:xfrm>
            <a:off x="6659640" y="4797360"/>
            <a:ext cx="288720" cy="936720"/>
          </a:xfrm>
          <a:prstGeom prst="upArrow">
            <a:avLst>
              <a:gd name="adj1" fmla="val 50000"/>
              <a:gd name="adj2" fmla="val 8111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5500800" y="3500280"/>
            <a:ext cx="2519280" cy="12956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463680" y="469800"/>
            <a:ext cx="8242200" cy="15969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457200" y="2205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Для водопостачання населення, зрошення, промисловост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ісце відпочинку та лікування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 сольоних озерах видобувають кухонну сі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озведення риб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а великих озерах на суднах перевозять різноманітні вантажі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11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тітікака"/>
          <p:cNvPicPr/>
          <p:nvPr/>
        </p:nvPicPr>
        <p:blipFill>
          <a:blip r:embed="rId2"/>
          <a:stretch/>
        </p:blipFill>
        <p:spPr>
          <a:xfrm>
            <a:off x="250920" y="1844640"/>
            <a:ext cx="4130640" cy="410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461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Найбільше за площею солоне озеро світу – Каспійсь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Найбільше за площею прісноводне озеро – Верхнє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Найглибше озеро – Байк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Найсолоніше озеро – Мертв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6840" y="1905120"/>
            <a:ext cx="6705720" cy="33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Чи досягли ми поставленої мет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Що вам найбільше запам'яталося на сьогоднішньому уроці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4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242560" cy="11890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571320" y="1499760"/>
            <a:ext cx="8072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Є люди закохані в сувору героїчність гір, у таємничу тишу лісів або в безмежжя вільних степів. А я люблю життєдайність води у будь - яких її проявах: у величній повільності великих рік, і в бурхливій нетямі гірських струмків, і в чистій пісні гірських струмків, і в загрозливому ревіння водопадів, і в чарівності блакитних озер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Б. Харч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258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Опрацювати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ahoma"/>
              </a:rPr>
              <a:t>§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47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запитання 1-5 ст. 205 (5 запитання письмово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означити на контурній карті Ст. 50-51 Озера ст.22 практичних зошиті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242560" cy="1189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39528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формувати поняття  “ озеро 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Ознайомити учнів з походження озерних улоговин та  їх живлення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одовжувати розвивати вміння працювати з картами атлас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озвивати вміння створювати образ об'єк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ховувати любов до природи, естетичне сприйняття навколишнього сві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534520" cy="11826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ічка починається з …, це може бути…. Вона тече поглибленням, що називається…, на шляху в неї впадають різні річки – це …. Разом з головною річкою вони утворюють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ісце впадіння річки в іншу річку, озеро або море називається…, деякі річки в цьому місці утворюють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438120" y="244440"/>
            <a:ext cx="8267760" cy="11826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ічка починається з </a:t>
            </a:r>
            <a:r>
              <a:rPr b="1" lang="uk-UA" sz="3200" spc="-1" strike="noStrike">
                <a:solidFill>
                  <a:srgbClr val="990000"/>
                </a:solidFill>
                <a:latin typeface="Calibri"/>
              </a:rPr>
              <a:t>витоку,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це може бути </a:t>
            </a:r>
            <a:r>
              <a:rPr b="1" lang="uk-UA" sz="3200" spc="-1" strike="noStrike">
                <a:solidFill>
                  <a:srgbClr val="990000"/>
                </a:solidFill>
                <a:latin typeface="Calibri"/>
              </a:rPr>
              <a:t>озеро, джерело, льодовик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. Вона тече поглибленням, що називається </a:t>
            </a:r>
            <a:r>
              <a:rPr b="1" lang="uk-UA" sz="3200" spc="-1" strike="noStrike">
                <a:solidFill>
                  <a:srgbClr val="990000"/>
                </a:solidFill>
                <a:latin typeface="Calibri"/>
              </a:rPr>
              <a:t>руслом річки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, на шляху в неї впадають різні річки – це </a:t>
            </a:r>
            <a:r>
              <a:rPr b="1" lang="uk-UA" sz="3200" spc="-1" strike="noStrike">
                <a:solidFill>
                  <a:srgbClr val="990000"/>
                </a:solidFill>
                <a:latin typeface="Calibri"/>
              </a:rPr>
              <a:t>притоки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. Разом з головною річкою вони утворюють </a:t>
            </a:r>
            <a:r>
              <a:rPr b="1" lang="uk-UA" sz="3200" spc="-1" strike="noStrike">
                <a:solidFill>
                  <a:srgbClr val="990000"/>
                </a:solidFill>
                <a:latin typeface="Calibri"/>
              </a:rPr>
              <a:t>річкову систе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ісце впадіння річки в іншу річку, озеро або море називається </a:t>
            </a:r>
            <a:r>
              <a:rPr b="1" lang="uk-UA" sz="3200" spc="-1" strike="noStrike">
                <a:solidFill>
                  <a:srgbClr val="990000"/>
                </a:solidFill>
                <a:latin typeface="Calibri"/>
              </a:rPr>
              <a:t>гирло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, деякі річки в цьому місці утворюють </a:t>
            </a:r>
            <a:r>
              <a:rPr b="1" lang="uk-UA" sz="3200" spc="-1" strike="noStrike">
                <a:solidFill>
                  <a:srgbClr val="990000"/>
                </a:solidFill>
                <a:latin typeface="Calibri"/>
              </a:rPr>
              <a:t>дель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6" descr=""/>
          <p:cNvPicPr/>
          <p:nvPr/>
        </p:nvPicPr>
        <p:blipFill>
          <a:blip r:embed="rId1"/>
          <a:stretch/>
        </p:blipFill>
        <p:spPr>
          <a:xfrm>
            <a:off x="603360" y="878040"/>
            <a:ext cx="7785000" cy="1468440"/>
          </a:xfrm>
          <a:prstGeom prst="rect">
            <a:avLst/>
          </a:prstGeom>
          <a:ln w="0">
            <a:noFill/>
          </a:ln>
        </p:spPr>
      </p:pic>
      <p:pic>
        <p:nvPicPr>
          <p:cNvPr id="264" name="Rectangle 7" descr=""/>
          <p:cNvPicPr/>
          <p:nvPr/>
        </p:nvPicPr>
        <p:blipFill>
          <a:blip r:embed="rId2"/>
          <a:stretch/>
        </p:blipFill>
        <p:spPr>
          <a:xfrm>
            <a:off x="36360" y="2225520"/>
            <a:ext cx="91314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7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-360" y="185724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Такі озера є найбільшими за площею, оскільки вони є залишками морських басейнів минулого. Звідси і походить їх наз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(Каспійське море, Аральське мор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10" descr="каспійське море"/>
          <p:cNvPicPr/>
          <p:nvPr/>
        </p:nvPicPr>
        <p:blipFill>
          <a:blip r:embed="rId2"/>
          <a:stretch/>
        </p:blipFill>
        <p:spPr>
          <a:xfrm>
            <a:off x="3714840" y="2143080"/>
            <a:ext cx="5168880" cy="350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4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Байкал"/>
          <p:cNvPicPr/>
          <p:nvPr/>
        </p:nvPicPr>
        <p:blipFill>
          <a:blip r:embed="rId2"/>
          <a:stretch/>
        </p:blipFill>
        <p:spPr>
          <a:xfrm>
            <a:off x="250920" y="1773360"/>
            <a:ext cx="4105080" cy="42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461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Їх утворення пов'язані з розломами в земній кор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зера утворенні таким способом, як правило, мають велику глиб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( Байкал, Балхаш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7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325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Такі озера утворилися у кратерах згаслих вулканів. Вони мають невелику площу, але можуть бути дуже глибоки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Поширені на Японських островах,  в Європі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10" descr="вулканическое озеро"/>
          <p:cNvPicPr/>
          <p:nvPr/>
        </p:nvPicPr>
        <p:blipFill>
          <a:blip r:embed="rId2"/>
          <a:stretch/>
        </p:blipFill>
        <p:spPr>
          <a:xfrm>
            <a:off x="3929040" y="2214720"/>
            <a:ext cx="4845240" cy="31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6:29:20Z</dcterms:created>
  <dc:creator>PC</dc:creator>
  <dc:description/>
  <dc:language>en-US</dc:language>
  <cp:lastModifiedBy>UserXP</cp:lastModifiedBy>
  <dcterms:modified xsi:type="dcterms:W3CDTF">2013-03-19T06:00:51Z</dcterms:modified>
  <cp:revision>25</cp:revision>
  <dc:subject/>
  <dc:title>Тем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3d000000000001024140</vt:lpwstr>
  </property>
</Properties>
</file>