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1.jpeg" ContentType="image/jpeg"/>
  <Override PartName="/ppt/media/image29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31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DCB4-B9FC-40C0-A7E4-E77FE2F2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FDF3-2398-4AC4-B441-66826646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F9C-01AD-4E8E-A5D7-4933CAE8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AB7-ED4D-43A1-8E25-A52D8AC5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9F6A-D205-4EC6-A5CE-ED4F1C43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8366-C442-483F-877E-AF2D0F28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0906-3D0E-4051-8C24-5832502F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10A0-5F73-48B1-95FE-C37841D7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1E74-FD15-4855-869B-BEF89D1E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6240-83D9-421F-8579-1BEA4DD1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DB6E-C922-4231-B8D2-0779DBDB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1BCE-CFAD-4CDA-A395-DC0FB255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422C-AF3D-4D9C-BD01-03A30BB7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85BD-C336-4FCA-9A1F-1E072097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14D9-35F7-4DF9-9BEE-C5C9037C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C8E8-7C46-411C-9961-F4FB9E43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55CD-A3E0-438D-AFCD-6D2A30B8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294B2-12E4-4959-8A53-5C09C5D3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FFFB2-C82B-483D-8D48-61B7D550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19A0B-767B-4083-BCC6-2997E50B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C8B14-D31E-4897-BC97-1203B91A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0DD4E-4DA7-483D-80E2-2594188B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DA72-A09A-4034-A911-F6EA9420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2426D-135D-4D5C-BEA3-A885B660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65D7A-6B9B-4D2B-8948-A446ED45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26300-194B-4497-84B1-3C718CF8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BC6AC-49B9-4AC6-AE7E-B83AC637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1F737-3042-4B02-A2F1-3F5870C1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35AAA-DC7C-4841-A2A2-B520BA5E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146B4-C025-4A6A-A14D-6FFD69F3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B38F4-97F7-4DA4-8639-477EBE6E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1F5C1-80F0-4080-AF83-E78ED22A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8BB68-2DE0-499D-B341-978848F5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8953-5601-4861-959B-D62AD380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639BB-86EE-45BF-83CF-DC783BB2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79123-13C3-4466-8E33-3CE9BCD2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76FA2-2356-4150-A26D-2860D13E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5A025-AFB5-4D5E-A469-87C5C5A9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BB6E8-3D10-4D9E-A449-39AE9B36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3E2AE-DC35-4EC6-BECD-5B1F3444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7DBA0-4D1D-47E6-A2B4-F2677BE4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578B9-67DE-49D0-8D14-2D8C628C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03CE4-EAC5-4E31-9C3C-4FB5EBFA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6F8B3-4A60-42C5-94FA-25237633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25C-2E31-486D-AB15-A37A8966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0EC8C-7CCC-4E02-995D-416459D1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711E0-0C7C-4139-B7BC-D2500EC2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D984F-57BA-47F6-BBE5-A6994821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5D56B-84C0-4F76-890F-165F6E14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07231-5734-4062-A2F5-B64435C1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5D2B0-8E19-443A-8FC4-29214958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2CB1D-25F5-49F6-92C4-B9C9970D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2B26F-A0C0-4D1D-A119-0241A947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D5730-8F93-481D-985D-0285D3CD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4007D-B48C-4B01-B38F-013B44D9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6C90-428A-417C-B328-63C41BA1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5F6B7-E249-4089-87B7-AA629C21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C4B99-6780-4E98-A43F-EA414C98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41D61-1ADC-4540-B7BC-E4E5D455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66EBB-ED1A-4D23-B981-DBA816B6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FE2F3-F0E3-46A5-9D1D-F5D65E86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4E3A2-1FD5-41D1-8308-9A17D519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DD29C-0926-4856-A3E9-DEACB0C0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5DC37-1235-463A-AA55-7AAE6499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0A7DE-51AB-479E-B6C5-3B6E5751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E1A12-4CED-47C9-934D-4F0B65A4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E9F5-4F4E-4A4F-8879-E81A18F1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B8C21-48F4-4071-8E48-4EC98F2B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8C81D-9C11-408F-AE97-DF5EAC5D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3997C-9E01-4C74-AEA9-AF2E46A3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71A4-1495-46A9-AA63-689077B8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D82-BC22-4C29-801F-D655707B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Users\malves\AppData\Local\Microsoft\Windows\Temporary Internet Files\Content.IE5\54I5HWCN\MPj0437247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86840" cy="687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BBAA-BBD9-4515-BDB9-7444287C2786}" type="slidenum"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C:\Users\malves\AppData\Local\Microsoft\Windows\Temporary Internet Files\Content.IE5\54I5HWCN\MPj0437247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86840" cy="6870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malves\AppData\Local\Microsoft\Windows\Temporary Internet Files\Content.IE5\54I5HWCN\MPj04372470000[1].jpg"/>
          <p:cNvPicPr/>
          <p:nvPr/>
        </p:nvPicPr>
        <p:blipFill>
          <a:blip r:embed="rId3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F031-C016-4C1E-A895-2168106FB93B}" type="slidenum"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:\Users\malves\AppData\Local\Microsoft\Windows\Temporary Internet Files\Content.IE5\54I5HWCN\MPj0437247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86840" cy="6870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A0DE-E17F-4B1A-B6EC-405F4CD1013A}" type="slidenum"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C:\Users\malves\AppData\Local\Microsoft\Windows\Temporary Internet Files\Content.IE5\54I5HWCN\MPj0437247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86840" cy="68709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D7B8-82F5-44EF-A9D0-5E71028C4772}" type="slidenum"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C:\Users\malves\AppData\Local\Microsoft\Windows\Temporary Internet Files\Content.IE5\54I5HWCN\MPj0437247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86840" cy="68709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7C4A-01B6-487B-A0BA-491ACEFCEDB4}" type="slidenum"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C:\Users\malves\AppData\Local\Microsoft\Windows\Temporary Internet Files\Content.IE5\54I5HWCN\MPj0437247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86840" cy="68709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323F-3D7D-4F7A-B7F1-9DF6741A473A}" type="slidenum"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6" descr=""/>
          <p:cNvPicPr/>
          <p:nvPr/>
        </p:nvPicPr>
        <p:blipFill>
          <a:blip r:embed="rId1"/>
          <a:stretch/>
        </p:blipFill>
        <p:spPr>
          <a:xfrm>
            <a:off x="749160" y="530280"/>
            <a:ext cx="7785360" cy="15364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476360" y="2276280"/>
            <a:ext cx="64008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53735"/>
                </a:solidFill>
                <a:latin typeface="Times New Roman"/>
              </a:rPr>
              <a:t>Озера, озерні улоговини та їх утворенн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4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3968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85840" y="1904760"/>
            <a:ext cx="36432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Утворилися в западинах, які після себе залишили льодовики. Такі озера мають велику протяжність, малу ширину та глиби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(Лох - Нес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7" descr="лох-несс"/>
          <p:cNvPicPr/>
          <p:nvPr/>
        </p:nvPicPr>
        <p:blipFill>
          <a:blip r:embed="rId2"/>
          <a:stretch/>
        </p:blipFill>
        <p:spPr>
          <a:xfrm>
            <a:off x="4214880" y="1643040"/>
            <a:ext cx="4667040" cy="350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8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3968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Утворюються в долинах річок. При переміщені річка формує нове русло, , а ділянки старих втрачаючи зв’язок з новими перетворюються на озера.(багато в долинах річок Об, Єнісей, Лен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11" descr="Озеро старицы в пойме реки Олым"/>
          <p:cNvPicPr/>
          <p:nvPr/>
        </p:nvPicPr>
        <p:blipFill>
          <a:blip r:embed="rId2"/>
          <a:stretch/>
        </p:blipFill>
        <p:spPr>
          <a:xfrm>
            <a:off x="4643280" y="1714680"/>
            <a:ext cx="4259520" cy="44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4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3968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Утворення внаслідок відокремлення від моря косою, або пересип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(найбільше в Україні - Сасик ; найбільше в світі – Маракайб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9" descr="маракайбо"/>
          <p:cNvPicPr/>
          <p:nvPr/>
        </p:nvPicPr>
        <p:blipFill>
          <a:blip r:embed="rId2"/>
          <a:stretch/>
        </p:blipFill>
        <p:spPr>
          <a:xfrm>
            <a:off x="4859280" y="1484280"/>
            <a:ext cx="3816360" cy="240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3" name="Picture 10" descr="иаракайбо 2"/>
          <p:cNvPicPr/>
          <p:nvPr/>
        </p:nvPicPr>
        <p:blipFill>
          <a:blip r:embed="rId3"/>
          <a:stretch/>
        </p:blipFill>
        <p:spPr>
          <a:xfrm>
            <a:off x="4857840" y="4038480"/>
            <a:ext cx="3786120" cy="247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8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3968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354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Утворилися внаслідок перегородження річки під час гірських обвал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(Синеви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11" descr="Сарезьке"/>
          <p:cNvPicPr/>
          <p:nvPr/>
        </p:nvPicPr>
        <p:blipFill>
          <a:blip r:embed="rId2"/>
          <a:stretch/>
        </p:blipFill>
        <p:spPr>
          <a:xfrm>
            <a:off x="4143240" y="1643040"/>
            <a:ext cx="4537080" cy="373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6952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28760" y="1928880"/>
            <a:ext cx="8229600" cy="20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рісні ( солоність до 1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  <a:ea typeface="Tahoma"/>
              </a:rPr>
              <a:t>‰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  <a:ea typeface="Tahoma"/>
              </a:rPr>
              <a:t>Солоні ( солоність до 47 ‰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4" descr=""/>
          <p:cNvPicPr/>
          <p:nvPr/>
        </p:nvPicPr>
        <p:blipFill>
          <a:blip r:embed="rId1"/>
          <a:stretch/>
        </p:blipFill>
        <p:spPr>
          <a:xfrm>
            <a:off x="450720" y="-189000"/>
            <a:ext cx="8242560" cy="18716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Розташоване в тектонічній западині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Tahoma"/>
              </a:rPr>
              <a:t>Концентрація солей 260 - 270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Tahoma"/>
              </a:rPr>
              <a:t>Річка Йордан єдине велике джерело, що живить річ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6" descr="мертве море"/>
          <p:cNvPicPr/>
          <p:nvPr/>
        </p:nvPicPr>
        <p:blipFill>
          <a:blip r:embed="rId2"/>
          <a:stretch/>
        </p:blipFill>
        <p:spPr>
          <a:xfrm>
            <a:off x="1619280" y="3357720"/>
            <a:ext cx="5689440" cy="30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2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Стічне                    Безстіч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Oval 4"/>
          <p:cNvSpPr/>
          <p:nvPr/>
        </p:nvSpPr>
        <p:spPr>
          <a:xfrm>
            <a:off x="900000" y="3500280"/>
            <a:ext cx="2519640" cy="12956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6"/>
          <p:cNvSpPr/>
          <p:nvPr/>
        </p:nvSpPr>
        <p:spPr>
          <a:xfrm>
            <a:off x="1979640" y="2565360"/>
            <a:ext cx="360360" cy="936720"/>
          </a:xfrm>
          <a:prstGeom prst="downArrow">
            <a:avLst>
              <a:gd name="adj1" fmla="val 50000"/>
              <a:gd name="adj2" fmla="val 6498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2050920" y="4797360"/>
            <a:ext cx="287640" cy="865080"/>
          </a:xfrm>
          <a:prstGeom prst="downArrow">
            <a:avLst>
              <a:gd name="adj1" fmla="val 50000"/>
              <a:gd name="adj2" fmla="val 7518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0"/>
          <p:cNvSpPr/>
          <p:nvPr/>
        </p:nvSpPr>
        <p:spPr>
          <a:xfrm>
            <a:off x="6588000" y="2565360"/>
            <a:ext cx="289080" cy="934920"/>
          </a:xfrm>
          <a:prstGeom prst="downArrow">
            <a:avLst>
              <a:gd name="adj1" fmla="val 50000"/>
              <a:gd name="adj2" fmla="val 8085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1"/>
          <p:cNvSpPr/>
          <p:nvPr/>
        </p:nvSpPr>
        <p:spPr>
          <a:xfrm>
            <a:off x="6659640" y="4797360"/>
            <a:ext cx="288720" cy="936720"/>
          </a:xfrm>
          <a:prstGeom prst="upArrow">
            <a:avLst>
              <a:gd name="adj1" fmla="val 50000"/>
              <a:gd name="adj2" fmla="val 8111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5500800" y="3500280"/>
            <a:ext cx="2519280" cy="12956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463680" y="469800"/>
            <a:ext cx="8242200" cy="15969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457200" y="2205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Для водопостачання населення, зрошення, промисловост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ісце відпочинку та лікування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 сольоних озерах видобувають кухонну сі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озведення риб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На великих озерах на суднах перевозять різноманітні вантажі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11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396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тітікака"/>
          <p:cNvPicPr/>
          <p:nvPr/>
        </p:nvPicPr>
        <p:blipFill>
          <a:blip r:embed="rId2"/>
          <a:stretch/>
        </p:blipFill>
        <p:spPr>
          <a:xfrm>
            <a:off x="250920" y="1844640"/>
            <a:ext cx="4130640" cy="410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4616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Найбільше за площею солоне озеро світу – Каспійсь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Найбільше за площею прісноводне озеро – Верхнє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Найглибше озеро – Байк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Найсолоніше озеро – Мертв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6840" y="1905120"/>
            <a:ext cx="6705720" cy="33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Чи досягли ми поставленої мет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Що вам найбільше запам'яталося на сьогоднішньому уроці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4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242560" cy="11890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571320" y="1499760"/>
            <a:ext cx="8072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Є люди закохані в сувору героїчність гір, у таємничу тишу лісів або в безмежжя вільних степів. А я люблю життєдайність води у будь - яких її проявах: у величній повільності великих рік, і в бурхливій нетямі гірських струмків, і в чистій пісні гірських струмків, і в загрозливому ревіння водопадів, і в чарівності блакитних озер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Б. Харч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258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Опрацювати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ahoma"/>
              </a:rPr>
              <a:t>§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47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запитання 1-5 ст. 205 (5 запитання письмово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означити на контурній карті Ст. 50-51 Озера ст.22 практичних зошиті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242560" cy="1189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39528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формувати поняття  “ озеро 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Ознайомити учнів з походження озерних улоговин та  їх живлення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родовжувати розвивати вміння працювати з картами атлас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озвивати вміння створювати образ об'єк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ховувати любов до природи, естетичне сприйняття навколишнього сві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534520" cy="11826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ічка починається з …, це може бути…. Вона тече поглибленням, що називається…, на шляху в неї впадають різні річки – це …. Разом з головною річкою вони утворюють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ісце впадіння річки в іншу річку, озеро або море називається…, деякі річки в цьому місці утворюють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438120" y="244440"/>
            <a:ext cx="8267760" cy="11826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ічка починається з </a:t>
            </a:r>
            <a:r>
              <a:rPr b="1" lang="uk-UA" sz="3200" spc="-1" strike="noStrike">
                <a:solidFill>
                  <a:srgbClr val="990000"/>
                </a:solidFill>
                <a:latin typeface="Calibri"/>
              </a:rPr>
              <a:t>витоку,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це може бути </a:t>
            </a:r>
            <a:r>
              <a:rPr b="1" lang="uk-UA" sz="3200" spc="-1" strike="noStrike">
                <a:solidFill>
                  <a:srgbClr val="990000"/>
                </a:solidFill>
                <a:latin typeface="Calibri"/>
              </a:rPr>
              <a:t>озеро, джерело, льодовик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. Вона тече поглибленням, що називається </a:t>
            </a:r>
            <a:r>
              <a:rPr b="1" lang="uk-UA" sz="3200" spc="-1" strike="noStrike">
                <a:solidFill>
                  <a:srgbClr val="990000"/>
                </a:solidFill>
                <a:latin typeface="Calibri"/>
              </a:rPr>
              <a:t>руслом річки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, на шляху в неї впадають різні річки – це </a:t>
            </a:r>
            <a:r>
              <a:rPr b="1" lang="uk-UA" sz="3200" spc="-1" strike="noStrike">
                <a:solidFill>
                  <a:srgbClr val="990000"/>
                </a:solidFill>
                <a:latin typeface="Calibri"/>
              </a:rPr>
              <a:t>притоки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. Разом з головною річкою вони утворюють </a:t>
            </a:r>
            <a:r>
              <a:rPr b="1" lang="uk-UA" sz="3200" spc="-1" strike="noStrike">
                <a:solidFill>
                  <a:srgbClr val="990000"/>
                </a:solidFill>
                <a:latin typeface="Calibri"/>
              </a:rPr>
              <a:t>річкову систе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ісце впадіння річки в іншу річку, озеро або море називається </a:t>
            </a:r>
            <a:r>
              <a:rPr b="1" lang="uk-UA" sz="3200" spc="-1" strike="noStrike">
                <a:solidFill>
                  <a:srgbClr val="990000"/>
                </a:solidFill>
                <a:latin typeface="Calibri"/>
              </a:rPr>
              <a:t>гирло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, деякі річки в цьому місці утворюють </a:t>
            </a:r>
            <a:r>
              <a:rPr b="1" lang="uk-UA" sz="3200" spc="-1" strike="noStrike">
                <a:solidFill>
                  <a:srgbClr val="990000"/>
                </a:solidFill>
                <a:latin typeface="Calibri"/>
              </a:rPr>
              <a:t>дель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6" descr=""/>
          <p:cNvPicPr/>
          <p:nvPr/>
        </p:nvPicPr>
        <p:blipFill>
          <a:blip r:embed="rId1"/>
          <a:stretch/>
        </p:blipFill>
        <p:spPr>
          <a:xfrm>
            <a:off x="603360" y="878040"/>
            <a:ext cx="7785000" cy="1468440"/>
          </a:xfrm>
          <a:prstGeom prst="rect">
            <a:avLst/>
          </a:prstGeom>
          <a:ln w="0">
            <a:noFill/>
          </a:ln>
        </p:spPr>
      </p:pic>
      <p:pic>
        <p:nvPicPr>
          <p:cNvPr id="264" name="Rectangle 7" descr=""/>
          <p:cNvPicPr/>
          <p:nvPr/>
        </p:nvPicPr>
        <p:blipFill>
          <a:blip r:embed="rId2"/>
          <a:stretch/>
        </p:blipFill>
        <p:spPr>
          <a:xfrm>
            <a:off x="36360" y="2225520"/>
            <a:ext cx="91314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7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3968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-360" y="185724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Такі озера є найбільшими за площею, оскільки вони є залишками морських басейнів минулого. Звідси і походить їх наз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(Каспійське море, Аральське мор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10" descr="каспійське море"/>
          <p:cNvPicPr/>
          <p:nvPr/>
        </p:nvPicPr>
        <p:blipFill>
          <a:blip r:embed="rId2"/>
          <a:stretch/>
        </p:blipFill>
        <p:spPr>
          <a:xfrm>
            <a:off x="3714840" y="2143080"/>
            <a:ext cx="5168880" cy="350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4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3968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Байкал"/>
          <p:cNvPicPr/>
          <p:nvPr/>
        </p:nvPicPr>
        <p:blipFill>
          <a:blip r:embed="rId2"/>
          <a:stretch/>
        </p:blipFill>
        <p:spPr>
          <a:xfrm>
            <a:off x="250920" y="1773360"/>
            <a:ext cx="4105080" cy="42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64616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Їх утворення пов'язані з розломами в земній кор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зера утворенні таким способом, як правило, мають велику глиби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( Байкал, Балхаш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7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3968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325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</a:rPr>
              <a:t>Такі озера утворилися у кратерах згаслих вулканів. Вони мають невелику площу, але можуть бути дуже глибоки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</a:rPr>
              <a:t>Поширені на Японських островах,  в Європі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10" descr="вулканическое озеро"/>
          <p:cNvPicPr/>
          <p:nvPr/>
        </p:nvPicPr>
        <p:blipFill>
          <a:blip r:embed="rId2"/>
          <a:stretch/>
        </p:blipFill>
        <p:spPr>
          <a:xfrm>
            <a:off x="3929040" y="2214720"/>
            <a:ext cx="4845240" cy="31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6:29:20Z</dcterms:created>
  <dc:creator>PC</dc:creator>
  <dc:description/>
  <dc:language>en-US</dc:language>
  <cp:lastModifiedBy>UserXP</cp:lastModifiedBy>
  <dcterms:modified xsi:type="dcterms:W3CDTF">2013-03-19T06:00:51Z</dcterms:modified>
  <cp:revision>25</cp:revision>
  <dc:subject/>
  <dc:title>Тема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3d000000000001024140</vt:lpwstr>
  </property>
</Properties>
</file>