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21.jpeg" ContentType="image/jpeg"/>
  <Override PartName="/ppt/media/image29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31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A398-1DDD-4BDB-8CAB-34C773DF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631A-957C-4FF1-A4EF-5A638ABF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8138-639D-4803-8D98-6A75A27C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A9E-91DA-43B3-885D-E76D2028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629D-2575-459E-8DDD-0B93EAF9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F7A2-9269-4490-88B7-15E500A6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8DB6-E1B7-4894-AAFD-B518BE39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266B-C6E0-43D7-98D0-4F31E180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CAFE-D58C-4EE4-AF04-E7C41D27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37F9-3738-4BE9-B05D-B5AFB2A3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8347-C56C-4987-9284-79385AF6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2436-C1AB-4D84-A3A9-B94D8613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FF02-13E5-4721-94E0-04A02F39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A29E-EA70-40BF-B812-CC9DFC6A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FBE4-A77D-4417-953F-0F6B44D5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52A2-6968-4025-9D3C-437A03C7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50A9-8062-491E-A061-402EE4B5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D5672-33FF-4E6F-9F5A-F0B2D297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E6D12-B9A4-451D-9D8F-2157EA6A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09739-5500-4D43-9F07-4F1826BB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6BB16-CF9F-49B1-8B4C-26251678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68AD3-F019-427F-86AB-693D1399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431-4D4F-4E47-993C-6C9A3498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C8CD9-BFBC-40E1-90FE-50132688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AD25F-BE99-454F-837B-DBD7F0E8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82349-AE42-4694-889C-2B343482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6246D-AB6D-4797-8F42-0BA03B41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10745-62EB-4DA7-8F20-793E3DD0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497CC-003C-4025-8419-0785368B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BE45A-E9D4-434D-86F7-E9A7567A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7B811-D351-40CE-8876-32B61E80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78BEB-84B4-42F8-8852-EA305CD5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D2E11-B379-4653-B362-5CBDBC9A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8575-E87A-48FE-8B3D-23B900BE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1B086-4BAE-4A70-825B-75376A48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9B232-7735-4771-A924-D195D9B1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61A75-28A6-4BF7-BC3F-C16E38C7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434E3-488C-4916-9316-5B06E1B5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BA1E8-721F-468F-96C9-824C327F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2D733-64A0-4AE5-AF66-D33B1E34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1576F-33D5-479B-A7E9-67C43529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E8CE3-CDF1-4F4D-8FC4-8ED1FA58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DAB01-1F44-4137-A454-10043E31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B55B9-A9F8-43D1-B67D-109298C6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3AE0-538E-4EE1-9C85-6A3D198F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637D0-734E-4F56-8368-2786535B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3296D-6057-49EE-BAC0-70DD2652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5D4FF-E363-435B-944A-17D06F70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2BB4E-79BA-493D-A0F5-8A92343F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FCB1C-9662-42A1-A3B4-1268E453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68AC5-9623-41CD-A5EA-9771CBEA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C3B4B-D20E-4B68-B331-2B90E358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A38BE-20DC-492F-9953-AF2C3682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805AA-5DF8-42C9-85A2-FE60A2E7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4E2B8-2C22-45A2-85C1-0618A232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6F11-F3AF-4681-8694-275AB247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4C85F-E10C-471E-BA51-D853D236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60FD8-3CD9-430E-96B0-50C4D8AF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7ECAC-E639-4BEA-B412-039C9FD1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274DC-7D41-459B-A2BE-E2F80C81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66E85-BFE8-4034-A50D-29B667A4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CBC51-29E5-4C31-9E0B-EA90E547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1D8DA-F89D-48DF-9CC0-E260F299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222AF-6027-4DEF-A6AE-6DEF42EF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E48E7-CF6E-47AE-BA4F-260ABE57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E9F1C-77F5-4BD8-9BAF-51569D40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4DB1-C39C-4216-871C-9E066177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1A1E4-9E0B-4340-A1E0-90CF094F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D9238-A4B0-4340-A505-8D1F62A3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29B61-CB07-4673-A3B7-D366B835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73DC-9866-4D0C-9FBA-8F8F8F4B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F16A-28C7-4F2E-9A33-68B07946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C:\Users\malves\AppData\Local\Microsoft\Windows\Temporary Internet Files\Content.IE5\54I5HWCN\MPj04372470000[1].jpg"/>
          <p:cNvPicPr/>
          <p:nvPr/>
        </p:nvPicPr>
        <p:blipFill>
          <a:blip r:embed="rId2"/>
          <a:stretch/>
        </p:blipFill>
        <p:spPr>
          <a:xfrm>
            <a:off x="-6480" y="-6480"/>
            <a:ext cx="9186840" cy="6870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0D64-42CB-43B3-8184-84A8E01E1266}" type="slidenum"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C:\Users\malves\AppData\Local\Microsoft\Windows\Temporary Internet Files\Content.IE5\54I5HWCN\MPj04372470000[1].jpg"/>
          <p:cNvPicPr/>
          <p:nvPr/>
        </p:nvPicPr>
        <p:blipFill>
          <a:blip r:embed="rId2"/>
          <a:stretch/>
        </p:blipFill>
        <p:spPr>
          <a:xfrm>
            <a:off x="-6480" y="-6480"/>
            <a:ext cx="9186840" cy="6870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Users\malves\AppData\Local\Microsoft\Windows\Temporary Internet Files\Content.IE5\54I5HWCN\MPj04372470000[1].jpg"/>
          <p:cNvPicPr/>
          <p:nvPr/>
        </p:nvPicPr>
        <p:blipFill>
          <a:blip r:embed="rId3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FA1E-CC80-45F1-8E4B-B3D299585E6A}" type="slidenum"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C:\Users\malves\AppData\Local\Microsoft\Windows\Temporary Internet Files\Content.IE5\54I5HWCN\MPj04372470000[1].jpg"/>
          <p:cNvPicPr/>
          <p:nvPr/>
        </p:nvPicPr>
        <p:blipFill>
          <a:blip r:embed="rId2"/>
          <a:stretch/>
        </p:blipFill>
        <p:spPr>
          <a:xfrm>
            <a:off x="-6480" y="-6480"/>
            <a:ext cx="9186840" cy="6870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67F7-CEFA-4679-B052-04FF7954CC6E}" type="slidenum"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C:\Users\malves\AppData\Local\Microsoft\Windows\Temporary Internet Files\Content.IE5\54I5HWCN\MPj04372470000[1].jpg"/>
          <p:cNvPicPr/>
          <p:nvPr/>
        </p:nvPicPr>
        <p:blipFill>
          <a:blip r:embed="rId2"/>
          <a:stretch/>
        </p:blipFill>
        <p:spPr>
          <a:xfrm>
            <a:off x="-6480" y="-6480"/>
            <a:ext cx="9186840" cy="68709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415C-B0DB-4C33-8B66-BD5140AC1C5A}" type="slidenum"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C:\Users\malves\AppData\Local\Microsoft\Windows\Temporary Internet Files\Content.IE5\54I5HWCN\MPj04372470000[1].jpg"/>
          <p:cNvPicPr/>
          <p:nvPr/>
        </p:nvPicPr>
        <p:blipFill>
          <a:blip r:embed="rId2"/>
          <a:stretch/>
        </p:blipFill>
        <p:spPr>
          <a:xfrm>
            <a:off x="-6480" y="-6480"/>
            <a:ext cx="9186840" cy="68709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3892-443D-4EE6-98E8-3BDBF56D4715}" type="slidenum"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C:\Users\malves\AppData\Local\Microsoft\Windows\Temporary Internet Files\Content.IE5\54I5HWCN\MPj04372470000[1].jpg"/>
          <p:cNvPicPr/>
          <p:nvPr/>
        </p:nvPicPr>
        <p:blipFill>
          <a:blip r:embed="rId2"/>
          <a:stretch/>
        </p:blipFill>
        <p:spPr>
          <a:xfrm>
            <a:off x="-6480" y="-6480"/>
            <a:ext cx="9186840" cy="68709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56D1-CFB2-4617-9015-2B21FCF077DE}" type="slidenum">
              <a:rPr b="0" lang="ru-RU" sz="12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ectangle 6" descr=""/>
          <p:cNvPicPr/>
          <p:nvPr/>
        </p:nvPicPr>
        <p:blipFill>
          <a:blip r:embed="rId1"/>
          <a:stretch/>
        </p:blipFill>
        <p:spPr>
          <a:xfrm>
            <a:off x="749160" y="530280"/>
            <a:ext cx="7785360" cy="15364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476360" y="2276280"/>
            <a:ext cx="64008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53735"/>
                </a:solidFill>
                <a:latin typeface="Times New Roman"/>
              </a:rPr>
              <a:t>Озера, озерні улоговини та їх утворення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4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242560" cy="13968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85840" y="1904760"/>
            <a:ext cx="36432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Утворилися в западинах, які після себе залишили льодовики. Такі озера мають велику протяжність, малу ширину та глиби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(Лох - Нес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7" descr="лох-несс"/>
          <p:cNvPicPr/>
          <p:nvPr/>
        </p:nvPicPr>
        <p:blipFill>
          <a:blip r:embed="rId2"/>
          <a:stretch/>
        </p:blipFill>
        <p:spPr>
          <a:xfrm>
            <a:off x="4214880" y="1643040"/>
            <a:ext cx="4667040" cy="3500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Rectangle 8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242560" cy="13968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Утворюються в долинах річок. При переміщені річка формує нове русло, , а ділянки старих втрачаючи зв’язок з новими перетворюються на озера.(багато в долинах річок Об, Єнісей, Лена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11" descr="Озеро старицы в пойме реки Олым"/>
          <p:cNvPicPr/>
          <p:nvPr/>
        </p:nvPicPr>
        <p:blipFill>
          <a:blip r:embed="rId2"/>
          <a:stretch/>
        </p:blipFill>
        <p:spPr>
          <a:xfrm>
            <a:off x="4643280" y="1714680"/>
            <a:ext cx="4259520" cy="44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Rectangle 4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242560" cy="13968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5684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Утворення внаслідок відокремлення від моря косою, або пересип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(найбільше в Україні - Сасик ; найбільше в світі – Маракайб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9" descr="маракайбо"/>
          <p:cNvPicPr/>
          <p:nvPr/>
        </p:nvPicPr>
        <p:blipFill>
          <a:blip r:embed="rId2"/>
          <a:stretch/>
        </p:blipFill>
        <p:spPr>
          <a:xfrm>
            <a:off x="4859280" y="1484280"/>
            <a:ext cx="3816360" cy="240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3" name="Picture 10" descr="иаракайбо 2"/>
          <p:cNvPicPr/>
          <p:nvPr/>
        </p:nvPicPr>
        <p:blipFill>
          <a:blip r:embed="rId3"/>
          <a:stretch/>
        </p:blipFill>
        <p:spPr>
          <a:xfrm>
            <a:off x="4857840" y="4038480"/>
            <a:ext cx="3786120" cy="247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8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242560" cy="13968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354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Утворилися внаслідок перегородження річки під час гірських обвал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(Синевир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11" descr="Сарезьке"/>
          <p:cNvPicPr/>
          <p:nvPr/>
        </p:nvPicPr>
        <p:blipFill>
          <a:blip r:embed="rId2"/>
          <a:stretch/>
        </p:blipFill>
        <p:spPr>
          <a:xfrm>
            <a:off x="4143240" y="1643040"/>
            <a:ext cx="4537080" cy="373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6952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28760" y="1928880"/>
            <a:ext cx="8229600" cy="20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Прісні ( солоність до 1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  <a:ea typeface="Tahoma"/>
              </a:rPr>
              <a:t>‰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  <a:ea typeface="Tahoma"/>
              </a:rPr>
              <a:t>Солоні ( солоність до 47 ‰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4" descr=""/>
          <p:cNvPicPr/>
          <p:nvPr/>
        </p:nvPicPr>
        <p:blipFill>
          <a:blip r:embed="rId1"/>
          <a:stretch/>
        </p:blipFill>
        <p:spPr>
          <a:xfrm>
            <a:off x="450720" y="-189000"/>
            <a:ext cx="8242560" cy="18716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Розташоване в тектонічній западині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Tahoma"/>
              </a:rPr>
              <a:t>Концентрація солей 260 - 270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Tahoma"/>
              </a:rPr>
              <a:t>Річка Йордан єдине велике джерело, що живить річ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6" descr="мертве море"/>
          <p:cNvPicPr/>
          <p:nvPr/>
        </p:nvPicPr>
        <p:blipFill>
          <a:blip r:embed="rId2"/>
          <a:stretch/>
        </p:blipFill>
        <p:spPr>
          <a:xfrm>
            <a:off x="1619280" y="3357720"/>
            <a:ext cx="5689440" cy="30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Rectangle 2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12380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Стічне                    Безстіч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Oval 4"/>
          <p:cNvSpPr/>
          <p:nvPr/>
        </p:nvSpPr>
        <p:spPr>
          <a:xfrm>
            <a:off x="900000" y="3500280"/>
            <a:ext cx="2519640" cy="12956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6"/>
          <p:cNvSpPr/>
          <p:nvPr/>
        </p:nvSpPr>
        <p:spPr>
          <a:xfrm>
            <a:off x="1979640" y="2565360"/>
            <a:ext cx="360360" cy="936720"/>
          </a:xfrm>
          <a:prstGeom prst="downArrow">
            <a:avLst>
              <a:gd name="adj1" fmla="val 50000"/>
              <a:gd name="adj2" fmla="val 6498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8"/>
          <p:cNvSpPr/>
          <p:nvPr/>
        </p:nvSpPr>
        <p:spPr>
          <a:xfrm>
            <a:off x="2050920" y="4797360"/>
            <a:ext cx="287640" cy="865080"/>
          </a:xfrm>
          <a:prstGeom prst="downArrow">
            <a:avLst>
              <a:gd name="adj1" fmla="val 50000"/>
              <a:gd name="adj2" fmla="val 7518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0"/>
          <p:cNvSpPr/>
          <p:nvPr/>
        </p:nvSpPr>
        <p:spPr>
          <a:xfrm>
            <a:off x="6588000" y="2565360"/>
            <a:ext cx="289080" cy="934920"/>
          </a:xfrm>
          <a:prstGeom prst="downArrow">
            <a:avLst>
              <a:gd name="adj1" fmla="val 50000"/>
              <a:gd name="adj2" fmla="val 8085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1"/>
          <p:cNvSpPr/>
          <p:nvPr/>
        </p:nvSpPr>
        <p:spPr>
          <a:xfrm>
            <a:off x="6659640" y="4797360"/>
            <a:ext cx="288720" cy="936720"/>
          </a:xfrm>
          <a:prstGeom prst="upArrow">
            <a:avLst>
              <a:gd name="adj1" fmla="val 50000"/>
              <a:gd name="adj2" fmla="val 8111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5500800" y="3500280"/>
            <a:ext cx="2519280" cy="1295640"/>
          </a:xfrm>
          <a:prstGeom prst="ellipse">
            <a:avLst/>
          </a:prstGeom>
          <a:solidFill>
            <a:srgbClr val="00b0f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2" descr=""/>
          <p:cNvPicPr/>
          <p:nvPr/>
        </p:nvPicPr>
        <p:blipFill>
          <a:blip r:embed="rId1"/>
          <a:stretch/>
        </p:blipFill>
        <p:spPr>
          <a:xfrm>
            <a:off x="463680" y="469800"/>
            <a:ext cx="8242200" cy="15969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457200" y="2205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Для водопостачання населення, зрошення, промисловост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Місце відпочинку та лікування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В сольоних озерах видобувають кухонну сіл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озведення риб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На великих озерах на суднах перевозять різноманітні вантажі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11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242560" cy="13968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тітікака"/>
          <p:cNvPicPr/>
          <p:nvPr/>
        </p:nvPicPr>
        <p:blipFill>
          <a:blip r:embed="rId2"/>
          <a:stretch/>
        </p:blipFill>
        <p:spPr>
          <a:xfrm>
            <a:off x="250920" y="1844640"/>
            <a:ext cx="4130640" cy="4105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4616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Найбільше за площею солоне озеро світу – Каспійсь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Найбільше за площею прісноводне озеро – Верхнє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Найглибше озеро – Байка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Найсолоніше озеро – Мертв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56840" y="1905120"/>
            <a:ext cx="6705720" cy="33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Чи досягли ми поставленої мет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Що вам найбільше запам'яталося на сьогоднішньому уроці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4" descr=""/>
          <p:cNvPicPr/>
          <p:nvPr/>
        </p:nvPicPr>
        <p:blipFill>
          <a:blip r:embed="rId1"/>
          <a:stretch/>
        </p:blipFill>
        <p:spPr>
          <a:xfrm>
            <a:off x="450720" y="237960"/>
            <a:ext cx="8242560" cy="11890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571320" y="1499760"/>
            <a:ext cx="8072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Є люди закохані в сувору героїчність гір, у таємничу тишу лісів або в безмежжя вільних степів. А я люблю життєдайність води у будь - яких її проявах: у величній повільності великих рік, і в бурхливій нетямі гірських струмків, і в чистій пісні гірських струмків, і в загрозливому ревіння водопадів, і в чарівності блакитних озер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Б. Харчу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2258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Опрацювати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ahoma"/>
              </a:rPr>
              <a:t>§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47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запитання 1-5 ст. 205 (5 запитання письмово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Позначити на контурній карті Ст. 50-51 Озера ст.22 практичних зошиті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2" descr=""/>
          <p:cNvPicPr/>
          <p:nvPr/>
        </p:nvPicPr>
        <p:blipFill>
          <a:blip r:embed="rId1"/>
          <a:stretch/>
        </p:blipFill>
        <p:spPr>
          <a:xfrm>
            <a:off x="450720" y="237960"/>
            <a:ext cx="8242560" cy="11890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39528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формувати поняття  “ озеро 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Ознайомити учнів з походження озерних улоговин та  їх живлення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родовжувати розвивати вміння працювати з картами атлас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озвивати вміння створювати образ об'єк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Виховувати любов до природи, естетичне сприйняття навколишнього сві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534520" cy="11826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ічка починається з …, це може бути…. Вона тече поглибленням, що називається…, на шляху в неї впадають різні річки – це …. Разом з головною річкою вони утворюють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Місце впадіння річки в іншу річку, озеро або море називається…, деякі річки в цьому місці утворюють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438120" y="244440"/>
            <a:ext cx="8267760" cy="11826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Річка починається з </a:t>
            </a:r>
            <a:r>
              <a:rPr b="1" lang="uk-UA" sz="3200" spc="-1" strike="noStrike">
                <a:solidFill>
                  <a:srgbClr val="990000"/>
                </a:solidFill>
                <a:latin typeface="Calibri"/>
              </a:rPr>
              <a:t>витоку,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це може бути </a:t>
            </a:r>
            <a:r>
              <a:rPr b="1" lang="uk-UA" sz="3200" spc="-1" strike="noStrike">
                <a:solidFill>
                  <a:srgbClr val="990000"/>
                </a:solidFill>
                <a:latin typeface="Calibri"/>
              </a:rPr>
              <a:t>озеро, джерело, льодовик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. Вона тече поглибленням, що називається </a:t>
            </a:r>
            <a:r>
              <a:rPr b="1" lang="uk-UA" sz="3200" spc="-1" strike="noStrike">
                <a:solidFill>
                  <a:srgbClr val="990000"/>
                </a:solidFill>
                <a:latin typeface="Calibri"/>
              </a:rPr>
              <a:t>руслом річки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, на шляху в неї впадають різні річки – це </a:t>
            </a:r>
            <a:r>
              <a:rPr b="1" lang="uk-UA" sz="3200" spc="-1" strike="noStrike">
                <a:solidFill>
                  <a:srgbClr val="990000"/>
                </a:solidFill>
                <a:latin typeface="Calibri"/>
              </a:rPr>
              <a:t>притоки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. Разом з головною річкою вони утворюють </a:t>
            </a:r>
            <a:r>
              <a:rPr b="1" lang="uk-UA" sz="3200" spc="-1" strike="noStrike">
                <a:solidFill>
                  <a:srgbClr val="990000"/>
                </a:solidFill>
                <a:latin typeface="Calibri"/>
              </a:rPr>
              <a:t>річкову систе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Місце впадіння річки в іншу річку, озеро або море називається </a:t>
            </a:r>
            <a:r>
              <a:rPr b="1" lang="uk-UA" sz="3200" spc="-1" strike="noStrike">
                <a:solidFill>
                  <a:srgbClr val="990000"/>
                </a:solidFill>
                <a:latin typeface="Calibri"/>
              </a:rPr>
              <a:t>гирло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, деякі річки в цьому місці утворюють </a:t>
            </a:r>
            <a:r>
              <a:rPr b="1" lang="uk-UA" sz="3200" spc="-1" strike="noStrike">
                <a:solidFill>
                  <a:srgbClr val="990000"/>
                </a:solidFill>
                <a:latin typeface="Calibri"/>
              </a:rPr>
              <a:t>дель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6" descr=""/>
          <p:cNvPicPr/>
          <p:nvPr/>
        </p:nvPicPr>
        <p:blipFill>
          <a:blip r:embed="rId1"/>
          <a:stretch/>
        </p:blipFill>
        <p:spPr>
          <a:xfrm>
            <a:off x="603360" y="878040"/>
            <a:ext cx="7785000" cy="1468440"/>
          </a:xfrm>
          <a:prstGeom prst="rect">
            <a:avLst/>
          </a:prstGeom>
          <a:ln w="0">
            <a:noFill/>
          </a:ln>
        </p:spPr>
      </p:pic>
      <p:pic>
        <p:nvPicPr>
          <p:cNvPr id="264" name="Rectangle 7" descr=""/>
          <p:cNvPicPr/>
          <p:nvPr/>
        </p:nvPicPr>
        <p:blipFill>
          <a:blip r:embed="rId2"/>
          <a:stretch/>
        </p:blipFill>
        <p:spPr>
          <a:xfrm>
            <a:off x="36360" y="2225520"/>
            <a:ext cx="913140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7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242560" cy="13968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-360" y="185724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Такі озера є найбільшими за площею, оскільки вони є залишками морських басейнів минулого. Звідси і походить їх наз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(Каспійське море, Аральське мор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10" descr="каспійське море"/>
          <p:cNvPicPr/>
          <p:nvPr/>
        </p:nvPicPr>
        <p:blipFill>
          <a:blip r:embed="rId2"/>
          <a:stretch/>
        </p:blipFill>
        <p:spPr>
          <a:xfrm>
            <a:off x="3714840" y="2143080"/>
            <a:ext cx="5168880" cy="3500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4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242560" cy="13968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Байкал"/>
          <p:cNvPicPr/>
          <p:nvPr/>
        </p:nvPicPr>
        <p:blipFill>
          <a:blip r:embed="rId2"/>
          <a:stretch/>
        </p:blipFill>
        <p:spPr>
          <a:xfrm>
            <a:off x="250920" y="1773360"/>
            <a:ext cx="4105080" cy="424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646160" y="190512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Їх утворення пов'язані з розломами в земній кор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Озера утворенні таким способом, як правило, мають велику глиби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( Байкал, Балхаш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7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242560" cy="13968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6840" y="1905120"/>
            <a:ext cx="325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</a:rPr>
              <a:t>Такі озера утворилися у кратерах згаслих вулканів. Вони мають невелику площу, але можуть бути дуже глибоким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libri"/>
              </a:rPr>
              <a:t>Поширені на Японських островах,  в Європі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10" descr="вулканическое озеро"/>
          <p:cNvPicPr/>
          <p:nvPr/>
        </p:nvPicPr>
        <p:blipFill>
          <a:blip r:embed="rId2"/>
          <a:stretch/>
        </p:blipFill>
        <p:spPr>
          <a:xfrm>
            <a:off x="3929040" y="2214720"/>
            <a:ext cx="4845240" cy="316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6:29:20Z</dcterms:created>
  <dc:creator>PC</dc:creator>
  <dc:description/>
  <dc:language>en-US</dc:language>
  <cp:lastModifiedBy>UserXP</cp:lastModifiedBy>
  <dcterms:modified xsi:type="dcterms:W3CDTF">2013-03-19T06:00:51Z</dcterms:modified>
  <cp:revision>25</cp:revision>
  <dc:subject/>
  <dc:title>Тема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3d000000000001024140</vt:lpwstr>
  </property>
</Properties>
</file>