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A6B-9A75-440B-B153-30F0F1FC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012-F73A-43A2-BAA9-85536C38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D33-6DAB-4443-9B54-5D1B7E68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FD6-9E2E-47E3-8978-988CE2E2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0C2-ED58-4F3D-80EE-91DCBD74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D25-A57B-454B-9AEC-9FC337CC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1F38-6DE5-46B9-8E99-A3ACC49B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6FC-30B3-4750-B60C-DE2C20C7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B9C6-70B2-4C77-9E40-5F58160F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DB2B-70DD-4F2F-81F8-5D0D3AD4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22E7-B10E-4739-836B-C210F4E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B5F-5C1A-4E9D-A51B-898FEE46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CFA-DE8C-4D3B-87D3-73EDB701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992-116E-4205-AAC7-B594EA2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45E3-90EF-42C6-A915-6DB0564E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15A1-B528-478D-80FB-B248ED10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32D-CD86-4113-93C5-F8965BD6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D62-A4FB-4D78-9DD8-A2970A3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F9E-CFA1-4E25-85E2-91CB04EB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A36-8FE9-4E72-A907-B41F5B1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49F-2D7C-4CB2-99A4-B9027391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4F5-31CA-4EA8-9EE4-C437836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2C1-E648-4F80-B9AE-097B13E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CFF-F99B-4A92-9325-CEFC016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2E40-7F2E-401D-AF0D-0536206C2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AE03-B7D2-45FB-831B-461320270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469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Тема уроку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Узагальнюючий урок по тем</a:t>
            </a:r>
            <a:r>
              <a:rPr b="1" lang="uk-UA" sz="1800" spc="-1" strike="noStrike">
                <a:solidFill>
                  <a:srgbClr val="e5ffff"/>
                </a:solidFill>
                <a:latin typeface="Tahoma"/>
              </a:rPr>
              <a:t>і: «Літосфера»</a:t>
            </a:r>
            <a:br>
              <a:rPr sz="1800"/>
            </a:br>
            <a:r>
              <a:rPr b="1" lang="uk-UA" sz="1600" spc="-1" strike="noStrike">
                <a:solidFill>
                  <a:srgbClr val="e5ffff"/>
                </a:solidFill>
                <a:latin typeface="Tahoma"/>
              </a:rPr>
              <a:t>Мета уроку</a:t>
            </a:r>
            <a:r>
              <a:rPr b="0" lang="uk-UA" sz="1600" spc="-1" strike="noStrike">
                <a:solidFill>
                  <a:srgbClr val="e5ffff"/>
                </a:solidFill>
                <a:latin typeface="Tahoma"/>
              </a:rPr>
              <a:t>: </a:t>
            </a: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27236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Закріпити знання про літосферу як оболонку Землі, закріпити знання про форми рельєфу, гірські породи, мінерали, вулкани, їх будову, гейз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Формувати загально логічні ( аналізувати , робити висновки), інформаційнопошукові (користуватися картою, додатковою літературою) уміння та навички.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Екологічне вихова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5084640"/>
            <a:ext cx="2735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ІУ. Домашнє завданн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ІУ. Повторити тему: «Літосфера»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4 рівень скласти вірш про рельє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ІІ. Актуалізація опорних знань по темі  «Літосфер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21624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605680"/>
            <a:ext cx="57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 для чого нам знання про літосфер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  що зветься літосфер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 збудована во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216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Гірські поро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  що зветься літосфер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 збудована во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ам колекція д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зивайте, що відом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іще цікаво зн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им відрізняється в природі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інерали від пород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495520" cy="250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757600" cy="295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1280" y="260280"/>
            <a:ext cx="1628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68360" y="260280"/>
            <a:ext cx="8229600" cy="2521080"/>
            <a:chOff x="468360" y="260280"/>
            <a:chExt cx="8229600" cy="252108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822960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68360" y="260280"/>
              <a:ext cx="8229600" cy="252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00244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рівна поверхн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шої плане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ут матери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 тут – впадина – ді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 форми рельєфу в основі одн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Які форми мають вон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Учні відповідають, що на материках і в Світовому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океані є гори та рівнини. На комп’ютері показуються фото гірських сист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З давніх давен завели гори </a:t>
            </a:r>
            <a:br>
              <a:rPr sz="2000"/>
            </a:b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Про свою висоту вести спори.</a:t>
            </a:r>
            <a:br>
              <a:rPr sz="2000"/>
            </a:b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Важко, діти, чи все ж просто</a:t>
            </a:r>
            <a:br>
              <a:rPr sz="2000"/>
            </a:b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Їх вам вистроїти по росту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?</a:t>
            </a:r>
            <a:br>
              <a:rPr sz="2000"/>
            </a:br>
            <a:r>
              <a:rPr b="0" i="1" lang="uk-UA" sz="2000" spc="-1" strike="noStrike">
                <a:solidFill>
                  <a:srgbClr val="e5ffff"/>
                </a:solidFill>
                <a:latin typeface="Tahoma"/>
              </a:rPr>
              <a:t>Учні поділяють гори за висотами та показують, їх на карті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Вулка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 гублюся я в догадц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Що за гори на Камчатц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дивіться: тут на фо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Феєрверк підстроїв хто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оже, вірно та чудов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м підкажуть їх будов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27640" y="3716280"/>
            <a:ext cx="2665440" cy="250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2449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Визначення координ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 даю координа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шукайте, діти, ї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 яких матери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ір вершини у хмарка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(62 пн.ш. 150 з.д.  ( Мак- Кінлі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31 пд.ш. 70 з.д.    ( Аконкагу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3  пд.ш.  38 сх.д.   ( Кіліманджар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00920" y="328464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948360" y="4941720"/>
            <a:ext cx="1979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Розминка «Мозковий штурм»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1254600"/>
            <a:ext cx="57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Щоб пізнати глибину в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Що задіє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 повітрі пил, вогонь та попі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 Землі бушує бог вогн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і це гори Гекла, Ет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 ще питання вам від м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рода гірського ц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з шпату, слюди та квар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є джерела фонт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тік води вагом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 сусідах з ним живе вул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роцес цей відомий в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ітер гонить по пустел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Гори жовтого піс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 звуться гор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Згадай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ідповідь вірну да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04000" y="191628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19640" y="3284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093080" y="43657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076720" y="54291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e5ffff"/>
                </a:solidFill>
                <a:latin typeface="Tahoma"/>
              </a:rPr>
              <a:t>«Лови  помилку»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дро, мантія,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 впадина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,земна к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Вершина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дюни, бархани, я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ідошва, схил, вершина,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пороги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іпоцентр, епіцентр, сейсмічна хвиля,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кра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Низовина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перевал, гребінь, хреб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йзер, вулкан, кратер, лава,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гіпоцент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0:44:20Z</dcterms:created>
  <dc:creator>Директор</dc:creator>
  <dc:description/>
  <dc:language>en-US</dc:language>
  <cp:lastModifiedBy>Директор</cp:lastModifiedBy>
  <dcterms:modified xsi:type="dcterms:W3CDTF">2013-09-25T10:21:3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2000000000001024140</vt:lpwstr>
  </property>
</Properties>
</file>