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7.jpeg" ContentType="image/jpe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1.png" ContentType="image/png"/>
  <Override PartName="/ppt/media/image38.jpeg" ContentType="image/jpeg"/>
  <Override PartName="/ppt/media/image9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4.png" ContentType="image/png"/>
  <Override PartName="/ppt/media/image75.jpeg" ContentType="image/jpeg"/>
  <Override PartName="/ppt/media/image13.jpeg" ContentType="image/jpeg"/>
  <Override PartName="/ppt/media/image10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43.jpeg" ContentType="image/jpeg"/>
  <Override PartName="/ppt/media/image5.png" ContentType="image/png"/>
  <Override PartName="/ppt/media/image39.jpeg" ContentType="image/jpeg"/>
  <Override PartName="/ppt/media/image9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89.jpeg" ContentType="image/jpeg"/>
  <Override PartName="/ppt/media/image9.png" ContentType="image/png"/>
  <Override PartName="/ppt/media/image93.jpeg" ContentType="image/jpeg"/>
  <Override PartName="/ppt/media/image63.jpeg" ContentType="image/jpeg"/>
  <Override PartName="/ppt/media/image110.jpeg" ContentType="image/jpeg"/>
  <Override PartName="/ppt/media/image60.png" ContentType="image/png"/>
  <Override PartName="/ppt/media/image90.jpeg" ContentType="image/jpeg"/>
  <Override PartName="/ppt/media/image64.jpeg" ContentType="image/jpeg"/>
  <Override PartName="/ppt/media/image67.jpeg" ContentType="image/jpeg"/>
  <Override PartName="/ppt/media/image61.png" ContentType="image/png"/>
  <Override PartName="/ppt/media/image94.jpeg" ContentType="image/jpeg"/>
  <Override PartName="/ppt/media/image91.jpeg" ContentType="image/jpeg"/>
  <Override PartName="/ppt/media/image111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3.png" ContentType="image/png"/>
  <Override PartName="/ppt/media/image74.jpeg" ContentType="image/jpeg"/>
  <Override PartName="/ppt/media/image76.jpeg" ContentType="image/jpeg"/>
  <Override PartName="/ppt/media/image99.png" ContentType="image/png"/>
  <Override PartName="/ppt/media/image51.jpeg" ContentType="image/jpeg"/>
  <Override PartName="/ppt/media/image100.jpeg" ContentType="image/jpeg"/>
  <Override PartName="/ppt/media/image66.jpeg" ContentType="image/jpeg"/>
  <Override PartName="/ppt/media/image95.jpeg" ContentType="image/jpeg"/>
  <Override PartName="/ppt/media/image78.jpeg" ContentType="image/jpeg"/>
  <Override PartName="/ppt/media/image36.png" ContentType="image/png"/>
  <Override PartName="/ppt/media/image104.jpeg" ContentType="image/jpeg"/>
  <Override PartName="/ppt/media/image84.jpeg" ContentType="image/jpeg"/>
  <Override PartName="/ppt/media/image96.jpeg" ContentType="image/jpeg"/>
  <Override PartName="/ppt/media/image77.jpeg" ContentType="image/jpeg"/>
  <Override PartName="/ppt/media/image103.jpeg" ContentType="image/jpeg"/>
  <Override PartName="/ppt/media/image83.jpeg" ContentType="image/jpeg"/>
  <Override PartName="/ppt/media/image50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24.png" ContentType="image/png"/>
  <Override PartName="/ppt/media/image28.jpeg" ContentType="image/jpeg"/>
  <Override PartName="/ppt/media/image87.jpeg" ContentType="image/jpeg"/>
  <Override PartName="/ppt/media/image11.jpeg" ContentType="image/jpeg"/>
  <Override PartName="/ppt/media/image107.jpeg" ContentType="image/jpeg"/>
  <Override PartName="/ppt/media/image106.png" ContentType="image/png"/>
  <Override PartName="/ppt/media/image16.jpeg" ContentType="image/jpeg"/>
  <Override PartName="/ppt/media/image65.jpeg" ContentType="image/jpeg"/>
  <Override PartName="/ppt/media/image49.png" ContentType="image/png"/>
  <Override PartName="/ppt/media/image18.jpeg" ContentType="image/jpeg"/>
  <Override PartName="/ppt/media/image17.jpeg" ContentType="image/jpeg"/>
  <Override PartName="/ppt/media/image92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56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13D-E904-432B-B3CE-F011CCA7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B74-1599-493C-B379-E6867416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0B7-C7F2-4E85-978E-FA9C867E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1A5-4CD5-4FF9-984D-8EAE852C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1640-07DB-4522-962C-F7586A8B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8636-8950-4B5A-9FCA-A6F471CA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60C8-B78F-4C8D-AD94-94E122B8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3B16-AE50-4AA3-8CA1-87E9BAC0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FB0D-F3E0-457B-9949-39B17399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FE8F-FEBB-44C7-BB8A-DDBF33FE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F4C6-F150-4623-B03F-AC579069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BA8-461A-4B25-B38B-A7B9A5E9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3BAB-67C7-48D2-AB0F-0D11738B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4CC1-E2F8-4F81-8D2B-504725F5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7644-4A42-43DB-A3B9-DDB2EE1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8156-BF80-4DE0-9F08-9F4E02B9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41E4-9053-4005-9909-4E9005F9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9AE37-12FA-4172-9A28-1614804B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8B2F-8295-486F-8CBC-24C13807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5335-06DB-427A-BEF9-51120796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31E4-DE82-4A9F-ADA4-A5CCA938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B71C-3CF8-47D9-9717-733836E7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8BC-76B0-45D4-9CBE-0715A379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B7DC-DC51-43E5-82E7-9A8A2159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05BF-EDF5-412C-91B2-20661511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D747-E5B4-45DE-AAE8-891B4F07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59CA-C453-4C41-BED1-17B1F04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8327-91CF-428B-9936-7F919792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6175-CF4B-444C-9EAB-F1AC48BB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180D-5FAD-4A28-BCBF-B7E124D7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3B03D-CFD0-4D0D-9414-53377362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D5D0-7F32-48C5-8AF2-2B46873E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38AD-FA6C-42B1-BDC3-0D72B8A9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654-6985-4A07-B8AA-C9D0BC90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1EDDE-85B9-4E4E-B2F9-319E45D9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4D736-DD62-4637-A994-F66E9E7B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1001-F095-469E-B90F-F1AC1D18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7B8AC-A1E4-43FD-AE85-08279594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B027F-B0A3-479B-9FED-6A1ADC6C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C08A3-0BEC-424E-901F-6A2D1992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AF1D8-198F-4742-AE24-224CE827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B8BD-D568-45B9-AEF1-CEB41366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F1C5-4548-4E1B-B5B2-E2933879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FF6-71E8-4DA0-96CD-7A88A12D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FAD-A4D9-4CD3-99F6-C3F5C5D8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CA2-A347-4DB9-B568-024F8A17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B52-146F-4A9B-B179-FDDCC5D7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A37-E676-4D4D-B29C-3E28D00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D3D9-81C8-4EA8-A1AC-9E229F4315D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9158-1745-41BE-992F-ABBA708484D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5230-F809-4625-8259-75B8CFA3116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8EB3-4B22-4B55-B709-853F9F1AE60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image" Target="../media/image84.jpeg"/><Relationship Id="rId7" Type="http://schemas.openxmlformats.org/officeDocument/2006/relationships/image" Target="../media/image85.jpeg"/><Relationship Id="rId8" Type="http://schemas.openxmlformats.org/officeDocument/2006/relationships/image" Target="../media/image86.jpeg"/><Relationship Id="rId9" Type="http://schemas.openxmlformats.org/officeDocument/2006/relationships/image" Target="../media/image87.jpeg"/><Relationship Id="rId10" Type="http://schemas.openxmlformats.org/officeDocument/2006/relationships/image" Target="../media/image88.jpeg"/><Relationship Id="rId11" Type="http://schemas.openxmlformats.org/officeDocument/2006/relationships/image" Target="../media/image89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image" Target="../media/image9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png"/><Relationship Id="rId6" Type="http://schemas.openxmlformats.org/officeDocument/2006/relationships/image" Target="../media/image10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image" Target="../media/image105.jpeg"/><Relationship Id="rId6" Type="http://schemas.openxmlformats.org/officeDocument/2006/relationships/hyperlink" Target="http://znaimo.com.ua/&#1050;&#1080;&#1089;&#1083;&#1086;&#1090;&#1085;&#1110;&#1089;&#1090;&#1100;" TargetMode="External"/><Relationship Id="rId7" Type="http://schemas.openxmlformats.org/officeDocument/2006/relationships/hyperlink" Target="http://znaimo.com.ua/&#1055;&#1110;&#1076;&#1079;&#1077;&#1084;&#1085;&#1110;_&#1074;&#1086;&#1076;&#1080;" TargetMode="External"/><Relationship Id="rId8" Type="http://schemas.openxmlformats.org/officeDocument/2006/relationships/hyperlink" Target="http://znaimo.com.ua/&#1055;&#1110;&#1076;&#1079;&#1077;&#1084;&#1085;&#1110;_&#1074;&#1086;&#1076;&#1080;" TargetMode="External"/><Relationship Id="rId9" Type="http://schemas.openxmlformats.org/officeDocument/2006/relationships/hyperlink" Target="http://znaimo.com.ua/&#1058;&#1086;&#1088;&#1092;" TargetMode="External"/><Relationship Id="rId10" Type="http://schemas.openxmlformats.org/officeDocument/2006/relationships/hyperlink" Target="http://znaimo.com.ua/&#1057;&#1080;&#1083;&#1091;&#1088;" TargetMode="External"/><Relationship Id="rId11" Type="http://schemas.openxmlformats.org/officeDocument/2006/relationships/hyperlink" Target="http://znaimo.com.ua/&#1044;&#1077;&#1074;&#1086;&#1085;&#1089;&#1100;&#1082;&#1080;&#1081;_&#1087;&#1077;&#1088;&#1110;&#1086;&#1076;" TargetMode="External"/><Relationship Id="rId12" Type="http://schemas.openxmlformats.org/officeDocument/2006/relationships/image" Target="../media/image106.png"/><Relationship Id="rId13" Type="http://schemas.openxmlformats.org/officeDocument/2006/relationships/image" Target="../media/image107.jpeg"/><Relationship Id="rId14" Type="http://schemas.openxmlformats.org/officeDocument/2006/relationships/image" Target="../media/image108.jpeg"/><Relationship Id="rId15" Type="http://schemas.openxmlformats.org/officeDocument/2006/relationships/image" Target="../media/image109.jpeg"/><Relationship Id="rId16" Type="http://schemas.openxmlformats.org/officeDocument/2006/relationships/image" Target="../media/image110.jpeg"/><Relationship Id="rId17" Type="http://schemas.openxmlformats.org/officeDocument/2006/relationships/image" Target="../media/image111.jpeg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30240"/>
            <a:ext cx="822960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33240" y="2036880"/>
            <a:ext cx="7729560" cy="438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4200" y="928800"/>
            <a:ext cx="867888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Мертве море, Бахр – Лут – безтічне солоне озеро в Ізраїлі і Йорданії 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Розташоване в тектонічній впадині Гхор на 395 – 427 м нижче рівня моря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Площа – 1050 км ², довжина - 76 км, ширина – 17 км, глибина – до 356 м,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максимальна солоність – 400‰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Органічне життя відсутнє, крім деяких видів бактерій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Добувають калійну сіль, бром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5" name="Прямоугольник 6" descr=""/>
          <p:cNvPicPr/>
          <p:nvPr/>
        </p:nvPicPr>
        <p:blipFill>
          <a:blip r:embed="rId2"/>
          <a:stretch/>
        </p:blipFill>
        <p:spPr>
          <a:xfrm>
            <a:off x="579600" y="-176040"/>
            <a:ext cx="7742160" cy="1139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F:\Фото\Фото0420.jpg"/>
          <p:cNvPicPr/>
          <p:nvPr/>
        </p:nvPicPr>
        <p:blipFill>
          <a:blip r:embed="rId3"/>
          <a:stretch/>
        </p:blipFill>
        <p:spPr>
          <a:xfrm>
            <a:off x="214200" y="3429000"/>
            <a:ext cx="2394000" cy="3192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F:\Фото\Фото0465.jpg"/>
          <p:cNvPicPr/>
          <p:nvPr/>
        </p:nvPicPr>
        <p:blipFill>
          <a:blip r:embed="rId4"/>
          <a:stretch/>
        </p:blipFill>
        <p:spPr>
          <a:xfrm>
            <a:off x="2928960" y="3429000"/>
            <a:ext cx="2374920" cy="3166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5"/>
          <a:stretch/>
        </p:blipFill>
        <p:spPr>
          <a:xfrm>
            <a:off x="5937120" y="3213000"/>
            <a:ext cx="2621160" cy="1968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6"/>
          <a:srcRect l="0" t="0" r="0" b="-334"/>
          <a:stretch/>
        </p:blipFill>
        <p:spPr>
          <a:xfrm>
            <a:off x="5715000" y="5143680"/>
            <a:ext cx="3051000" cy="1571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424560" y="4508640"/>
            <a:ext cx="1603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 на берез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ртв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135840" y="6308640"/>
            <a:ext cx="204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ікувальні грязі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111480" y="5950080"/>
            <a:ext cx="1901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йсолоніше озер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віту – Мертв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447840" y="6165720"/>
            <a:ext cx="182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рський прості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836640"/>
            <a:ext cx="864396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Озеро входить до складу Шацьких озер Волинської області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Площа – 24,2км ², довжина – 9,3 км, ширина – 4,8 км, глибина (максимальна)- 58,4 м, прозорість – 5,4  м. Світязь – карстового походження, взимку замерзає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Водяна рослинність: очерет, рогіз, глечики жовті, латаття біле.     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Риба - водяний вугор, сом, лящ, карась, сиг. Район  туризму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5" name="Прямоугольник 6" descr=""/>
          <p:cNvPicPr/>
          <p:nvPr/>
        </p:nvPicPr>
        <p:blipFill>
          <a:blip r:embed="rId2"/>
          <a:stretch/>
        </p:blipFill>
        <p:spPr>
          <a:xfrm>
            <a:off x="1689120" y="42840"/>
            <a:ext cx="5589720" cy="1103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3"/>
          <a:stretch/>
        </p:blipFill>
        <p:spPr>
          <a:xfrm>
            <a:off x="6303960" y="277956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4"/>
          <a:stretch/>
        </p:blipFill>
        <p:spPr>
          <a:xfrm>
            <a:off x="3635280" y="2852640"/>
            <a:ext cx="2610000" cy="194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5"/>
          <a:stretch/>
        </p:blipFill>
        <p:spPr>
          <a:xfrm>
            <a:off x="3780000" y="494172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6"/>
          <a:stretch/>
        </p:blipFill>
        <p:spPr>
          <a:xfrm>
            <a:off x="250920" y="2852640"/>
            <a:ext cx="3241440" cy="2016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7"/>
          <a:stretch/>
        </p:blipFill>
        <p:spPr>
          <a:xfrm>
            <a:off x="6443640" y="4797360"/>
            <a:ext cx="2449440" cy="18716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3"/>
          <p:cNvSpPr/>
          <p:nvPr/>
        </p:nvSpPr>
        <p:spPr>
          <a:xfrm>
            <a:off x="7093080" y="2924280"/>
            <a:ext cx="1280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Шацькі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6516720" y="566100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1116000" y="443700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Світ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4211640" y="6453360"/>
            <a:ext cx="1417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одяний ву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4067280" y="2924280"/>
            <a:ext cx="2060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слинність озера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віт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6" descr=""/>
          <p:cNvPicPr/>
          <p:nvPr/>
        </p:nvPicPr>
        <p:blipFill>
          <a:blip r:embed="rId8"/>
          <a:stretch/>
        </p:blipFill>
        <p:spPr>
          <a:xfrm>
            <a:off x="250920" y="4941720"/>
            <a:ext cx="3241440" cy="17431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7"/>
          <p:cNvSpPr/>
          <p:nvPr/>
        </p:nvSpPr>
        <p:spPr>
          <a:xfrm>
            <a:off x="538200" y="6308640"/>
            <a:ext cx="123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ле лататт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4"/>
          <p:cNvSpPr txBox="1"/>
          <p:nvPr/>
        </p:nvSpPr>
        <p:spPr>
          <a:xfrm>
            <a:off x="1643040" y="571680"/>
            <a:ext cx="575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Ялпуг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2705040" cy="1695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"/>
          <p:cNvPicPr/>
          <p:nvPr/>
        </p:nvPicPr>
        <p:blipFill>
          <a:blip r:embed="rId3"/>
          <a:stretch/>
        </p:blipFill>
        <p:spPr>
          <a:xfrm>
            <a:off x="6084720" y="4869000"/>
            <a:ext cx="2822760" cy="1828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6" descr=""/>
          <p:cNvPicPr/>
          <p:nvPr/>
        </p:nvPicPr>
        <p:blipFill>
          <a:blip r:embed="rId4"/>
          <a:stretch/>
        </p:blipFill>
        <p:spPr>
          <a:xfrm>
            <a:off x="6300720" y="285264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7"/>
          <p:cNvSpPr/>
          <p:nvPr/>
        </p:nvSpPr>
        <p:spPr>
          <a:xfrm>
            <a:off x="303120" y="1312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6"/>
          <p:cNvSpPr/>
          <p:nvPr/>
        </p:nvSpPr>
        <p:spPr>
          <a:xfrm>
            <a:off x="324000" y="148428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о Ялпуг знаходиться в Одеськ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й област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 гирлі Дунаю. Довжина до 39 км , широна до 5 км, площа-149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середня глибина-2 м. Заплавне. Живиться за рахунок водообміну з озером Кугурлуй. Впадає річка Ялпуг. Взимку замерзає. Береги порослі очеретом і рогозом. Багатий рослинний і тваринний сві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"/>
          <p:cNvPicPr/>
          <p:nvPr/>
        </p:nvPicPr>
        <p:blipFill>
          <a:blip r:embed="rId5"/>
          <a:stretch/>
        </p:blipFill>
        <p:spPr>
          <a:xfrm>
            <a:off x="324000" y="2924280"/>
            <a:ext cx="2587320" cy="1817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"/>
          <p:cNvPicPr/>
          <p:nvPr/>
        </p:nvPicPr>
        <p:blipFill>
          <a:blip r:embed="rId6"/>
          <a:stretch/>
        </p:blipFill>
        <p:spPr>
          <a:xfrm>
            <a:off x="3059280" y="3068640"/>
            <a:ext cx="3025440" cy="1639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8" descr=""/>
          <p:cNvPicPr/>
          <p:nvPr/>
        </p:nvPicPr>
        <p:blipFill>
          <a:blip r:embed="rId7"/>
          <a:stretch/>
        </p:blipFill>
        <p:spPr>
          <a:xfrm>
            <a:off x="3132000" y="4797360"/>
            <a:ext cx="2735280" cy="19144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20"/>
          <p:cNvSpPr/>
          <p:nvPr/>
        </p:nvSpPr>
        <p:spPr>
          <a:xfrm>
            <a:off x="395280" y="5013360"/>
            <a:ext cx="252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еги озера порос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чер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7020000" y="6308640"/>
            <a:ext cx="71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ас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132000" y="4365720"/>
            <a:ext cx="288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лпуг-найбільше озеро Украї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1476360" y="2997360"/>
            <a:ext cx="1347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Жовті глеч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6372360" y="4365720"/>
            <a:ext cx="1112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щі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3564000" y="630864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онячна доріж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329680" cy="142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одекуди на материку Євразія поширені гарячі джерела. Особливо їх багато на острові Ісландія та півострові Камча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1" name="Прямоугольник 6" descr=""/>
          <p:cNvPicPr/>
          <p:nvPr/>
        </p:nvPicPr>
        <p:blipFill>
          <a:blip r:embed="rId2"/>
          <a:stretch/>
        </p:blipFill>
        <p:spPr>
          <a:xfrm>
            <a:off x="60480" y="12600"/>
            <a:ext cx="8845560" cy="1187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250920" y="4809960"/>
            <a:ext cx="3011400" cy="2048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4"/>
          <a:stretch/>
        </p:blipFill>
        <p:spPr>
          <a:xfrm>
            <a:off x="3276720" y="2637000"/>
            <a:ext cx="257148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2036880" cy="2928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2466720" cy="209232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9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3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5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1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3"/>
          <p:cNvSpPr/>
          <p:nvPr/>
        </p:nvSpPr>
        <p:spPr>
          <a:xfrm>
            <a:off x="3348000" y="249228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25"/>
          <p:cNvSpPr/>
          <p:nvPr/>
        </p:nvSpPr>
        <p:spPr>
          <a:xfrm>
            <a:off x="3348000" y="249228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6" descr="imagesCAAYHTU9"/>
          <p:cNvPicPr/>
          <p:nvPr/>
        </p:nvPicPr>
        <p:blipFill>
          <a:blip r:embed="rId7"/>
          <a:stretch/>
        </p:blipFill>
        <p:spPr>
          <a:xfrm>
            <a:off x="6372360" y="50292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8"/>
          <p:cNvSpPr/>
          <p:nvPr/>
        </p:nvSpPr>
        <p:spPr>
          <a:xfrm>
            <a:off x="376200" y="4149720"/>
            <a:ext cx="2179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зична карта Ісланд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8151840" y="215424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395280" y="6453360"/>
            <a:ext cx="1406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іючий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3564000" y="4149720"/>
            <a:ext cx="201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верження вулк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8532720" y="2997360"/>
            <a:ext cx="28728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"/>
          <p:cNvPicPr/>
          <p:nvPr/>
        </p:nvPicPr>
        <p:blipFill>
          <a:blip r:embed="rId8"/>
          <a:stretch/>
        </p:blipFill>
        <p:spPr>
          <a:xfrm>
            <a:off x="3492360" y="49417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9"/>
          <p:cNvSpPr/>
          <p:nvPr/>
        </p:nvSpPr>
        <p:spPr>
          <a:xfrm>
            <a:off x="5219280" y="6381720"/>
            <a:ext cx="147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арячі джер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6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908000" y="907560"/>
            <a:ext cx="5832720" cy="17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f6fc6"/>
                </a:solidFill>
                <a:latin typeface="Constantia"/>
              </a:rPr>
              <a:t>Деякі гарячі джерела через певні проміжки часу викидають вгору струмені окропу. Ці фонтануючі джерела називаються гейзерами. На півострові Камчатка- знаменита Долина гейзерів. Великий гейзер можна побачити на острові вогню і льоду –Ісландії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Прямоугольник 6" descr=""/>
          <p:cNvPicPr/>
          <p:nvPr/>
        </p:nvPicPr>
        <p:blipFill>
          <a:blip r:embed="rId2"/>
          <a:stretch/>
        </p:blipFill>
        <p:spPr>
          <a:xfrm>
            <a:off x="2152800" y="-42840"/>
            <a:ext cx="4485960" cy="14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4"/>
          <a:stretch/>
        </p:blipFill>
        <p:spPr>
          <a:xfrm>
            <a:off x="6948360" y="2637000"/>
            <a:ext cx="1943280" cy="1571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5"/>
          <a:stretch/>
        </p:blipFill>
        <p:spPr>
          <a:xfrm>
            <a:off x="3635280" y="4724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"/>
          <p:cNvPicPr/>
          <p:nvPr/>
        </p:nvPicPr>
        <p:blipFill>
          <a:blip r:embed="rId6"/>
          <a:stretch/>
        </p:blipFill>
        <p:spPr>
          <a:xfrm>
            <a:off x="108000" y="642960"/>
            <a:ext cx="1871640" cy="1971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7"/>
          <a:stretch/>
        </p:blipFill>
        <p:spPr>
          <a:xfrm>
            <a:off x="7740720" y="297000"/>
            <a:ext cx="1224000" cy="2071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"/>
          <p:cNvPicPr/>
          <p:nvPr/>
        </p:nvPicPr>
        <p:blipFill>
          <a:blip r:embed="rId8"/>
          <a:stretch/>
        </p:blipFill>
        <p:spPr>
          <a:xfrm>
            <a:off x="179280" y="2637000"/>
            <a:ext cx="2229120" cy="204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9"/>
          <a:stretch/>
        </p:blipFill>
        <p:spPr>
          <a:xfrm>
            <a:off x="250920" y="4941720"/>
            <a:ext cx="3219480" cy="1419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10"/>
          <a:stretch/>
        </p:blipFill>
        <p:spPr>
          <a:xfrm>
            <a:off x="6300720" y="4724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4"/>
          <p:cNvSpPr/>
          <p:nvPr/>
        </p:nvSpPr>
        <p:spPr>
          <a:xfrm>
            <a:off x="87480" y="2276640"/>
            <a:ext cx="2108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 Ісланд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8028000" y="1700280"/>
            <a:ext cx="1116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ча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7093080" y="4149720"/>
            <a:ext cx="1658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іючий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5364000" y="6381720"/>
            <a:ext cx="17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лина гейзер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468360" y="6453360"/>
            <a:ext cx="26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ликий гейзер. З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1"/>
          <a:srcRect l="0" t="0" r="225" b="0"/>
          <a:stretch/>
        </p:blipFill>
        <p:spPr>
          <a:xfrm>
            <a:off x="4643280" y="2565360"/>
            <a:ext cx="2311560" cy="2016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2"/>
          <p:cNvSpPr/>
          <p:nvPr/>
        </p:nvSpPr>
        <p:spPr>
          <a:xfrm>
            <a:off x="179280" y="4653000"/>
            <a:ext cx="230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ликий гейзер. Ісланд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2484360" y="4457880"/>
            <a:ext cx="230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онтануючі гейзери. Лі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5848200" y="4221000"/>
            <a:ext cx="1100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твор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ей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6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6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6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6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2268360" y="620640"/>
            <a:ext cx="44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ЬОДОВИКИ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2" name="Picture 3" descr="24"/>
          <p:cNvPicPr/>
          <p:nvPr/>
        </p:nvPicPr>
        <p:blipFill>
          <a:blip r:embed="rId2"/>
          <a:stretch/>
        </p:blipFill>
        <p:spPr>
          <a:xfrm>
            <a:off x="6227640" y="3357720"/>
            <a:ext cx="2665440" cy="15033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"/>
          <p:cNvSpPr/>
          <p:nvPr/>
        </p:nvSpPr>
        <p:spPr>
          <a:xfrm>
            <a:off x="138420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9280" y="1268280"/>
            <a:ext cx="8353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Льодовики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– скупчення багатор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ічного льоду на суші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Розрізняють гірські і покривні льодов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З висотою сніг нагромаджується і перетворюється в лі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тому вершини високих гір покриті льодовиками і сні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Покривні  льодовики Антарктиди і Гренландії під дією 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тяжіння сповзають, відколюються і створюють великі глиб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льоду – айсберги, які дрейфують в океані. Вони досягаю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розмірів – від декількох десятків км в довжину і до 200 м 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вис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2" descr="http://t3.gstatic.com/images?q=tbn:ANd9GcTuD1q3cvpOGOJXCgV0r1-kaDAgksw3tqw7YFDS7hOzEl5q02QB"/>
          <p:cNvPicPr/>
          <p:nvPr/>
        </p:nvPicPr>
        <p:blipFill>
          <a:blip r:embed="rId3"/>
          <a:stretch/>
        </p:blipFill>
        <p:spPr>
          <a:xfrm>
            <a:off x="179280" y="4437000"/>
            <a:ext cx="3249720" cy="2189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http://t1.gstatic.com/images?q=tbn:ANd9GcTEWwhzlMPYtBqXTCGzZM6eb5u6xS7tOoAxbxiduNfjMP7Gub2Z"/>
          <p:cNvPicPr/>
          <p:nvPr/>
        </p:nvPicPr>
        <p:blipFill>
          <a:blip r:embed="rId4"/>
          <a:stretch/>
        </p:blipFill>
        <p:spPr>
          <a:xfrm>
            <a:off x="3564000" y="3284640"/>
            <a:ext cx="2448000" cy="1814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6" descr="http://t1.gstatic.com/images?q=tbn:ANd9GcR7J-4fmTyUPNm1m7mpyTPNgSlrsBOC6FUUTKuyTm07OHb0zu7j"/>
          <p:cNvPicPr/>
          <p:nvPr/>
        </p:nvPicPr>
        <p:blipFill>
          <a:blip r:embed="rId5"/>
          <a:stretch/>
        </p:blipFill>
        <p:spPr>
          <a:xfrm>
            <a:off x="6227640" y="5013360"/>
            <a:ext cx="2667240" cy="171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3" descr=""/>
          <p:cNvPicPr/>
          <p:nvPr/>
        </p:nvPicPr>
        <p:blipFill>
          <a:blip r:embed="rId6"/>
          <a:stretch/>
        </p:blipFill>
        <p:spPr>
          <a:xfrm>
            <a:off x="6810480" y="1268280"/>
            <a:ext cx="2333520" cy="19623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5"/>
          <p:cNvSpPr/>
          <p:nvPr/>
        </p:nvSpPr>
        <p:spPr>
          <a:xfrm>
            <a:off x="1403280" y="623736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ворення айсбе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3924360" y="4724280"/>
            <a:ext cx="194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ривний льодов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6372360" y="450864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йсберг дрейфу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6804000" y="2637000"/>
            <a:ext cx="23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лі ведмеді дрейфую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великій глибі ль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6567480" y="6381720"/>
            <a:ext cx="1965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ьодові вор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9" descr=""/>
          <p:cNvPicPr/>
          <p:nvPr/>
        </p:nvPicPr>
        <p:blipFill>
          <a:blip r:embed="rId7"/>
          <a:stretch/>
        </p:blipFill>
        <p:spPr>
          <a:xfrm>
            <a:off x="3492360" y="5157720"/>
            <a:ext cx="2590920" cy="15112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20"/>
          <p:cNvSpPr/>
          <p:nvPr/>
        </p:nvSpPr>
        <p:spPr>
          <a:xfrm>
            <a:off x="3564000" y="6308640"/>
            <a:ext cx="244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ри покриті льодов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http://t0.gstatic.com/images?q=tbn:ANd9GcT3MlHab3txf-rfvh1-84DLRhV4Acm9m04CazQnxcqdr8qNhynn"/>
          <p:cNvPicPr/>
          <p:nvPr/>
        </p:nvPicPr>
        <p:blipFill>
          <a:blip r:embed="rId2"/>
          <a:stretch/>
        </p:blipFill>
        <p:spPr>
          <a:xfrm>
            <a:off x="4071960" y="48578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http://t3.gstatic.com/images?q=tbn:ANd9GcTlEui_d6RhmavhNT1ggEGZDzB-tLwNYj_qN75msXAp47OcluxEpA"/>
          <p:cNvPicPr/>
          <p:nvPr/>
        </p:nvPicPr>
        <p:blipFill>
          <a:blip r:embed="rId3"/>
          <a:stretch/>
        </p:blipFill>
        <p:spPr>
          <a:xfrm>
            <a:off x="428760" y="4214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http://t2.gstatic.com/images?q=tbn:ANd9GcQqltrNuL9esMij6K9Uy8Or8Y_ogNDl9JyXMja9Q0B_a2nq4aP6"/>
          <p:cNvPicPr/>
          <p:nvPr/>
        </p:nvPicPr>
        <p:blipFill>
          <a:blip r:embed="rId4"/>
          <a:stretch/>
        </p:blipFill>
        <p:spPr>
          <a:xfrm>
            <a:off x="3348000" y="3573360"/>
            <a:ext cx="3168720" cy="1722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855440"/>
            <a:ext cx="8362800" cy="243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Багаторічна мерзлота – це шар мерзлого ґрунту (землі) який постійно зберігає температуру нижче від 0°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Потужність шарів мерзлоти різна, від декількох метрів до одного кілометра. Інколи на глибині зустрічаються шари льоду до 60 м, його називають викопним льод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Поширена багаторічна мерзлота в Північній півкулі в Пн. Америці та Євразії (займає 25% території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4" name="Прямоугольник 6" descr=""/>
          <p:cNvPicPr/>
          <p:nvPr/>
        </p:nvPicPr>
        <p:blipFill>
          <a:blip r:embed="rId5"/>
          <a:stretch/>
        </p:blipFill>
        <p:spPr>
          <a:xfrm>
            <a:off x="695160" y="487440"/>
            <a:ext cx="7826400" cy="907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http://t2.gstatic.com/images?q=tbn:ANd9GcTqak7j7t3MOCQ2RxIbgje2ldd02Fs7QKF-a1Im6CO9LnhGOzIS"/>
          <p:cNvPicPr/>
          <p:nvPr/>
        </p:nvPicPr>
        <p:blipFill>
          <a:blip r:embed="rId6"/>
          <a:stretch/>
        </p:blipFill>
        <p:spPr>
          <a:xfrm>
            <a:off x="7000920" y="3429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8"/>
          <p:cNvSpPr/>
          <p:nvPr/>
        </p:nvSpPr>
        <p:spPr>
          <a:xfrm>
            <a:off x="971640" y="5734080"/>
            <a:ext cx="151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копний 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3348000" y="5084640"/>
            <a:ext cx="26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 багаторічної мерз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4140360" y="6453360"/>
            <a:ext cx="230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Шар мерзлого грун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7216920" y="5538960"/>
            <a:ext cx="1317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вніч Євраз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5219640" y="6381720"/>
            <a:ext cx="357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географи - літературознавц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0" descr="http://znaimo.com.ua/images/rubase_1_618513562_22006.jpg"/>
          <p:cNvPicPr/>
          <p:nvPr/>
        </p:nvPicPr>
        <p:blipFill>
          <a:blip r:embed="rId2"/>
          <a:stretch/>
        </p:blipFill>
        <p:spPr>
          <a:xfrm>
            <a:off x="4932360" y="5373720"/>
            <a:ext cx="2095560" cy="1368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Файл:Cranberry bog.jpg"/>
          <p:cNvPicPr/>
          <p:nvPr/>
        </p:nvPicPr>
        <p:blipFill>
          <a:blip r:embed="rId3"/>
          <a:stretch/>
        </p:blipFill>
        <p:spPr>
          <a:xfrm>
            <a:off x="6732720" y="1628640"/>
            <a:ext cx="2247840" cy="1484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http://znaimo.com.ua/images/rubase_1_618399410_24494.jpg"/>
          <p:cNvPicPr/>
          <p:nvPr/>
        </p:nvPicPr>
        <p:blipFill>
          <a:blip r:embed="rId4"/>
          <a:stretch/>
        </p:blipFill>
        <p:spPr>
          <a:xfrm>
            <a:off x="6953400" y="5214960"/>
            <a:ext cx="2190600" cy="15271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http://znaimo.com.ua/images/rubase_1_618339491_29934.jpg"/>
          <p:cNvPicPr/>
          <p:nvPr/>
        </p:nvPicPr>
        <p:blipFill>
          <a:blip r:embed="rId5"/>
          <a:stretch/>
        </p:blipFill>
        <p:spPr>
          <a:xfrm>
            <a:off x="0" y="4941720"/>
            <a:ext cx="2608200" cy="16671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08000" y="155736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Болото (також твань, трясовина) - ділянка суші або ланд-    шафту, що характеризується надмірним зволоженням, підвищеною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кислотністю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і низькою родючістю , виходом             на поверхню стоячих або проточних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ґрунтових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 вод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, але без постійного шару води на поверхні. Для болота характерно відкладення на поверхні ґрунту  органічної речовини, що перетворюється в подальшому в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торф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. Шар торфу в боло-            тах не менше 30 см, якщо менше, то це заболочені землі .                 Болота є складовою частиною гідросфери. Перші болота               на Землі утворилися на стику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силуру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і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девону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350-400 млн.       років тому. На болотах ростуть цінні рослини: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лохина,журавлина, морошк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7" name="Прямоугольник 3" descr=""/>
          <p:cNvPicPr/>
          <p:nvPr/>
        </p:nvPicPr>
        <p:blipFill>
          <a:blip r:embed="rId12"/>
          <a:stretch/>
        </p:blipFill>
        <p:spPr>
          <a:xfrm>
            <a:off x="2408400" y="-30240"/>
            <a:ext cx="4443120" cy="1481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http://znaimo.com.ua/images/rubase_1_618779435_12642.jpg"/>
          <p:cNvPicPr/>
          <p:nvPr/>
        </p:nvPicPr>
        <p:blipFill>
          <a:blip r:embed="rId13"/>
          <a:stretch/>
        </p:blipFill>
        <p:spPr>
          <a:xfrm>
            <a:off x="6715080" y="142920"/>
            <a:ext cx="2214720" cy="1428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6" descr="http://znaimo.com.ua/images/rubase_1_618860215_6838.jpg"/>
          <p:cNvPicPr/>
          <p:nvPr/>
        </p:nvPicPr>
        <p:blipFill>
          <a:blip r:embed="rId14"/>
          <a:stretch/>
        </p:blipFill>
        <p:spPr>
          <a:xfrm>
            <a:off x="250920" y="189000"/>
            <a:ext cx="1820880" cy="128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8" descr="Слонова черепаха 3"/>
          <p:cNvPicPr/>
          <p:nvPr/>
        </p:nvPicPr>
        <p:blipFill>
          <a:blip r:embed="rId15"/>
          <a:stretch/>
        </p:blipFill>
        <p:spPr>
          <a:xfrm>
            <a:off x="5435640" y="4365720"/>
            <a:ext cx="1219320" cy="9349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8"/>
          <p:cNvSpPr/>
          <p:nvPr/>
        </p:nvSpPr>
        <p:spPr>
          <a:xfrm>
            <a:off x="5508720" y="5084640"/>
            <a:ext cx="107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Черепа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9"/>
          <p:cNvSpPr/>
          <p:nvPr/>
        </p:nvSpPr>
        <p:spPr>
          <a:xfrm>
            <a:off x="7956720" y="1197000"/>
            <a:ext cx="86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г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0"/>
          <p:cNvSpPr/>
          <p:nvPr/>
        </p:nvSpPr>
        <p:spPr>
          <a:xfrm>
            <a:off x="900000" y="260280"/>
            <a:ext cx="1038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ох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7380360" y="2781360"/>
            <a:ext cx="151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Журав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7451640" y="6381720"/>
            <a:ext cx="151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рхов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4"/>
          <p:cNvSpPr/>
          <p:nvPr/>
        </p:nvSpPr>
        <p:spPr>
          <a:xfrm>
            <a:off x="5076720" y="6381720"/>
            <a:ext cx="1727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ерехідн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5"/>
          <p:cNvSpPr/>
          <p:nvPr/>
        </p:nvSpPr>
        <p:spPr>
          <a:xfrm>
            <a:off x="684360" y="6257880"/>
            <a:ext cx="180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изинн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2" descr=""/>
          <p:cNvPicPr/>
          <p:nvPr/>
        </p:nvPicPr>
        <p:blipFill>
          <a:blip r:embed="rId16"/>
          <a:stretch/>
        </p:blipFill>
        <p:spPr>
          <a:xfrm>
            <a:off x="2627280" y="4941720"/>
            <a:ext cx="2305080" cy="167004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23"/>
          <p:cNvSpPr/>
          <p:nvPr/>
        </p:nvSpPr>
        <p:spPr>
          <a:xfrm>
            <a:off x="3780000" y="6237360"/>
            <a:ext cx="107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д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2" descr=""/>
          <p:cNvPicPr/>
          <p:nvPr/>
        </p:nvPicPr>
        <p:blipFill>
          <a:blip r:embed="rId17"/>
          <a:stretch/>
        </p:blipFill>
        <p:spPr>
          <a:xfrm>
            <a:off x="6732720" y="3141720"/>
            <a:ext cx="2232000" cy="18097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24"/>
          <p:cNvSpPr/>
          <p:nvPr/>
        </p:nvSpPr>
        <p:spPr>
          <a:xfrm>
            <a:off x="6877080" y="458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р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3276720" y="1844640"/>
            <a:ext cx="2857320" cy="1728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Озера Євраз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4"/>
          <p:cNvSpPr/>
          <p:nvPr/>
        </p:nvSpPr>
        <p:spPr>
          <a:xfrm>
            <a:off x="3708360" y="260280"/>
            <a:ext cx="278604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Каспійське море -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5"/>
          <p:cNvSpPr/>
          <p:nvPr/>
        </p:nvSpPr>
        <p:spPr>
          <a:xfrm>
            <a:off x="6500880" y="2428920"/>
            <a:ext cx="235728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Ель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6"/>
          <p:cNvSpPr/>
          <p:nvPr/>
        </p:nvSpPr>
        <p:spPr>
          <a:xfrm>
            <a:off x="6143760" y="4000680"/>
            <a:ext cx="2428920" cy="1285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Балх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7"/>
          <p:cNvSpPr/>
          <p:nvPr/>
        </p:nvSpPr>
        <p:spPr>
          <a:xfrm>
            <a:off x="1714680" y="4929120"/>
            <a:ext cx="242856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Бай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8"/>
          <p:cNvSpPr/>
          <p:nvPr/>
        </p:nvSpPr>
        <p:spPr>
          <a:xfrm>
            <a:off x="642960" y="3500280"/>
            <a:ext cx="228600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Лобн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9"/>
          <p:cNvSpPr/>
          <p:nvPr/>
        </p:nvSpPr>
        <p:spPr>
          <a:xfrm>
            <a:off x="1042920" y="620640"/>
            <a:ext cx="264312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Мертве 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10"/>
          <p:cNvSpPr/>
          <p:nvPr/>
        </p:nvSpPr>
        <p:spPr>
          <a:xfrm>
            <a:off x="250920" y="1989000"/>
            <a:ext cx="271440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Са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резьке</a:t>
            </a: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1"/>
          <p:cNvSpPr/>
          <p:nvPr/>
        </p:nvSpPr>
        <p:spPr>
          <a:xfrm>
            <a:off x="6215040" y="1000080"/>
            <a:ext cx="264312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Аральське море -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2"/>
          <p:cNvSpPr/>
          <p:nvPr/>
        </p:nvSpPr>
        <p:spPr>
          <a:xfrm>
            <a:off x="4286160" y="5143680"/>
            <a:ext cx="2500560" cy="1285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Світ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3276720" y="3716280"/>
            <a:ext cx="2663640" cy="10810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зеро Ялп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3" descr=""/>
          <p:cNvPicPr/>
          <p:nvPr/>
        </p:nvPicPr>
        <p:blipFill>
          <a:blip r:embed="rId2"/>
          <a:stretch/>
        </p:blipFill>
        <p:spPr>
          <a:xfrm>
            <a:off x="444600" y="249120"/>
            <a:ext cx="8712000" cy="1135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5943600" y="1779480"/>
            <a:ext cx="3024360" cy="2243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4"/>
          <a:stretch/>
        </p:blipFill>
        <p:spPr>
          <a:xfrm>
            <a:off x="3564000" y="4365720"/>
            <a:ext cx="2374920" cy="2332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5"/>
          <a:stretch/>
        </p:blipFill>
        <p:spPr>
          <a:xfrm>
            <a:off x="6012000" y="4365720"/>
            <a:ext cx="2952720" cy="2328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85480" y="1428480"/>
            <a:ext cx="60008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більше безстічне солоне море-озеро, залишков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 371 тис. км 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жина – 1200 к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ина – 320 к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бина – 1025 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едня солоність - 13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ливий район рибальства (осетрові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е транспортне значе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н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084720" y="6093000"/>
            <a:ext cx="2808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фтодобувні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латформи в мор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43640" y="350028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рський крає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419640" y="6553080"/>
            <a:ext cx="28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рез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Каспій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1" descr=""/>
          <p:cNvPicPr/>
          <p:nvPr/>
        </p:nvPicPr>
        <p:blipFill>
          <a:blip r:embed="rId6"/>
          <a:stretch/>
        </p:blipFill>
        <p:spPr>
          <a:xfrm>
            <a:off x="179280" y="4365720"/>
            <a:ext cx="3305160" cy="2342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7"/>
          <a:stretch/>
        </p:blipFill>
        <p:spPr>
          <a:xfrm>
            <a:off x="3276720" y="1844640"/>
            <a:ext cx="251928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Text Box 13"/>
          <p:cNvSpPr/>
          <p:nvPr/>
        </p:nvSpPr>
        <p:spPr>
          <a:xfrm>
            <a:off x="3471840" y="3357720"/>
            <a:ext cx="203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етрова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к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2410920" y="6308640"/>
            <a:ext cx="92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сетров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4" descr=""/>
          <p:cNvPicPr/>
          <p:nvPr/>
        </p:nvPicPr>
        <p:blipFill>
          <a:blip r:embed="rId8"/>
          <a:stretch/>
        </p:blipFill>
        <p:spPr>
          <a:xfrm>
            <a:off x="4859280" y="3716280"/>
            <a:ext cx="1523880" cy="1019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4932360" y="4581360"/>
            <a:ext cx="812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е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13840" y="1499760"/>
            <a:ext cx="8929800" cy="2714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Безстічне солоне море - озеро, якого майже не залишилось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лоща – 3300 км ² (64 тис. км ²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Глибина - 8,70м (67 м 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Солоність – 15,9 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Прямоугольник 8" descr=""/>
          <p:cNvPicPr/>
          <p:nvPr/>
        </p:nvPicPr>
        <p:blipFill>
          <a:blip r:embed="rId2"/>
          <a:stretch/>
        </p:blipFill>
        <p:spPr>
          <a:xfrm>
            <a:off x="6480" y="414360"/>
            <a:ext cx="9034200" cy="158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2916360" y="4068720"/>
            <a:ext cx="2822400" cy="245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4"/>
          <a:stretch/>
        </p:blipFill>
        <p:spPr>
          <a:xfrm>
            <a:off x="5940360" y="4221000"/>
            <a:ext cx="3005280" cy="2287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5"/>
          <a:stretch/>
        </p:blipFill>
        <p:spPr>
          <a:xfrm rot="250200">
            <a:off x="194760" y="3933360"/>
            <a:ext cx="244476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6"/>
          <a:stretch/>
        </p:blipFill>
        <p:spPr>
          <a:xfrm>
            <a:off x="5924520" y="1987560"/>
            <a:ext cx="3000240" cy="2230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376200" y="5734080"/>
            <a:ext cx="2108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. Араль - ське море в минул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132000" y="5950080"/>
            <a:ext cx="2448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..Залишк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раль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5940360" y="6165720"/>
            <a:ext cx="30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еля на д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Араль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443640" y="3716280"/>
            <a:ext cx="223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лишня прист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0" y="0"/>
            <a:ext cx="2638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3252960" y="2562120"/>
            <a:ext cx="26380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4" descr=""/>
          <p:cNvPicPr/>
          <p:nvPr/>
        </p:nvPicPr>
        <p:blipFill>
          <a:blip r:embed="rId7"/>
          <a:stretch/>
        </p:blipFill>
        <p:spPr>
          <a:xfrm>
            <a:off x="3708360" y="2781360"/>
            <a:ext cx="2182680" cy="1224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5"/>
          <p:cNvSpPr/>
          <p:nvPr/>
        </p:nvSpPr>
        <p:spPr>
          <a:xfrm>
            <a:off x="3780000" y="3645000"/>
            <a:ext cx="59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га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4" descr=""/>
          <p:cNvPicPr/>
          <p:nvPr/>
        </p:nvPicPr>
        <p:blipFill>
          <a:blip r:embed="rId2"/>
          <a:stretch/>
        </p:blipFill>
        <p:spPr>
          <a:xfrm>
            <a:off x="1500120" y="-212760"/>
            <a:ext cx="5540400" cy="11397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8920" y="1557360"/>
            <a:ext cx="82868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Солоне озеро, залишкове, на Прикаспійській низовині, (Волгоградська область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Лежить на 16м нижче рівня мор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Площа – 200 км ²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На дні озера кухонна сіль і лікувальна гряз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4429080" y="4071960"/>
            <a:ext cx="3500640" cy="2509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586320" cy="2386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5"/>
          <a:stretch/>
        </p:blipFill>
        <p:spPr>
          <a:xfrm>
            <a:off x="5711760" y="1920960"/>
            <a:ext cx="3237120" cy="22176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4932360" y="6237360"/>
            <a:ext cx="244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смічний знімок озера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156360" y="3645000"/>
            <a:ext cx="237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ухонна сіль.Озеро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11280" y="6165720"/>
            <a:ext cx="28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кувальна грязь. Озеро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640720" cy="266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Безстічне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,</a:t>
            </a: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 залишкове озеро;</a:t>
            </a:r>
            <a:r>
              <a:rPr b="0" lang="uk-UA" sz="20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Лежить на висоті – 342 м над рівнем мор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Площа – 16,4 тис. км 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Глибина – 26 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Довжина – 605 к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Ширина – 74 км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Прямоугольник 8" descr=""/>
          <p:cNvPicPr/>
          <p:nvPr/>
        </p:nvPicPr>
        <p:blipFill>
          <a:blip r:embed="rId2"/>
          <a:stretch/>
        </p:blipFill>
        <p:spPr>
          <a:xfrm>
            <a:off x="1255680" y="0"/>
            <a:ext cx="6577200" cy="1805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3"/>
          <a:stretch/>
        </p:blipFill>
        <p:spPr>
          <a:xfrm>
            <a:off x="6372360" y="1268280"/>
            <a:ext cx="2592360" cy="1698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2664000" cy="2379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5"/>
          <a:stretch/>
        </p:blipFill>
        <p:spPr>
          <a:xfrm>
            <a:off x="2987640" y="4149720"/>
            <a:ext cx="3024360" cy="23749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6300720" y="2708280"/>
            <a:ext cx="26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. Озеро Балха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3492360" y="6093000"/>
            <a:ext cx="194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Балха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619280" y="6165720"/>
            <a:ext cx="86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чка Іл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5" descr=""/>
          <p:cNvPicPr/>
          <p:nvPr/>
        </p:nvPicPr>
        <p:blipFill>
          <a:blip r:embed="rId6"/>
          <a:stretch/>
        </p:blipFill>
        <p:spPr>
          <a:xfrm>
            <a:off x="6084720" y="3068640"/>
            <a:ext cx="1440000" cy="18003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6"/>
          <p:cNvSpPr/>
          <p:nvPr/>
        </p:nvSpPr>
        <p:spPr>
          <a:xfrm>
            <a:off x="6084720" y="4508640"/>
            <a:ext cx="1366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голис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7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3276720" y="2565360"/>
            <a:ext cx="2609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9" descr="image081"/>
          <p:cNvPicPr/>
          <p:nvPr/>
        </p:nvPicPr>
        <p:blipFill>
          <a:blip r:embed="rId7"/>
          <a:stretch/>
        </p:blipFill>
        <p:spPr>
          <a:xfrm>
            <a:off x="7596360" y="3068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fish_sazan_3_h_orig_1"/>
          <p:cNvPicPr/>
          <p:nvPr/>
        </p:nvPicPr>
        <p:blipFill>
          <a:blip r:embed="rId8"/>
          <a:stretch/>
        </p:blipFill>
        <p:spPr>
          <a:xfrm>
            <a:off x="6156360" y="4941720"/>
            <a:ext cx="2808360" cy="1727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8"/>
          <p:cNvSpPr/>
          <p:nvPr/>
        </p:nvSpPr>
        <p:spPr>
          <a:xfrm>
            <a:off x="6496200" y="6164280"/>
            <a:ext cx="688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з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153280" y="4506840"/>
            <a:ext cx="70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я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8"/>
          <p:cNvSpPr/>
          <p:nvPr/>
        </p:nvSpPr>
        <p:spPr>
          <a:xfrm>
            <a:off x="0" y="0"/>
            <a:ext cx="2457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0"/>
          <p:cNvSpPr/>
          <p:nvPr/>
        </p:nvSpPr>
        <p:spPr>
          <a:xfrm>
            <a:off x="3343320" y="2500200"/>
            <a:ext cx="24573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0" descr="images"/>
          <p:cNvPicPr/>
          <p:nvPr/>
        </p:nvPicPr>
        <p:blipFill>
          <a:blip r:embed="rId9"/>
          <a:stretch/>
        </p:blipFill>
        <p:spPr>
          <a:xfrm>
            <a:off x="3708360" y="2637000"/>
            <a:ext cx="2092320" cy="14396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1"/>
          <p:cNvSpPr/>
          <p:nvPr/>
        </p:nvSpPr>
        <p:spPr>
          <a:xfrm>
            <a:off x="4572360" y="3645000"/>
            <a:ext cx="100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м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є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95280" y="1000080"/>
            <a:ext cx="8748720" cy="257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Знаходиться на півдні Сх. Сибіру в Бурятії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Площа - 31,5 тис. км ²; довжина - 636 к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Ширина (середня) – 48 км; глибина – 1620 м; об'єм води – 23 тис. км 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Лежить на висоті – 456 м; Тектонічна западина; впадає  300 річок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Витікає одна річка – Ангара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Прямоугольник 6" descr=""/>
          <p:cNvPicPr/>
          <p:nvPr/>
        </p:nvPicPr>
        <p:blipFill>
          <a:blip r:embed="rId2"/>
          <a:stretch/>
        </p:blipFill>
        <p:spPr>
          <a:xfrm>
            <a:off x="1536840" y="42840"/>
            <a:ext cx="6381720" cy="1773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3"/>
          <a:stretch/>
        </p:blipFill>
        <p:spPr>
          <a:xfrm>
            <a:off x="6929280" y="2571840"/>
            <a:ext cx="1762200" cy="2590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4"/>
          <a:stretch/>
        </p:blipFill>
        <p:spPr>
          <a:xfrm>
            <a:off x="285840" y="4714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5"/>
          <a:stretch/>
        </p:blipFill>
        <p:spPr>
          <a:xfrm>
            <a:off x="4280040" y="2779560"/>
            <a:ext cx="2541600" cy="2017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6"/>
          <a:stretch/>
        </p:blipFill>
        <p:spPr>
          <a:xfrm>
            <a:off x="6278400" y="5121360"/>
            <a:ext cx="2652840" cy="1743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7"/>
          <a:stretch/>
        </p:blipFill>
        <p:spPr>
          <a:xfrm>
            <a:off x="3500280" y="4929120"/>
            <a:ext cx="2619360" cy="1752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E:\фото\jcgfyxd.jpg"/>
          <p:cNvPicPr/>
          <p:nvPr/>
        </p:nvPicPr>
        <p:blipFill>
          <a:blip r:embed="rId8"/>
          <a:stretch/>
        </p:blipFill>
        <p:spPr>
          <a:xfrm>
            <a:off x="1835280" y="2997360"/>
            <a:ext cx="2323800" cy="16556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0"/>
          <p:cNvSpPr/>
          <p:nvPr/>
        </p:nvSpPr>
        <p:spPr>
          <a:xfrm>
            <a:off x="2050920" y="4292640"/>
            <a:ext cx="1944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ба гол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3922560" y="6308640"/>
            <a:ext cx="177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ьська нер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550400" y="4313160"/>
            <a:ext cx="1344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Байк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020000" y="2637000"/>
            <a:ext cx="9367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324000" y="4797360"/>
            <a:ext cx="1655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6567480" y="6308640"/>
            <a:ext cx="174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раєвид 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840" y="907920"/>
            <a:ext cx="857268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Лобнор – безстічне озеро на заході Китаю в Таримській за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падині. Розміри і гідрорежим змінюється в залежності від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стоку річок Тариму і Колчедар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ї. Середня площа – 3 тис.км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  <a:ea typeface="Arial"/>
              </a:rPr>
              <a:t>²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  <a:ea typeface="Arial"/>
              </a:rPr>
              <a:t>Глибина – 1 м. Замерзає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Прямоугольник 5" descr=""/>
          <p:cNvPicPr/>
          <p:nvPr/>
        </p:nvPicPr>
        <p:blipFill>
          <a:blip r:embed="rId2"/>
          <a:stretch/>
        </p:blipFill>
        <p:spPr>
          <a:xfrm>
            <a:off x="1616040" y="-208080"/>
            <a:ext cx="5875200" cy="119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3"/>
          <a:stretch/>
        </p:blipFill>
        <p:spPr>
          <a:xfrm>
            <a:off x="2120760" y="2925720"/>
            <a:ext cx="2335320" cy="1944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4"/>
          <a:stretch/>
        </p:blipFill>
        <p:spPr>
          <a:xfrm>
            <a:off x="179280" y="5516640"/>
            <a:ext cx="1944720" cy="1152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5"/>
          <a:stretch/>
        </p:blipFill>
        <p:spPr>
          <a:xfrm>
            <a:off x="4500720" y="2997360"/>
            <a:ext cx="2143080" cy="2447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6"/>
          <a:stretch/>
        </p:blipFill>
        <p:spPr>
          <a:xfrm>
            <a:off x="176040" y="2998800"/>
            <a:ext cx="1860840" cy="2378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7"/>
          <a:stretch/>
        </p:blipFill>
        <p:spPr>
          <a:xfrm>
            <a:off x="6662880" y="4121280"/>
            <a:ext cx="2371680" cy="27367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9"/>
          <p:cNvSpPr/>
          <p:nvPr/>
        </p:nvSpPr>
        <p:spPr>
          <a:xfrm>
            <a:off x="4500720" y="2637000"/>
            <a:ext cx="21589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 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7093080" y="6381720"/>
            <a:ext cx="151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0" y="5178600"/>
            <a:ext cx="207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жевальський М.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340000" y="306864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 озера 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ейзаж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4" descr=""/>
          <p:cNvPicPr/>
          <p:nvPr/>
        </p:nvPicPr>
        <p:blipFill>
          <a:blip r:embed="rId8"/>
          <a:stretch/>
        </p:blipFill>
        <p:spPr>
          <a:xfrm>
            <a:off x="6676920" y="2708280"/>
            <a:ext cx="2287800" cy="14414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6732000" y="3789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че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6" descr=""/>
          <p:cNvPicPr/>
          <p:nvPr/>
        </p:nvPicPr>
        <p:blipFill>
          <a:blip r:embed="rId9"/>
          <a:stretch/>
        </p:blipFill>
        <p:spPr>
          <a:xfrm>
            <a:off x="4572000" y="5516640"/>
            <a:ext cx="2087640" cy="12254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7"/>
          <p:cNvSpPr/>
          <p:nvPr/>
        </p:nvSpPr>
        <p:spPr>
          <a:xfrm>
            <a:off x="4788000" y="6381720"/>
            <a:ext cx="59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га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8" descr=""/>
          <p:cNvPicPr/>
          <p:nvPr/>
        </p:nvPicPr>
        <p:blipFill>
          <a:blip r:embed="rId10"/>
          <a:stretch/>
        </p:blipFill>
        <p:spPr>
          <a:xfrm>
            <a:off x="2268360" y="5157720"/>
            <a:ext cx="2232360" cy="15843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9"/>
          <p:cNvSpPr/>
          <p:nvPr/>
        </p:nvSpPr>
        <p:spPr>
          <a:xfrm>
            <a:off x="2409840" y="6381720"/>
            <a:ext cx="179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рубува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тугаї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57232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Знаходиться на Памірі в Таджикистані, загатне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розташоване на висоті – 3239 - 3263 м над рівнем моря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Площа - 86,5 км ², глибина – 505 -520 м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Утворилося в 1911 році, після землетрусу і обвалу, який перекрив річку Мургаб. Замерзає. Є риба маринка, осман. Розвинений туризм.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Прямоугольник 6" descr=""/>
          <p:cNvPicPr/>
          <p:nvPr/>
        </p:nvPicPr>
        <p:blipFill>
          <a:blip r:embed="rId2"/>
          <a:stretch/>
        </p:blipFill>
        <p:spPr>
          <a:xfrm>
            <a:off x="1542960" y="0"/>
            <a:ext cx="6132600" cy="1200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3"/>
          <a:stretch/>
        </p:blipFill>
        <p:spPr>
          <a:xfrm>
            <a:off x="4427640" y="4365720"/>
            <a:ext cx="4392360" cy="2359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308720" y="1916280"/>
            <a:ext cx="1650960" cy="1928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5"/>
          <a:stretch/>
        </p:blipFill>
        <p:spPr>
          <a:xfrm>
            <a:off x="179280" y="2708280"/>
            <a:ext cx="3168720" cy="2000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6"/>
          <a:stretch/>
        </p:blipFill>
        <p:spPr>
          <a:xfrm>
            <a:off x="3924360" y="2637000"/>
            <a:ext cx="2786040" cy="1728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9"/>
          <p:cNvSpPr/>
          <p:nvPr/>
        </p:nvSpPr>
        <p:spPr>
          <a:xfrm>
            <a:off x="7451640" y="3573360"/>
            <a:ext cx="12445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ім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179280" y="4581360"/>
            <a:ext cx="3024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паси прісної води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арезького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067280" y="4149720"/>
            <a:ext cx="2396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існа питтєва вода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3076560" y="2666880"/>
            <a:ext cx="2990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8"/>
          <p:cNvSpPr/>
          <p:nvPr/>
        </p:nvSpPr>
        <p:spPr>
          <a:xfrm>
            <a:off x="3059280" y="2637000"/>
            <a:ext cx="2990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8" descr="DSC_0010-600x307"/>
          <p:cNvPicPr/>
          <p:nvPr/>
        </p:nvPicPr>
        <p:blipFill>
          <a:blip r:embed="rId7"/>
          <a:stretch/>
        </p:blipFill>
        <p:spPr>
          <a:xfrm>
            <a:off x="250920" y="5373720"/>
            <a:ext cx="2808360" cy="1314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0"/>
          <p:cNvSpPr/>
          <p:nvPr/>
        </p:nvSpPr>
        <p:spPr>
          <a:xfrm>
            <a:off x="447840" y="6308640"/>
            <a:ext cx="903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4713840" y="6308640"/>
            <a:ext cx="148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езьке озе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48:24Z</dcterms:created>
  <dc:creator>qqq</dc:creator>
  <dc:description/>
  <dc:language>en-US</dc:language>
  <cp:lastModifiedBy>Завуч</cp:lastModifiedBy>
  <dcterms:modified xsi:type="dcterms:W3CDTF">2014-05-19T08:15:28Z</dcterms:modified>
  <cp:revision>133</cp:revision>
  <dc:subject/>
  <dc:title>Найособливіші озера Євразії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4f000000000001024140</vt:lpwstr>
  </property>
</Properties>
</file>