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1.png" ContentType="image/png"/>
  <Override PartName="/ppt/media/image38.jpeg" ContentType="image/jpeg"/>
  <Override PartName="/ppt/media/image9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10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9.png" ContentType="image/png"/>
  <Override PartName="/ppt/media/image93.jpeg" ContentType="image/jpeg"/>
  <Override PartName="/ppt/media/image63.jpeg" ContentType="image/jpeg"/>
  <Override PartName="/ppt/media/image110.jpeg" ContentType="image/jpeg"/>
  <Override PartName="/ppt/media/image60.png" ContentType="image/png"/>
  <Override PartName="/ppt/media/image90.jpeg" ContentType="image/jpeg"/>
  <Override PartName="/ppt/media/image64.jpeg" ContentType="image/jpeg"/>
  <Override PartName="/ppt/media/image67.jpeg" ContentType="image/jpeg"/>
  <Override PartName="/ppt/media/image61.png" ContentType="image/png"/>
  <Override PartName="/ppt/media/image94.jpeg" ContentType="image/jpeg"/>
  <Override PartName="/ppt/media/image91.jpeg" ContentType="image/jpeg"/>
  <Override PartName="/ppt/media/image111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4.jpeg" ContentType="image/jpeg"/>
  <Override PartName="/ppt/media/image76.jpeg" ContentType="image/jpeg"/>
  <Override PartName="/ppt/media/image99.png" ContentType="image/png"/>
  <Override PartName="/ppt/media/image51.jpeg" ContentType="image/jpeg"/>
  <Override PartName="/ppt/media/image100.jpeg" ContentType="image/jpeg"/>
  <Override PartName="/ppt/media/image66.jpeg" ContentType="image/jpeg"/>
  <Override PartName="/ppt/media/image95.jpeg" ContentType="image/jpeg"/>
  <Override PartName="/ppt/media/image78.jpeg" ContentType="image/jpeg"/>
  <Override PartName="/ppt/media/image36.png" ContentType="image/png"/>
  <Override PartName="/ppt/media/image104.jpeg" ContentType="image/jpeg"/>
  <Override PartName="/ppt/media/image84.jpeg" ContentType="image/jpeg"/>
  <Override PartName="/ppt/media/image96.jpeg" ContentType="image/jpeg"/>
  <Override PartName="/ppt/media/image77.jpeg" ContentType="image/jpeg"/>
  <Override PartName="/ppt/media/image103.jpeg" ContentType="image/jpeg"/>
  <Override PartName="/ppt/media/image83.jpeg" ContentType="image/jpeg"/>
  <Override PartName="/ppt/media/image50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106.png" ContentType="image/png"/>
  <Override PartName="/ppt/media/image16.jpeg" ContentType="image/jpeg"/>
  <Override PartName="/ppt/media/image65.jpeg" ContentType="image/jpeg"/>
  <Override PartName="/ppt/media/image49.png" ContentType="image/png"/>
  <Override PartName="/ppt/media/image18.jpeg" ContentType="image/jpeg"/>
  <Override PartName="/ppt/media/image17.jpeg" ContentType="image/jpe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1C2-F63F-4324-B5BB-76B4EC54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8EC-E8B5-4C60-AC4F-83C5226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448-D567-4C03-A63F-E079F569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E01-F396-4194-BF09-92758F80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DC45-AE8B-4C72-BBB7-DF6F6ED7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455C-736C-4660-8BA2-A775372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D09-2465-45C5-A675-F56CDB93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EA3-A38A-44E7-95A1-5B4A1122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615-95B7-4473-A555-183005C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9DE4-11C8-42E2-830A-32AEE92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8BF-1877-4A59-8758-ED18357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941-4E33-48C8-A498-E74FE53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507E-782C-464D-81F4-B3C8813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527-D61F-4696-8D6E-7E0C844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E684-3FDA-429C-96FF-32DC1A1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A6E-E8C8-4786-81FF-102F2B92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32E2-10A8-4007-BDA1-1E1320AA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5EFD-4338-4F8D-8098-2CF08502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0734-4133-48D8-AA91-682E3108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D78D-5406-4EA1-804D-259B326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46B1-365F-437E-9B0A-C35C2F7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D846-A1A0-4144-A1B7-6F18EB28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70C-4598-42CC-BA0C-09B1E65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7EE6-8C3F-49BD-B4A9-09357A3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51B0-3539-4ACB-89D4-6413AA3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29A5-363C-4603-BB70-35430DF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C6A0-67D3-4C37-89CB-4421F22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080B-F919-4F58-BC63-05179A0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FCD3-CC0E-4C57-826F-85F92C31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7670-C319-451F-B595-9B80CAEA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3DEF-C4E1-47DA-9C1E-9506610A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6BE6-F820-4819-A626-7F76095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D148-4C17-40F2-8460-7CFA1892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6EA-B76A-4AF1-A68A-B67FA7F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327D-C7DF-461A-BC17-CDCA87A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F84C-B972-4620-8DBD-4D0162E8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2AB3-F60F-43CA-8D0F-2977B33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009D-81F6-42E9-96FA-E1874AD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2E30-A229-4E1F-9F99-EF43D69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171D-A914-4195-82C5-8357140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520F-CF09-4CD1-96D8-55D4191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E72A-065F-480B-B418-7927AC33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2E53-E6A1-4DB4-98D8-1DE38BC1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E9E-A5DE-45F9-AD01-8E8F6CC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A42-0415-4F0D-9C83-A91FCBA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3B9-5E96-415B-B233-DF27E49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878-36FC-4B78-BA78-39C7B47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AFD-3A15-4946-BBE6-9B2F3A0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58CC-49FF-4683-80F1-D894DC1E51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760-E607-433F-BFED-293E0CD0BD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48E-82C0-41E9-8415-10999043C62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DA54-7807-4880-908D-396E059422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image" Target="../media/image8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pn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hyperlink" Target="http://znaimo.com.ua/&#1050;&#1080;&#1089;&#1083;&#1086;&#1090;&#1085;&#1110;&#1089;&#1090;&#1100;" TargetMode="External"/><Relationship Id="rId7" Type="http://schemas.openxmlformats.org/officeDocument/2006/relationships/hyperlink" Target="http://znaimo.com.ua/&#1055;&#1110;&#1076;&#1079;&#1077;&#1084;&#1085;&#1110;_&#1074;&#1086;&#1076;&#1080;" TargetMode="External"/><Relationship Id="rId8" Type="http://schemas.openxmlformats.org/officeDocument/2006/relationships/hyperlink" Target="http://znaimo.com.ua/&#1055;&#1110;&#1076;&#1079;&#1077;&#1084;&#1085;&#1110;_&#1074;&#1086;&#1076;&#1080;" TargetMode="External"/><Relationship Id="rId9" Type="http://schemas.openxmlformats.org/officeDocument/2006/relationships/hyperlink" Target="http://znaimo.com.ua/&#1058;&#1086;&#1088;&#1092;" TargetMode="External"/><Relationship Id="rId10" Type="http://schemas.openxmlformats.org/officeDocument/2006/relationships/hyperlink" Target="http://znaimo.com.ua/&#1057;&#1080;&#1083;&#1091;&#1088;" TargetMode="External"/><Relationship Id="rId11" Type="http://schemas.openxmlformats.org/officeDocument/2006/relationships/hyperlink" Target="http://znaimo.com.ua/&#1044;&#1077;&#1074;&#1086;&#1085;&#1089;&#1100;&#1082;&#1080;&#1081;_&#1087;&#1077;&#1088;&#1110;&#1086;&#1076;" TargetMode="External"/><Relationship Id="rId12" Type="http://schemas.openxmlformats.org/officeDocument/2006/relationships/image" Target="../media/image106.png"/><Relationship Id="rId13" Type="http://schemas.openxmlformats.org/officeDocument/2006/relationships/image" Target="../media/image107.jpeg"/><Relationship Id="rId14" Type="http://schemas.openxmlformats.org/officeDocument/2006/relationships/image" Target="../media/image108.jpeg"/><Relationship Id="rId15" Type="http://schemas.openxmlformats.org/officeDocument/2006/relationships/image" Target="../media/image109.jpeg"/><Relationship Id="rId16" Type="http://schemas.openxmlformats.org/officeDocument/2006/relationships/image" Target="../media/image110.jpeg"/><Relationship Id="rId17" Type="http://schemas.openxmlformats.org/officeDocument/2006/relationships/image" Target="../media/image111.jpe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30240"/>
            <a:ext cx="822960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33240" y="2036880"/>
            <a:ext cx="7729560" cy="438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4200" y="928800"/>
            <a:ext cx="867888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ертве море, Бахр – Лут – безтічне солоне озеро в Ізраїлі і Йорданії 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озташоване в тектонічній впадині Гхор на 395 – 427 м нижче рівня моря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1050 км ², довжина - 76 км, ширина – 17 км, глибина – до 356 м,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аксимальна солоність – 400‰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рганічне життя відсутнє, крім деяких видів бактерій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Добувають калійну сіль, бро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Прямоугольник 6" descr=""/>
          <p:cNvPicPr/>
          <p:nvPr/>
        </p:nvPicPr>
        <p:blipFill>
          <a:blip r:embed="rId2"/>
          <a:stretch/>
        </p:blipFill>
        <p:spPr>
          <a:xfrm>
            <a:off x="579600" y="-176040"/>
            <a:ext cx="7742160" cy="1139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F:\Фото\Фото0420.jpg"/>
          <p:cNvPicPr/>
          <p:nvPr/>
        </p:nvPicPr>
        <p:blipFill>
          <a:blip r:embed="rId3"/>
          <a:stretch/>
        </p:blipFill>
        <p:spPr>
          <a:xfrm>
            <a:off x="214200" y="3429000"/>
            <a:ext cx="2394000" cy="31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F:\Фото\Фото0465.jpg"/>
          <p:cNvPicPr/>
          <p:nvPr/>
        </p:nvPicPr>
        <p:blipFill>
          <a:blip r:embed="rId4"/>
          <a:stretch/>
        </p:blipFill>
        <p:spPr>
          <a:xfrm>
            <a:off x="2928960" y="3429000"/>
            <a:ext cx="2374920" cy="316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5"/>
          <a:stretch/>
        </p:blipFill>
        <p:spPr>
          <a:xfrm>
            <a:off x="5937120" y="3213000"/>
            <a:ext cx="2621160" cy="1968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6"/>
          <a:srcRect l="0" t="0" r="0" b="-334"/>
          <a:stretch/>
        </p:blipFill>
        <p:spPr>
          <a:xfrm>
            <a:off x="5715000" y="5143680"/>
            <a:ext cx="3051000" cy="1571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424560" y="4508640"/>
            <a:ext cx="1603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 на берез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ртв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135840" y="6308640"/>
            <a:ext cx="204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увальні грязі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111480" y="5950080"/>
            <a:ext cx="1901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йсолоніше оз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у – Мертв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447840" y="6165720"/>
            <a:ext cx="18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прост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836640"/>
            <a:ext cx="864396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зеро входить до складу Шацьких озер Волинської області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24,2км ², довжина – 9,3 км, ширина – 4,8 км, глибина (максимальна)- 58,4 м, прозорість – 5,4  м. Світязь – карстового походження, взимку замерзає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Водяна рослинність: очерет, рогіз, глечики жовті, латаття біле.     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иба - водяний вугор, сом, лящ, карась, сиг. Район  туризм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5589720" cy="1103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3"/>
          <a:stretch/>
        </p:blipFill>
        <p:spPr>
          <a:xfrm>
            <a:off x="6303960" y="27795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2610000" cy="194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5"/>
          <a:stretch/>
        </p:blipFill>
        <p:spPr>
          <a:xfrm>
            <a:off x="3780000" y="494172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6"/>
          <a:stretch/>
        </p:blipFill>
        <p:spPr>
          <a:xfrm>
            <a:off x="250920" y="2852640"/>
            <a:ext cx="3241440" cy="20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7"/>
          <a:stretch/>
        </p:blipFill>
        <p:spPr>
          <a:xfrm>
            <a:off x="6443640" y="4797360"/>
            <a:ext cx="2449440" cy="1871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3"/>
          <p:cNvSpPr/>
          <p:nvPr/>
        </p:nvSpPr>
        <p:spPr>
          <a:xfrm>
            <a:off x="7093080" y="2924280"/>
            <a:ext cx="1280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цькі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516720" y="566100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116000" y="443700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211640" y="6453360"/>
            <a:ext cx="1417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дяний ву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4067280" y="2924280"/>
            <a:ext cx="2060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слинність озер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6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3241440" cy="17431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7"/>
          <p:cNvSpPr/>
          <p:nvPr/>
        </p:nvSpPr>
        <p:spPr>
          <a:xfrm>
            <a:off x="538200" y="6308640"/>
            <a:ext cx="123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е лата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4"/>
          <p:cNvSpPr txBox="1"/>
          <p:nvPr/>
        </p:nvSpPr>
        <p:spPr>
          <a:xfrm>
            <a:off x="1643040" y="571680"/>
            <a:ext cx="57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Ялпуг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82276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6" descr=""/>
          <p:cNvPicPr/>
          <p:nvPr/>
        </p:nvPicPr>
        <p:blipFill>
          <a:blip r:embed="rId4"/>
          <a:stretch/>
        </p:blipFill>
        <p:spPr>
          <a:xfrm>
            <a:off x="6300720" y="285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7"/>
          <p:cNvSpPr/>
          <p:nvPr/>
        </p:nvSpPr>
        <p:spPr>
          <a:xfrm>
            <a:off x="303120" y="1312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6"/>
          <p:cNvSpPr/>
          <p:nvPr/>
        </p:nvSpPr>
        <p:spPr>
          <a:xfrm>
            <a:off x="324000" y="148428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Ялпуг знаходиться в Одесь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й обла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 гирлі Дунаю. Довжина до 39 км , широна до 5 км, площа-149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середня глибина-2 м. Заплавне. Живиться за рахунок водообміну з озером Кугурлуй. Впадає річка Ялпуг. Взимку замерзає. Береги порослі очеретом і рогозом. Багатий рослинний і тваринни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"/>
          <p:cNvPicPr/>
          <p:nvPr/>
        </p:nvPicPr>
        <p:blipFill>
          <a:blip r:embed="rId5"/>
          <a:stretch/>
        </p:blipFill>
        <p:spPr>
          <a:xfrm>
            <a:off x="324000" y="2924280"/>
            <a:ext cx="2587320" cy="181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"/>
          <p:cNvPicPr/>
          <p:nvPr/>
        </p:nvPicPr>
        <p:blipFill>
          <a:blip r:embed="rId6"/>
          <a:stretch/>
        </p:blipFill>
        <p:spPr>
          <a:xfrm>
            <a:off x="3059280" y="3068640"/>
            <a:ext cx="3025440" cy="1639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7"/>
          <a:stretch/>
        </p:blipFill>
        <p:spPr>
          <a:xfrm>
            <a:off x="3132000" y="4797360"/>
            <a:ext cx="2735280" cy="19144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0"/>
          <p:cNvSpPr/>
          <p:nvPr/>
        </p:nvSpPr>
        <p:spPr>
          <a:xfrm>
            <a:off x="395280" y="5013360"/>
            <a:ext cx="252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 озера порос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7020000" y="630864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а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32000" y="4365720"/>
            <a:ext cx="28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лпуг-найбільше озеро Украї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1476360" y="2997360"/>
            <a:ext cx="134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овті гле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6372360" y="4365720"/>
            <a:ext cx="111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щі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3564000" y="630864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нячна дорі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32968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одекуди на материку Євразія поширені гарячі джерела. Особливо їх багато на острові Ісландія та півострові Камча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Прямоугольник 6" descr=""/>
          <p:cNvPicPr/>
          <p:nvPr/>
        </p:nvPicPr>
        <p:blipFill>
          <a:blip r:embed="rId2"/>
          <a:stretch/>
        </p:blipFill>
        <p:spPr>
          <a:xfrm>
            <a:off x="60480" y="12600"/>
            <a:ext cx="8845560" cy="1187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250920" y="4809960"/>
            <a:ext cx="3011400" cy="2048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4"/>
          <a:stretch/>
        </p:blipFill>
        <p:spPr>
          <a:xfrm>
            <a:off x="3276720" y="2637000"/>
            <a:ext cx="257148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203688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2466720" cy="209232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9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25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6" descr="imagesCAAYHTU9"/>
          <p:cNvPicPr/>
          <p:nvPr/>
        </p:nvPicPr>
        <p:blipFill>
          <a:blip r:embed="rId7"/>
          <a:stretch/>
        </p:blipFill>
        <p:spPr>
          <a:xfrm>
            <a:off x="637236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8"/>
          <p:cNvSpPr/>
          <p:nvPr/>
        </p:nvSpPr>
        <p:spPr>
          <a:xfrm>
            <a:off x="376200" y="4149720"/>
            <a:ext cx="2179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8151840" y="215424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395280" y="6453360"/>
            <a:ext cx="140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3564000" y="414972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верження вулк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8532720" y="2997360"/>
            <a:ext cx="2872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3492360" y="49417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9"/>
          <p:cNvSpPr/>
          <p:nvPr/>
        </p:nvSpPr>
        <p:spPr>
          <a:xfrm>
            <a:off x="5219280" y="6381720"/>
            <a:ext cx="147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рячі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908000" y="907560"/>
            <a:ext cx="583272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f6fc6"/>
                </a:solidFill>
                <a:latin typeface="Constantia"/>
              </a:rPr>
              <a:t>Деякі гарячі джерела через певні проміжки часу викидають вгору струмені окропу. Ці фонтануючі джерела називаються гейзерами. На півострові Камчатка- знаменита Долина гейзерів. Великий гейзер можна побачити на острові вогню і льоду –Ісландії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Прямоугольник 6" descr=""/>
          <p:cNvPicPr/>
          <p:nvPr/>
        </p:nvPicPr>
        <p:blipFill>
          <a:blip r:embed="rId2"/>
          <a:stretch/>
        </p:blipFill>
        <p:spPr>
          <a:xfrm>
            <a:off x="2152800" y="-42840"/>
            <a:ext cx="4485960" cy="14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6948360" y="2637000"/>
            <a:ext cx="1943280" cy="1571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5"/>
          <a:stretch/>
        </p:blipFill>
        <p:spPr>
          <a:xfrm>
            <a:off x="3635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/>
          <p:cNvPicPr/>
          <p:nvPr/>
        </p:nvPicPr>
        <p:blipFill>
          <a:blip r:embed="rId6"/>
          <a:stretch/>
        </p:blipFill>
        <p:spPr>
          <a:xfrm>
            <a:off x="108000" y="642960"/>
            <a:ext cx="1871640" cy="197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7"/>
          <a:stretch/>
        </p:blipFill>
        <p:spPr>
          <a:xfrm>
            <a:off x="7740720" y="297000"/>
            <a:ext cx="1224000" cy="2071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2229120" cy="204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9"/>
          <a:stretch/>
        </p:blipFill>
        <p:spPr>
          <a:xfrm>
            <a:off x="250920" y="4941720"/>
            <a:ext cx="3219480" cy="141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10"/>
          <a:stretch/>
        </p:blipFill>
        <p:spPr>
          <a:xfrm>
            <a:off x="630072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87480" y="2276640"/>
            <a:ext cx="2108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8028000" y="1700280"/>
            <a:ext cx="111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ч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7093080" y="4149720"/>
            <a:ext cx="165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64000" y="6381720"/>
            <a:ext cx="17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лина гейзе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68360" y="6453360"/>
            <a:ext cx="26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1"/>
          <a:srcRect l="0" t="0" r="225" b="0"/>
          <a:stretch/>
        </p:blipFill>
        <p:spPr>
          <a:xfrm>
            <a:off x="4643280" y="2565360"/>
            <a:ext cx="231156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2"/>
          <p:cNvSpPr/>
          <p:nvPr/>
        </p:nvSpPr>
        <p:spPr>
          <a:xfrm>
            <a:off x="179280" y="4653000"/>
            <a:ext cx="23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Ісланд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484360" y="4457880"/>
            <a:ext cx="230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онтануючі гейзери. Лі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848200" y="4221000"/>
            <a:ext cx="1100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в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ей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6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6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268360" y="620640"/>
            <a:ext cx="44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ОДОВИ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3" descr="24"/>
          <p:cNvPicPr/>
          <p:nvPr/>
        </p:nvPicPr>
        <p:blipFill>
          <a:blip r:embed="rId2"/>
          <a:stretch/>
        </p:blipFill>
        <p:spPr>
          <a:xfrm>
            <a:off x="6227640" y="3357720"/>
            <a:ext cx="2665440" cy="1503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9280" y="1268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овики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– скупчення багатор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ічного льоду на суш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різняють гірські і покривні льодов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З висотою сніг нагромаджується і перетворюється в лі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ому вершини високих гір покриті льодовиками і сні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Покривні  льодовики Антарктиди і Гренландії під дією 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яжіння сповзають, відколюються і створюють великі глиб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у – айсберги, які дрейфують в океані. Вони досягаю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мірів – від декількох десятків км в довжину і до 200 м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ви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http://t3.gstatic.com/images?q=tbn:ANd9GcTuD1q3cvpOGOJXCgV0r1-kaDAgksw3tqw7YFDS7hOzEl5q02QB"/>
          <p:cNvPicPr/>
          <p:nvPr/>
        </p:nvPicPr>
        <p:blipFill>
          <a:blip r:embed="rId3"/>
          <a:stretch/>
        </p:blipFill>
        <p:spPr>
          <a:xfrm>
            <a:off x="179280" y="4437000"/>
            <a:ext cx="3249720" cy="2189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http://t1.gstatic.com/images?q=tbn:ANd9GcTEWwhzlMPYtBqXTCGzZM6eb5u6xS7tOoAxbxiduNfjMP7Gub2Z"/>
          <p:cNvPicPr/>
          <p:nvPr/>
        </p:nvPicPr>
        <p:blipFill>
          <a:blip r:embed="rId4"/>
          <a:stretch/>
        </p:blipFill>
        <p:spPr>
          <a:xfrm>
            <a:off x="3564000" y="3284640"/>
            <a:ext cx="2448000" cy="18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http://t1.gstatic.com/images?q=tbn:ANd9GcR7J-4fmTyUPNm1m7mpyTPNgSlrsBOC6FUUTKuyTm07OHb0zu7j"/>
          <p:cNvPicPr/>
          <p:nvPr/>
        </p:nvPicPr>
        <p:blipFill>
          <a:blip r:embed="rId5"/>
          <a:stretch/>
        </p:blipFill>
        <p:spPr>
          <a:xfrm>
            <a:off x="6227640" y="501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"/>
          <p:cNvPicPr/>
          <p:nvPr/>
        </p:nvPicPr>
        <p:blipFill>
          <a:blip r:embed="rId6"/>
          <a:stretch/>
        </p:blipFill>
        <p:spPr>
          <a:xfrm>
            <a:off x="6810480" y="1268280"/>
            <a:ext cx="2333520" cy="1962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403280" y="623736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орення айсбе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924360" y="4724280"/>
            <a:ext cx="194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ривний льодо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6372360" y="450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йсберг дрейф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6804000" y="2637000"/>
            <a:ext cx="23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і ведмеді дрейфу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великій глибі ль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6567480" y="6381720"/>
            <a:ext cx="1965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ьодові во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"/>
          <p:cNvPicPr/>
          <p:nvPr/>
        </p:nvPicPr>
        <p:blipFill>
          <a:blip r:embed="rId7"/>
          <a:stretch/>
        </p:blipFill>
        <p:spPr>
          <a:xfrm>
            <a:off x="3492360" y="515772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0"/>
          <p:cNvSpPr/>
          <p:nvPr/>
        </p:nvSpPr>
        <p:spPr>
          <a:xfrm>
            <a:off x="3564000" y="6308640"/>
            <a:ext cx="24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ри покриті льодов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http://t0.gstatic.com/images?q=tbn:ANd9GcT3MlHab3txf-rfvh1-84DLRhV4Acm9m04CazQnxcqdr8qNhynn"/>
          <p:cNvPicPr/>
          <p:nvPr/>
        </p:nvPicPr>
        <p:blipFill>
          <a:blip r:embed="rId2"/>
          <a:stretch/>
        </p:blipFill>
        <p:spPr>
          <a:xfrm>
            <a:off x="4071960" y="4857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http://t3.gstatic.com/images?q=tbn:ANd9GcTlEui_d6RhmavhNT1ggEGZDzB-tLwNYj_qN75msXAp47OcluxEpA"/>
          <p:cNvPicPr/>
          <p:nvPr/>
        </p:nvPicPr>
        <p:blipFill>
          <a:blip r:embed="rId3"/>
          <a:stretch/>
        </p:blipFill>
        <p:spPr>
          <a:xfrm>
            <a:off x="428760" y="4214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t2.gstatic.com/images?q=tbn:ANd9GcQqltrNuL9esMij6K9Uy8Or8Y_ogNDl9JyXMja9Q0B_a2nq4aP6"/>
          <p:cNvPicPr/>
          <p:nvPr/>
        </p:nvPicPr>
        <p:blipFill>
          <a:blip r:embed="rId4"/>
          <a:stretch/>
        </p:blipFill>
        <p:spPr>
          <a:xfrm>
            <a:off x="3348000" y="3573360"/>
            <a:ext cx="3168720" cy="1722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362800" cy="243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Багаторічна мерзлота – це шар мерзлого ґрунту (землі) який постійно зберігає температуру нижче від 0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тужність шарів мерзлоти різна, від декількох метрів до одного кілометра. Інколи на глибині зустрічаються шари льоду до 60 м, його називають викопним льод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ширена багаторічна мерзлота в Північній півкулі в Пн. Америці та Євразії (займає 25% території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Прямоугольник 6" descr=""/>
          <p:cNvPicPr/>
          <p:nvPr/>
        </p:nvPicPr>
        <p:blipFill>
          <a:blip r:embed="rId5"/>
          <a:stretch/>
        </p:blipFill>
        <p:spPr>
          <a:xfrm>
            <a:off x="695160" y="487440"/>
            <a:ext cx="7826400" cy="90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t2.gstatic.com/images?q=tbn:ANd9GcTqak7j7t3MOCQ2RxIbgje2ldd02Fs7QKF-a1Im6CO9LnhGOzIS"/>
          <p:cNvPicPr/>
          <p:nvPr/>
        </p:nvPicPr>
        <p:blipFill>
          <a:blip r:embed="rId6"/>
          <a:stretch/>
        </p:blipFill>
        <p:spPr>
          <a:xfrm>
            <a:off x="700092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971640" y="573408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опний 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348000" y="508464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багаторічної мерз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140360" y="6453360"/>
            <a:ext cx="230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р мерзлого гру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7216920" y="5538960"/>
            <a:ext cx="131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вніч Євраз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5219640" y="6381720"/>
            <a:ext cx="357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географи - літературознав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http://znaimo.com.ua/images/rubase_1_618513562_22006.jpg"/>
          <p:cNvPicPr/>
          <p:nvPr/>
        </p:nvPicPr>
        <p:blipFill>
          <a:blip r:embed="rId2"/>
          <a:stretch/>
        </p:blipFill>
        <p:spPr>
          <a:xfrm>
            <a:off x="4932360" y="5373720"/>
            <a:ext cx="2095560" cy="136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Файл:Cranberry bog.jpg"/>
          <p:cNvPicPr/>
          <p:nvPr/>
        </p:nvPicPr>
        <p:blipFill>
          <a:blip r:embed="rId3"/>
          <a:stretch/>
        </p:blipFill>
        <p:spPr>
          <a:xfrm>
            <a:off x="6732720" y="1628640"/>
            <a:ext cx="2247840" cy="1484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http://znaimo.com.ua/images/rubase_1_618399410_24494.jpg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527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znaimo.com.ua/images/rubase_1_618339491_29934.jpg"/>
          <p:cNvPicPr/>
          <p:nvPr/>
        </p:nvPicPr>
        <p:blipFill>
          <a:blip r:embed="rId5"/>
          <a:stretch/>
        </p:blipFill>
        <p:spPr>
          <a:xfrm>
            <a:off x="0" y="4941720"/>
            <a:ext cx="2608200" cy="16671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Болото (також твань, трясовина) - ділянка суші або ланд-    шафту, що характеризується надмірним зволоженням, підвищеною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ислотністю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 низькою родючістю , виходом             на поверхню стоячих або проточних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ґрунтових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 вод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, але без постійного шару води на поверхні. Для болота характерно відкладення на поверхні ґрунту  органічної речовини, що перетворюється в подальшому в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торф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. Шар торфу в боло-            тах не менше 30 см, якщо менше, то це заболочені землі .                 Болота є складовою частиною гідросфери. Перші болота               на Землі утворилися на стику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силур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девон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350-400 млн.       років тому. На болотах ростуть цінні рослини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лохина,журавлина, морош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Прямоугольник 3" descr=""/>
          <p:cNvPicPr/>
          <p:nvPr/>
        </p:nvPicPr>
        <p:blipFill>
          <a:blip r:embed="rId12"/>
          <a:stretch/>
        </p:blipFill>
        <p:spPr>
          <a:xfrm>
            <a:off x="2408400" y="-30240"/>
            <a:ext cx="4443120" cy="1481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://znaimo.com.ua/images/rubase_1_618779435_12642.jpg"/>
          <p:cNvPicPr/>
          <p:nvPr/>
        </p:nvPicPr>
        <p:blipFill>
          <a:blip r:embed="rId13"/>
          <a:stretch/>
        </p:blipFill>
        <p:spPr>
          <a:xfrm>
            <a:off x="6715080" y="14292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http://znaimo.com.ua/images/rubase_1_618860215_6838.jpg"/>
          <p:cNvPicPr/>
          <p:nvPr/>
        </p:nvPicPr>
        <p:blipFill>
          <a:blip r:embed="rId14"/>
          <a:stretch/>
        </p:blipFill>
        <p:spPr>
          <a:xfrm>
            <a:off x="250920" y="18900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8" descr="Слонова черепаха 3"/>
          <p:cNvPicPr/>
          <p:nvPr/>
        </p:nvPicPr>
        <p:blipFill>
          <a:blip r:embed="rId15"/>
          <a:stretch/>
        </p:blipFill>
        <p:spPr>
          <a:xfrm>
            <a:off x="5435640" y="4365720"/>
            <a:ext cx="1219320" cy="934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8"/>
          <p:cNvSpPr/>
          <p:nvPr/>
        </p:nvSpPr>
        <p:spPr>
          <a:xfrm>
            <a:off x="5508720" y="508464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7956720" y="1197000"/>
            <a:ext cx="86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г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900000" y="260280"/>
            <a:ext cx="103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х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7380360" y="278136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урав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7451640" y="6381720"/>
            <a:ext cx="15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рхов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5076720" y="6381720"/>
            <a:ext cx="17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рехід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684360" y="6257880"/>
            <a:ext cx="180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зин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2" descr=""/>
          <p:cNvPicPr/>
          <p:nvPr/>
        </p:nvPicPr>
        <p:blipFill>
          <a:blip r:embed="rId16"/>
          <a:stretch/>
        </p:blipFill>
        <p:spPr>
          <a:xfrm>
            <a:off x="2627280" y="4941720"/>
            <a:ext cx="2305080" cy="16700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3780000" y="6237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2" descr=""/>
          <p:cNvPicPr/>
          <p:nvPr/>
        </p:nvPicPr>
        <p:blipFill>
          <a:blip r:embed="rId17"/>
          <a:stretch/>
        </p:blipFill>
        <p:spPr>
          <a:xfrm>
            <a:off x="6732720" y="3141720"/>
            <a:ext cx="2232000" cy="1809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6877080" y="458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р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3276720" y="1844640"/>
            <a:ext cx="2857320" cy="1728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Озера Євраз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08360" y="260280"/>
            <a:ext cx="278604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Каспій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"/>
          <p:cNvSpPr/>
          <p:nvPr/>
        </p:nvSpPr>
        <p:spPr>
          <a:xfrm>
            <a:off x="6500880" y="2428920"/>
            <a:ext cx="235728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Ель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6143760" y="4000680"/>
            <a:ext cx="242892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лх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7"/>
          <p:cNvSpPr/>
          <p:nvPr/>
        </p:nvSpPr>
        <p:spPr>
          <a:xfrm>
            <a:off x="1714680" y="4929120"/>
            <a:ext cx="24285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8"/>
          <p:cNvSpPr/>
          <p:nvPr/>
        </p:nvSpPr>
        <p:spPr>
          <a:xfrm>
            <a:off x="642960" y="3500280"/>
            <a:ext cx="22860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Лобн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9"/>
          <p:cNvSpPr/>
          <p:nvPr/>
        </p:nvSpPr>
        <p:spPr>
          <a:xfrm>
            <a:off x="1042920" y="62064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Мертв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250920" y="1989000"/>
            <a:ext cx="27144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Са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резьке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6215040" y="100008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Араль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4286160" y="5143680"/>
            <a:ext cx="250056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Світ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276720" y="3716280"/>
            <a:ext cx="2663640" cy="1081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еро Ялп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444600" y="249120"/>
            <a:ext cx="8712000" cy="113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5943600" y="1779480"/>
            <a:ext cx="3024360" cy="224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3564000" y="4365720"/>
            <a:ext cx="2374920" cy="2332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5"/>
          <a:stretch/>
        </p:blipFill>
        <p:spPr>
          <a:xfrm>
            <a:off x="6012000" y="4365720"/>
            <a:ext cx="2952720" cy="232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60008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е безстічне солоне море-озеро, залишко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 371 тис. км 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жина – 120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на – 32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бина – 1025 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ня солоність - 13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ливий район рибальства (осетрові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транспортне значе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84720" y="6093000"/>
            <a:ext cx="280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фтодобувні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тформи в мор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3640" y="350028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крає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419640" y="6553080"/>
            <a:ext cx="28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ре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Каспій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3305160" cy="2342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7"/>
          <a:stretch/>
        </p:blipFill>
        <p:spPr>
          <a:xfrm>
            <a:off x="3276720" y="1844640"/>
            <a:ext cx="25192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 Box 13"/>
          <p:cNvSpPr/>
          <p:nvPr/>
        </p:nvSpPr>
        <p:spPr>
          <a:xfrm>
            <a:off x="3471840" y="3357720"/>
            <a:ext cx="203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етрова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к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410920" y="6308640"/>
            <a:ext cx="92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сетро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152388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4932360" y="4581360"/>
            <a:ext cx="81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е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1499760"/>
            <a:ext cx="892980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Безстічне солоне море - озеро, якого майже не залишилос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лоща – 3300 км ² (64 тис. км 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Глибина - 8,70м (67 м 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Солоність – 15,9 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8" descr=""/>
          <p:cNvPicPr/>
          <p:nvPr/>
        </p:nvPicPr>
        <p:blipFill>
          <a:blip r:embed="rId2"/>
          <a:stretch/>
        </p:blipFill>
        <p:spPr>
          <a:xfrm>
            <a:off x="6480" y="414360"/>
            <a:ext cx="9034200" cy="15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2916360" y="4068720"/>
            <a:ext cx="2822400" cy="245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3005280" cy="2287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 rot="250200">
            <a:off x="194760" y="393336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6"/>
          <a:stretch/>
        </p:blipFill>
        <p:spPr>
          <a:xfrm>
            <a:off x="5924520" y="1987560"/>
            <a:ext cx="3000240" cy="2230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376200" y="5734080"/>
            <a:ext cx="2108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Араль - ське море в минул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2000" y="5950080"/>
            <a:ext cx="244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..Залишк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940360" y="6165720"/>
            <a:ext cx="30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еля на д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443640" y="3716280"/>
            <a:ext cx="223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лишня прис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2638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252960" y="2562120"/>
            <a:ext cx="2638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7"/>
          <a:stretch/>
        </p:blipFill>
        <p:spPr>
          <a:xfrm>
            <a:off x="3708360" y="2781360"/>
            <a:ext cx="2182680" cy="1224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3780000" y="364500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500120" y="-212760"/>
            <a:ext cx="554040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8920" y="1557360"/>
            <a:ext cx="8286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олоне озеро, залишкове, на Прикаспійській низовині, (Волгоградська область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Лежить на 16м нижче рівня мор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Площа – 200 км 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На дні озера кухонна сіль і лікувальна гряз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29080" y="4071960"/>
            <a:ext cx="3500640" cy="2509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586320" cy="238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5"/>
          <a:stretch/>
        </p:blipFill>
        <p:spPr>
          <a:xfrm>
            <a:off x="5711760" y="1920960"/>
            <a:ext cx="3237120" cy="2217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4932360" y="623736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смічний знімок озера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56360" y="3645000"/>
            <a:ext cx="237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хонна сіль.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6165720"/>
            <a:ext cx="28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кувальна грязь. 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Безстічне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 залишкове озеро;</a:t>
            </a:r>
            <a:r>
              <a:rPr b="0" lang="uk-UA" sz="20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342 м над рівнем мор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– 16,4 тис. км 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Глибина – 26 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Довжина – 605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– 74 км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Прямоугольник 8" descr=""/>
          <p:cNvPicPr/>
          <p:nvPr/>
        </p:nvPicPr>
        <p:blipFill>
          <a:blip r:embed="rId2"/>
          <a:stretch/>
        </p:blipFill>
        <p:spPr>
          <a:xfrm>
            <a:off x="1255680" y="0"/>
            <a:ext cx="6577200" cy="180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6372360" y="1268280"/>
            <a:ext cx="2592360" cy="169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2664000" cy="237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>
            <a:off x="2987640" y="4149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6300720" y="270828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492360" y="6093000"/>
            <a:ext cx="194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19280" y="6165720"/>
            <a:ext cx="86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а 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084720" y="4508640"/>
            <a:ext cx="1366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3276720" y="2565360"/>
            <a:ext cx="2609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image081"/>
          <p:cNvPicPr/>
          <p:nvPr/>
        </p:nvPicPr>
        <p:blipFill>
          <a:blip r:embed="rId7"/>
          <a:stretch/>
        </p:blipFill>
        <p:spPr>
          <a:xfrm>
            <a:off x="7596360" y="3068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fish_sazan_3_h_orig_1"/>
          <p:cNvPicPr/>
          <p:nvPr/>
        </p:nvPicPr>
        <p:blipFill>
          <a:blip r:embed="rId8"/>
          <a:stretch/>
        </p:blipFill>
        <p:spPr>
          <a:xfrm>
            <a:off x="6156360" y="4941720"/>
            <a:ext cx="2808360" cy="1727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8"/>
          <p:cNvSpPr/>
          <p:nvPr/>
        </p:nvSpPr>
        <p:spPr>
          <a:xfrm>
            <a:off x="6496200" y="6164280"/>
            <a:ext cx="68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153280" y="4506840"/>
            <a:ext cx="70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0" y="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images"/>
          <p:cNvPicPr/>
          <p:nvPr/>
        </p:nvPicPr>
        <p:blipFill>
          <a:blip r:embed="rId9"/>
          <a:stretch/>
        </p:blipFill>
        <p:spPr>
          <a:xfrm>
            <a:off x="3708360" y="2637000"/>
            <a:ext cx="2092320" cy="1439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1"/>
          <p:cNvSpPr/>
          <p:nvPr/>
        </p:nvSpPr>
        <p:spPr>
          <a:xfrm>
            <a:off x="4572360" y="3645000"/>
            <a:ext cx="100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є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1000080"/>
            <a:ext cx="8748720" cy="257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Знаходиться на півдні Сх. Сибіру в Бурятії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- 31,5 тис. км ²; довжина - 636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(середня) – 48 км; глибина – 1620 м; об'єм води – 23 тис. км 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456 м; Тектонічна западина; впадає  300 річ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Витікає одна річка – Ангара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Прямоугольник 6" descr=""/>
          <p:cNvPicPr/>
          <p:nvPr/>
        </p:nvPicPr>
        <p:blipFill>
          <a:blip r:embed="rId2"/>
          <a:stretch/>
        </p:blipFill>
        <p:spPr>
          <a:xfrm>
            <a:off x="1536840" y="42840"/>
            <a:ext cx="6381720" cy="1773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6929280" y="257184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285840" y="4714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5"/>
          <a:stretch/>
        </p:blipFill>
        <p:spPr>
          <a:xfrm>
            <a:off x="4280040" y="2779560"/>
            <a:ext cx="2541600" cy="201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6"/>
          <a:stretch/>
        </p:blipFill>
        <p:spPr>
          <a:xfrm>
            <a:off x="6278400" y="5121360"/>
            <a:ext cx="2652840" cy="174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7"/>
          <a:stretch/>
        </p:blipFill>
        <p:spPr>
          <a:xfrm>
            <a:off x="3500280" y="492912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E:\фото\jcgfyxd.jpg"/>
          <p:cNvPicPr/>
          <p:nvPr/>
        </p:nvPicPr>
        <p:blipFill>
          <a:blip r:embed="rId8"/>
          <a:stretch/>
        </p:blipFill>
        <p:spPr>
          <a:xfrm>
            <a:off x="1835280" y="2997360"/>
            <a:ext cx="2323800" cy="1655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2050920" y="429264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ба гол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922560" y="6308640"/>
            <a:ext cx="177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ьська нер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550400" y="4313160"/>
            <a:ext cx="1344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020000" y="2637000"/>
            <a:ext cx="936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24000" y="4797360"/>
            <a:ext cx="165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567480" y="6308640"/>
            <a:ext cx="174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аєвид 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907920"/>
            <a:ext cx="85726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Лобнор – безстічне озеро на заході Китаю в Таримській за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падині. Розміри і гідрорежим змінюється в залежності від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стоку річок Тариму і Колчедар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ї. Середня площа – 3 тис.км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²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Глибина – 1 м. Замерзає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Прямоугольник 5" descr=""/>
          <p:cNvPicPr/>
          <p:nvPr/>
        </p:nvPicPr>
        <p:blipFill>
          <a:blip r:embed="rId2"/>
          <a:stretch/>
        </p:blipFill>
        <p:spPr>
          <a:xfrm>
            <a:off x="1616040" y="-208080"/>
            <a:ext cx="5875200" cy="119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2120760" y="2925720"/>
            <a:ext cx="2335320" cy="1944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4"/>
          <a:stretch/>
        </p:blipFill>
        <p:spPr>
          <a:xfrm>
            <a:off x="179280" y="5516640"/>
            <a:ext cx="1944720" cy="11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5"/>
          <a:stretch/>
        </p:blipFill>
        <p:spPr>
          <a:xfrm>
            <a:off x="4500720" y="2997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6"/>
          <a:stretch/>
        </p:blipFill>
        <p:spPr>
          <a:xfrm>
            <a:off x="176040" y="2998800"/>
            <a:ext cx="1860840" cy="2378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7"/>
          <a:stretch/>
        </p:blipFill>
        <p:spPr>
          <a:xfrm>
            <a:off x="6662880" y="412128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4500720" y="2637000"/>
            <a:ext cx="2158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7093080" y="6381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0" y="5178600"/>
            <a:ext cx="207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жевальський М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340000" y="306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озера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йзаж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4" descr=""/>
          <p:cNvPicPr/>
          <p:nvPr/>
        </p:nvPicPr>
        <p:blipFill>
          <a:blip r:embed="rId8"/>
          <a:stretch/>
        </p:blipFill>
        <p:spPr>
          <a:xfrm>
            <a:off x="6676920" y="2708280"/>
            <a:ext cx="228780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6732000" y="3789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"/>
          <p:cNvPicPr/>
          <p:nvPr/>
        </p:nvPicPr>
        <p:blipFill>
          <a:blip r:embed="rId9"/>
          <a:stretch/>
        </p:blipFill>
        <p:spPr>
          <a:xfrm>
            <a:off x="4572000" y="5516640"/>
            <a:ext cx="2087640" cy="1225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7"/>
          <p:cNvSpPr/>
          <p:nvPr/>
        </p:nvSpPr>
        <p:spPr>
          <a:xfrm>
            <a:off x="4788000" y="638172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8" descr=""/>
          <p:cNvPicPr/>
          <p:nvPr/>
        </p:nvPicPr>
        <p:blipFill>
          <a:blip r:embed="rId10"/>
          <a:stretch/>
        </p:blipFill>
        <p:spPr>
          <a:xfrm>
            <a:off x="2268360" y="5157720"/>
            <a:ext cx="2232360" cy="15843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9"/>
          <p:cNvSpPr/>
          <p:nvPr/>
        </p:nvSpPr>
        <p:spPr>
          <a:xfrm>
            <a:off x="2409840" y="6381720"/>
            <a:ext cx="179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уб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туга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Знаходиться на Памірі в Таджикистані, загатне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розташоване на висоті – 3239 - 3263 м над рівнем моря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Площа - 86,5 км ², глибина – 505 -520 м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Утворилося в 1911 році, після землетрусу і обвалу, який перекрив річку Мургаб. Замерзає. Є риба маринка, осман. Розвинений туризм.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0"/>
            <a:ext cx="613260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4392360" cy="2359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650960" cy="1928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6"/>
          <a:stretch/>
        </p:blipFill>
        <p:spPr>
          <a:xfrm>
            <a:off x="3924360" y="2637000"/>
            <a:ext cx="2786040" cy="172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7451640" y="3573360"/>
            <a:ext cx="12445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79280" y="4581360"/>
            <a:ext cx="302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аси прісної води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резького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067280" y="4149720"/>
            <a:ext cx="2396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існа питтєва вода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076560" y="2666880"/>
            <a:ext cx="2990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3059280" y="2637000"/>
            <a:ext cx="2990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DSC_0010-600x307"/>
          <p:cNvPicPr/>
          <p:nvPr/>
        </p:nvPicPr>
        <p:blipFill>
          <a:blip r:embed="rId7"/>
          <a:stretch/>
        </p:blipFill>
        <p:spPr>
          <a:xfrm>
            <a:off x="250920" y="5373720"/>
            <a:ext cx="2808360" cy="131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0"/>
          <p:cNvSpPr/>
          <p:nvPr/>
        </p:nvSpPr>
        <p:spPr>
          <a:xfrm>
            <a:off x="447840" y="6308640"/>
            <a:ext cx="903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4713840" y="6308640"/>
            <a:ext cx="148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езьке озе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48:24Z</dcterms:created>
  <dc:creator>qqq</dc:creator>
  <dc:description/>
  <dc:language>en-US</dc:language>
  <cp:lastModifiedBy>Завуч</cp:lastModifiedBy>
  <dcterms:modified xsi:type="dcterms:W3CDTF">2014-05-19T08:15:28Z</dcterms:modified>
  <cp:revision>133</cp:revision>
  <dc:subject/>
  <dc:title>Найособливіші озера Євразії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f000000000001024140</vt:lpwstr>
  </property>
</Properties>
</file>