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49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29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51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9.jpeg" ContentType="image/jpeg"/>
  <Override PartName="/ppt/media/image4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C99-250C-48F1-AEB2-51A9715B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066-6B17-4D47-8B55-79F24085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CDB-24F3-4349-BB05-9AF89E07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78A-E9C6-4EF5-8B51-062202FB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203F-C624-44A1-ACC9-C2CE1B1C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B2DC-A4EC-4866-A09D-49E19C7D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E612-7039-4D23-A256-EE714FED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11B8-9C37-421C-81AA-5FED73BD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97A5-203C-43C0-918D-FBC38454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C8E1-12B5-4099-8C5F-1AAC0CF3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7CFE-E39C-43A1-ABAA-C0B0954F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AA7-3D56-4C50-B4D7-5D1B22B3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BA64-585A-4312-8610-A17B5EFB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8191-C0FB-485B-A94C-38F03197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0027-9EE5-4E38-8790-5802C1E1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EB9E-B9F3-449F-93C5-633D4B39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FAFD-3DAF-4938-8CF5-C1369BB5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638FC-8B7B-4DD9-8CB9-1FB7C43D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B2AAC-DA44-4E8C-9311-FAD2E8C9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0ADD1-EF9F-4C75-AB8C-0DD15BBB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1BC35-9C61-455A-B79F-DC993BFB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67983-5FFC-4A93-AA03-5C9A7201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CEC-9EBC-4A6F-B97B-6A7A327F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FF1F-3081-4FDE-BD65-0520E3E3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592D5-AEC4-4DF8-9D0A-2F9E6796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CFE4B-74AB-43C4-94A0-563DD211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09411-4368-4F00-AC4D-3CDCB89E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8772E-A1BD-4487-A420-D95351BB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6058B-C52A-4674-A504-2220DECD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F6D3B-5D44-4011-9956-2BFA9968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99F55-1DA1-476A-B49D-516B9F18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D4152-6D38-497F-97AF-EC5B2246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46ED5-6997-443F-AE0C-476031F6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C1D9-1149-43D4-9A44-2D7FF7AC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55B99-1779-4244-9EAD-0AFD128C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FFCBE-CBAC-4616-AD48-FEA9065F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B95E-241D-4F62-AD37-E9C0F76A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74A0F-18A2-47C4-907B-C01B7D72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52FB8-2FD3-4803-B32C-FF58D3B1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1A6C2-0502-4961-B849-ACDDC726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28E56-80AD-4EE7-8040-4B8D16BE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9C54D-12E2-4542-BDF8-D57E9BEE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B21C8-D796-4D59-B12B-0FE89D72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53CB4-5D43-4644-B8B9-C98CEB53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395-D42B-4936-AB35-1018D40D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8CC34-20B1-4260-8E98-43DF43C7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5A51A-B80D-4889-867F-43A844C9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ED533-279A-45E5-B41B-33733ED3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68C34-A78C-40DD-B9B3-1E5C43E4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4F1C0-B7BC-46E2-B8C0-2F5A6483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67CEB-FBC6-484C-A4FC-D60589CA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D358A-82E3-42A8-A4A6-D70F625E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4DD1C-917C-4EC9-9461-0EA93A1A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3A9A9-A0A5-4815-9C3F-75413CEE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78AAC-CED8-40C7-8399-0D18198F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824-F102-46DE-AFDD-C4755F2D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63937-CBD9-455F-8272-7A46BB60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539922-D69A-4D8E-92C2-3D6BC942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92E264-BB2D-43D3-A1A3-EEC9AE2E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3B9510-CC63-4874-942B-0280842D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69675D-F790-47DB-B67E-732BDF30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86D434-95FE-49C5-9B2A-18197E6D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BAA82E-6726-4E96-AB86-8BD9995B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E28563-509E-4F5C-85A5-42C4CE38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47809-E5A9-4681-B893-5A5E773A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D54FF6-CF34-4FE1-BB4E-D3BE6997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3DE-371E-4A4A-9D45-F1EBE839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EC66D5-33F0-4240-8C0D-7B6CC09F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B8EBF-0DB8-45B0-835E-C5C22E7A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1DF5CD-31B9-4985-AD34-0928A0E4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7CB-85D1-4AC6-9683-60975C54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16F-71BE-422F-8D2C-6F485BC6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BF63-CC25-44DB-96E1-D8B960C93E6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85AE-1228-4603-8BED-D5A22887661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833B-B189-4EEB-A2BC-47353A81AB9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9635-166A-4E0B-AEDD-4EAFBB37DA9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C6D5-DAD4-4269-8DCF-C76AB2F92947}" type="slidenum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3D88-B5AE-4E16-B3AC-AF23C78558A3}" type="slidenum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18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990720" y="2819520"/>
            <a:ext cx="7619760" cy="2286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галактика ______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система   ______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планета   ______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WordArt 5"/>
          <p:cNvSpPr txBox="1"/>
          <p:nvPr/>
        </p:nvSpPr>
        <p:spPr>
          <a:xfrm>
            <a:off x="1447920" y="1295280"/>
            <a:ext cx="6486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віть свою космічну “адресу”:</a:t>
            </a:r>
            <a:endParaRPr b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838080" y="3965400"/>
            <a:ext cx="2971800" cy="289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1676520" y="228600"/>
            <a:ext cx="56386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028840" y="25142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00"/>
                </a:solidFill>
                <a:latin typeface="Tahoma"/>
              </a:rPr>
              <a:t>Сторінка 7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600200" y="68580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бота з підручнико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028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362320" y="609480"/>
            <a:ext cx="4343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анети земної груп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2666880" cy="20844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2362320" y="1447920"/>
            <a:ext cx="4343400" cy="24447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4724280" y="4343400"/>
            <a:ext cx="403884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362320" y="609480"/>
            <a:ext cx="4343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анети гіган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048120" y="1676520"/>
            <a:ext cx="3124080" cy="2057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5029200" y="3962520"/>
            <a:ext cx="3352680" cy="24825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914400" y="3962520"/>
            <a:ext cx="33908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762120"/>
            <a:ext cx="8315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стероїди, комети, метеорити та метеор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3886200" y="1905120"/>
            <a:ext cx="2666880" cy="20462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6095880" y="441972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2438280" y="4343400"/>
            <a:ext cx="28958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743200" y="533520"/>
            <a:ext cx="358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яс астероїдів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8077320" cy="48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3657600" cy="28256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4800600" y="2666880"/>
            <a:ext cx="3962520" cy="29354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3048120" y="762120"/>
            <a:ext cx="3276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стероїд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657600" y="609480"/>
            <a:ext cx="327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ет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685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82000"/>
          </a:bodyPr>
          <a:p>
            <a:pPr marL="499680" indent="-499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Monotype Corsiva"/>
              </a:rPr>
              <a:t>Вчений, що зірки вивчає, добре їх порядок знає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9680" indent="-499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Monotype Corsiva"/>
              </a:rPr>
              <a:t>Всесвіт без меж – не сон, знає все це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9680" indent="-4996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Picture 4" descr="images"/>
          <p:cNvPicPr/>
          <p:nvPr/>
        </p:nvPicPr>
        <p:blipFill>
          <a:blip r:embed="rId2"/>
          <a:stretch/>
        </p:blipFill>
        <p:spPr>
          <a:xfrm>
            <a:off x="5443560" y="4205160"/>
            <a:ext cx="370044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352680" y="609480"/>
            <a:ext cx="3191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еорит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124080" y="762120"/>
            <a:ext cx="3048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еори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6964200" cy="655560"/>
          </a:xfrm>
          <a:prstGeom prst="rect">
            <a:avLst/>
          </a:prstGeom>
          <a:solidFill>
            <a:srgbClr val="a088b7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найди пару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3520" y="1676520"/>
          <a:ext cx="8001000" cy="5059080"/>
        </p:xfrm>
        <a:graphic>
          <a:graphicData uri="http://schemas.openxmlformats.org/drawingml/2006/table">
            <a:tbl>
              <a:tblPr/>
              <a:tblGrid>
                <a:gridCol w="1369800"/>
                <a:gridCol w="1536840"/>
                <a:gridCol w="50943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і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мічне тіло, яке складається із замерзлих газів із вкрапленням каменів, що рухається навколо Сонця по сильно витягнутій орбіт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манн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я частина Сонц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лак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езні хмари газів і пилу, в яких можуть утворюватися зі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нячна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чезні зоряні систем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нячна к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лях руху планети навколо Сонц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бі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нце, 9 великих планет зі своїми супутниками, безліч малих планет – астероїдів, комет, метеоритів і метеорі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ети земної кул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ворення тіні астрономічних масштабів, коли Сонце, Земля та Місяць розташовуються на одній прямі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ети-гіга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курій, Венера, Земля, Марс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пітер, Сатурн, Уран, Нептун, Плутон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ьмар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чезні кулясті розпечені небесні тіла, що випромінюють тепло та світл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001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Полярна зірка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Сонце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Проксима 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Земля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Астероїди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Місяць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Андромеда 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Плутон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атурн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Велика Ведмедиц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685800" y="990720"/>
          <a:ext cx="7848720" cy="51814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24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іла Сонячної систем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іла, що знаходяться поза Сонячною системо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нце, Земля, Астероїди, Місяць, Плутон, Сатур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ярна зірка, Проксима, Андромеда, Велика Ведмедиц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До Сонячної системи входить 9 великих небесних ті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онце – найближча до нас зоря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Метеори більше за розмірами,ніж метеорити й астероїд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ірки – космічні тіла що існують віч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олярна зірка найближча до нас зірка, крім Сонц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ивчаючи рух космічних тіл , люди змогли вести лік часу – створити календар і годинни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Орбіта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це шлях руху планет навколо Сонц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ланети гіганти-Меркурій, Венера, Земля, Мар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емля розташована у центрі Всесвіт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905120" y="609480"/>
            <a:ext cx="5486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 « Вірю не вірю » 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Вивчити § 17, 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Скласти схему «Тіла Сонячної системи» і заповнити її приклад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Скласти коротку , але з дотриманням наукової вірогідності рекламу,наприкла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життя на інших планетах Сонячної систем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одорожей  на Місяц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ольотів на штучному супутнику Земл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Або написати твір на тему «Космічна подорож» з правильним уживанням таких термінів , як зірка, планети, астероїди, метеорити, метеори. Сонце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228600" y="0"/>
            <a:ext cx="3062160" cy="1736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3809880" y="533520"/>
            <a:ext cx="47246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101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вдання додому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101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62120" y="25909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Monotype Corsiva"/>
              </a:rPr>
              <a:t>Роздивитися мікроб допоможе мікроскоп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Monotype Corsiva"/>
              </a:rPr>
              <a:t>А вивчати зорі щоб, треба мати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905120" cy="1895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0520" y="5335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68000"/>
          </a:bodyPr>
          <a:p>
            <a:pPr marL="233280" indent="-233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Monotype Corsiva"/>
              </a:rPr>
              <a:t>Всесвіт. Земля. Сонце. Корисні копалини. Комети. Метеорити. Астероїд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1923840" cy="176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2286000" y="2286000"/>
            <a:ext cx="2057400" cy="1806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4495680" y="2286000"/>
            <a:ext cx="2057400" cy="17859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6705720" y="2286000"/>
            <a:ext cx="2057400" cy="1809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533520" y="4419720"/>
            <a:ext cx="2438280" cy="1952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3505320" y="4267080"/>
            <a:ext cx="1831680" cy="2176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5791320" y="4419720"/>
            <a:ext cx="25905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600200" y="228600"/>
            <a:ext cx="6477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101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“ </a:t>
            </a: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101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нце. Сонячна система ”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101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-304920" y="-152280"/>
            <a:ext cx="944892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457200"/>
            <a:ext cx="7999200" cy="976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70000"/>
          </a:bodyPr>
          <a:p>
            <a:pPr marL="240120" indent="-2401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Monotype Corsiva"/>
              </a:rPr>
              <a:t>Сонце – єдине джерело тепла і світ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733920" y="2514600"/>
            <a:ext cx="1904760" cy="2971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143000" y="1752480"/>
            <a:ext cx="1805040" cy="1773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6019920" y="44197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304920" y="43434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6553080" y="1828800"/>
            <a:ext cx="1805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читель</cp:lastModifiedBy>
  <dcterms:modified xsi:type="dcterms:W3CDTF">2012-03-13T12:01:26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e18000000000001024140</vt:lpwstr>
  </property>
  <property fmtid="{D5CDD505-2E9C-101B-9397-08002B2CF9AE}" pid="3" name="Version">
    <vt:r8>1</vt:r8>
  </property>
</Properties>
</file>