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49.png" ContentType="image/png"/>
  <Override PartName="/ppt/media/image22.png" ContentType="image/png"/>
  <Override PartName="/ppt/media/image24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.png" ContentType="image/png"/>
  <Override PartName="/ppt/media/image3.jpeg" ContentType="image/jpeg"/>
  <Override PartName="/ppt/media/image37.jpeg" ContentType="image/jpeg"/>
  <Override PartName="/ppt/media/image25.jpeg" ContentType="image/jpeg"/>
  <Override PartName="/ppt/media/image2.png" ContentType="image/png"/>
  <Override PartName="/ppt/media/image4.jpeg" ContentType="image/jpeg"/>
  <Override PartName="/ppt/media/image26.jpeg" ContentType="image/jpeg"/>
  <Override PartName="/ppt/media/image5.jpeg" ContentType="image/jpeg"/>
  <Override PartName="/ppt/media/image50.png" ContentType="image/png"/>
  <Override PartName="/ppt/media/image29.jpeg" ContentType="image/jpeg"/>
  <Override PartName="/ppt/media/image31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28.jpeg" ContentType="image/jpeg"/>
  <Override PartName="/ppt/media/image35.jpeg" ContentType="image/jpeg"/>
  <Override PartName="/ppt/media/image10.jpeg" ContentType="image/jpeg"/>
  <Override PartName="/ppt/media/image36.jpeg" ContentType="image/jpeg"/>
  <Override PartName="/ppt/media/image11.jpeg" ContentType="image/jpeg"/>
  <Override PartName="/ppt/media/image43.jpeg" ContentType="image/jpeg"/>
  <Override PartName="/ppt/media/image44.jpeg" ContentType="image/jpeg"/>
  <Override PartName="/ppt/media/image7.jpeg" ContentType="image/jpeg"/>
  <Override PartName="/ppt/media/image38.jpeg" ContentType="image/jpeg"/>
  <Override PartName="/ppt/media/image45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2.jpeg" ContentType="image/jpeg"/>
  <Override PartName="/ppt/media/image51.png" ContentType="image/png"/>
  <Override PartName="/ppt/media/image40.jpeg" ContentType="image/jpeg"/>
  <Override PartName="/ppt/media/image13.jpeg" ContentType="image/jpeg"/>
  <Override PartName="/ppt/media/image12.jpeg" ContentType="image/jpeg"/>
  <Override PartName="/ppt/media/image9.jpeg" ContentType="image/jpeg"/>
  <Override PartName="/ppt/media/image48.png" ContentType="image/png"/>
  <Override PartName="/ppt/media/image39.jpeg" ContentType="image/jpeg"/>
  <Override PartName="/ppt/media/image8.png" ContentType="image/png"/>
  <Override PartName="/ppt/media/image41.jpeg" ContentType="image/jpeg"/>
  <Override PartName="/ppt/media/image14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E7381-398C-4A36-893F-C2C59F711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C7BC-961D-491B-9189-368B5C285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9650C-1B48-44CA-BF87-4D588AC2A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72FD-D143-4123-B3A3-4CFD179D6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9968-9CCF-420D-A53C-F44EC489F1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A7E41-4833-424C-BE60-2C965680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B80D3-DA30-484F-A397-9877B762A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23BE2-06CD-4E84-BDF5-CA13F3407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1A4C0-64F8-4173-A679-99F59E0E4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A2141-248A-4710-A690-0315C20617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AB06B-3E44-4887-BB8C-0BCDEA44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705B-0813-441B-9323-BA7D35FF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FF24F-B86D-46CE-9DCA-9B7350F68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81C4-04B5-43FE-BD9B-D735B1A4D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23F63-C317-4C2B-9BC7-E323E6B02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D2CE3-E543-4E1B-926E-450FC2569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4BB2-1AFD-42EB-9CD7-1E1E967A8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3B3D8B-68C9-4482-9AF0-CE151DF91F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3BDABD-2F25-4013-B9FD-AC818E12C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AE5A67-CD8C-46BC-8E89-118D6483B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3E9552-432C-4CE2-BA7B-9DE28391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A3995E-868E-4C02-9F2A-F735E362E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6F78-495F-4729-855B-C239A1E81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9CE9DD-7093-43DC-9408-514100B75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47ECEB-6D78-4B5B-AD78-327521743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4E8194-540E-449E-A925-D35FE02C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54693-DD7F-4728-A942-A6093A6F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EA6760-E35C-4455-B20C-A141BB29E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354765-66CC-4741-8671-FA0CD3770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2E79C-27D6-457C-B08A-29BD72312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C8D53D-5E11-4D56-8595-7642E9DD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A4877-5A09-442A-BBD5-BB442DAEB2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04CFA-0DFD-4D01-A310-1913F5511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D1D4-82E0-4516-8E7D-04DEA688A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4081A8-B8B0-4B9E-829E-5E73A1D07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71347-A68C-44AD-8402-9439FA12A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F40A11-5F93-435C-B566-D74A9D2B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D4D380-4912-47E3-BE8F-AEBBE877A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9F4BA-6DA7-4A35-8095-2D573A716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B83F9-B833-4169-9975-2BC4CAE61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59D7E9-74C3-4838-8131-60168423F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2021D3-6342-40C1-A868-BD3B42644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98C1B8-3F9A-4C84-9AF2-9204C6E5E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E669FB-2B29-4903-B59C-A7E5EA144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D4D5F-35CC-48B9-AA9F-97037EE60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AA1C05-ACF4-4136-A376-9F6E0754D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FFD5FF-926D-47D4-9B66-7BB71E0C3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01F6C-0C27-4F99-BD51-EAE14701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09BAE-5DC3-4396-A32D-DE31A323F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C603F4F-6214-49BF-BFE5-8F17F9C15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2E7D17-B1D6-4E48-AE50-AC8AA24F3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C01010-C24E-40FC-9566-EF5939DA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E25049-4A73-4066-936A-A0A42D91D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75741-1318-49BB-8C89-14683E22D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B5232C-89EF-459F-9F1F-F62085083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00575-9D5B-4C5D-9D27-17F24585F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CA8BFB-E197-4A44-A9FC-C754C852D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5617A1-3F38-434E-A5EA-0B452ACE2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B1D6F3B-9F3E-4FB3-932F-29159C582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6F9C665-07DB-4A12-95BB-82E6EAD2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34A2526-E337-4063-A441-878474739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A9F2666-0F79-4DE6-8BE0-01FD5EFA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2AF59D4-9684-4778-A67E-83EAE148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CC03FB1-1205-4ED6-B082-36778688A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D3D40F-0E1F-4586-BF71-1373F94B3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610E580-3923-4811-B990-2BC4B0792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B102-FFBF-44C7-96ED-5FE67F28F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0EA46CF-2D43-40B7-8A80-989170A54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6F6EE46-B0A2-4EF9-9AAD-3B8907406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0A12215-74FA-4EBA-A52C-E83C45B1CF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18DD4-5994-4CAE-9FB0-2658B7F6B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96619-685E-4DA9-B1ED-4752B1733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" name="Скругленный прямоугольник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F509-002B-4403-92CD-1BD63CD8C3BA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226948-99E1-4CA7-96CC-ADDBC4DE0752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D582C-F585-4EFB-9AB0-260443D16E8D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Скругленный прямоугольник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Прямоугольник с одним скругленным углом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605" h="4343400">
                <a:moveTo>
                  <a:pt x="0" y="0"/>
                </a:moveTo>
                <a:lnTo>
                  <a:pt x="2260725" y="0"/>
                </a:lnTo>
                <a:lnTo>
                  <a:pt x="2260725" y="0"/>
                </a:lnTo>
                <a:arcTo wR="63880" hR="63880" stAng="-5400000" swAng="5400000"/>
                <a:lnTo>
                  <a:pt x="2324605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64293-480C-449D-BB77-409A25F6B31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3097B-63C2-4764-BD40-7F825BC0FBF8}" type="slidenum"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7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ftr" idx="1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sldNum" idx="1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0FAD2-EB2B-4D37-B31A-AAB701E162BD}" type="slidenum"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dt" idx="1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5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5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slideLayout" Target="../slideLayouts/slideLayout5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39.jpeg"/><Relationship Id="rId4" Type="http://schemas.openxmlformats.org/officeDocument/2006/relationships/image" Target="../media/image40.jpeg"/><Relationship Id="rId5" Type="http://schemas.openxmlformats.org/officeDocument/2006/relationships/image" Target="../media/image41.jpeg"/><Relationship Id="rId6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5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5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5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5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48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5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9.png"/><Relationship Id="rId3" Type="http://schemas.openxmlformats.org/officeDocument/2006/relationships/image" Target="../media/image49.png"/><Relationship Id="rId4" Type="http://schemas.openxmlformats.org/officeDocument/2006/relationships/image" Target="../media/image49.png"/><Relationship Id="rId5" Type="http://schemas.openxmlformats.org/officeDocument/2006/relationships/image" Target="../media/image49.png"/><Relationship Id="rId6" Type="http://schemas.openxmlformats.org/officeDocument/2006/relationships/image" Target="../media/image49.png"/><Relationship Id="rId7" Type="http://schemas.openxmlformats.org/officeDocument/2006/relationships/image" Target="../media/image49.png"/><Relationship Id="rId8" Type="http://schemas.openxmlformats.org/officeDocument/2006/relationships/image" Target="../media/image49.png"/><Relationship Id="rId9" Type="http://schemas.openxmlformats.org/officeDocument/2006/relationships/image" Target="../media/image49.png"/><Relationship Id="rId10" Type="http://schemas.openxmlformats.org/officeDocument/2006/relationships/image" Target="../media/image49.png"/><Relationship Id="rId11" Type="http://schemas.openxmlformats.org/officeDocument/2006/relationships/slideLayout" Target="../slideLayouts/slideLayout5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0.png"/><Relationship Id="rId3" Type="http://schemas.openxmlformats.org/officeDocument/2006/relationships/image" Target="../media/image50.png"/><Relationship Id="rId4" Type="http://schemas.openxmlformats.org/officeDocument/2006/relationships/image" Target="../media/image50.png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image" Target="../media/image14.jpeg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5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18.jpe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5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 txBox="1"/>
          <p:nvPr/>
        </p:nvSpPr>
        <p:spPr>
          <a:xfrm>
            <a:off x="990720" y="2819520"/>
            <a:ext cx="7619760" cy="22860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галактика _____________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система   _____________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планета   ________________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8" name="WordArt 5"/>
          <p:cNvSpPr txBox="1"/>
          <p:nvPr/>
        </p:nvSpPr>
        <p:spPr>
          <a:xfrm>
            <a:off x="1447920" y="1295280"/>
            <a:ext cx="64864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Назвіть свою космічну “адресу”:</a:t>
            </a:r>
            <a:endParaRPr b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5638680" y="3886200"/>
            <a:ext cx="2971800" cy="2971800"/>
          </a:xfrm>
          <a:prstGeom prst="rect">
            <a:avLst/>
          </a:prstGeom>
          <a:ln w="0">
            <a:noFill/>
          </a:ln>
        </p:spPr>
      </p:pic>
      <p:pic>
        <p:nvPicPr>
          <p:cNvPr id="281" name="" descr=""/>
          <p:cNvPicPr/>
          <p:nvPr/>
        </p:nvPicPr>
        <p:blipFill>
          <a:blip r:embed="rId3"/>
          <a:stretch/>
        </p:blipFill>
        <p:spPr>
          <a:xfrm>
            <a:off x="838080" y="3965400"/>
            <a:ext cx="2971800" cy="2892600"/>
          </a:xfrm>
          <a:prstGeom prst="rect">
            <a:avLst/>
          </a:prstGeom>
          <a:ln w="0">
            <a:noFill/>
          </a:ln>
        </p:spPr>
      </p:pic>
      <p:pic>
        <p:nvPicPr>
          <p:cNvPr id="282" name="" descr=""/>
          <p:cNvPicPr/>
          <p:nvPr/>
        </p:nvPicPr>
        <p:blipFill>
          <a:blip r:embed="rId4"/>
          <a:stretch/>
        </p:blipFill>
        <p:spPr>
          <a:xfrm>
            <a:off x="1676520" y="228600"/>
            <a:ext cx="5638680" cy="36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/>
          </p:nvPr>
        </p:nvSpPr>
        <p:spPr>
          <a:xfrm>
            <a:off x="5028840" y="2514240"/>
            <a:ext cx="3429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cc00"/>
                </a:solidFill>
                <a:latin typeface="Tahoma"/>
              </a:rPr>
              <a:t>Сторінка 78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600200" y="685800"/>
            <a:ext cx="655308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Робота з підручнико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5" name="" descr=""/>
          <p:cNvPicPr/>
          <p:nvPr/>
        </p:nvPicPr>
        <p:blipFill>
          <a:blip r:embed="rId2"/>
          <a:stretch/>
        </p:blipFill>
        <p:spPr>
          <a:xfrm>
            <a:off x="990720" y="2362320"/>
            <a:ext cx="30286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 txBox="1"/>
          <p:nvPr/>
        </p:nvSpPr>
        <p:spPr>
          <a:xfrm>
            <a:off x="2362320" y="609480"/>
            <a:ext cx="4343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ланети земної груп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2"/>
          <a:stretch/>
        </p:blipFill>
        <p:spPr>
          <a:xfrm>
            <a:off x="990720" y="4191120"/>
            <a:ext cx="2666880" cy="20844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3"/>
          <a:stretch/>
        </p:blipFill>
        <p:spPr>
          <a:xfrm>
            <a:off x="2362320" y="1447920"/>
            <a:ext cx="4343400" cy="244476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4"/>
          <a:stretch/>
        </p:blipFill>
        <p:spPr>
          <a:xfrm>
            <a:off x="4724280" y="4343400"/>
            <a:ext cx="4038840" cy="17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8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8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fill="hold">
                            <p:stCondLst>
                              <p:cond delay="1000"/>
                            </p:stCondLst>
                            <p:childTnLst>
                              <p:par>
                                <p:cTn id="17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1500"/>
                            </p:stCondLst>
                            <p:childTnLst>
                              <p:par>
                                <p:cTn id="17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2000"/>
                            </p:stCondLst>
                            <p:childTnLst>
                              <p:par>
                                <p:cTn id="18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 txBox="1"/>
          <p:nvPr/>
        </p:nvSpPr>
        <p:spPr>
          <a:xfrm>
            <a:off x="2362320" y="609480"/>
            <a:ext cx="43434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ланети гігант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3048120" y="1676520"/>
            <a:ext cx="3124080" cy="205740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5029200" y="3962520"/>
            <a:ext cx="3352680" cy="2482560"/>
          </a:xfrm>
          <a:prstGeom prst="rect">
            <a:avLst/>
          </a:prstGeom>
          <a:ln w="0">
            <a:noFill/>
          </a:ln>
        </p:spPr>
      </p:pic>
      <p:pic>
        <p:nvPicPr>
          <p:cNvPr id="293" name="" descr=""/>
          <p:cNvPicPr/>
          <p:nvPr/>
        </p:nvPicPr>
        <p:blipFill>
          <a:blip r:embed="rId4"/>
          <a:stretch/>
        </p:blipFill>
        <p:spPr>
          <a:xfrm>
            <a:off x="914400" y="3962520"/>
            <a:ext cx="3390840" cy="25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8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8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8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8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1000"/>
                            </p:stCondLst>
                            <p:childTnLst>
                              <p:par>
                                <p:cTn id="19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"/>
                            </p:stCondLst>
                            <p:childTnLst>
                              <p:par>
                                <p:cTn id="20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000"/>
                            </p:stCondLst>
                            <p:childTnLst>
                              <p:par>
                                <p:cTn id="20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457200" y="762120"/>
            <a:ext cx="83152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стероїди, комети, метеорити та метеори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2"/>
          <a:stretch/>
        </p:blipFill>
        <p:spPr>
          <a:xfrm>
            <a:off x="533520" y="19051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3"/>
          <a:stretch/>
        </p:blipFill>
        <p:spPr>
          <a:xfrm>
            <a:off x="3886200" y="1905120"/>
            <a:ext cx="2666880" cy="2046240"/>
          </a:xfrm>
          <a:prstGeom prst="rect">
            <a:avLst/>
          </a:prstGeom>
          <a:ln w="0">
            <a:noFill/>
          </a:ln>
        </p:spPr>
      </p:pic>
      <p:pic>
        <p:nvPicPr>
          <p:cNvPr id="297" name="" descr=""/>
          <p:cNvPicPr/>
          <p:nvPr/>
        </p:nvPicPr>
        <p:blipFill>
          <a:blip r:embed="rId4"/>
          <a:stretch/>
        </p:blipFill>
        <p:spPr>
          <a:xfrm>
            <a:off x="6095880" y="4419720"/>
            <a:ext cx="2895840" cy="217152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5"/>
          <a:stretch/>
        </p:blipFill>
        <p:spPr>
          <a:xfrm>
            <a:off x="2438280" y="4343400"/>
            <a:ext cx="289584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0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2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4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26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2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500"/>
                            </p:stCondLst>
                            <p:childTnLst>
                              <p:par>
                                <p:cTn id="234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 txBox="1"/>
          <p:nvPr/>
        </p:nvSpPr>
        <p:spPr>
          <a:xfrm>
            <a:off x="2743200" y="533520"/>
            <a:ext cx="35812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Пояс астероїдів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609480" y="1676520"/>
            <a:ext cx="8077320" cy="489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533520" y="2743200"/>
            <a:ext cx="3657600" cy="2825640"/>
          </a:xfrm>
          <a:prstGeom prst="rect">
            <a:avLst/>
          </a:prstGeom>
          <a:ln w="0">
            <a:noFill/>
          </a:ln>
        </p:spPr>
      </p:pic>
      <p:pic>
        <p:nvPicPr>
          <p:cNvPr id="302" name="" descr=""/>
          <p:cNvPicPr/>
          <p:nvPr/>
        </p:nvPicPr>
        <p:blipFill>
          <a:blip r:embed="rId3"/>
          <a:stretch/>
        </p:blipFill>
        <p:spPr>
          <a:xfrm>
            <a:off x="4800600" y="2666880"/>
            <a:ext cx="3962520" cy="293544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 txBox="1"/>
          <p:nvPr/>
        </p:nvSpPr>
        <p:spPr>
          <a:xfrm>
            <a:off x="3048120" y="762120"/>
            <a:ext cx="32763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Астероїди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 txBox="1"/>
          <p:nvPr/>
        </p:nvSpPr>
        <p:spPr>
          <a:xfrm>
            <a:off x="3657600" y="609480"/>
            <a:ext cx="32767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омет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solidFill>
                <a:srgbClr val="ffcc00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 txBox="1"/>
          <p:nvPr/>
        </p:nvSpPr>
        <p:spPr>
          <a:xfrm>
            <a:off x="457200" y="68544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82000"/>
          </a:bodyPr>
          <a:p>
            <a:pPr marL="499680" indent="-4996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Monotype Corsiva"/>
              </a:rPr>
              <a:t>Вчений, що зірки вивчає, добре їх порядок знає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9680" indent="-4996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Monotype Corsiva"/>
              </a:rPr>
              <a:t>Всесвіт без меж – не сон, знає все це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499680" indent="-499680">
              <a:lnSpc>
                <a:spcPct val="100000"/>
              </a:lnSpc>
              <a:spcBef>
                <a:spcPts val="901"/>
              </a:spcBef>
              <a:buClr>
                <a:srgbClr val="ffcc00"/>
              </a:buClr>
              <a:buSzPct val="120000"/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0" name="Picture 4" descr="images"/>
          <p:cNvPicPr/>
          <p:nvPr/>
        </p:nvPicPr>
        <p:blipFill>
          <a:blip r:embed="rId2"/>
          <a:stretch/>
        </p:blipFill>
        <p:spPr>
          <a:xfrm>
            <a:off x="5443560" y="4205160"/>
            <a:ext cx="3700440" cy="265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8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8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 txBox="1"/>
          <p:nvPr/>
        </p:nvSpPr>
        <p:spPr>
          <a:xfrm>
            <a:off x="3352680" y="609480"/>
            <a:ext cx="319104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теорити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3124080" y="762120"/>
            <a:ext cx="304812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етеори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761760" y="685440"/>
            <a:ext cx="6964200" cy="655560"/>
          </a:xfrm>
          <a:prstGeom prst="rect">
            <a:avLst/>
          </a:prstGeom>
          <a:solidFill>
            <a:srgbClr val="a088b7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Знайди пару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533520" y="1676520"/>
          <a:ext cx="8001000" cy="5059080"/>
        </p:xfrm>
        <a:graphic>
          <a:graphicData uri="http://schemas.openxmlformats.org/drawingml/2006/table">
            <a:tbl>
              <a:tblPr/>
              <a:tblGrid>
                <a:gridCol w="1369800"/>
                <a:gridCol w="1536840"/>
                <a:gridCol w="509436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2c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ір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2c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смічне тіло, яке складається із замерзлих газів із вкрапленням каменів, що рухається навколо Сонця по сильно витягнутій орбіті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2cfd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2c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уманні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2c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овнішня частина Сонц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2cfd6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ae9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галактик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ae9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еличезні хмари газів і пилу, в яких можуть утворюватися зір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ae9ec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2c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нячна систе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2c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чезні зоряні системи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2cfd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ae9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нячна корон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ae9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Шлях руху планети навколо Сонця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ae9ec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2c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рбі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2c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нце, 9 великих планет зі своїми супутниками, безліч малих планет – астероїдів, комет, метеоритів і метеорів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2cfd6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ae9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ети земної кулі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ae9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творення тіні астрономічних масштабів, коли Сонце, Земля та Місяць розташовуються на одній прямій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ae9ec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2c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ланети-гіган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2c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Меркурій, Венера, Земля, Марс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2cfd6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ae9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ме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ae9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Юпітер, Сатурн, Уран, Нептун, Плутон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eae9ec"/>
                    </a:solidFill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2c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атьмаренн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2cfd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еличезні кулясті розпечені небесні тіла, що випромінюють тепло та світло</a:t>
                      </a: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d2cfd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500"/>
                            </p:stCondLst>
                            <p:childTnLst>
                              <p:par>
                                <p:cTn id="27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-360" y="304920"/>
            <a:ext cx="800100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Полярна зірка</a:t>
            </a:r>
            <a:br>
              <a:rPr sz="3200"/>
            </a:b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 Сонце</a:t>
            </a:r>
            <a:br>
              <a:rPr sz="3200"/>
            </a:b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Проксима </a:t>
            </a:r>
            <a:br>
              <a:rPr sz="3200"/>
            </a:b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Земля</a:t>
            </a:r>
            <a:br>
              <a:rPr sz="3200"/>
            </a:b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Астероїди</a:t>
            </a:r>
            <a:br>
              <a:rPr sz="3200"/>
            </a:b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 Місяць</a:t>
            </a:r>
            <a:br>
              <a:rPr sz="3200"/>
            </a:b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 Андромеда </a:t>
            </a:r>
            <a:br>
              <a:rPr sz="3200"/>
            </a:b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Плутон</a:t>
            </a:r>
            <a:br>
              <a:rPr sz="3200"/>
            </a:b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Сатурн</a:t>
            </a:r>
            <a:br>
              <a:rPr sz="3200"/>
            </a:br>
            <a:r>
              <a:rPr b="1" lang="uk-UA" sz="3200" spc="-1" strike="noStrike">
                <a:solidFill>
                  <a:srgbClr val="ffffff"/>
                </a:solidFill>
                <a:latin typeface="Times New Roman"/>
              </a:rPr>
              <a:t>Велика Ведмедиц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0" name=""/>
          <p:cNvGraphicFramePr/>
          <p:nvPr/>
        </p:nvGraphicFramePr>
        <p:xfrm>
          <a:off x="685800" y="990720"/>
          <a:ext cx="7848720" cy="5181480"/>
        </p:xfrm>
        <a:graphic>
          <a:graphicData uri="http://schemas.openxmlformats.org/drawingml/2006/table">
            <a:tbl>
              <a:tblPr/>
              <a:tblGrid>
                <a:gridCol w="3924360"/>
                <a:gridCol w="3924360"/>
              </a:tblGrid>
              <a:tr h="2436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іла Сонячної систем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іла, що знаходяться поза Сонячною системою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4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онце, Земля, Астероїди, Місяць, Плутон, Сатурн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3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лярна зірка, Проксима, Андромеда, Велика Ведмедиц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До Сонячної системи входить 9 великих небесних тіл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Сонце – найближча до нас зоря                                   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Метеори більше за розмірами,ніж метеорити й астероїд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Зірки – космічні тіла що існують вічн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Полярна зірка найближча до нас зірка, крім Сонц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Вивчаючи рух космічних тіл , люди змогли вести лік часу – створити календар і годинник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Орбіта –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це шлях руху планет навколо Сонц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Планети гіганти-Меркурій, Венера, Земля, Марс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601"/>
              </a:spcBef>
              <a:buSzPct val="12346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Земля розташована у центрі Всесвіту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1905120" y="609480"/>
            <a:ext cx="54864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008000"/>
                  </a:solidFill>
                  <a:miter/>
                </a:ln>
                <a:solidFill>
                  <a:srgbClr val="3399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Гра « Вірю не вірю » </a:t>
            </a:r>
            <a:endParaRPr b="0" lang="en-US" sz="1800" spc="1" strike="noStrike">
              <a:ln w="19080">
                <a:solidFill>
                  <a:srgbClr val="008000"/>
                </a:solidFill>
                <a:miter/>
              </a:ln>
              <a:solidFill>
                <a:srgbClr val="3399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fill="hold">
                      <p:stCondLst>
                        <p:cond delay="0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1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000"/>
                            </p:stCondLst>
                            <p:childTnLst>
                              <p:par>
                                <p:cTn id="29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3000"/>
                            </p:stCondLst>
                            <p:childTnLst>
                              <p:par>
                                <p:cTn id="29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4000"/>
                            </p:stCondLst>
                            <p:childTnLst>
                              <p:par>
                                <p:cTn id="30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7" fill="hold">
                            <p:stCondLst>
                              <p:cond delay="5000"/>
                            </p:stCondLst>
                            <p:childTnLst>
                              <p:par>
                                <p:cTn id="30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1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6000"/>
                            </p:stCondLst>
                            <p:childTnLst>
                              <p:par>
                                <p:cTn id="31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7000"/>
                            </p:stCondLst>
                            <p:childTnLst>
                              <p:par>
                                <p:cTn id="32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1000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3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8000"/>
                            </p:stCondLst>
                            <p:childTnLst>
                              <p:par>
                                <p:cTn id="32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9000"/>
                            </p:stCondLst>
                            <p:childTnLst>
                              <p:par>
                                <p:cTn id="33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685440" y="1980720"/>
            <a:ext cx="8458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Вивчити § 17, 19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Скласти схему «Тіла Сонячної системи» і заповнити її прикладами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12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Скласти коротку , але з дотриманням наукової вірогідності рекламу,наприклад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життя на інших планетах Сонячної системи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подорожей  на Місяць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польотів на штучному супутнику Землі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imes New Roman"/>
              </a:rPr>
              <a:t>Або написати твір на тему «Космічна подорож» з правильним уживанням таких термінів , як зірка, планети, астероїди, метеорити, метеори. Сонце 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5"/>
          <a:stretch/>
        </p:blipFill>
        <p:spPr>
          <a:xfrm>
            <a:off x="228600" y="0"/>
            <a:ext cx="3062160" cy="17366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 txBox="1"/>
          <p:nvPr/>
        </p:nvSpPr>
        <p:spPr>
          <a:xfrm>
            <a:off x="3809880" y="533520"/>
            <a:ext cx="47246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3366ff"/>
                  </a:solidFill>
                  <a:miter/>
                </a:ln>
                <a:solidFill>
                  <a:srgbClr val="010199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Завдання додому</a:t>
            </a:r>
            <a:endParaRPr b="1" lang="en-US" sz="1800" spc="1" strike="noStrike">
              <a:ln w="9360">
                <a:solidFill>
                  <a:srgbClr val="3366ff"/>
                </a:solidFill>
                <a:miter/>
              </a:ln>
              <a:solidFill>
                <a:srgbClr val="010199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1000"/>
                            </p:stCondLst>
                            <p:childTnLst>
                              <p:par>
                                <p:cTn id="34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2000"/>
                            </p:stCondLst>
                            <p:childTnLst>
                              <p:par>
                                <p:cTn id="35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2500"/>
                            </p:stCondLst>
                            <p:childTnLst>
                              <p:par>
                                <p:cTn id="35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3000"/>
                            </p:stCondLst>
                            <p:childTnLst>
                              <p:par>
                                <p:cTn id="36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3500"/>
                            </p:stCondLst>
                            <p:childTnLst>
                              <p:par>
                                <p:cTn id="36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4000"/>
                            </p:stCondLst>
                            <p:childTnLst>
                              <p:par>
                                <p:cTn id="37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4500"/>
                            </p:stCondLst>
                            <p:childTnLst>
                              <p:par>
                                <p:cTn id="378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0"/>
                            </p:stCondLst>
                            <p:childTnLst>
                              <p:par>
                                <p:cTn id="383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3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 txBox="1"/>
          <p:nvPr/>
        </p:nvSpPr>
        <p:spPr>
          <a:xfrm>
            <a:off x="762120" y="2590920"/>
            <a:ext cx="8076960" cy="1295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73000"/>
          </a:bodyPr>
          <a:p>
            <a:pPr marL="250200" indent="-250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Monotype Corsiva"/>
              </a:rPr>
              <a:t>Роздивитися мікроб допоможе мікроскоп,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50200" indent="-250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ffff"/>
                </a:solidFill>
                <a:latin typeface="Monotype Corsiva"/>
              </a:rPr>
              <a:t>А вивчати зорі щоб, треба мати …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7086600" y="4648320"/>
            <a:ext cx="1905120" cy="18954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304920" y="228600"/>
            <a:ext cx="2514600" cy="188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000"/>
                            </p:stCondLst>
                            <p:childTnLst>
                              <p:par>
                                <p:cTn id="4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3000"/>
                            </p:stCondLst>
                            <p:childTnLst>
                              <p:par>
                                <p:cTn id="49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80520" y="533520"/>
            <a:ext cx="8001000" cy="121896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68000"/>
          </a:bodyPr>
          <a:p>
            <a:pPr marL="233280" indent="-233280"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ffff"/>
                </a:solidFill>
                <a:latin typeface="Monotype Corsiva"/>
              </a:rPr>
              <a:t>Всесвіт. Земля. Сонце. Корисні копалини. Комети. Метеорити. Астероїди.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304920" y="2286000"/>
            <a:ext cx="1923840" cy="176220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3"/>
          <a:stretch/>
        </p:blipFill>
        <p:spPr>
          <a:xfrm>
            <a:off x="2286000" y="2286000"/>
            <a:ext cx="2057400" cy="18064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4"/>
          <a:stretch/>
        </p:blipFill>
        <p:spPr>
          <a:xfrm>
            <a:off x="4495680" y="2286000"/>
            <a:ext cx="2057400" cy="1785960"/>
          </a:xfrm>
          <a:prstGeom prst="rect">
            <a:avLst/>
          </a:prstGeom>
          <a:ln w="0">
            <a:noFill/>
          </a:ln>
        </p:spPr>
      </p:pic>
      <p:pic>
        <p:nvPicPr>
          <p:cNvPr id="268" name="" descr=""/>
          <p:cNvPicPr/>
          <p:nvPr/>
        </p:nvPicPr>
        <p:blipFill>
          <a:blip r:embed="rId5"/>
          <a:stretch/>
        </p:blipFill>
        <p:spPr>
          <a:xfrm>
            <a:off x="6705720" y="2286000"/>
            <a:ext cx="2057400" cy="1809720"/>
          </a:xfrm>
          <a:prstGeom prst="rect">
            <a:avLst/>
          </a:prstGeom>
          <a:ln w="0">
            <a:noFill/>
          </a:ln>
        </p:spPr>
      </p:pic>
      <p:pic>
        <p:nvPicPr>
          <p:cNvPr id="269" name="" descr=""/>
          <p:cNvPicPr/>
          <p:nvPr/>
        </p:nvPicPr>
        <p:blipFill>
          <a:blip r:embed="rId6"/>
          <a:stretch/>
        </p:blipFill>
        <p:spPr>
          <a:xfrm>
            <a:off x="533520" y="4419720"/>
            <a:ext cx="2438280" cy="1952640"/>
          </a:xfrm>
          <a:prstGeom prst="rect">
            <a:avLst/>
          </a:prstGeom>
          <a:ln w="0">
            <a:noFill/>
          </a:ln>
        </p:spPr>
      </p:pic>
      <p:pic>
        <p:nvPicPr>
          <p:cNvPr id="270" name="" descr=""/>
          <p:cNvPicPr/>
          <p:nvPr/>
        </p:nvPicPr>
        <p:blipFill>
          <a:blip r:embed="rId7"/>
          <a:stretch/>
        </p:blipFill>
        <p:spPr>
          <a:xfrm>
            <a:off x="3505320" y="4267080"/>
            <a:ext cx="1831680" cy="21765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8"/>
          <a:stretch/>
        </p:blipFill>
        <p:spPr>
          <a:xfrm>
            <a:off x="5791320" y="4419720"/>
            <a:ext cx="259056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3000"/>
                            </p:stCondLst>
                            <p:childTnLst>
                              <p:par>
                                <p:cTn id="7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4000"/>
                            </p:stCondLst>
                            <p:childTnLst>
                              <p:par>
                                <p:cTn id="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0"/>
                            </p:stCondLst>
                            <p:childTnLst>
                              <p:par>
                                <p:cTn id="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6000"/>
                            </p:stCondLst>
                            <p:childTnLst>
                              <p:par>
                                <p:cTn id="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8000"/>
                            </p:stCondLst>
                            <p:childTnLst>
                              <p:par>
                                <p:cTn id="1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600200" y="228600"/>
            <a:ext cx="64771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101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“ </a:t>
            </a:r>
            <a:r>
              <a:rPr b="1" lang="en-US" sz="1800" spc="1" strike="noStrike">
                <a:ln w="9360">
                  <a:solidFill>
                    <a:srgbClr val="008080"/>
                  </a:solidFill>
                  <a:miter/>
                </a:ln>
                <a:solidFill>
                  <a:srgbClr val="0101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Сонце. Сонячна система ”</a:t>
            </a:r>
            <a:endParaRPr b="1" lang="en-US" sz="1800" spc="1" strike="noStrike">
              <a:ln w="9360">
                <a:solidFill>
                  <a:srgbClr val="008080"/>
                </a:solidFill>
                <a:miter/>
              </a:ln>
              <a:solidFill>
                <a:srgbClr val="0101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0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" descr=""/>
          <p:cNvPicPr/>
          <p:nvPr/>
        </p:nvPicPr>
        <p:blipFill>
          <a:blip r:embed="rId2"/>
          <a:stretch/>
        </p:blipFill>
        <p:spPr>
          <a:xfrm>
            <a:off x="-304920" y="-152280"/>
            <a:ext cx="9448920" cy="701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457200"/>
            <a:ext cx="7999200" cy="97632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 fontScale="70000"/>
          </a:bodyPr>
          <a:p>
            <a:pPr marL="240120" indent="-240120" algn="ctr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66ff"/>
                </a:solidFill>
                <a:latin typeface="Monotype Corsiva"/>
              </a:rPr>
              <a:t>Сонце – єдине джерело тепла і світл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>
            <a:off x="3733920" y="2514600"/>
            <a:ext cx="1904760" cy="29718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1143000" y="1752480"/>
            <a:ext cx="1805040" cy="177336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4"/>
          <a:stretch/>
        </p:blipFill>
        <p:spPr>
          <a:xfrm>
            <a:off x="6019920" y="4419720"/>
            <a:ext cx="2895480" cy="217152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5"/>
          <a:stretch/>
        </p:blipFill>
        <p:spPr>
          <a:xfrm>
            <a:off x="304920" y="4343400"/>
            <a:ext cx="2819160" cy="21146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6"/>
          <a:stretch/>
        </p:blipFill>
        <p:spPr>
          <a:xfrm>
            <a:off x="6553080" y="1828800"/>
            <a:ext cx="1805040" cy="177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1500"/>
                            </p:stCondLst>
                            <p:childTnLst>
                              <p:par>
                                <p:cTn id="13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2500"/>
                            </p:stCondLst>
                            <p:childTnLst>
                              <p:par>
                                <p:cTn id="138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3500"/>
                            </p:stCondLst>
                            <p:childTnLst>
                              <p:par>
                                <p:cTn id="14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4500"/>
                            </p:stCondLst>
                            <p:childTnLst>
                              <p:par>
                                <p:cTn id="15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Вчитель</cp:lastModifiedBy>
  <dcterms:modified xsi:type="dcterms:W3CDTF">2012-03-13T12:01:26Z</dcterms:modified>
  <cp:revision>3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ee18000000000001024140</vt:lpwstr>
  </property>
  <property fmtid="{D5CDD505-2E9C-101B-9397-08002B2CF9AE}" pid="3" name="Version">
    <vt:r8>1</vt:r8>
  </property>
</Properties>
</file>