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2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.jpeg" ContentType="image/jpeg"/>
  <Override PartName="/ppt/media/image37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9.jpeg" ContentType="image/jpeg"/>
  <Override PartName="/ppt/media/image12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6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D6C-E446-4A7B-93E0-CEF19705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4EF-B647-4F91-BBD2-0CE0E83A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EBC-D475-49B6-A9EB-F1AE85B8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601-A993-4FAB-BB20-37F52C7A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8988-C19E-48B0-84DA-44958D2C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030C-3CF4-4005-B359-BF6CB57B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2985-284E-4A76-AEC9-26016DF9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D0C4-A8F0-44F1-AD5B-6AD5C338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E654-8DCC-4752-ACBD-277FCDEF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7B6A-F608-4C76-B7AB-F6F28BA9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11E7-D891-4A61-9767-5D522F34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D13-B8F8-4ACE-9A82-95659FA5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E808-BA00-4D2E-8411-F48FC3F2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4CE7-12B8-4C3C-8943-7BA4E39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020A-A8B0-4ABE-A067-C1880B67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AEE9-C501-434E-8529-594DDE33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00BB-20B3-449F-B545-3C7AE138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E12-F386-47E3-B50B-712AF3D3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8B6-E3D7-4417-A7B1-016FC6C3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9C2-C1C9-4714-B865-368DDDE0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F33-63B1-4B0A-BDA9-E8C32F0B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81E-1B9E-4F95-8E62-51554F1E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16F-240B-4F64-AD22-706596AD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D5C-DEAF-44CA-A8AB-B4A31A0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9DA4-DF30-4BE4-A2F8-D7096C1B7C9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E352-E86C-400A-BB33-7769AEE0019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0;&#1083;&#1073;&#1072;&#1085;&#1089;&#1100;&#1082;&#1072;_&#1084;&#1086;&#1074;&#1072;" TargetMode="External"/><Relationship Id="rId2" Type="http://schemas.openxmlformats.org/officeDocument/2006/relationships/hyperlink" Target="http://uk.wikipedia.org/wiki/&#1050;&#1072;&#1088;&#1087;&#1080;" TargetMode="External"/><Relationship Id="rId3" Type="http://schemas.openxmlformats.org/officeDocument/2006/relationships/hyperlink" Target="http://uk.wikipedia.org/wiki/&#1050;&#1072;&#1088;&#1087;&#1080;" TargetMode="External"/><Relationship Id="rId4" Type="http://schemas.openxmlformats.org/officeDocument/2006/relationships/hyperlink" Target="http://uk.wikipedia.org/wiki/&#1050;&#1072;&#1088;&#1087;&#1080;" TargetMode="External"/><Relationship Id="rId5" Type="http://schemas.openxmlformats.org/officeDocument/2006/relationships/hyperlink" Target="http://uk.wikipedia.org/wiki/&#1056;&#1080;&#1084;&#1089;&#1100;&#1082;&#1072;_&#1110;&#1084;&#1087;&#1077;&#1088;&#1110;&#1103;" TargetMode="External"/><Relationship Id="rId6" Type="http://schemas.openxmlformats.org/officeDocument/2006/relationships/hyperlink" Target="http://uk.wikipedia.org/wiki/&#1056;&#1080;&#1084;&#1089;&#1100;&#1082;&#1072;_&#1110;&#1084;&#1087;&#1077;&#1088;&#1110;&#1103;" TargetMode="External"/><Relationship Id="rId7" Type="http://schemas.openxmlformats.org/officeDocument/2006/relationships/hyperlink" Target="http://uk.wikipedia.org/wiki/&#1056;&#1080;&#1084;&#1089;&#1100;&#1082;&#1072;_&#1110;&#1084;&#1087;&#1077;&#1088;&#1110;&#1103;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k.wikipedia.org/" TargetMode="External"/><Relationship Id="rId2" Type="http://schemas.openxmlformats.org/officeDocument/2006/relationships/hyperlink" Target="http://uk.wikipedia.org/" TargetMode="External"/><Relationship Id="rId3" Type="http://schemas.openxmlformats.org/officeDocument/2006/relationships/hyperlink" Target="http://uk.wikipedia.org/" TargetMode="External"/><Relationship Id="rId4" Type="http://schemas.openxmlformats.org/officeDocument/2006/relationships/hyperlink" Target="http://uk.wikipedia.org/" TargetMode="External"/><Relationship Id="rId5" Type="http://schemas.openxmlformats.org/officeDocument/2006/relationships/hyperlink" Target="http://uk.wikipedia.org/" TargetMode="External"/><Relationship Id="rId6" Type="http://schemas.openxmlformats.org/officeDocument/2006/relationships/hyperlink" Target="http://uk.wikipedia.org/" TargetMode="External"/><Relationship Id="rId7" Type="http://schemas.openxmlformats.org/officeDocument/2006/relationships/hyperlink" Target="http://uk.wikipedia.org/" TargetMode="External"/><Relationship Id="rId8" Type="http://schemas.openxmlformats.org/officeDocument/2006/relationships/hyperlink" Target="http://uk.wikipedia.org/" TargetMode="External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раїнські 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21000"/>
            <a:ext cx="6264360" cy="334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516720" y="55166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ЛДКСЗШ №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итель географії, природознавств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аран  Ірина  Іванів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-43"/>
          <a:stretch/>
        </p:blipFill>
        <p:spPr>
          <a:xfrm>
            <a:off x="1116000" y="260280"/>
            <a:ext cx="2665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лонинсько-Чорногірські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092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улканічні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39052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ахівсько-Чивчинські го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27640" cy="4003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12000" y="3284640"/>
            <a:ext cx="27716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карпатська  низов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286520" cy="3745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3024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-46"/>
          <a:stretch/>
        </p:blipFill>
        <p:spPr>
          <a:xfrm>
            <a:off x="826920" y="2781360"/>
            <a:ext cx="3961080" cy="291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35280" y="5877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гани                                                           Бескид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932360" y="2781360"/>
            <a:ext cx="369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5734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іку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671640" cy="2952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927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0" b="13"/>
          <a:stretch/>
        </p:blipFill>
        <p:spPr>
          <a:xfrm>
            <a:off x="4211640" y="4076640"/>
            <a:ext cx="19429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0" r="0" b="-51"/>
          <a:stretch/>
        </p:blipFill>
        <p:spPr>
          <a:xfrm>
            <a:off x="4500720" y="2492280"/>
            <a:ext cx="4174920" cy="33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0" t="0" r="0" b="-52"/>
          <a:stretch/>
        </p:blipFill>
        <p:spPr>
          <a:xfrm>
            <a:off x="900000" y="2924280"/>
            <a:ext cx="3529080" cy="2592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исаний  Камінь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602136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  Маків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92280"/>
            <a:ext cx="3887640" cy="3211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5076720" y="2492280"/>
            <a:ext cx="36831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келі Довбуш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-40"/>
          <a:stretch/>
        </p:blipFill>
        <p:spPr>
          <a:xfrm>
            <a:off x="1042920" y="2421000"/>
            <a:ext cx="3048120" cy="341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0" r="0" b="-51"/>
          <a:stretch/>
        </p:blipFill>
        <p:spPr>
          <a:xfrm>
            <a:off x="4356000" y="2852640"/>
            <a:ext cx="44020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Говерл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971640" y="2492280"/>
            <a:ext cx="3671640" cy="320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5003640" y="2421000"/>
            <a:ext cx="37544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раєвиди  Українських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5877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ра Піп-Іван Чорногірсь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1042920" y="2492280"/>
            <a:ext cx="4176720" cy="3202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0" t="0" r="0" b="-46"/>
          <a:stretch/>
        </p:blipFill>
        <p:spPr>
          <a:xfrm>
            <a:off x="5364000" y="2781360"/>
            <a:ext cx="3537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чкова мережа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409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доспади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їнських 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75280" y="5445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одоспади: Пробі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нка, Шипіт, Гуркал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97"/>
          <a:stretch/>
        </p:blipFill>
        <p:spPr>
          <a:xfrm>
            <a:off x="468360" y="333360"/>
            <a:ext cx="3273480" cy="244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311640" cy="266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3241800" cy="2566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2916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0" r="0" b="-45"/>
          <a:stretch/>
        </p:blipFill>
        <p:spPr>
          <a:xfrm>
            <a:off x="4716360" y="2421000"/>
            <a:ext cx="3394080" cy="3211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зера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їнських 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0" t="0" r="0" b="-39"/>
          <a:stretch/>
        </p:blipFill>
        <p:spPr>
          <a:xfrm>
            <a:off x="324000" y="2349360"/>
            <a:ext cx="2950920" cy="1727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6588000" y="4149720"/>
            <a:ext cx="224172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19280" y="4365720"/>
            <a:ext cx="3529080" cy="2347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508720" y="5805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ера: Несамовите, Марічейка, Бребенескул, Синеви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24000" y="2349360"/>
            <a:ext cx="3600360" cy="255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>
            <a:lum contrast="8000"/>
          </a:blip>
          <a:stretch/>
        </p:blipFill>
        <p:spPr>
          <a:xfrm>
            <a:off x="900000" y="189000"/>
            <a:ext cx="2735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новні  типи  грунті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848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слинний  і  тваринний  сві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648400" cy="4326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616360" cy="4319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692360" y="2349360"/>
            <a:ext cx="5688000" cy="4319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1692360" y="2349360"/>
            <a:ext cx="5688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952800" cy="316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Перед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88000" y="2565360"/>
            <a:ext cx="3971880" cy="3240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изько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867120" cy="3097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ередньогірн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962520" cy="308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ходження  назви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“Карпати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 «Карпати» походить від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албансь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а karpë (камінь), а дакійське могло означати «гора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нє польське слово «karpa» означає значні нерівності, підводні каміння, значні стовбури, або корінн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ід можливого дакійського значення — «гори», може походити назва народу —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карпи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«ті хто живуть в горах», які населяли Карпати за часів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Римської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імпері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Рисунок 10" descr=""/>
          <p:cNvPicPr/>
          <p:nvPr/>
        </p:nvPicPr>
        <p:blipFill>
          <a:blip r:embed="rId8"/>
          <a:stretch/>
        </p:blipFill>
        <p:spPr>
          <a:xfrm>
            <a:off x="179280" y="1844640"/>
            <a:ext cx="878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убальпійськ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3962520" cy="2905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39625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сотна    поясність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их   Карпа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Альпійський  поя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962160" cy="2886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16360" y="26370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003280" y="1052280"/>
            <a:ext cx="3961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якую за увагу 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697440" cy="409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156360" y="609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олина  нарцисі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Використані  дані  сайтів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http://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literacy.com.u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http://osvita.ua/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uk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.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wikipedia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.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org</a:t>
            </a:r>
            <a:r>
              <a:rPr b="0" lang="uk-UA" sz="20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Інформація з програмного засоб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навчального призначення освітньої галузі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Природознавство”, географія 8  кла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Г.Д.Довгань “Фізична географія України. Майстер-клас. Розробки уроків. 8 клас”. Видавництво “Ранок”, 2008 рі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6659640" y="2421000"/>
            <a:ext cx="19447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гальна  характеристика Українських  Карпат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Східних, Лісистих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242100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ходять до складу гірської системи – Карпа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их припадає 10,3% площі усіх Карпат і 3,5% території Україн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зташовані на заході Україн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ягаються з північного заход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івденний схід на 280 к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ина 100 км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едньовисотні  молоді  гор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вища точка – г. Говерл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61 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и альпійсько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отворенн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637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15280" y="332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Карпатська  складчаста </a:t>
            </a:r>
            <a:br>
              <a:rPr sz="3200"/>
            </a:b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споруд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3529080" cy="2373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345600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1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Українських  Карпатах виділяють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2276280"/>
            <a:ext cx="82152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овнішні Карпа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ододільні-Верховинські Карпа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онинсько-Чорногорські Карпати (на фото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улканічний хребе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сив Рахівсько-Чивчинські гор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-48"/>
          <a:stretch/>
        </p:blipFill>
        <p:spPr>
          <a:xfrm>
            <a:off x="5148360" y="4508640"/>
            <a:ext cx="3754440" cy="2131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0" b="-48"/>
          <a:stretch/>
        </p:blipFill>
        <p:spPr>
          <a:xfrm>
            <a:off x="900000" y="4508640"/>
            <a:ext cx="4186440" cy="2131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редкарпатська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вищена   рівнин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753080" cy="374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3624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овнішні   Карп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382920" cy="273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4968720" cy="335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00720" y="2492280"/>
            <a:ext cx="4154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ододільно-Верховинські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Карпа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829040" cy="376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2781360"/>
            <a:ext cx="38671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3:03:53Z</dcterms:created>
  <dc:creator>Oleh</dc:creator>
  <dc:description/>
  <dc:language>en-US</dc:language>
  <cp:lastModifiedBy>Dmytro</cp:lastModifiedBy>
  <dcterms:modified xsi:type="dcterms:W3CDTF">2014-04-12T18:50:29Z</dcterms:modified>
  <cp:revision>149</cp:revision>
  <dc:subject/>
  <dc:title>Українські Карпа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61a000000000001024140</vt:lpwstr>
  </property>
</Properties>
</file>