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E588-1CFA-4F93-A9D8-A5227093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D52E-0847-41AF-BAB2-240E791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CB82-AD99-416B-8E07-ADD67B7C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B929-9228-44E2-9EF3-5664150E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17E-6DEB-4197-B355-735B21DC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0F8-21FF-4858-85ED-E66F2AC8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5853-A741-49EA-B567-BB05A02E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8072-83AD-4D3D-BCE6-0215BC9F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9F68-C344-4EAE-95C4-32788C4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B022-0237-41BA-A2AF-4809920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9A6D-A499-441D-975F-24C1A2C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90C6-BE2F-4B5A-B96E-A42CAEA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81BB-9018-4026-88FF-54D9065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96A4-1DB8-4DA7-A4F3-42DCD40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AC2-A2AD-437A-A8E3-F4C3F96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282B-D4CF-485A-A9AF-FBA1CE4D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E7DF-523D-4A1F-A725-81D1E7C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A5BD-0DA5-4C5D-B1BF-B2F07A6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0E0E-D6D4-45C2-AAD7-8EB63D76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E192-5E55-418F-8D43-547BDE3D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3B9A-ECBE-4679-8C72-F319DA74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E489-61FB-4615-AD86-3D2413F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FAA57-4B8A-4E85-961B-536D8AAC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5527-0918-46FF-8252-5BAB9583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EF9-FE95-4939-9430-7B1A472C2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8FAA-F774-490A-AEC3-70CD9BD4B7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eoswit.ucoz.ru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hyperlink" Target="http://uk.wikipedia.org/" TargetMode="External"/><Relationship Id="rId10" Type="http://schemas.openxmlformats.org/officeDocument/2006/relationships/image" Target="../media/image40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Documents and Settings\Никита\Рабочий стол\swallo-nest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16000" y="-748080"/>
            <a:ext cx="4173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ТУРИСТСЬКО-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АЄЗНАВЧІ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  МАРШРУТИ 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КРИМ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5661000"/>
            <a:ext cx="29876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ЛДКСЗШ №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Баран  Ірина  Івані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-8" b="-22"/>
          <a:stretch/>
        </p:blipFill>
        <p:spPr>
          <a:xfrm>
            <a:off x="179280" y="1341360"/>
            <a:ext cx="4176720" cy="465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6165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ЗУБЦІ  ГОРИ  АЙ-ПЕТ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4" descr="image002.gif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211640" y="5084280"/>
            <a:ext cx="2016000" cy="10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468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284720" cy="5230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551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 ГОРИ  1234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3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ЯЛТА-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ІВАДІЙ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АСАНДРІВ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ЗООПАРК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ЗКА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ОЛЯНА  КАЗОК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УЧАН-С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ПЛАТО  АЙ- ПЕТР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РИМ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КАНЬЙ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475272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59500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МАСАНДРІВСЬКИЙ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ТА </a:t>
            </a:r>
            <a:br>
              <a:rPr sz="4000"/>
            </a:b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ЛІВАДІЙСЬКИЙ  ПАЛАЦ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2565360"/>
            <a:ext cx="4392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3960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  УЧАН-С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39416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932360" y="2997360"/>
            <a:ext cx="38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ВИЩИЙ  ВОДОСПАД  КРИ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СОТА  98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АЙ-ПЕТРІ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50" b="0"/>
          <a:stretch/>
        </p:blipFill>
        <p:spPr>
          <a:xfrm>
            <a:off x="457200" y="1557360"/>
            <a:ext cx="403848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5516640"/>
            <a:ext cx="46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ьтанка поблизу дор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557360"/>
            <a:ext cx="4316400" cy="381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8000" y="54878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Канатна дорога Ай-Петрі-Сосновий Бір-Місхор-Алуп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НА  ПЛАТО  ГОРИ  АЙ-ПЕТРІ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319640" cy="306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521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ВЕЛИКИЙ  КРИМСЬКИЙ  КАНЬЙ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6" name="Рисунок 52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82248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49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759560" cy="4824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48360" y="508464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УЩЕЛИНА  РІКИ  АУЗУН-УЗ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РОТЯЖНІСТЬ  3 К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ВИСОТА  320 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ШИРИНА 2 - 4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МАРШРУТ № 4</a:t>
            </a:r>
            <a:br>
              <a:rPr sz="2800"/>
            </a:b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АЛУШТА-СУДАК-НОВИЙ СВІ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ВОДОСПАД  ДЖУР-ДЖУ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ЕНУЕЗЬКА  ФОРТЕЦ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СТЕЖКА  ГОЛІЦИ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608720" cy="3887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65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149720"/>
            <a:ext cx="3598920" cy="244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3419280" y="5444640"/>
            <a:ext cx="122364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ОДОСПАД   ДЖУР-ДЖУ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Рисунок 6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33800" cy="4664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392360" cy="42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284720" y="573408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АЙПОВНОВОДНІШИЙ   ВОДОСПАД  КРИМУ, ВИСОТА  16 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КРИМСЬКИЙ    ПІВОСТРІ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Рисунок 4" descr="image002.gif"/>
          <p:cNvPicPr/>
          <p:nvPr/>
        </p:nvPicPr>
        <p:blipFill>
          <a:blip r:embed="rId1"/>
          <a:stretch/>
        </p:blipFill>
        <p:spPr>
          <a:xfrm>
            <a:off x="471636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254B490"/>
          <p:cNvPicPr/>
          <p:nvPr/>
        </p:nvPicPr>
        <p:blipFill>
          <a:blip r:embed="rId2"/>
          <a:stretch/>
        </p:blipFill>
        <p:spPr>
          <a:xfrm>
            <a:off x="324000" y="1268280"/>
            <a:ext cx="4105080" cy="3565800"/>
          </a:xfrm>
          <a:prstGeom prst="rect">
            <a:avLst/>
          </a:prstGeom>
          <a:ln w="38160">
            <a:solidFill>
              <a:srgbClr val="008000"/>
            </a:solidFill>
            <a:miter/>
          </a:ln>
          <a:effectLst>
            <a:outerShdw dist="17819" dir="2700000" blurRad="0" rotWithShape="0">
              <a:srgbClr val="ffffff">
                <a:alpha val="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5076720" y="227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КРИМСЬКІ    Г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ЕНУЕЗЬКА  ФОРТЕЦ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0" r="0" b="-17"/>
          <a:stretch/>
        </p:blipFill>
        <p:spPr>
          <a:xfrm>
            <a:off x="1692360" y="1268280"/>
            <a:ext cx="5545080" cy="4525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68360" y="5805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ПАМ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ЯТКА  СЕРЕДНЬОВІЧЧЯ, ПОБУДОВАНА  ПРОТЯГО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1371-1469 Р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aramond"/>
              </a:rPr>
              <a:t>НОВИЙ  СВІТ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4978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093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60930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УД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Garamond"/>
              </a:rPr>
              <a:t>СТЕЖКА  ГОЛІЦИ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4000" y="5373720"/>
            <a:ext cx="33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НОВИЙ  СВІ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СИНЯ  БУХ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ЦАРСЬКИЙ  ПЛЯ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35" b="0"/>
          <a:stretch/>
        </p:blipFill>
        <p:spPr>
          <a:xfrm>
            <a:off x="4716360" y="1484280"/>
            <a:ext cx="381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ГРОТИ  ЦАРСЬКОГО  ПЛЯЖ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064040" y="1700280"/>
            <a:ext cx="507996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52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geoswit.ucoz.ru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iteracy.com.u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http://osvita.ua/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uk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wikipedia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org</a:t>
            </a:r>
            <a:r>
              <a:rPr b="0" lang="uk-U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тлас  “ Географія України “  для  8-9 класів, НВП “ Картографія”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формація з програмного засобу навчального призначення освітньої галузі “ Природознавство”, географія 8  кла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 Ранок”, 2008 рі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227640" y="2565360"/>
            <a:ext cx="2471760" cy="17226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859280" y="609300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якую  за  увагу 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549360"/>
            <a:ext cx="849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ористані  дані  сайтів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1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СІМФЕРОПОЛЬ-АЛУШТ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ГОРА ЧАТИР-ДА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(1527 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ПЕЧЕР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МАРМУР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ХОСАР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ЕМІНЕ-БАЇР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ЧЕРВО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КИЗИЛ-КО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38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59500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АЛУШ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989000"/>
            <a:ext cx="42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ГІРСЬКО-ЛІСОВИЙ МАСИ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КРИМСЬКА ШВЕЙЦАРІЯ</a:t>
            </a:r>
            <a:r>
              <a:rPr b="1" lang="en-US" sz="1800" spc="-1" strike="noStrike">
                <a:solidFill>
                  <a:srgbClr val="000514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514"/>
                </a:solidFill>
                <a:latin typeface="Times New Roman"/>
              </a:rPr>
              <a:t>ПІДНІЖЖЯ ГОРИ ЧАТИР-Д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Рисунок 4" descr="image002.gif"/>
          <p:cNvPicPr/>
          <p:nvPr/>
        </p:nvPicPr>
        <p:blipFill>
          <a:blip r:embed="rId2"/>
          <a:stretch/>
        </p:blipFill>
        <p:spPr>
          <a:xfrm>
            <a:off x="468360" y="4508640"/>
            <a:ext cx="3311640" cy="208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2627280" y="5877000"/>
            <a:ext cx="2232000" cy="288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В  ПЕЧЕРІ  ЧЕРВ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-45" b="-59"/>
          <a:stretch/>
        </p:blipFill>
        <p:spPr>
          <a:xfrm>
            <a:off x="395280" y="1484280"/>
            <a:ext cx="374328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0" r="-47" b="-59"/>
          <a:stretch/>
        </p:blipFill>
        <p:spPr>
          <a:xfrm>
            <a:off x="4427640" y="1484280"/>
            <a:ext cx="431964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ШКОЛА (все)\7 чудес України\7 природніх чудес України\4 Мармурова печера (АР Крим)\b_365[1].jpg"/>
          <p:cNvPicPr/>
          <p:nvPr/>
        </p:nvPicPr>
        <p:blipFill>
          <a:blip r:embed="rId3"/>
          <a:stretch/>
        </p:blipFill>
        <p:spPr>
          <a:xfrm>
            <a:off x="4500720" y="407664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image002.gif"/>
          <p:cNvPicPr/>
          <p:nvPr/>
        </p:nvPicPr>
        <p:blipFill>
          <a:blip r:embed="rId4"/>
          <a:stretch/>
        </p:blipFill>
        <p:spPr>
          <a:xfrm>
            <a:off x="395280" y="393372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95640" y="5516640"/>
            <a:ext cx="28872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ісце для вмісту 3" descr="D:\ШКОЛА (все)\7 чудес України\7 природніх чудес України\4 Мармурова печера (АР Крим)\37e57-8[1].jpg"/>
          <p:cNvPicPr/>
          <p:nvPr/>
        </p:nvPicPr>
        <p:blipFill>
          <a:blip r:embed="rId1"/>
          <a:stretch/>
        </p:blipFill>
        <p:spPr>
          <a:xfrm>
            <a:off x="250920" y="1052640"/>
            <a:ext cx="4321080" cy="244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ШКОЛА (все)\7 чудес України\7 природніх чудес України\4 Мармурова печера (АР Крим)\b_362[1]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40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ШКОЛА (все)\7 чудес України\7 природніх чудес України\4 Мармурова печера (АР Крим)\c_358[1].jpg"/>
          <p:cNvPicPr/>
          <p:nvPr/>
        </p:nvPicPr>
        <p:blipFill>
          <a:blip r:embed="rId3"/>
          <a:stretch/>
        </p:blipFill>
        <p:spPr>
          <a:xfrm>
            <a:off x="250920" y="3645000"/>
            <a:ext cx="432108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49480" y="260280"/>
            <a:ext cx="51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В  ПЕЧЕРІ  МАРМУ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Рисунок 7" descr="dsc_0258.jpg"/>
          <p:cNvPicPr/>
          <p:nvPr/>
        </p:nvPicPr>
        <p:blipFill>
          <a:blip r:embed="rId4"/>
          <a:stretch/>
        </p:blipFill>
        <p:spPr>
          <a:xfrm>
            <a:off x="4788000" y="364500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МАРШРУТ № 2</a:t>
            </a:r>
            <a:br>
              <a:rPr sz="3200"/>
            </a:br>
            <a:r>
              <a:rPr b="1" lang="uk-UA" sz="4800" spc="-1" strike="noStrike">
                <a:solidFill>
                  <a:srgbClr val="ffff00"/>
                </a:solidFill>
                <a:latin typeface="Times New Roman"/>
              </a:rPr>
              <a:t>АЛУШТА-ЯЛТА-АЛУП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ГОР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ОМАН-КОШ (154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Ю-ДАГ (565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Й-ПЕТРІ (1234 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aramond"/>
              </a:rPr>
              <a:t>ПАЛАЦ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ЛАСТІВЧИ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ГНІЗД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ЛУПКІН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НІКІТСЬ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БОТАНІЧНИЙ С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-22"/>
          <a:stretch/>
        </p:blipFill>
        <p:spPr>
          <a:xfrm>
            <a:off x="4427640" y="1989000"/>
            <a:ext cx="4392360" cy="410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9636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ЯЛ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ГОРА     АЮ-Д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6"/>
          <a:stretch/>
        </p:blipFill>
        <p:spPr>
          <a:xfrm>
            <a:off x="4788000" y="1268280"/>
            <a:ext cx="4038480" cy="4681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rcRect l="0" t="0" r="0" b="-22"/>
          <a:stretch/>
        </p:blipFill>
        <p:spPr>
          <a:xfrm>
            <a:off x="324000" y="126828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324000" y="5950080"/>
            <a:ext cx="55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ВИД  НА  ВЕДМІДЬ  ГОРУ  З  ЯЛ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373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АРТ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724000" y="5300640"/>
            <a:ext cx="2087640" cy="216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ЛАСТІВЧИНЕ   ГНІЗД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05080" cy="489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МИС АЙ-ТОД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6021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ПЛЯЖ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1800" spc="-1" strike="noStrike">
                <a:solidFill>
                  <a:srgbClr val="ffff00"/>
                </a:solidFill>
                <a:latin typeface="Times New Roman"/>
              </a:rPr>
              <a:t>ЗОЛОТІ  ПІСКИ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aramond"/>
              </a:rPr>
              <a:t>АЛУПКІНСЬКИЙ    ПАЛАЦ   </a:t>
            </a:r>
            <a:r>
              <a:rPr b="1" lang="uk-UA" sz="2800" spc="-1" strike="noStrike">
                <a:solidFill>
                  <a:srgbClr val="ffff00"/>
                </a:solidFill>
                <a:latin typeface="Garamond"/>
              </a:rPr>
              <a:t>РЕЗЕДЕНЦІЯ   ГРАФА    М.С.ВОРОНЦО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9"/>
          <a:stretch/>
        </p:blipFill>
        <p:spPr>
          <a:xfrm>
            <a:off x="179280" y="1557360"/>
            <a:ext cx="4316400" cy="3647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37372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ГОЛОВНИЙ ВХІД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ТЕРАСА  З ЛЕ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74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9:12:31Z</dcterms:created>
  <dc:creator>user</dc:creator>
  <dc:description/>
  <dc:language>en-US</dc:language>
  <cp:lastModifiedBy>Dmytro</cp:lastModifiedBy>
  <dcterms:modified xsi:type="dcterms:W3CDTF">2014-04-12T18:48:29Z</dcterms:modified>
  <cp:revision>43</cp:revision>
  <dc:subject/>
  <dc:title>ТУРИСТСЬКО-КРАЄЗНАВЧІ  МАРШРУТИ   КРИМ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3000000000001024140</vt:lpwstr>
  </property>
</Properties>
</file>