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2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9.jpeg" ContentType="image/jpeg"/>
  <Override PartName="/ppt/media/image12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6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E55-A8A9-44D5-BA7B-420DFF7F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67F-88E7-4EF2-996A-8F4A8F12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3F7-A88C-450A-AA3B-54081536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AB2-EAE8-47C3-92E6-67F73B53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2107-A90E-4034-B6BE-78182CE0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98E2-979B-4214-AAB7-CFF2BC54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2AE8-E761-4310-852D-FC6E7CA1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ACAA-E3E1-4007-A897-439A0BFB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839A-0CD1-460B-9408-16E6D131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AC55-7A8C-46D5-A278-CD47A5E1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260C-F865-4549-8B27-0FFD9FB0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E69-1313-4FAF-93E4-95872229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6651-CC77-4ABC-9E0B-5F6872E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03F0-8522-42BE-BF73-662F8D36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8DE0-1509-45CA-8844-AC1FF13D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9569-88AF-49E4-9EDA-0D8E19F4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0687-9572-4F16-8A45-5CA14629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7AD-5696-40DB-9E3D-258AC971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EB5-EA80-43F7-82BD-D808F999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BB5-CDB6-4FB1-904D-B8C04100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098-DAB5-4200-98BD-7BE175FF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164-89F0-4E08-817A-656240F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EA7-610F-4CD7-BE02-0D18DDF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54E-4DDE-4E6F-9800-B175A2C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AF35-ABA1-4EAA-AC50-52E5FCC6B05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43A5-4C1A-40BD-BDF8-C2AA4FBFAA5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0;&#1083;&#1073;&#1072;&#1085;&#1089;&#1100;&#1082;&#1072;_&#1084;&#1086;&#1074;&#1072;" TargetMode="External"/><Relationship Id="rId2" Type="http://schemas.openxmlformats.org/officeDocument/2006/relationships/hyperlink" Target="http://uk.wikipedia.org/wiki/&#1050;&#1072;&#1088;&#1087;&#1080;" TargetMode="External"/><Relationship Id="rId3" Type="http://schemas.openxmlformats.org/officeDocument/2006/relationships/hyperlink" Target="http://uk.wikipedia.org/wiki/&#1050;&#1072;&#1088;&#1087;&#1080;" TargetMode="External"/><Relationship Id="rId4" Type="http://schemas.openxmlformats.org/officeDocument/2006/relationships/hyperlink" Target="http://uk.wikipedia.org/wiki/&#1050;&#1072;&#1088;&#1087;&#1080;" TargetMode="External"/><Relationship Id="rId5" Type="http://schemas.openxmlformats.org/officeDocument/2006/relationships/hyperlink" Target="http://uk.wikipedia.org/wiki/&#1056;&#1080;&#1084;&#1089;&#1100;&#1082;&#1072;_&#1110;&#1084;&#1087;&#1077;&#1088;&#1110;&#1103;" TargetMode="External"/><Relationship Id="rId6" Type="http://schemas.openxmlformats.org/officeDocument/2006/relationships/hyperlink" Target="http://uk.wikipedia.org/wiki/&#1056;&#1080;&#1084;&#1089;&#1100;&#1082;&#1072;_&#1110;&#1084;&#1087;&#1077;&#1088;&#1110;&#1103;" TargetMode="External"/><Relationship Id="rId7" Type="http://schemas.openxmlformats.org/officeDocument/2006/relationships/hyperlink" Target="http://uk.wikipedia.org/wiki/&#1056;&#1080;&#1084;&#1089;&#1100;&#1082;&#1072;_&#1110;&#1084;&#1087;&#1077;&#1088;&#1110;&#1103;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k.wikipedia.org/" TargetMode="External"/><Relationship Id="rId2" Type="http://schemas.openxmlformats.org/officeDocument/2006/relationships/hyperlink" Target="http://uk.wikipedia.org/" TargetMode="External"/><Relationship Id="rId3" Type="http://schemas.openxmlformats.org/officeDocument/2006/relationships/hyperlink" Target="http://uk.wikipedia.org/" TargetMode="External"/><Relationship Id="rId4" Type="http://schemas.openxmlformats.org/officeDocument/2006/relationships/hyperlink" Target="http://uk.wikipedia.org/" TargetMode="External"/><Relationship Id="rId5" Type="http://schemas.openxmlformats.org/officeDocument/2006/relationships/hyperlink" Target="http://uk.wikipedia.org/" TargetMode="External"/><Relationship Id="rId6" Type="http://schemas.openxmlformats.org/officeDocument/2006/relationships/hyperlink" Target="http://uk.wikipedia.org/" TargetMode="External"/><Relationship Id="rId7" Type="http://schemas.openxmlformats.org/officeDocument/2006/relationships/hyperlink" Target="http://uk.wikipedia.org/" TargetMode="External"/><Relationship Id="rId8" Type="http://schemas.openxmlformats.org/officeDocument/2006/relationships/hyperlink" Target="http://uk.wikipedia.org/" TargetMode="External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раїнські 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21000"/>
            <a:ext cx="626436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16720" y="55166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ЛДКСЗШ №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итель географії, природознавств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аран  Ірина  Іванів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-43"/>
          <a:stretch/>
        </p:blipFill>
        <p:spPr>
          <a:xfrm>
            <a:off x="1116000" y="260280"/>
            <a:ext cx="2665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лонинсько-Чорногірські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092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улканічні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39052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ахівсько-Чивчинські го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12000" y="3284640"/>
            <a:ext cx="27716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карпатська  низов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286520" cy="374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3024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826920" y="2781360"/>
            <a:ext cx="3961080" cy="291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35280" y="5877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гани                                                           Бескид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69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5734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іку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671640" cy="295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927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0" b="13"/>
          <a:stretch/>
        </p:blipFill>
        <p:spPr>
          <a:xfrm>
            <a:off x="4211640" y="4076640"/>
            <a:ext cx="19429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-51"/>
          <a:stretch/>
        </p:blipFill>
        <p:spPr>
          <a:xfrm>
            <a:off x="4500720" y="2492280"/>
            <a:ext cx="4174920" cy="33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0" t="0" r="0" b="-52"/>
          <a:stretch/>
        </p:blipFill>
        <p:spPr>
          <a:xfrm>
            <a:off x="900000" y="2924280"/>
            <a:ext cx="3529080" cy="2592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исаний  Камінь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6021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  Маків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92280"/>
            <a:ext cx="3887640" cy="3211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5076720" y="2492280"/>
            <a:ext cx="36831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елі Довбуш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1042920" y="2421000"/>
            <a:ext cx="3048120" cy="341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0" r="0" b="-51"/>
          <a:stretch/>
        </p:blipFill>
        <p:spPr>
          <a:xfrm>
            <a:off x="4356000" y="2852640"/>
            <a:ext cx="44020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Говерл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92280"/>
            <a:ext cx="3671640" cy="320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5003640" y="2421000"/>
            <a:ext cx="37544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5877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іп-Іван Чорногірсь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1042920" y="2492280"/>
            <a:ext cx="4176720" cy="3202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0" r="0" b="-46"/>
          <a:stretch/>
        </p:blipFill>
        <p:spPr>
          <a:xfrm>
            <a:off x="5364000" y="2781360"/>
            <a:ext cx="3537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чкова мережа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40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доспади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їнських 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75280" y="5445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доспади: Пробі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ка, Шипіт, Гуркал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97"/>
          <a:stretch/>
        </p:blipFill>
        <p:spPr>
          <a:xfrm>
            <a:off x="468360" y="333360"/>
            <a:ext cx="3273480" cy="244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311640" cy="266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3241800" cy="2566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2916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4716360" y="2421000"/>
            <a:ext cx="3394080" cy="3211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зера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їнських 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0" t="0" r="0" b="-39"/>
          <a:stretch/>
        </p:blipFill>
        <p:spPr>
          <a:xfrm>
            <a:off x="324000" y="2349360"/>
            <a:ext cx="2950920" cy="1727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6588000" y="4149720"/>
            <a:ext cx="224172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19280" y="4365720"/>
            <a:ext cx="3529080" cy="2347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08720" y="5805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ера: Несамовите, Марічейка, Бребенескул, Синеви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24000" y="2349360"/>
            <a:ext cx="3600360" cy="255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8000"/>
          </a:blip>
          <a:stretch/>
        </p:blipFill>
        <p:spPr>
          <a:xfrm>
            <a:off x="900000" y="189000"/>
            <a:ext cx="2735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новні  типи  грунті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848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слинний  і  тваринний  сві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648400" cy="4326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6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692360" y="2349360"/>
            <a:ext cx="5688000" cy="4319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692360" y="2349360"/>
            <a:ext cx="5688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952800" cy="316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Перед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88000" y="2565360"/>
            <a:ext cx="3971880" cy="3240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изько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867120" cy="3097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ередньо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962520" cy="308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ходження  назви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“Карпати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 «Карпати» походить від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албансь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а karpë (камінь), а дакійське могло означати «гора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нє польське слово «karpa» означає значні нерівності, підводні каміння, значні стовбури, або корінн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 можливого дакійського значення — «гори», може походити назва народу —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карпи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«ті хто живуть в горах», які населяли Карпати за часів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Римської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імпері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Рисунок 10" descr=""/>
          <p:cNvPicPr/>
          <p:nvPr/>
        </p:nvPicPr>
        <p:blipFill>
          <a:blip r:embed="rId8"/>
          <a:stretch/>
        </p:blipFill>
        <p:spPr>
          <a:xfrm>
            <a:off x="179280" y="1844640"/>
            <a:ext cx="878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убальпійськ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3962520" cy="2905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39625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Альпійськ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003280" y="1052280"/>
            <a:ext cx="3961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якую за увагу 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697440" cy="409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156360" y="609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олина  нарцисі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Використані  дані  сайтів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http://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literacy.com.u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http://osvita.ua/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uk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.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wikipedia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.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org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Інформація з програмного засоб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навчального призначення освітньої галузі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Природознавство”, географія 8  кла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Г.Д.Довгань “Фізична географія України. Майстер-клас. Розробки уроків. 8 клас”. Видавництво “Ранок”, 2008 рі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6659640" y="2421000"/>
            <a:ext cx="1944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гальна  характеристика Українських  Карпат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Східних, Лісистих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ходять до складу гірської системи – Карпа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их припадає 10,3% площі усіх Карпат і 3,5% території Україн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зташовані на заході Україн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ягаються з північного заход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івденний схід на 280 к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ина 100 км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едньовисотні  молоді  гор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вища точка – г. Говерл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61 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и альпійськ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отворенн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637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15280" y="332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Карпатська  складчаста </a:t>
            </a:r>
            <a:br>
              <a:rPr sz="3200"/>
            </a:b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спору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3529080" cy="2373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345600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Українських  Карпатах виділяють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2276280"/>
            <a:ext cx="82152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внішні Карпа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ододільні-Верховинські Карпа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онинсько-Чорногорські Карпати (на фото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улканічний хребе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сив Рахівсько-Чивчинські гор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-48"/>
          <a:stretch/>
        </p:blipFill>
        <p:spPr>
          <a:xfrm>
            <a:off x="5148360" y="4508640"/>
            <a:ext cx="3754440" cy="2131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0" b="-48"/>
          <a:stretch/>
        </p:blipFill>
        <p:spPr>
          <a:xfrm>
            <a:off x="900000" y="4508640"/>
            <a:ext cx="4186440" cy="2131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редкарпатська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вищена   рівнин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753080" cy="374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3624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овнішні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382920" cy="273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4968720" cy="335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00720" y="2492280"/>
            <a:ext cx="4154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ододільно-Верховинські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29040" cy="376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671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3:03:53Z</dcterms:created>
  <dc:creator>Oleh</dc:creator>
  <dc:description/>
  <dc:language>en-US</dc:language>
  <cp:lastModifiedBy>Dmytro</cp:lastModifiedBy>
  <dcterms:modified xsi:type="dcterms:W3CDTF">2014-04-12T18:50:29Z</dcterms:modified>
  <cp:revision>149</cp:revision>
  <dc:subject/>
  <dc:title>Українські Карпа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a000000000001024140</vt:lpwstr>
  </property>
</Properties>
</file>