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8DD04-DD10-412A-A434-3CFDCF10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A10C5-FCAF-423F-A0BD-047D44C0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0A30D-1BC3-42E0-8FF3-7919D857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6C8E3-D08A-400D-9041-682754FF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26A3-5804-47D8-AD83-5382D75F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977A-A480-4083-A320-C85D1C0B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D3EF-CAB9-4E61-A5CE-D1611A87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E92E-9543-4C7F-A3B1-F30F2D6A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10E0-92D3-4874-846A-1EFAC71D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0CAD-B117-4070-BA3E-B2B07C44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83E9-5D02-4740-8F77-4A3499B7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CA6B-AFB3-49A4-9169-2444300C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7665-14B3-4202-94BE-9EFBDA96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0D96-B783-4D3D-B360-941735FB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4599-B3FF-4070-925B-997F53F7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051A-30E0-4105-BBC5-2DF78449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3951-6F1F-4675-9869-576118B3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1E6E4-609B-421C-B6AD-5EE99ECD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ACDF6-3BDA-49D7-87AE-AB2AB0B2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B244C-F48F-40FA-8340-5ECE5F44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4CA69-4DAE-498E-99C9-F180E898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C3349-BCAC-4EB5-B968-26D3845E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A8DE-9D75-4D59-A35C-6CF35EF7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3E16-563B-4BB3-813B-B4E6FD45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42F6-56B4-4DA0-8F5C-9499671E55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5DF0-3835-4F37-8F23-9EB034BCDA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geoswit.ucoz.ru/" TargetMode="External"/><Relationship Id="rId2" Type="http://schemas.openxmlformats.org/officeDocument/2006/relationships/hyperlink" Target="http://uk.wikipedia.org/" TargetMode="External"/><Relationship Id="rId3" Type="http://schemas.openxmlformats.org/officeDocument/2006/relationships/hyperlink" Target="http://uk.wikipedia.org/" TargetMode="External"/><Relationship Id="rId4" Type="http://schemas.openxmlformats.org/officeDocument/2006/relationships/hyperlink" Target="http://uk.wikipedia.org/" TargetMode="External"/><Relationship Id="rId5" Type="http://schemas.openxmlformats.org/officeDocument/2006/relationships/hyperlink" Target="http://uk.wikipedia.org/" TargetMode="External"/><Relationship Id="rId6" Type="http://schemas.openxmlformats.org/officeDocument/2006/relationships/hyperlink" Target="http://uk.wikipedia.org/" TargetMode="External"/><Relationship Id="rId7" Type="http://schemas.openxmlformats.org/officeDocument/2006/relationships/hyperlink" Target="http://uk.wikipedia.org/" TargetMode="External"/><Relationship Id="rId8" Type="http://schemas.openxmlformats.org/officeDocument/2006/relationships/hyperlink" Target="http://uk.wikipedia.org/" TargetMode="External"/><Relationship Id="rId9" Type="http://schemas.openxmlformats.org/officeDocument/2006/relationships/hyperlink" Target="http://uk.wikipedia.org/" TargetMode="External"/><Relationship Id="rId10" Type="http://schemas.openxmlformats.org/officeDocument/2006/relationships/image" Target="../media/image40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Documents and Settings\Никита\Рабочий стол\swallo-nest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16000" y="-748080"/>
            <a:ext cx="4173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ТУРИСТСЬКО-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КРАЄЗНАВЧІ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  МАРШРУТИ  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КРИМ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5661000"/>
            <a:ext cx="29876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ЛДКСЗШ №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читель географії, природознавст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Баран  Ірина  Іван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ОРА   АЙ-ПЕТР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-8" b="-22"/>
          <a:stretch/>
        </p:blipFill>
        <p:spPr>
          <a:xfrm>
            <a:off x="179280" y="1341360"/>
            <a:ext cx="4176720" cy="4656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5280" y="61657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ЗУБЦІ  ГОРИ  АЙ-ПЕТ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Рисунок 4" descr="image002.gif"/>
          <p:cNvPicPr/>
          <p:nvPr/>
        </p:nvPicPr>
        <p:blipFill>
          <a:blip r:embed="rId2"/>
          <a:stretch/>
        </p:blipFill>
        <p:spPr>
          <a:xfrm>
            <a:off x="4500720" y="1916280"/>
            <a:ext cx="4392360" cy="3673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V="1">
            <a:off x="4211640" y="5084280"/>
            <a:ext cx="2016000" cy="10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ОРА    АЙ-ПЕТР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468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284720" cy="5230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8360" y="551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ВИСОТА   ГОРИ  1234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МАРШРУТ № 3</a:t>
            </a:r>
            <a:br>
              <a:rPr sz="2800"/>
            </a:b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АЛУШТА-ЯЛТА-АЙ-ПЕТР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ПАЛАЦ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ЛІВАДІЙ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МАСАНДРІВ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ЗООПАРК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КАЗКА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ПОЛЯНА  КАЗОК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ВОДОСПАД  УЧАН-С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ПЛАТО  АЙ- ПЕТРІ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ВЕЛИ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КРИМ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КАНЬЙ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140360" y="1557360"/>
            <a:ext cx="4752720" cy="4967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0" y="59500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ЯЛ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МАСАНДРІВСЬКИЙ 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ТА 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ЛІВАДІЙСЬКИЙ  ПАЛАЦ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00720" y="2565360"/>
            <a:ext cx="439236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39607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ВОДОСПАД     УЧАН-С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394160" cy="5400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932360" y="2997360"/>
            <a:ext cx="3889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НАЙВИЩИЙ  ВОДОСПАД  КРИ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ВИСОТА  98 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ОРА   АЙ-ПЕТР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0" r="50" b="0"/>
          <a:stretch/>
        </p:blipFill>
        <p:spPr>
          <a:xfrm>
            <a:off x="457200" y="1557360"/>
            <a:ext cx="4038480" cy="3959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5516640"/>
            <a:ext cx="46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Альтанка поблизу доро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Алушта-Алуп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8320" y="1557360"/>
            <a:ext cx="4316400" cy="3819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8000" y="54878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Канатна дорога Ай-Петрі-Сосновий Бір-Місхор-Алуп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НА  ПЛАТО  ГОРИ  АЙ-ПЕТРІ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319640" cy="306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521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ВЕЛИКИЙ  КРИМСЬКИЙ  КАНЬЙО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6" name="Рисунок 52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822480" cy="35290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9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759560" cy="4824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148360" y="5084640"/>
            <a:ext cx="46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УЩЕЛИНА  РІКИ  АУЗУН-УЗЕН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ПРОТЯЖНІСТЬ  3 К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ВИСОТА  320 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ШИРИНА 2 - 4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МАРШРУТ № 4</a:t>
            </a:r>
            <a:br>
              <a:rPr sz="2800"/>
            </a:b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АЛУШТА-СУДАК-НОВИЙ СВІ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03848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ВОДОСПАД  ДЖУР-ДЖУ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ГЕНУЕЗЬКА  ФОРТЕЦ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СТЕЖКА  ГОЛІЦ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356000" y="2133720"/>
            <a:ext cx="4608720" cy="38876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65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СУД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4" descr="image002.gif"/>
          <p:cNvPicPr/>
          <p:nvPr/>
        </p:nvPicPr>
        <p:blipFill>
          <a:blip r:embed="rId2"/>
          <a:stretch/>
        </p:blipFill>
        <p:spPr>
          <a:xfrm>
            <a:off x="468360" y="4149720"/>
            <a:ext cx="3598920" cy="244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3419280" y="5444640"/>
            <a:ext cx="1223640" cy="863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ВОДОСПАД   ДЖУР-ДЖУ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7" name="Рисунок 61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33800" cy="4664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392360" cy="424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284720" y="5734080"/>
            <a:ext cx="48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НАЙПОВНОВОДНІШИЙ   ВОДОСПАД  КРИМУ, ВИСОТА  16 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aramond"/>
              </a:rPr>
              <a:t>КРИМСЬКИЙ    ПІВОСТРІ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Рисунок 4" descr="image002.gif"/>
          <p:cNvPicPr/>
          <p:nvPr/>
        </p:nvPicPr>
        <p:blipFill>
          <a:blip r:embed="rId1"/>
          <a:stretch/>
        </p:blipFill>
        <p:spPr>
          <a:xfrm>
            <a:off x="4716360" y="299736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254B490"/>
          <p:cNvPicPr/>
          <p:nvPr/>
        </p:nvPicPr>
        <p:blipFill>
          <a:blip r:embed="rId2"/>
          <a:stretch/>
        </p:blipFill>
        <p:spPr>
          <a:xfrm>
            <a:off x="324000" y="1268280"/>
            <a:ext cx="4105080" cy="3565800"/>
          </a:xfrm>
          <a:prstGeom prst="rect">
            <a:avLst/>
          </a:prstGeom>
          <a:ln w="3816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5076720" y="2276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КРИМСЬКІ    Г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ЕНУЕЗЬКА  ФОРТЕЦ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0" r="0" b="-17"/>
          <a:stretch/>
        </p:blipFill>
        <p:spPr>
          <a:xfrm>
            <a:off x="1692360" y="1268280"/>
            <a:ext cx="5545080" cy="4525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68360" y="5805360"/>
            <a:ext cx="842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ПАМ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ЯТКА  СЕРЕДНЬОВІЧЧЯ, ПОБУДОВАНА  ПРОТЯГОМ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1371-1469 Р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aramond"/>
              </a:rPr>
              <a:t>НОВИЙ  СВІТ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5280" y="1523880"/>
            <a:ext cx="84978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6093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НОВИЙ  СВІ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60930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СУД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Garamond"/>
              </a:rPr>
              <a:t>СТЕЖКА  ГОЛІЦИ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103640" cy="3816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4000" y="5373720"/>
            <a:ext cx="33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НОВИЙ  СВІ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СИНЯ  БУХ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5373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ЦАРСЬКИЙ  ПЛЯ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0" t="0" r="35" b="0"/>
          <a:stretch/>
        </p:blipFill>
        <p:spPr>
          <a:xfrm>
            <a:off x="4716360" y="1484280"/>
            <a:ext cx="3818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ГРОТИ  ЦАРСЬКОГО  ПЛЯЖ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064040" y="170028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52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40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http://geoswit.ucoz.ru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literacy.com.u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http://osvita.ua/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uk</a:t>
            </a: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wikipedia</a:t>
            </a: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org</a:t>
            </a: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Атлас  “ Географія України “  для  8-9 класів, НВП “ Картографія”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нформація з програмного засобу навчального призначення освітньої галузі “ Природознавство”, географія 8  клас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Г.Д.Довгань “Фізична географія України. Майстер-клас. Розробки уроків. 8 клас”. Видавництво “ Ранок”, 2008 рі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6227640" y="2565360"/>
            <a:ext cx="2471760" cy="1722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859280" y="6093000"/>
            <a:ext cx="395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якую  за  увагу !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549360"/>
            <a:ext cx="849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ористані  дані  сайтів 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МАРШРУТ № 1</a:t>
            </a:r>
            <a:br>
              <a:rPr sz="3200"/>
            </a:br>
            <a:r>
              <a:rPr b="1" lang="uk-UA" sz="4800" spc="-1" strike="noStrike">
                <a:solidFill>
                  <a:srgbClr val="ffff00"/>
                </a:solidFill>
                <a:latin typeface="Times New Roman"/>
              </a:rPr>
              <a:t>СІМФЕРОПОЛЬ-АЛУШТ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ГОРА ЧАТИР-ДА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(1527 М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aramond"/>
              </a:rPr>
              <a:t>ПЕЧЕР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МАРМУРО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ЕМІНЕ-БАЇР-ХОСА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ЕМІНЕ-БАЇР-КОБ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ЧЕРВО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КИЗИЛ-КОБ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95640" y="1844640"/>
            <a:ext cx="4969080" cy="3889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32360" y="59500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АЛУШ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1989000"/>
            <a:ext cx="424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514"/>
                </a:solidFill>
                <a:latin typeface="Times New Roman"/>
              </a:rPr>
              <a:t>ГІРСЬКО-ЛІСОВИЙ МАСИ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“</a:t>
            </a:r>
            <a:r>
              <a:rPr b="1" lang="uk-UA" sz="1800" spc="-1" strike="noStrike">
                <a:solidFill>
                  <a:srgbClr val="000514"/>
                </a:solidFill>
                <a:latin typeface="Times New Roman"/>
              </a:rPr>
              <a:t>КРИМСЬКА ШВЕЙЦАРІЯ</a:t>
            </a: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514"/>
                </a:solidFill>
                <a:latin typeface="Times New Roman"/>
              </a:rPr>
              <a:t>ПІДНІЖЖЯ ГОРИ ЧАТИР-ДА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4" descr="image002.gif"/>
          <p:cNvPicPr/>
          <p:nvPr/>
        </p:nvPicPr>
        <p:blipFill>
          <a:blip r:embed="rId2"/>
          <a:stretch/>
        </p:blipFill>
        <p:spPr>
          <a:xfrm>
            <a:off x="468360" y="4508640"/>
            <a:ext cx="3311640" cy="208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 flipV="1">
            <a:off x="2627280" y="5877000"/>
            <a:ext cx="2232000" cy="288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В  ПЕЧЕРІ  ЧЕРВО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-45" b="-59"/>
          <a:stretch/>
        </p:blipFill>
        <p:spPr>
          <a:xfrm>
            <a:off x="395280" y="1484280"/>
            <a:ext cx="3743280" cy="2305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0" r="-47" b="-59"/>
          <a:stretch/>
        </p:blipFill>
        <p:spPr>
          <a:xfrm>
            <a:off x="4427640" y="1484280"/>
            <a:ext cx="4319640" cy="2305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D:\ШКОЛА (все)\7 чудес України\7 природніх чудес України\4 Мармурова печера (АР Крим)\b_365[1].jpg"/>
          <p:cNvPicPr/>
          <p:nvPr/>
        </p:nvPicPr>
        <p:blipFill>
          <a:blip r:embed="rId3"/>
          <a:stretch/>
        </p:blipFill>
        <p:spPr>
          <a:xfrm>
            <a:off x="4500720" y="4076640"/>
            <a:ext cx="4248000" cy="2592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image002.gif"/>
          <p:cNvPicPr/>
          <p:nvPr/>
        </p:nvPicPr>
        <p:blipFill>
          <a:blip r:embed="rId4"/>
          <a:stretch/>
        </p:blipFill>
        <p:spPr>
          <a:xfrm>
            <a:off x="395280" y="3933720"/>
            <a:ext cx="3672000" cy="2662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195640" y="5516640"/>
            <a:ext cx="28872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Місце для вмісту 3" descr="D:\ШКОЛА (все)\7 чудес України\7 природніх чудес України\4 Мармурова печера (АР Крим)\37e57-8[1].jpg"/>
          <p:cNvPicPr/>
          <p:nvPr/>
        </p:nvPicPr>
        <p:blipFill>
          <a:blip r:embed="rId1"/>
          <a:stretch/>
        </p:blipFill>
        <p:spPr>
          <a:xfrm>
            <a:off x="250920" y="1052640"/>
            <a:ext cx="4321080" cy="244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D:\ШКОЛА (все)\7 чудес України\7 природніх чудес України\4 Мармурова печера (АР Крим)\b_362[1].jpg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2408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ШКОЛА (все)\7 чудес України\7 природніх чудес України\4 Мармурова печера (АР Крим)\c_358[1].jpg"/>
          <p:cNvPicPr/>
          <p:nvPr/>
        </p:nvPicPr>
        <p:blipFill>
          <a:blip r:embed="rId3"/>
          <a:stretch/>
        </p:blipFill>
        <p:spPr>
          <a:xfrm>
            <a:off x="250920" y="3645000"/>
            <a:ext cx="4321080" cy="302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049480" y="260280"/>
            <a:ext cx="516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В  ПЕЧЕРІ  МАРМУР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7" descr="dsc_0258.jpg"/>
          <p:cNvPicPr/>
          <p:nvPr/>
        </p:nvPicPr>
        <p:blipFill>
          <a:blip r:embed="rId4"/>
          <a:stretch/>
        </p:blipFill>
        <p:spPr>
          <a:xfrm>
            <a:off x="4788000" y="3645000"/>
            <a:ext cx="4033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МАРШРУТ № 2</a:t>
            </a:r>
            <a:br>
              <a:rPr sz="3200"/>
            </a:br>
            <a:r>
              <a:rPr b="1" lang="uk-UA" sz="4800" spc="-1" strike="noStrike">
                <a:solidFill>
                  <a:srgbClr val="ffff00"/>
                </a:solidFill>
                <a:latin typeface="Times New Roman"/>
              </a:rPr>
              <a:t>АЛУШТА-ЯЛТА-АЛУПК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ГОР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РОМАН-КОШ (1545 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АЮ-ДАГ (565 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АЙ-ПЕТРІ (1234 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ПАЛАЦ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ЛАСТІВЧИ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ГНІЗД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АЛУПКІН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НІКІТ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БОТАНІЧНИЙ СА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-22"/>
          <a:stretch/>
        </p:blipFill>
        <p:spPr>
          <a:xfrm>
            <a:off x="4427640" y="1989000"/>
            <a:ext cx="4392360" cy="4104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96360" y="5589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ЯЛ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ОРА     АЮ-ДА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36"/>
          <a:stretch/>
        </p:blipFill>
        <p:spPr>
          <a:xfrm>
            <a:off x="4788000" y="1268280"/>
            <a:ext cx="4038480" cy="4681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0" t="0" r="0" b="-22"/>
          <a:stretch/>
        </p:blipFill>
        <p:spPr>
          <a:xfrm>
            <a:off x="324000" y="1268280"/>
            <a:ext cx="439236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324000" y="5950080"/>
            <a:ext cx="55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ВИД  НА  ВЕДМІДЬ  ГОРУ  З  ЯЛ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5373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АРТ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724000" y="5300640"/>
            <a:ext cx="208764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ЛАСТІВЧИНЕ   ГНІЗД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105080" cy="4897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588000" y="59500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МИС АЙ-ТОД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176720" cy="4969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55640" y="6021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ПЛЯЖ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ЗОЛОТІ  ПІСКИ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АЛУПКІНСЬКИЙ    ПАЛАЦ   </a:t>
            </a:r>
            <a:r>
              <a:rPr b="1" lang="uk-UA" sz="2800" spc="-1" strike="noStrike">
                <a:solidFill>
                  <a:srgbClr val="ffff00"/>
                </a:solidFill>
                <a:latin typeface="Garamond"/>
              </a:rPr>
              <a:t>РЕЗЕДЕНЦІЯ   ГРАФА    М.С.ВОРОНЦО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0" b="9"/>
          <a:stretch/>
        </p:blipFill>
        <p:spPr>
          <a:xfrm>
            <a:off x="179280" y="1557360"/>
            <a:ext cx="4316400" cy="3647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373720"/>
            <a:ext cx="403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ГОЛОВНИЙ ВХІД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ТЕРАСА  З ЛЕВ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745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9:12:31Z</dcterms:created>
  <dc:creator>user</dc:creator>
  <dc:description/>
  <dc:language>en-US</dc:language>
  <cp:lastModifiedBy>Dmytro</cp:lastModifiedBy>
  <dcterms:modified xsi:type="dcterms:W3CDTF">2014-04-12T18:48:29Z</dcterms:modified>
  <cp:revision>43</cp:revision>
  <dc:subject/>
  <dc:title>ТУРИСТСЬКО-КРАЄЗНАВЧІ  МАРШРУТИ   КРИМ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3000000000001024140</vt:lpwstr>
  </property>
</Properties>
</file>