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EBF1-F940-4A1C-A547-266F4322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F84E-A846-4F5B-9D98-DF082589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21AB-1B01-4F51-AE01-F754EC46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63E9-3B6A-44B0-8A2E-F828D9AF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FB0E-B73D-43B8-AAE1-1932726A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527F-ADC1-40BB-B956-200BB8B4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2FBC-A388-4B16-AD03-EC366632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0F22-4558-4783-B345-4DBCDAA3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EE8E-EC0E-4958-9D02-0FD60FB9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07CF-40BB-487A-A4E4-8C2DC09D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1A81-2834-4022-BB6C-D0718DC7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44C8-0565-4E9E-9BD7-B8F1850C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4E7F-DE2A-4A3A-93F5-D64C2447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9863-DA60-4AEE-AEA7-0DC939C5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2FA1-3782-43DD-9531-83A0DD45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73C2-0544-40EF-A8B2-48EB696F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E010-F619-4143-A342-76761AEC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81C9-5899-4C21-A5A7-83CF47D3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F566-ED17-45D9-A555-33ECD823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A838-55C0-48EC-8F0C-0EA32AAB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ACC91-217F-49D8-83F9-E8FB19AA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EEFC-8355-44C6-A857-596093D6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2BFB-3060-4365-9D41-82B0813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4DA9-E824-417D-A1E1-954C390E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624-346F-4461-AC57-39E8923639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FB6F-8CA7-4DCC-8F52-D3C4A6C01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eoswit.ucoz.ru/" TargetMode="External"/><Relationship Id="rId2" Type="http://schemas.openxmlformats.org/officeDocument/2006/relationships/hyperlink" Target="http://uk.wikipedia.org/" TargetMode="External"/><Relationship Id="rId3" Type="http://schemas.openxmlformats.org/officeDocument/2006/relationships/hyperlink" Target="http://uk.wikipedia.org/" TargetMode="External"/><Relationship Id="rId4" Type="http://schemas.openxmlformats.org/officeDocument/2006/relationships/hyperlink" Target="http://uk.wikipedia.org/" TargetMode="External"/><Relationship Id="rId5" Type="http://schemas.openxmlformats.org/officeDocument/2006/relationships/hyperlink" Target="http://uk.wikipedia.org/" TargetMode="External"/><Relationship Id="rId6" Type="http://schemas.openxmlformats.org/officeDocument/2006/relationships/hyperlink" Target="http://uk.wikipedia.org/" TargetMode="External"/><Relationship Id="rId7" Type="http://schemas.openxmlformats.org/officeDocument/2006/relationships/hyperlink" Target="http://uk.wikipedia.org/" TargetMode="External"/><Relationship Id="rId8" Type="http://schemas.openxmlformats.org/officeDocument/2006/relationships/hyperlink" Target="http://uk.wikipedia.org/" TargetMode="External"/><Relationship Id="rId9" Type="http://schemas.openxmlformats.org/officeDocument/2006/relationships/hyperlink" Target="http://uk.wikipedia.org/" TargetMode="External"/><Relationship Id="rId10" Type="http://schemas.openxmlformats.org/officeDocument/2006/relationships/image" Target="../media/image40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Documents and Settings\Никита\Рабочий стол\swallo-nest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16000" y="-748080"/>
            <a:ext cx="4173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ТУРИСТСЬКО-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КРАЄЗНАВЧІ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  МАРШРУТИ 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КРИМ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5661000"/>
            <a:ext cx="29876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ЛДКСЗШ №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читель географії, природознавст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Баран  Ірина  Іван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-8" b="-22"/>
          <a:stretch/>
        </p:blipFill>
        <p:spPr>
          <a:xfrm>
            <a:off x="179280" y="1341360"/>
            <a:ext cx="4176720" cy="465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6165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ЗУБЦІ  ГОРИ  АЙ-ПЕТ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4" descr="image002.gif"/>
          <p:cNvPicPr/>
          <p:nvPr/>
        </p:nvPicPr>
        <p:blipFill>
          <a:blip r:embed="rId2"/>
          <a:stretch/>
        </p:blipFill>
        <p:spPr>
          <a:xfrm>
            <a:off x="4500720" y="1916280"/>
            <a:ext cx="4392360" cy="367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4211640" y="5084280"/>
            <a:ext cx="2016000" cy="10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46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284720" cy="5230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8360" y="551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ВИСОТА   ГОРИ  1234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МАРШРУТ № 3</a:t>
            </a:r>
            <a:br>
              <a:rPr sz="28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АЛУШТА-ЯЛТА-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ПАЛАЦ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ЛІВАДІЙ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МАСАНДРІВ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ЗООПАР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АЗКА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ПОЛЯНА  КАЗОК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ОДОСПАД  УЧАН-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ПЛАТО  АЙ- ПЕТР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ЕЛИ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РИМ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АНЬЙ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4752720" cy="496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59500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ЯЛ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МАСАНДРІВСЬКИЙ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ТА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ЛІВАДІЙСЬКИЙ  ПАЛАЦ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4392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3960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ОДОСПАД     УЧАН-С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394160" cy="5400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932360" y="2997360"/>
            <a:ext cx="3889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АЙВИЩИЙ  ВОДОСПАД  КРИ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СОТА  98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50" b="0"/>
          <a:stretch/>
        </p:blipFill>
        <p:spPr>
          <a:xfrm>
            <a:off x="457200" y="1557360"/>
            <a:ext cx="4038480" cy="3959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5516640"/>
            <a:ext cx="46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ьтанка поблизу дор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ушта-Алу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316400" cy="381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8000" y="54878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Канатна дорога Ай-Петрі-Сосновий Бір-Місхор-Алу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НА  ПЛАТО  ГОРИ  АЙ-ПЕТРІ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319640" cy="30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521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ВЕЛИКИЙ  КРИМСЬКИЙ  КАНЬЙО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Рисунок 52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822480" cy="3529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9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759560" cy="4824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48360" y="508464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УЩЕЛИНА  РІКИ  АУЗУН-УЗЕН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ПРОТЯЖНІСТЬ  3 К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ВИСОТА  320 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ШИРИНА 2 - 4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МАРШРУТ № 4</a:t>
            </a:r>
            <a:br>
              <a:rPr sz="28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АЛУШТА-СУДАК-НОВИЙ СВІ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ОДОСПАД  ДЖУР-ДЖУ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ЕНУЕЗЬКА  ФОРТЕЦ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СТЕЖКА  ГОЛІЦ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608720" cy="3887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6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УД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4" descr="image002.gif"/>
          <p:cNvPicPr/>
          <p:nvPr/>
        </p:nvPicPr>
        <p:blipFill>
          <a:blip r:embed="rId2"/>
          <a:stretch/>
        </p:blipFill>
        <p:spPr>
          <a:xfrm>
            <a:off x="468360" y="4149720"/>
            <a:ext cx="3598920" cy="244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3419280" y="5444640"/>
            <a:ext cx="1223640" cy="863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ОДОСПАД   ДЖУР-ДЖУ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7" name="Рисунок 6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33800" cy="4664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392360" cy="42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84720" y="5734080"/>
            <a:ext cx="48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АЙПОВНОВОДНІШИЙ   ВОДОСПАД  КРИМУ, ВИСОТА  16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aramond"/>
              </a:rPr>
              <a:t>КРИМСЬКИЙ    ПІВОСТРІ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Рисунок 4" descr="image002.gif"/>
          <p:cNvPicPr/>
          <p:nvPr/>
        </p:nvPicPr>
        <p:blipFill>
          <a:blip r:embed="rId1"/>
          <a:stretch/>
        </p:blipFill>
        <p:spPr>
          <a:xfrm>
            <a:off x="4716360" y="299736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254B490"/>
          <p:cNvPicPr/>
          <p:nvPr/>
        </p:nvPicPr>
        <p:blipFill>
          <a:blip r:embed="rId2"/>
          <a:stretch/>
        </p:blipFill>
        <p:spPr>
          <a:xfrm>
            <a:off x="324000" y="1268280"/>
            <a:ext cx="4105080" cy="356580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5076720" y="2276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КРИМСЬКІ    Г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ЕНУЕЗЬКА  ФОРТЕЦ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-17"/>
          <a:stretch/>
        </p:blipFill>
        <p:spPr>
          <a:xfrm>
            <a:off x="1692360" y="1268280"/>
            <a:ext cx="5545080" cy="4525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580536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ПАМ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ЯТКА  СЕРЕДНЬОВІЧЧЯ, ПОБУДОВАНА  ПРОТЯГО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1371-1469 Р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aramond"/>
              </a:rPr>
              <a:t>НОВИЙ  СВІТ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1523880"/>
            <a:ext cx="84978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093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ОВИЙ  СВІ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60930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УД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Garamond"/>
              </a:rPr>
              <a:t>СТЕЖКА  ГОЛІЦИ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5373720"/>
            <a:ext cx="33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ОВИЙ  СВІ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ИНЯ  БУХ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ЦАРСЬКИЙ  ПЛЯ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35" b="0"/>
          <a:stretch/>
        </p:blipFill>
        <p:spPr>
          <a:xfrm>
            <a:off x="4716360" y="1484280"/>
            <a:ext cx="3818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ГРОТИ  ЦАРСЬКОГО  ПЛЯЖ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064040" y="170028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52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http://geoswit.ucoz.r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literacy.com.u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http://osvita.ua/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uk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wikipedia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org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тлас  “ Географія України “  для  8-9 класів, НВП “ Картографія”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нформація з програмного засобу навчального призначення освітньої галузі “ Природознавство”, географія 8  кла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Г.Д.Довгань “Фізична географія України. Майстер-клас. Розробки уроків. 8 клас”. Видавництво “ Ранок”, 2008 рі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6227640" y="2565360"/>
            <a:ext cx="2471760" cy="1722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859280" y="6093000"/>
            <a:ext cx="395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якую  за  увагу 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549360"/>
            <a:ext cx="849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ористані  дані  сайтів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АРШРУТ № 1</a:t>
            </a:r>
            <a:br>
              <a:rPr sz="3200"/>
            </a:br>
            <a:r>
              <a:rPr b="1" lang="uk-UA" sz="4800" spc="-1" strike="noStrike">
                <a:solidFill>
                  <a:srgbClr val="ffff00"/>
                </a:solidFill>
                <a:latin typeface="Times New Roman"/>
              </a:rPr>
              <a:t>СІМФЕРОПОЛЬ-АЛУШТ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ГОРА ЧАТИР-ДА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(1527 М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aramond"/>
              </a:rPr>
              <a:t>ПЕЧЕР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МАРМУР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ЕМІНЕ-БАЇР-ХОСА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ЕМІНЕ-БАЇР-КОБ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ЧЕРВО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КИЗИЛ-КОБ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38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59500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УШ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989000"/>
            <a:ext cx="424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ГІРСЬКО-ЛІСОВИЙ МАСИ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“</a:t>
            </a: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КРИМСЬКА ШВЕЙЦАРІЯ</a:t>
            </a: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ПІДНІЖЖЯ ГОРИ ЧАТИР-Д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4" descr="image002.gif"/>
          <p:cNvPicPr/>
          <p:nvPr/>
        </p:nvPicPr>
        <p:blipFill>
          <a:blip r:embed="rId2"/>
          <a:stretch/>
        </p:blipFill>
        <p:spPr>
          <a:xfrm>
            <a:off x="468360" y="4508640"/>
            <a:ext cx="3311640" cy="208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2627280" y="5877000"/>
            <a:ext cx="2232000" cy="288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  ПЕЧЕРІ  ЧЕРВ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-45" b="-59"/>
          <a:stretch/>
        </p:blipFill>
        <p:spPr>
          <a:xfrm>
            <a:off x="395280" y="1484280"/>
            <a:ext cx="374328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0" r="-47" b="-59"/>
          <a:stretch/>
        </p:blipFill>
        <p:spPr>
          <a:xfrm>
            <a:off x="4427640" y="1484280"/>
            <a:ext cx="431964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ШКОЛА (все)\7 чудес України\7 природніх чудес України\4 Мармурова печера (АР Крим)\b_365[1].jpg"/>
          <p:cNvPicPr/>
          <p:nvPr/>
        </p:nvPicPr>
        <p:blipFill>
          <a:blip r:embed="rId3"/>
          <a:stretch/>
        </p:blipFill>
        <p:spPr>
          <a:xfrm>
            <a:off x="4500720" y="4076640"/>
            <a:ext cx="424800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image002.gif"/>
          <p:cNvPicPr/>
          <p:nvPr/>
        </p:nvPicPr>
        <p:blipFill>
          <a:blip r:embed="rId4"/>
          <a:stretch/>
        </p:blipFill>
        <p:spPr>
          <a:xfrm>
            <a:off x="395280" y="3933720"/>
            <a:ext cx="3672000" cy="266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95640" y="5516640"/>
            <a:ext cx="28872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Місце для вмісту 3" descr="D:\ШКОЛА (все)\7 чудес України\7 природніх чудес України\4 Мармурова печера (АР Крим)\37e57-8[1].jpg"/>
          <p:cNvPicPr/>
          <p:nvPr/>
        </p:nvPicPr>
        <p:blipFill>
          <a:blip r:embed="rId1"/>
          <a:stretch/>
        </p:blipFill>
        <p:spPr>
          <a:xfrm>
            <a:off x="250920" y="1052640"/>
            <a:ext cx="4321080" cy="244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ШКОЛА (все)\7 чудес України\7 природніх чудес України\4 Мармурова печера (АР Крим)\b_362[1].jpg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2408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ШКОЛА (все)\7 чудес України\7 природніх чудес України\4 Мармурова печера (АР Крим)\c_358[1].jpg"/>
          <p:cNvPicPr/>
          <p:nvPr/>
        </p:nvPicPr>
        <p:blipFill>
          <a:blip r:embed="rId3"/>
          <a:stretch/>
        </p:blipFill>
        <p:spPr>
          <a:xfrm>
            <a:off x="250920" y="3645000"/>
            <a:ext cx="432108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49480" y="260280"/>
            <a:ext cx="51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В  ПЕЧЕРІ  МАРМУ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7" descr="dsc_0258.jpg"/>
          <p:cNvPicPr/>
          <p:nvPr/>
        </p:nvPicPr>
        <p:blipFill>
          <a:blip r:embed="rId4"/>
          <a:stretch/>
        </p:blipFill>
        <p:spPr>
          <a:xfrm>
            <a:off x="4788000" y="3645000"/>
            <a:ext cx="40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АРШРУТ № 2</a:t>
            </a:r>
            <a:br>
              <a:rPr sz="3200"/>
            </a:br>
            <a:r>
              <a:rPr b="1" lang="uk-UA" sz="4800" spc="-1" strike="noStrike">
                <a:solidFill>
                  <a:srgbClr val="ffff00"/>
                </a:solidFill>
                <a:latin typeface="Times New Roman"/>
              </a:rPr>
              <a:t>АЛУШТА-ЯЛТА-АЛУП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ГО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РОМАН-КОШ (1545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Ю-ДАГ (565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Й-ПЕТРІ (1234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ПАЛАЦ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ЛАСТІВЧИ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НІЗД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ЛУПКІН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НІКІТ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БОТАНІЧНИЙ С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-22"/>
          <a:stretch/>
        </p:blipFill>
        <p:spPr>
          <a:xfrm>
            <a:off x="4427640" y="1989000"/>
            <a:ext cx="4392360" cy="4104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9636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ЯЛ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  АЮ-Д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36"/>
          <a:stretch/>
        </p:blipFill>
        <p:spPr>
          <a:xfrm>
            <a:off x="4788000" y="1268280"/>
            <a:ext cx="4038480" cy="4681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0" r="0" b="-22"/>
          <a:stretch/>
        </p:blipFill>
        <p:spPr>
          <a:xfrm>
            <a:off x="324000" y="1268280"/>
            <a:ext cx="4392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324000" y="5950080"/>
            <a:ext cx="55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Д  НА  ВЕДМІДЬ  ГОРУ  З  ЯЛ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5373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АРТ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724000" y="5300640"/>
            <a:ext cx="208764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ЛАСТІВЧИНЕ   ГНІЗД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105080" cy="489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88000" y="5950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МИС АЙ-ТОД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76720" cy="4969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6021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ПЛЯЖ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ЗОЛОТІ  ПІСКИ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АЛУПКІНСЬКИЙ    ПАЛАЦ   </a:t>
            </a:r>
            <a:r>
              <a:rPr b="1" lang="uk-UA" sz="2800" spc="-1" strike="noStrike">
                <a:solidFill>
                  <a:srgbClr val="ffff00"/>
                </a:solidFill>
                <a:latin typeface="Garamond"/>
              </a:rPr>
              <a:t>РЕЗЕДЕНЦІЯ   ГРАФА    М.С.ВОРОНЦО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9"/>
          <a:stretch/>
        </p:blipFill>
        <p:spPr>
          <a:xfrm>
            <a:off x="179280" y="1557360"/>
            <a:ext cx="431640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373720"/>
            <a:ext cx="40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ГОЛОВНИЙ ВХІ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ТЕРАСА  З ЛЕВ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74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9:12:31Z</dcterms:created>
  <dc:creator>user</dc:creator>
  <dc:description/>
  <dc:language>en-US</dc:language>
  <cp:lastModifiedBy>Dmytro</cp:lastModifiedBy>
  <dcterms:modified xsi:type="dcterms:W3CDTF">2014-04-12T18:48:29Z</dcterms:modified>
  <cp:revision>43</cp:revision>
  <dc:subject/>
  <dc:title>ТУРИСТСЬКО-КРАЄЗНАВЧІ  МАРШРУТИ   КРИМ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3000000000001024140</vt:lpwstr>
  </property>
</Properties>
</file>