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12.jpeg" ContentType="image/jpe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1313B-1EA7-49FD-9F77-89B9C0254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84D1E-3A5E-4073-ACA2-114968EF4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6150A-C1F6-495D-BEEB-8A9579C8B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5C652-37FC-4F9E-AA83-92A4842FB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4FA9C-F003-4B70-B2B7-323E3E6B4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04487-B84A-4629-99AF-F59AEA5C7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924CC-7E52-4266-8185-7437F25B4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25572-C29A-4151-9810-370419703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D9350-1CA2-4E9F-AFC3-652178180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3C88A-77F6-4830-BEB5-958C5AA2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F11F6-65CA-4B36-BB13-97AC3C0B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5C74B-AFC0-4BF6-81CD-6FE296846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8CD72-ACBC-4818-BCCD-B71FF3DD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958CA-F728-47CD-AB71-E1B8D4F5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05A9E-DB8C-4156-85BD-093795A33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1F9D3-16C2-49D9-A579-A50A4CAC0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B0CF6-9002-4C99-8082-D8C7DF0E8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8271A-263C-4422-8365-5D8BA3866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D9A4F-2204-459D-8CFD-613DC7104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3D1D4-A2F1-45F4-AAE3-0284FCE14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CA696-62FC-4A18-B423-F8A636321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A9298-13F7-4A70-B077-0F8046CA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D6EA7-99F5-46F2-9370-9B2BA557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94F9A-A600-42C9-95BA-72F8E1B5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FFD56-CDFA-4FE3-A764-BAFF6C7CC0A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72F26-64E2-407F-9830-120D214E112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geoswit.ucoz.ru/" TargetMode="External"/><Relationship Id="rId2" Type="http://schemas.openxmlformats.org/officeDocument/2006/relationships/hyperlink" Target="http://uk.wikipedia.org/" TargetMode="External"/><Relationship Id="rId3" Type="http://schemas.openxmlformats.org/officeDocument/2006/relationships/hyperlink" Target="http://uk.wikipedia.org/" TargetMode="External"/><Relationship Id="rId4" Type="http://schemas.openxmlformats.org/officeDocument/2006/relationships/hyperlink" Target="http://uk.wikipedia.org/" TargetMode="External"/><Relationship Id="rId5" Type="http://schemas.openxmlformats.org/officeDocument/2006/relationships/hyperlink" Target="http://uk.wikipedia.org/" TargetMode="External"/><Relationship Id="rId6" Type="http://schemas.openxmlformats.org/officeDocument/2006/relationships/hyperlink" Target="http://uk.wikipedia.org/" TargetMode="External"/><Relationship Id="rId7" Type="http://schemas.openxmlformats.org/officeDocument/2006/relationships/hyperlink" Target="http://uk.wikipedia.org/" TargetMode="External"/><Relationship Id="rId8" Type="http://schemas.openxmlformats.org/officeDocument/2006/relationships/hyperlink" Target="http://uk.wikipedia.org/" TargetMode="External"/><Relationship Id="rId9" Type="http://schemas.openxmlformats.org/officeDocument/2006/relationships/hyperlink" Target="http://uk.wikipedia.org/" TargetMode="External"/><Relationship Id="rId10" Type="http://schemas.openxmlformats.org/officeDocument/2006/relationships/image" Target="../media/image40.jpeg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C:\Documents and Settings\Никита\Рабочий стол\swallo-nest-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16000" y="-748080"/>
            <a:ext cx="4173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00"/>
                </a:solidFill>
                <a:latin typeface="Times New Roman"/>
              </a:rPr>
              <a:t>ТУРИСТСЬКО-</a:t>
            </a:r>
            <a:br>
              <a:rPr sz="4000"/>
            </a:br>
            <a:r>
              <a:rPr b="1" lang="uk-UA" sz="4000" spc="-1" strike="noStrike">
                <a:solidFill>
                  <a:srgbClr val="ffff00"/>
                </a:solidFill>
                <a:latin typeface="Times New Roman"/>
              </a:rPr>
              <a:t>КРАЄЗНАВЧІ</a:t>
            </a:r>
            <a:br>
              <a:rPr sz="4000"/>
            </a:br>
            <a:r>
              <a:rPr b="1" lang="uk-UA" sz="4000" spc="-1" strike="noStrike">
                <a:solidFill>
                  <a:srgbClr val="ffff00"/>
                </a:solidFill>
                <a:latin typeface="Times New Roman"/>
              </a:rPr>
              <a:t>  МАРШРУТИ  </a:t>
            </a:r>
            <a:br>
              <a:rPr sz="4000"/>
            </a:br>
            <a:r>
              <a:rPr b="1" lang="uk-UA" sz="4000" spc="-1" strike="noStrike">
                <a:solidFill>
                  <a:srgbClr val="ffff00"/>
                </a:solidFill>
                <a:latin typeface="Times New Roman"/>
              </a:rPr>
              <a:t>КРИМУ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"/>
          <p:cNvSpPr/>
          <p:nvPr/>
        </p:nvSpPr>
        <p:spPr>
          <a:xfrm>
            <a:off x="5940360" y="5661000"/>
            <a:ext cx="298764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ЛДКСЗШ №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Вчитель географії, природознавств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Баран  Ірина  Іванів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Garamond"/>
              </a:rPr>
              <a:t>ГОРА   АЙ-ПЕТРІ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rcRect l="0" t="0" r="-8" b="-22"/>
          <a:stretch/>
        </p:blipFill>
        <p:spPr>
          <a:xfrm>
            <a:off x="179280" y="1341360"/>
            <a:ext cx="4176720" cy="46562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95280" y="616572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Times New Roman"/>
              </a:rPr>
              <a:t>ЗУБЦІ  ГОРИ  АЙ-ПЕТР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Рисунок 4" descr="image002.gif"/>
          <p:cNvPicPr/>
          <p:nvPr/>
        </p:nvPicPr>
        <p:blipFill>
          <a:blip r:embed="rId2"/>
          <a:stretch/>
        </p:blipFill>
        <p:spPr>
          <a:xfrm>
            <a:off x="4500720" y="1916280"/>
            <a:ext cx="4392360" cy="36734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 flipV="1">
            <a:off x="4211640" y="5084280"/>
            <a:ext cx="2016000" cy="1081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Garamond"/>
              </a:rPr>
              <a:t>ГОРА    АЙ-ПЕТРІ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4248000" cy="46814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643280" y="1268280"/>
            <a:ext cx="4284720" cy="52308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68360" y="551664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00"/>
                </a:solidFill>
                <a:latin typeface="Times New Roman"/>
              </a:rPr>
              <a:t>ВИСОТА   ГОРИ  1234 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Times New Roman"/>
              </a:rPr>
              <a:t>МАРШРУТ № 3</a:t>
            </a:r>
            <a:br>
              <a:rPr sz="2800"/>
            </a:br>
            <a:r>
              <a:rPr b="1" lang="uk-UA" sz="4400" spc="-1" strike="noStrike">
                <a:solidFill>
                  <a:srgbClr val="ffff00"/>
                </a:solidFill>
                <a:latin typeface="Times New Roman"/>
              </a:rPr>
              <a:t>АЛУШТА-ЯЛТА-АЙ-ПЕТРІ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4496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Garamond"/>
              </a:rPr>
              <a:t>ПАЛАЦИ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ЛІВАДІЙСЬКИ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МАСАНДРІВСЬКИ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ЗООПАРК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КАЗКА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ПОЛЯНА  КАЗОК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ВОДОСПАД  УЧАН-С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ПЛАТО  АЙ- ПЕТРІ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ВЕЛИКИ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КРИМСЬКИ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КАНЬЙО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140360" y="1557360"/>
            <a:ext cx="4752720" cy="49672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572000" y="595008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Times New Roman"/>
              </a:rPr>
              <a:t>ЯЛ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00"/>
                </a:solidFill>
                <a:latin typeface="Garamond"/>
              </a:rPr>
              <a:t>МАСАНДРІВСЬКИЙ </a:t>
            </a:r>
            <a:br>
              <a:rPr sz="4000"/>
            </a:br>
            <a:r>
              <a:rPr b="1" lang="uk-UA" sz="4000" spc="-1" strike="noStrike">
                <a:solidFill>
                  <a:srgbClr val="ffff00"/>
                </a:solidFill>
                <a:latin typeface="Garamond"/>
              </a:rPr>
              <a:t>ТА </a:t>
            </a:r>
            <a:br>
              <a:rPr sz="4000"/>
            </a:br>
            <a:r>
              <a:rPr b="1" lang="uk-UA" sz="4000" spc="-1" strike="noStrike">
                <a:solidFill>
                  <a:srgbClr val="ffff00"/>
                </a:solidFill>
                <a:latin typeface="Garamond"/>
              </a:rPr>
              <a:t>ЛІВАДІЙСЬКИЙ  ПАЛАЦ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500720" y="2565360"/>
            <a:ext cx="4392360" cy="3600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250920" y="2565360"/>
            <a:ext cx="396072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Garamond"/>
              </a:rPr>
              <a:t>ВОДОСПАД     УЧАН-СУ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4394160" cy="54007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4932360" y="2997360"/>
            <a:ext cx="38894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Times New Roman"/>
              </a:rPr>
              <a:t>НАЙВИЩИЙ  ВОДОСПАД  КРИМ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Times New Roman"/>
              </a:rPr>
              <a:t>ВИСОТА  98 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Garamond"/>
              </a:rPr>
              <a:t>ГОРА   АЙ-ПЕТРІ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rcRect l="0" t="0" r="50" b="0"/>
          <a:stretch/>
        </p:blipFill>
        <p:spPr>
          <a:xfrm>
            <a:off x="457200" y="1557360"/>
            <a:ext cx="4038480" cy="39592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0" y="5516640"/>
            <a:ext cx="4681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Times New Roman"/>
              </a:rPr>
              <a:t>Альтанка поблизу дорог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ffff00"/>
                </a:solidFill>
                <a:latin typeface="Times New Roman"/>
              </a:rPr>
              <a:t>Алушта-Алуп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648320" y="1557360"/>
            <a:ext cx="4316400" cy="38196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788000" y="548784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Times New Roman"/>
              </a:rPr>
              <a:t>Канатна дорога Ай-Петрі-Сосновий Бір-Місхор-Алуп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00"/>
                </a:solidFill>
                <a:latin typeface="Garamond"/>
              </a:rPr>
              <a:t>НА  ПЛАТО  ГОРИ  АЙ-ПЕТРІ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11280" y="2133720"/>
            <a:ext cx="4319640" cy="30621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5076720" y="2276640"/>
            <a:ext cx="35211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00"/>
                </a:solidFill>
                <a:latin typeface="Garamond"/>
              </a:rPr>
              <a:t>ВЕЛИКИЙ  КРИМСЬКИЙ  КАНЬЙОН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6" name="Рисунок 52" descr=""/>
          <p:cNvPicPr/>
          <p:nvPr/>
        </p:nvPicPr>
        <p:blipFill>
          <a:blip r:embed="rId1"/>
          <a:stretch/>
        </p:blipFill>
        <p:spPr>
          <a:xfrm>
            <a:off x="5148360" y="1484280"/>
            <a:ext cx="3822480" cy="352908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49" descr=""/>
          <p:cNvPicPr/>
          <p:nvPr/>
        </p:nvPicPr>
        <p:blipFill>
          <a:blip r:embed="rId2"/>
          <a:stretch/>
        </p:blipFill>
        <p:spPr>
          <a:xfrm>
            <a:off x="179280" y="1484280"/>
            <a:ext cx="4759560" cy="48243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5148360" y="5084640"/>
            <a:ext cx="4608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00"/>
                </a:solidFill>
                <a:latin typeface="Times New Roman"/>
              </a:rPr>
              <a:t>УЩЕЛИНА  РІКИ  АУЗУН-УЗЕНЬ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00"/>
                </a:solidFill>
                <a:latin typeface="Times New Roman"/>
              </a:rPr>
              <a:t>ПРОТЯЖНІСТЬ  3 КМ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00"/>
                </a:solidFill>
                <a:latin typeface="Times New Roman"/>
              </a:rPr>
              <a:t>ВИСОТА  320 М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00"/>
                </a:solidFill>
                <a:latin typeface="Times New Roman"/>
              </a:rPr>
              <a:t>ШИРИНА 2 - 4 К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Times New Roman"/>
              </a:rPr>
              <a:t>МАРШРУТ № 4</a:t>
            </a:r>
            <a:br>
              <a:rPr sz="2800"/>
            </a:br>
            <a:r>
              <a:rPr b="1" lang="uk-UA" sz="4400" spc="-1" strike="noStrike">
                <a:solidFill>
                  <a:srgbClr val="ffff00"/>
                </a:solidFill>
                <a:latin typeface="Times New Roman"/>
              </a:rPr>
              <a:t>АЛУШТА-СУДАК-НОВИЙ СВІТ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403848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ВОДОСПАД  ДЖУР-ДЖУР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ГЕНУЕЗЬКА  ФОРТЕЦ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СТЕЖКА  ГОЛІЦИН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356000" y="2133720"/>
            <a:ext cx="4608720" cy="388764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724280"/>
            <a:ext cx="403848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"/>
          <p:cNvSpPr/>
          <p:nvPr/>
        </p:nvSpPr>
        <p:spPr>
          <a:xfrm>
            <a:off x="4716360" y="616572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Times New Roman"/>
              </a:rPr>
              <a:t>СУДА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Рисунок 4" descr="image002.gif"/>
          <p:cNvPicPr/>
          <p:nvPr/>
        </p:nvPicPr>
        <p:blipFill>
          <a:blip r:embed="rId2"/>
          <a:stretch/>
        </p:blipFill>
        <p:spPr>
          <a:xfrm>
            <a:off x="468360" y="4149720"/>
            <a:ext cx="3598920" cy="24462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 flipH="1" flipV="1">
            <a:off x="3419280" y="5444640"/>
            <a:ext cx="1223640" cy="863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Garamond"/>
              </a:rPr>
              <a:t>ВОДОСПАД   ДЖУР-ДЖУР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87" name="Рисунок 61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4033800" cy="46641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4427640" y="1268280"/>
            <a:ext cx="4392360" cy="42483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284720" y="5734080"/>
            <a:ext cx="485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Times New Roman"/>
              </a:rPr>
              <a:t>НАЙПОВНОВОДНІШИЙ   ВОДОСПАД  КРИМУ, ВИСОТА  16 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Garamond"/>
              </a:rPr>
              <a:t>КРИМСЬКИЙ    ПІВОСТРІВ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4" name="Рисунок 4" descr="image002.gif"/>
          <p:cNvPicPr/>
          <p:nvPr/>
        </p:nvPicPr>
        <p:blipFill>
          <a:blip r:embed="rId1"/>
          <a:stretch/>
        </p:blipFill>
        <p:spPr>
          <a:xfrm>
            <a:off x="4716360" y="2997360"/>
            <a:ext cx="4176720" cy="2952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1254B490"/>
          <p:cNvPicPr/>
          <p:nvPr/>
        </p:nvPicPr>
        <p:blipFill>
          <a:blip r:embed="rId2"/>
          <a:stretch/>
        </p:blipFill>
        <p:spPr>
          <a:xfrm>
            <a:off x="324000" y="1268280"/>
            <a:ext cx="4105080" cy="3565800"/>
          </a:xfrm>
          <a:prstGeom prst="rect">
            <a:avLst/>
          </a:prstGeom>
          <a:ln w="38160">
            <a:solidFill>
              <a:srgbClr val="008000"/>
            </a:solidFill>
            <a:miter/>
          </a:ln>
          <a:effectLst>
            <a:outerShdw dist="17819" dir="2700000" blurRad="0" rotWithShape="0">
              <a:srgbClr val="ffffff">
                <a:alpha val="0"/>
              </a:srgbClr>
            </a:outerShdw>
          </a:effectLst>
        </p:spPr>
      </p:pic>
      <p:sp>
        <p:nvSpPr>
          <p:cNvPr id="106" name=""/>
          <p:cNvSpPr/>
          <p:nvPr/>
        </p:nvSpPr>
        <p:spPr>
          <a:xfrm>
            <a:off x="5076720" y="227664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Times New Roman"/>
              </a:rPr>
              <a:t>КРИМСЬКІ    ГОР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Garamond"/>
              </a:rPr>
              <a:t>ГЕНУЕЗЬКА  ФОРТЕЦ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rcRect l="0" t="0" r="0" b="-17"/>
          <a:stretch/>
        </p:blipFill>
        <p:spPr>
          <a:xfrm>
            <a:off x="1692360" y="1268280"/>
            <a:ext cx="5545080" cy="45259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68360" y="5805360"/>
            <a:ext cx="8424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Times New Roman"/>
              </a:rPr>
              <a:t>ПАМ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’</a:t>
            </a:r>
            <a:r>
              <a:rPr b="1" lang="uk-UA" sz="2000" spc="-1" strike="noStrike">
                <a:solidFill>
                  <a:srgbClr val="ffff00"/>
                </a:solidFill>
                <a:latin typeface="Times New Roman"/>
              </a:rPr>
              <a:t>ЯТКА  СЕРЕДНЬОВІЧЧЯ, ПОБУДОВАНА  ПРОТЯГОМ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Times New Roman"/>
              </a:rPr>
              <a:t>1371-1469 Р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Garamond"/>
              </a:rPr>
              <a:t>НОВИЙ  СВІТ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95280" y="1523880"/>
            <a:ext cx="8497800" cy="51451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39640" y="609300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Times New Roman"/>
              </a:rPr>
              <a:t>НОВИЙ  СВІ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36000" y="6093000"/>
            <a:ext cx="13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Times New Roman"/>
              </a:rPr>
              <a:t>СУДА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00"/>
                </a:solidFill>
                <a:latin typeface="Garamond"/>
              </a:rPr>
              <a:t>СТЕЖКА  ГОЛІЦИНА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4103640" cy="38163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24000" y="5373720"/>
            <a:ext cx="3384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Times New Roman"/>
              </a:rPr>
              <a:t>НОВИЙ  СВІ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Times New Roman"/>
              </a:rPr>
              <a:t>СИНЯ  БУХ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796000" y="5373720"/>
            <a:ext cx="201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Times New Roman"/>
              </a:rPr>
              <a:t>ЦАРСЬКИЙ  ПЛЯЖ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rcRect l="0" t="0" r="35" b="0"/>
          <a:stretch/>
        </p:blipFill>
        <p:spPr>
          <a:xfrm>
            <a:off x="4716360" y="1484280"/>
            <a:ext cx="38181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00"/>
                </a:solidFill>
                <a:latin typeface="Garamond"/>
              </a:rPr>
              <a:t>ГРОТИ  ЦАРСЬКОГО  ПЛЯЖУ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064040" y="1700280"/>
            <a:ext cx="5079960" cy="38098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529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250920" y="1628280"/>
            <a:ext cx="540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ffcc00"/>
                </a:solidFill>
                <a:uFillTx/>
                <a:latin typeface="Times New Roman"/>
                <a:hlinkClick r:id="rId1"/>
              </a:rPr>
              <a:t>http://geoswit.ucoz.ru/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http://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literacy.com.ua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http://osvita.ua/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Times New Roman"/>
                <a:hlinkClick r:id="rId2"/>
              </a:rPr>
              <a:t>http</a:t>
            </a:r>
            <a:r>
              <a:rPr b="0" lang="uk-UA" sz="1800" spc="-1" strike="noStrike" u="sng">
                <a:solidFill>
                  <a:srgbClr val="ffcc00"/>
                </a:solidFill>
                <a:uFillTx/>
                <a:latin typeface="Times New Roman"/>
                <a:hlinkClick r:id="rId3"/>
              </a:rPr>
              <a:t>://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imes New Roman"/>
                <a:hlinkClick r:id="rId4"/>
              </a:rPr>
              <a:t>uk</a:t>
            </a:r>
            <a:r>
              <a:rPr b="0" lang="uk-UA" sz="1800" spc="-1" strike="noStrike" u="sng">
                <a:solidFill>
                  <a:srgbClr val="ffcc00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imes New Roman"/>
                <a:hlinkClick r:id="rId6"/>
              </a:rPr>
              <a:t>wikipedia</a:t>
            </a:r>
            <a:r>
              <a:rPr b="0" lang="uk-UA" sz="1800" spc="-1" strike="noStrike" u="sng">
                <a:solidFill>
                  <a:srgbClr val="ffcc00"/>
                </a:solidFill>
                <a:uFillTx/>
                <a:latin typeface="Times New Roman"/>
                <a:hlinkClick r:id="rId7"/>
              </a:rPr>
              <a:t>.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imes New Roman"/>
                <a:hlinkClick r:id="rId8"/>
              </a:rPr>
              <a:t>org</a:t>
            </a:r>
            <a:r>
              <a:rPr b="0" lang="uk-UA" sz="1800" spc="-1" strike="noStrike" u="sng">
                <a:solidFill>
                  <a:srgbClr val="ffcc00"/>
                </a:solidFill>
                <a:uFillTx/>
                <a:latin typeface="Times New Roman"/>
                <a:hlinkClick r:id="rId9"/>
              </a:rPr>
              <a:t>/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Атлас  “ Географія України “  для  8-9 класів, НВП “ Картографія”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Інформація з програмного засобу навчального призначення освітньої галузі “ Природознавство”, географія 8  клас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Г.Д.Довгань “Фізична географія України. Майстер-клас. Розробки уроків. 8 клас”. Видавництво “ Ранок”, 2008 рік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0"/>
          <a:stretch/>
        </p:blipFill>
        <p:spPr>
          <a:xfrm>
            <a:off x="6227640" y="2565360"/>
            <a:ext cx="2471760" cy="17226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4859280" y="6093000"/>
            <a:ext cx="3959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Дякую  за  увагу !</a:t>
            </a:r>
            <a:endParaRPr b="0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68360" y="549360"/>
            <a:ext cx="849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икористані  дані  сайтів :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Times New Roman"/>
              </a:rPr>
              <a:t>МАРШРУТ № 1</a:t>
            </a:r>
            <a:br>
              <a:rPr sz="3200"/>
            </a:br>
            <a:r>
              <a:rPr b="1" lang="uk-UA" sz="4800" spc="-1" strike="noStrike">
                <a:solidFill>
                  <a:srgbClr val="ffff00"/>
                </a:solidFill>
                <a:latin typeface="Times New Roman"/>
              </a:rPr>
              <a:t>СІМФЕРОПОЛЬ-АЛУШТА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Garamond"/>
              </a:rPr>
              <a:t>ГОРА ЧАТИР-ДАГ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Garamond"/>
              </a:rPr>
              <a:t>             </a:t>
            </a:r>
            <a:r>
              <a:rPr b="1" lang="uk-UA" sz="2000" spc="-1" strike="noStrike">
                <a:solidFill>
                  <a:srgbClr val="ffffff"/>
                </a:solidFill>
                <a:latin typeface="Garamond"/>
              </a:rPr>
              <a:t>(1527 М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Garamond"/>
              </a:rPr>
              <a:t>ПЕЧЕРИ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Garamond"/>
              </a:rPr>
              <a:t>МАРМУРОВ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Garamond"/>
              </a:rPr>
              <a:t>ЕМІНЕ-БАЇР-ХОСАР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Garamond"/>
              </a:rPr>
              <a:t>ЕМІНЕ-БАЇР-КОБ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Garamond"/>
              </a:rPr>
              <a:t>ЧЕРВОН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Garamond"/>
              </a:rPr>
              <a:t>КИЗИЛ-КОБ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995640" y="1844640"/>
            <a:ext cx="4969080" cy="3889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932360" y="595008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Times New Roman"/>
              </a:rPr>
              <a:t>АЛУШ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43280" y="1989000"/>
            <a:ext cx="4249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514"/>
                </a:solidFill>
                <a:latin typeface="Times New Roman"/>
              </a:rPr>
              <a:t>ГІРСЬКО-ЛІСОВИЙ МАСИ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Times New Roman"/>
              </a:rPr>
              <a:t>“</a:t>
            </a:r>
            <a:r>
              <a:rPr b="1" lang="uk-UA" sz="1800" spc="-1" strike="noStrike">
                <a:solidFill>
                  <a:srgbClr val="000514"/>
                </a:solidFill>
                <a:latin typeface="Times New Roman"/>
              </a:rPr>
              <a:t>КРИМСЬКА ШВЕЙЦАРІЯ</a:t>
            </a:r>
            <a:r>
              <a:rPr b="1" lang="en-US" sz="1800" spc="-1" strike="noStrike">
                <a:solidFill>
                  <a:srgbClr val="000514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514"/>
                </a:solidFill>
                <a:latin typeface="Times New Roman"/>
              </a:rPr>
              <a:t>ПІДНІЖЖЯ ГОРИ ЧАТИР-ДА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Рисунок 4" descr="image002.gif"/>
          <p:cNvPicPr/>
          <p:nvPr/>
        </p:nvPicPr>
        <p:blipFill>
          <a:blip r:embed="rId2"/>
          <a:stretch/>
        </p:blipFill>
        <p:spPr>
          <a:xfrm>
            <a:off x="468360" y="4508640"/>
            <a:ext cx="3311640" cy="2087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 flipH="1" flipV="1">
            <a:off x="2627280" y="5877000"/>
            <a:ext cx="2232000" cy="288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Garamond"/>
              </a:rPr>
              <a:t>В  ПЕЧЕРІ  ЧЕРВОН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-45" b="-59"/>
          <a:stretch/>
        </p:blipFill>
        <p:spPr>
          <a:xfrm>
            <a:off x="395280" y="1484280"/>
            <a:ext cx="3743280" cy="23050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rcRect l="0" t="0" r="-47" b="-59"/>
          <a:stretch/>
        </p:blipFill>
        <p:spPr>
          <a:xfrm>
            <a:off x="4427640" y="1484280"/>
            <a:ext cx="4319640" cy="2305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D:\ШКОЛА (все)\7 чудес України\7 природніх чудес України\4 Мармурова печера (АР Крим)\b_365[1].jpg"/>
          <p:cNvPicPr/>
          <p:nvPr/>
        </p:nvPicPr>
        <p:blipFill>
          <a:blip r:embed="rId3"/>
          <a:stretch/>
        </p:blipFill>
        <p:spPr>
          <a:xfrm>
            <a:off x="4500720" y="4076640"/>
            <a:ext cx="4248000" cy="259236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4" descr="image002.gif"/>
          <p:cNvPicPr/>
          <p:nvPr/>
        </p:nvPicPr>
        <p:blipFill>
          <a:blip r:embed="rId4"/>
          <a:stretch/>
        </p:blipFill>
        <p:spPr>
          <a:xfrm>
            <a:off x="395280" y="3933720"/>
            <a:ext cx="3672000" cy="26622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195640" y="5516640"/>
            <a:ext cx="28872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Місце для вмісту 3" descr="D:\ШКОЛА (все)\7 чудес України\7 природніх чудес України\4 Мармурова печера (АР Крим)\37e57-8[1].jpg"/>
          <p:cNvPicPr/>
          <p:nvPr/>
        </p:nvPicPr>
        <p:blipFill>
          <a:blip r:embed="rId1"/>
          <a:stretch/>
        </p:blipFill>
        <p:spPr>
          <a:xfrm>
            <a:off x="250920" y="1052640"/>
            <a:ext cx="4321080" cy="2447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D:\ШКОЛА (все)\7 чудес України\7 природніх чудес України\4 Мармурова печера (АР Крим)\b_362[1].jpg"/>
          <p:cNvPicPr/>
          <p:nvPr/>
        </p:nvPicPr>
        <p:blipFill>
          <a:blip r:embed="rId2"/>
          <a:stretch/>
        </p:blipFill>
        <p:spPr>
          <a:xfrm>
            <a:off x="4788000" y="1052640"/>
            <a:ext cx="3960720" cy="2408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D:\ШКОЛА (все)\7 чудес України\7 природніх чудес України\4 Мармурова печера (АР Крим)\c_358[1].jpg"/>
          <p:cNvPicPr/>
          <p:nvPr/>
        </p:nvPicPr>
        <p:blipFill>
          <a:blip r:embed="rId3"/>
          <a:stretch/>
        </p:blipFill>
        <p:spPr>
          <a:xfrm>
            <a:off x="250920" y="3645000"/>
            <a:ext cx="4321080" cy="3024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049480" y="260280"/>
            <a:ext cx="516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Times New Roman"/>
              </a:rPr>
              <a:t>В  ПЕЧЕРІ  МАРМУРО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Рисунок 7" descr="dsc_0258.jpg"/>
          <p:cNvPicPr/>
          <p:nvPr/>
        </p:nvPicPr>
        <p:blipFill>
          <a:blip r:embed="rId4"/>
          <a:stretch/>
        </p:blipFill>
        <p:spPr>
          <a:xfrm>
            <a:off x="4788000" y="3645000"/>
            <a:ext cx="40338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Times New Roman"/>
              </a:rPr>
              <a:t>МАРШРУТ № 2</a:t>
            </a:r>
            <a:br>
              <a:rPr sz="3200"/>
            </a:br>
            <a:r>
              <a:rPr b="1" lang="uk-UA" sz="4800" spc="-1" strike="noStrike">
                <a:solidFill>
                  <a:srgbClr val="ffff00"/>
                </a:solidFill>
                <a:latin typeface="Times New Roman"/>
              </a:rPr>
              <a:t>АЛУШТА-ЯЛТА-АЛУПКА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Garamond"/>
              </a:rPr>
              <a:t>ГОРИ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РОМАН-КОШ (1545 М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АЮ-ДАГ (565 М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АЙ-ПЕТРІ (1234 М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Garamond"/>
              </a:rPr>
              <a:t>ПАЛАЦИ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ЛАСТІВЧИН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ГНІЗД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АЛУПКІНСЬКИ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НІКІТСЬКИ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БОТАНІЧНИЙ САД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-22"/>
          <a:stretch/>
        </p:blipFill>
        <p:spPr>
          <a:xfrm>
            <a:off x="4427640" y="1989000"/>
            <a:ext cx="4392360" cy="4104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596360" y="558972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Times New Roman"/>
              </a:rPr>
              <a:t>ЯЛ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Garamond"/>
              </a:rPr>
              <a:t>ГОРА     АЮ-ДАГ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0" t="0" r="0" b="36"/>
          <a:stretch/>
        </p:blipFill>
        <p:spPr>
          <a:xfrm>
            <a:off x="4788000" y="1268280"/>
            <a:ext cx="4038480" cy="46818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rcRect l="0" t="0" r="0" b="-22"/>
          <a:stretch/>
        </p:blipFill>
        <p:spPr>
          <a:xfrm>
            <a:off x="324000" y="1268280"/>
            <a:ext cx="4392360" cy="4680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-324000" y="5950080"/>
            <a:ext cx="55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Times New Roman"/>
              </a:rPr>
              <a:t>ВИД  НА  ВЕДМІДЬ  ГОРУ  З  ЯЛТ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659640" y="53737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00"/>
                </a:solidFill>
                <a:latin typeface="Times New Roman"/>
              </a:rPr>
              <a:t>АРТЕ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724000" y="5300640"/>
            <a:ext cx="2087640" cy="216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Garamond"/>
              </a:rPr>
              <a:t>ЛАСТІВЧИНЕ   ГНІЗДО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788000" y="1484280"/>
            <a:ext cx="4105080" cy="48974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588000" y="595008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Times New Roman"/>
              </a:rPr>
              <a:t>МИС АЙ-ТОД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95280" y="1484280"/>
            <a:ext cx="4176720" cy="49690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55640" y="602136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00"/>
                </a:solidFill>
                <a:latin typeface="Times New Roman"/>
              </a:rPr>
              <a:t>ПЛЯЖ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uk-UA" sz="1800" spc="-1" strike="noStrike">
                <a:solidFill>
                  <a:srgbClr val="ffff00"/>
                </a:solidFill>
                <a:latin typeface="Times New Roman"/>
              </a:rPr>
              <a:t>ЗОЛОТІ  ПІСКИ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00"/>
                </a:solidFill>
                <a:latin typeface="Garamond"/>
              </a:rPr>
              <a:t>АЛУПКІНСЬКИЙ    ПАЛАЦ   </a:t>
            </a:r>
            <a:r>
              <a:rPr b="1" lang="uk-UA" sz="2800" spc="-1" strike="noStrike">
                <a:solidFill>
                  <a:srgbClr val="ffff00"/>
                </a:solidFill>
                <a:latin typeface="Garamond"/>
              </a:rPr>
              <a:t>РЕЗЕДЕНЦІЯ   ГРАФА    М.С.ВОРОНЦОВА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0" b="9"/>
          <a:stretch/>
        </p:blipFill>
        <p:spPr>
          <a:xfrm>
            <a:off x="179280" y="1557360"/>
            <a:ext cx="4316400" cy="36478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95280" y="5373720"/>
            <a:ext cx="4032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Times New Roman"/>
              </a:rPr>
              <a:t>ГОЛОВНИЙ ВХІД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Times New Roman"/>
              </a:rPr>
              <a:t>ТЕРАСА  З ЛЕВА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003640" y="1773360"/>
            <a:ext cx="3745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9T09:12:31Z</dcterms:created>
  <dc:creator>user</dc:creator>
  <dc:description/>
  <dc:language>en-US</dc:language>
  <cp:lastModifiedBy>Dmytro</cp:lastModifiedBy>
  <dcterms:modified xsi:type="dcterms:W3CDTF">2014-04-12T18:48:29Z</dcterms:modified>
  <cp:revision>43</cp:revision>
  <dc:subject/>
  <dc:title>ТУРИСТСЬКО-КРАЄЗНАВЧІ  МАРШРУТИ   КРИМ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613000000000001024140</vt:lpwstr>
  </property>
</Properties>
</file>