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42.jpeg" ContentType="image/jpeg"/>
  <Override PartName="/ppt/media/image58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2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.jpeg" ContentType="image/jpeg"/>
  <Override PartName="/ppt/media/image37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9.jpeg" ContentType="image/jpeg"/>
  <Override PartName="/ppt/media/image12.jpeg" ContentType="image/jpeg"/>
  <Override PartName="/ppt/media/image5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63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8.png" ContentType="image/png"/>
  <Override PartName="/ppt/media/image39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8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E55F-2F6D-4D08-ABD2-B5E5D38D4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CFDB-46A1-48FA-ACD3-6F76C851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7397-6AE4-405A-80BA-22E00B6CF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6D6F-8B7A-45EB-BC83-FDECB35CB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7B1A-C782-4D1F-BD51-4997EADC9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15D7-56B1-49C8-9AB8-A9AC58D3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E30E-036B-4097-AC8E-0AF1ABBD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F706-B00D-4EC1-ABED-E808C34D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5CEC-B950-4772-B032-FA120180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2ED7-5C91-4015-9C2E-7735FAE3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4FAB-51D6-4304-8065-CD0799DE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76CD-F936-4DBB-B186-91FFE210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E91E-3329-4C73-8EC9-8820BFE2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4E13-270F-4CE6-9192-3FD117F7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BBF1-28B6-4E7F-BE71-3A8931C0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5DBC-2CA5-4062-8D2D-6A72DE4E6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2253-E19D-4AD8-A83E-C6701E772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88C9-A9D6-4854-AAB8-22769E18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097F-2F26-44E6-8578-FFB4E3F9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6B85-A5DD-4324-8108-88D3AC41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21C4-E780-4527-96FC-A2505F3A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7855-307A-4BF0-8166-A7A27AE9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F791-29CE-4A6B-95CD-B0F55459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B941-E5E7-4DF9-9E0D-5EA10178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0972-F0D0-40DE-A767-6A4BFF53BCC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8F18-99E6-441E-AF02-ECB8435007C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pn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40;&#1083;&#1073;&#1072;&#1085;&#1089;&#1100;&#1082;&#1072;_&#1084;&#1086;&#1074;&#1072;" TargetMode="External"/><Relationship Id="rId2" Type="http://schemas.openxmlformats.org/officeDocument/2006/relationships/hyperlink" Target="http://uk.wikipedia.org/wiki/&#1050;&#1072;&#1088;&#1087;&#1080;" TargetMode="External"/><Relationship Id="rId3" Type="http://schemas.openxmlformats.org/officeDocument/2006/relationships/hyperlink" Target="http://uk.wikipedia.org/wiki/&#1050;&#1072;&#1088;&#1087;&#1080;" TargetMode="External"/><Relationship Id="rId4" Type="http://schemas.openxmlformats.org/officeDocument/2006/relationships/hyperlink" Target="http://uk.wikipedia.org/wiki/&#1050;&#1072;&#1088;&#1087;&#1080;" TargetMode="External"/><Relationship Id="rId5" Type="http://schemas.openxmlformats.org/officeDocument/2006/relationships/hyperlink" Target="http://uk.wikipedia.org/wiki/&#1056;&#1080;&#1084;&#1089;&#1100;&#1082;&#1072;_&#1110;&#1084;&#1087;&#1077;&#1088;&#1110;&#1103;" TargetMode="External"/><Relationship Id="rId6" Type="http://schemas.openxmlformats.org/officeDocument/2006/relationships/hyperlink" Target="http://uk.wikipedia.org/wiki/&#1056;&#1080;&#1084;&#1089;&#1100;&#1082;&#1072;_&#1110;&#1084;&#1087;&#1077;&#1088;&#1110;&#1103;" TargetMode="External"/><Relationship Id="rId7" Type="http://schemas.openxmlformats.org/officeDocument/2006/relationships/hyperlink" Target="http://uk.wikipedia.org/wiki/&#1056;&#1080;&#1084;&#1089;&#1100;&#1082;&#1072;_&#1110;&#1084;&#1087;&#1077;&#1088;&#1110;&#1103;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uk.wikipedia.org/" TargetMode="External"/><Relationship Id="rId2" Type="http://schemas.openxmlformats.org/officeDocument/2006/relationships/hyperlink" Target="http://uk.wikipedia.org/" TargetMode="External"/><Relationship Id="rId3" Type="http://schemas.openxmlformats.org/officeDocument/2006/relationships/hyperlink" Target="http://uk.wikipedia.org/" TargetMode="External"/><Relationship Id="rId4" Type="http://schemas.openxmlformats.org/officeDocument/2006/relationships/hyperlink" Target="http://uk.wikipedia.org/" TargetMode="External"/><Relationship Id="rId5" Type="http://schemas.openxmlformats.org/officeDocument/2006/relationships/hyperlink" Target="http://uk.wikipedia.org/" TargetMode="External"/><Relationship Id="rId6" Type="http://schemas.openxmlformats.org/officeDocument/2006/relationships/hyperlink" Target="http://uk.wikipedia.org/" TargetMode="External"/><Relationship Id="rId7" Type="http://schemas.openxmlformats.org/officeDocument/2006/relationships/hyperlink" Target="http://uk.wikipedia.org/" TargetMode="External"/><Relationship Id="rId8" Type="http://schemas.openxmlformats.org/officeDocument/2006/relationships/hyperlink" Target="http://uk.wikipedia.org/" TargetMode="External"/><Relationship Id="rId9" Type="http://schemas.openxmlformats.org/officeDocument/2006/relationships/image" Target="../media/image63.jpe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81532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країнські    Карпа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-45"/>
          <a:stretch/>
        </p:blipFill>
        <p:spPr>
          <a:xfrm>
            <a:off x="971640" y="2421000"/>
            <a:ext cx="6264360" cy="3340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516720" y="5516640"/>
            <a:ext cx="244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ЛДКСЗШ № 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читель географії, природознавства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Баран  Ірина  Іванівн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0" t="0" r="0" b="-43"/>
          <a:stretch/>
        </p:blipFill>
        <p:spPr>
          <a:xfrm>
            <a:off x="1116000" y="260280"/>
            <a:ext cx="26654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олонинсько-Чорногірські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Карпа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5327640" cy="4003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16360" y="3068640"/>
            <a:ext cx="40928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Вулканічні   Карпа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5327640" cy="4003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716360" y="2997360"/>
            <a:ext cx="39052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Рахівсько-Чивчинські гор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5327640" cy="4003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012000" y="3284640"/>
            <a:ext cx="277164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Закарпатська  низовин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4286520" cy="3745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364000" y="3284640"/>
            <a:ext cx="302436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раєвиди  Українських  Карпа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-46"/>
          <a:stretch/>
        </p:blipFill>
        <p:spPr>
          <a:xfrm>
            <a:off x="826920" y="2781360"/>
            <a:ext cx="3961080" cy="2913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835280" y="587700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органи                                                           Бескиди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932360" y="2781360"/>
            <a:ext cx="3691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раєвиди  Українських  Карпа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95640" y="57340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ора Піку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4360" y="2421000"/>
            <a:ext cx="3671640" cy="2952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084720" y="2421000"/>
            <a:ext cx="2592720" cy="2808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rcRect l="0" t="0" r="0" b="13"/>
          <a:stretch/>
        </p:blipFill>
        <p:spPr>
          <a:xfrm>
            <a:off x="4211640" y="4076640"/>
            <a:ext cx="194292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раєвиди  Українських  Карпа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0" t="0" r="0" b="-51"/>
          <a:stretch/>
        </p:blipFill>
        <p:spPr>
          <a:xfrm>
            <a:off x="4500720" y="2492280"/>
            <a:ext cx="4174920" cy="338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rcRect l="0" t="0" r="0" b="-52"/>
          <a:stretch/>
        </p:blipFill>
        <p:spPr>
          <a:xfrm>
            <a:off x="900000" y="2924280"/>
            <a:ext cx="3529080" cy="25923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476360" y="5877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ора Писаний  Камінь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раєвиди  Українських  Карпа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08000" y="602136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ора   Маківк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-45"/>
          <a:stretch/>
        </p:blipFill>
        <p:spPr>
          <a:xfrm>
            <a:off x="971640" y="2492280"/>
            <a:ext cx="3887640" cy="32115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rcRect l="0" t="0" r="0" b="-45"/>
          <a:stretch/>
        </p:blipFill>
        <p:spPr>
          <a:xfrm>
            <a:off x="5076720" y="2492280"/>
            <a:ext cx="368316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раєвиди  Українських  Карпа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76360" y="5877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келі Довбуша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-40"/>
          <a:stretch/>
        </p:blipFill>
        <p:spPr>
          <a:xfrm>
            <a:off x="1042920" y="2421000"/>
            <a:ext cx="3048120" cy="3419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rcRect l="0" t="0" r="0" b="-51"/>
          <a:stretch/>
        </p:blipFill>
        <p:spPr>
          <a:xfrm>
            <a:off x="4356000" y="2852640"/>
            <a:ext cx="440208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раєвиди  Українських  Карпа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76360" y="5877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ора Говерла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-45"/>
          <a:stretch/>
        </p:blipFill>
        <p:spPr>
          <a:xfrm>
            <a:off x="971640" y="2492280"/>
            <a:ext cx="3671640" cy="3202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rcRect l="0" t="0" r="0" b="-45"/>
          <a:stretch/>
        </p:blipFill>
        <p:spPr>
          <a:xfrm>
            <a:off x="5003640" y="2421000"/>
            <a:ext cx="375444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раєвиди  Українських  Карпа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76360" y="587700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ора Піп-Іван Чорногірськи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-45"/>
          <a:stretch/>
        </p:blipFill>
        <p:spPr>
          <a:xfrm>
            <a:off x="1042920" y="2492280"/>
            <a:ext cx="4176720" cy="3202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0" t="0" r="0" b="-46"/>
          <a:stretch/>
        </p:blipFill>
        <p:spPr>
          <a:xfrm>
            <a:off x="5364000" y="2781360"/>
            <a:ext cx="3537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27640" y="1197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ічкова мережа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640908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доспади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країнських  Карпа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975280" y="5445000"/>
            <a:ext cx="316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одоспади: Пробі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а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нка, Шипіт, Гуркал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97"/>
          <a:stretch/>
        </p:blipFill>
        <p:spPr>
          <a:xfrm>
            <a:off x="468360" y="333360"/>
            <a:ext cx="3273480" cy="2448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68360" y="2997360"/>
            <a:ext cx="3311640" cy="2665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5724360" y="2421000"/>
            <a:ext cx="3241800" cy="25668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2987640" y="4292640"/>
            <a:ext cx="291636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rcRect l="0" t="0" r="0" b="-45"/>
          <a:stretch/>
        </p:blipFill>
        <p:spPr>
          <a:xfrm>
            <a:off x="4716360" y="2421000"/>
            <a:ext cx="3394080" cy="32115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зера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країнських  Карпа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rcRect l="0" t="0" r="0" b="-39"/>
          <a:stretch/>
        </p:blipFill>
        <p:spPr>
          <a:xfrm>
            <a:off x="324000" y="2349360"/>
            <a:ext cx="2950920" cy="17272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rcRect l="0" t="0" r="0" b="-41"/>
          <a:stretch/>
        </p:blipFill>
        <p:spPr>
          <a:xfrm>
            <a:off x="6588000" y="4149720"/>
            <a:ext cx="2241720" cy="1655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1619280" y="4365720"/>
            <a:ext cx="3529080" cy="23479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508720" y="580536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зера: Несамовите, Марічейка, Бребенескул, Синевир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324000" y="2349360"/>
            <a:ext cx="3600360" cy="2554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>
            <a:lum contrast="8000"/>
          </a:blip>
          <a:stretch/>
        </p:blipFill>
        <p:spPr>
          <a:xfrm>
            <a:off x="900000" y="189000"/>
            <a:ext cx="2735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Основні  типи  грунті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78487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Рослинний  і  тваринний  сві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5648400" cy="43261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692360" y="2349360"/>
            <a:ext cx="5616360" cy="43196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1692360" y="2349360"/>
            <a:ext cx="5688000" cy="4319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1692360" y="2349360"/>
            <a:ext cx="5688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5694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исотна    поясність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Українських   Карпат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788000" y="2637000"/>
            <a:ext cx="3952800" cy="3168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276720" y="6165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Передгірний  поя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788000" y="2565360"/>
            <a:ext cx="3971880" cy="3240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11280" y="2708280"/>
            <a:ext cx="396216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исотна    поясність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Українських   Карпат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6165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Низькогірний  поя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932360" y="2637000"/>
            <a:ext cx="3867120" cy="30970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11280" y="2708280"/>
            <a:ext cx="396216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исотна    поясність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Українських   Карпат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6165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Середньогірний  поя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932360" y="2637000"/>
            <a:ext cx="3962520" cy="3087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11280" y="2708280"/>
            <a:ext cx="396216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оходження  назви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“Карпати”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 «Карпати» походить від 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албанськ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лова karpë (камінь), а дакійське могло означати «гора»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внє польське слово «karpa» означає значні нерівності, підводні каміння, значні стовбури, або корінн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ід можливого дакійського значення — «гори», може походити назва народу — 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«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карпи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«ті хто живуть в горах», які населяли Карпати за часів 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Римської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 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7"/>
              </a:rPr>
              <a:t>імперії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Рисунок 10" descr=""/>
          <p:cNvPicPr/>
          <p:nvPr/>
        </p:nvPicPr>
        <p:blipFill>
          <a:blip r:embed="rId8"/>
          <a:stretch/>
        </p:blipFill>
        <p:spPr>
          <a:xfrm>
            <a:off x="179280" y="1844640"/>
            <a:ext cx="8785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исотна    поясність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Українських   Карпат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6165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Субальпійський  поя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859280" y="2781360"/>
            <a:ext cx="3962520" cy="2905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755640" y="2781360"/>
            <a:ext cx="396252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исотна    поясність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Українських   Карпат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6165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Альпійський  поя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3962160" cy="28861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716360" y="26370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5003280" y="1052280"/>
            <a:ext cx="3961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Дякую за увагу 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6697440" cy="4098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156360" y="6093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Долина  нарцисів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66"/>
                </a:solidFill>
                <a:latin typeface="Arial"/>
              </a:rPr>
              <a:t>Використані  дані  сайтів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http://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literacy.com.u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http://osvita.ua/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</a:t>
            </a:r>
            <a:r>
              <a:rPr b="0" lang="uk-UA" sz="20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uk</a:t>
            </a:r>
            <a:r>
              <a:rPr b="0" lang="uk-UA" sz="20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.</a:t>
            </a: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wikipedia</a:t>
            </a:r>
            <a:r>
              <a:rPr b="0" lang="uk-UA" sz="20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.</a:t>
            </a: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7"/>
              </a:rPr>
              <a:t>org</a:t>
            </a:r>
            <a:r>
              <a:rPr b="0" lang="uk-UA" sz="2000" spc="-1" strike="noStrike" u="sng">
                <a:solidFill>
                  <a:srgbClr val="003366"/>
                </a:solidFill>
                <a:uFillTx/>
                <a:latin typeface="Arial"/>
                <a:hlinkClick r:id="rId8"/>
              </a:rPr>
              <a:t>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Times New Roman"/>
              </a:rPr>
              <a:t>Інформація з програмного засобу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uk-UA" sz="2400" spc="-1" strike="noStrike">
                <a:solidFill>
                  <a:srgbClr val="003366"/>
                </a:solidFill>
                <a:latin typeface="Times New Roman"/>
              </a:rPr>
              <a:t>навчального призначення освітньої галузі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uk-UA" sz="2400" spc="-1" strike="noStrike">
                <a:solidFill>
                  <a:srgbClr val="003366"/>
                </a:solidFill>
                <a:latin typeface="Times New Roman"/>
              </a:rPr>
              <a:t>Природознавство”, географія 8  клас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uk-UA" sz="2400" spc="-1" strike="noStrike">
                <a:solidFill>
                  <a:srgbClr val="003366"/>
                </a:solidFill>
                <a:latin typeface="Times New Roman"/>
              </a:rPr>
              <a:t>Г.Д.Довгань “Фізична географія України. Майстер-клас. Розробки уроків. 8 клас”. Видавництво “Ранок”, 2008 рік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9"/>
          <a:stretch/>
        </p:blipFill>
        <p:spPr>
          <a:xfrm>
            <a:off x="6659640" y="2421000"/>
            <a:ext cx="194472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гальна  характеристика Українських  Карпат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Східних, Лісистих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280" y="2421000"/>
            <a:ext cx="8388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ходять до складу гірської системи – Карпат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них припадає 10,3% площі усіх Карпат і 3,5% території Україн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озташовані на заході Україн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стягаються з північного заходу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південний схід на 280 км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ширина 100 км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редньовисотні  молоді  гор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йвища точка – г. Говерла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61 м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ри альпійського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ротворенн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292720" y="3284640"/>
            <a:ext cx="36370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115280" y="3322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66"/>
                </a:solidFill>
                <a:latin typeface="Arial"/>
              </a:rPr>
              <a:t>Карпатська  складчаста </a:t>
            </a:r>
            <a:br>
              <a:rPr sz="3200"/>
            </a:br>
            <a:r>
              <a:rPr b="1" lang="uk-UA" sz="3200" spc="-1" strike="noStrike">
                <a:solidFill>
                  <a:srgbClr val="003366"/>
                </a:solidFill>
                <a:latin typeface="Arial"/>
              </a:rPr>
              <a:t> споруд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3529080" cy="2373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116000" y="4149720"/>
            <a:ext cx="3456000" cy="2232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716360" y="2781360"/>
            <a:ext cx="4176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Українських  Карпатах виділяють: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8800" y="2276280"/>
            <a:ext cx="821520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овнішні Карпат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ододільні-Верховинські Карпат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лонинсько-Чорногорські Карпати (на фото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улканічний хребет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асив Рахівсько-Чивчинські гор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-48"/>
          <a:stretch/>
        </p:blipFill>
        <p:spPr>
          <a:xfrm>
            <a:off x="5148360" y="4508640"/>
            <a:ext cx="3754440" cy="2131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rcRect l="0" t="0" r="0" b="-48"/>
          <a:stretch/>
        </p:blipFill>
        <p:spPr>
          <a:xfrm>
            <a:off x="900000" y="4508640"/>
            <a:ext cx="4186440" cy="2131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ередкарпатська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ідвищена   рівнин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4753080" cy="3743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43280" y="2565360"/>
            <a:ext cx="436248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Зовнішні   Карпа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3382920" cy="2735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24000" y="3213000"/>
            <a:ext cx="4968720" cy="3357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500720" y="2492280"/>
            <a:ext cx="41544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ододільно-Верховинські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Карпа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4829040" cy="376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859280" y="2781360"/>
            <a:ext cx="386712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23:03:53Z</dcterms:created>
  <dc:creator>Oleh</dc:creator>
  <dc:description/>
  <dc:language>en-US</dc:language>
  <cp:lastModifiedBy>Dmytro</cp:lastModifiedBy>
  <dcterms:modified xsi:type="dcterms:W3CDTF">2014-04-12T18:50:29Z</dcterms:modified>
  <cp:revision>149</cp:revision>
  <dc:subject/>
  <dc:title>Українські Карпа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61a000000000001024140</vt:lpwstr>
  </property>
</Properties>
</file>