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9.jpeg" ContentType="image/jpeg"/>
  <Override PartName="/ppt/media/image12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2AE-D4F4-43BD-8046-F58EA9CF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FF5-A1A4-4B63-B843-6166CFC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2D3-B835-43E5-845B-E22971D9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DE8-7D7B-4D10-AE9F-E4C109F5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B1F-0769-407B-99F5-EC1080EF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C95-61C7-403D-A952-4B520163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BB0-B3EF-4A0E-ACA5-65AEC5EE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487-61B1-4D80-8B1D-FAD87F7E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33D3-D802-451D-A67D-098C655C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C911-61F8-437C-97C5-48B0BCC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DFC-62E9-43A7-9964-92334838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E39-86BA-451E-9A99-51A21150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4CBE-A803-4949-A596-10F25FE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FDE-DEC7-43C8-A7FD-D72B975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176-6DF9-47EE-9A0F-2AB579B7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18C7-8857-49B0-A816-8A6652C1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22EB-2F75-4220-B962-C266C2DE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6A6-5574-4D79-94B9-7F1E326E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9C6-4349-411C-975D-197DBB4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7C8-BEFA-4EC5-B5E3-3814970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153-ABA6-4450-974C-1B2CF7D8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BB5-DC31-4CDE-BF41-52889A0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AD5-5BFB-4DCE-8E39-08D292C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4AA-87BE-4E0D-AF9B-A723C6E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520-BFA8-40A3-9609-EAAD62D5B6A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4F1-0374-4420-A20E-13884A94BA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3;&#1073;&#1072;&#1085;&#1089;&#1100;&#1082;&#1072;_&#1084;&#1086;&#1074;&#1072;" TargetMode="External"/><Relationship Id="rId2" Type="http://schemas.openxmlformats.org/officeDocument/2006/relationships/hyperlink" Target="http://uk.wikipedia.org/wiki/&#1050;&#1072;&#1088;&#1087;&#1080;" TargetMode="External"/><Relationship Id="rId3" Type="http://schemas.openxmlformats.org/officeDocument/2006/relationships/hyperlink" Target="http://uk.wikipedia.org/wiki/&#1050;&#1072;&#1088;&#1087;&#1080;" TargetMode="External"/><Relationship Id="rId4" Type="http://schemas.openxmlformats.org/officeDocument/2006/relationships/hyperlink" Target="http://uk.wikipedia.org/wiki/&#1050;&#1072;&#1088;&#1087;&#1080;" TargetMode="External"/><Relationship Id="rId5" Type="http://schemas.openxmlformats.org/officeDocument/2006/relationships/hyperlink" Target="http://uk.wikipedia.org/wiki/&#1056;&#1080;&#1084;&#1089;&#1100;&#1082;&#1072;_&#1110;&#1084;&#1087;&#1077;&#1088;&#1110;&#1103;" TargetMode="External"/><Relationship Id="rId6" Type="http://schemas.openxmlformats.org/officeDocument/2006/relationships/hyperlink" Target="http://uk.wikipedia.org/wiki/&#1056;&#1080;&#1084;&#1089;&#1100;&#1082;&#1072;_&#1110;&#1084;&#1087;&#1077;&#1088;&#1110;&#1103;" TargetMode="External"/><Relationship Id="rId7" Type="http://schemas.openxmlformats.org/officeDocument/2006/relationships/hyperlink" Target="http://uk.wikipedia.org/wiki/&#1056;&#1080;&#1084;&#1089;&#1100;&#1082;&#1072;_&#1110;&#1084;&#1087;&#1077;&#1088;&#111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k.wikipedia.org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раїнські 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21000"/>
            <a:ext cx="626436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55166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ДКСЗШ №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ран  Ірина  Івані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-43"/>
          <a:stretch/>
        </p:blipFill>
        <p:spPr>
          <a:xfrm>
            <a:off x="1116000" y="260280"/>
            <a:ext cx="266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онинсько-Чорногір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92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улканіч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9052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ахівсько-Чивчинські г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771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карпатська  низо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286520" cy="374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024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826920" y="2781360"/>
            <a:ext cx="396108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5877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гани                                                           Бескид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69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5734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ку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92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0" b="13"/>
          <a:stretch/>
        </p:blipFill>
        <p:spPr>
          <a:xfrm>
            <a:off x="4211640" y="4076640"/>
            <a:ext cx="1942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4500720" y="2492280"/>
            <a:ext cx="4174920" cy="33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-52"/>
          <a:stretch/>
        </p:blipFill>
        <p:spPr>
          <a:xfrm>
            <a:off x="900000" y="292428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исаний  Камін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602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  Макі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887640" cy="321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76720" y="2492280"/>
            <a:ext cx="36831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елі Довбуш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1042920" y="2421000"/>
            <a:ext cx="3048120" cy="34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-51"/>
          <a:stretch/>
        </p:blipFill>
        <p:spPr>
          <a:xfrm>
            <a:off x="4356000" y="2852640"/>
            <a:ext cx="4402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Говерл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671640" cy="320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03640" y="2421000"/>
            <a:ext cx="3754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5877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п-Іван Чорногірсь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1042920" y="2492280"/>
            <a:ext cx="4176720" cy="320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0" b="-46"/>
          <a:stretch/>
        </p:blipFill>
        <p:spPr>
          <a:xfrm>
            <a:off x="5364000" y="2781360"/>
            <a:ext cx="35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чкова мережа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40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оспад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оспади: Пробі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ка, Шипіт, Гуркал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97"/>
          <a:stretch/>
        </p:blipFill>
        <p:spPr>
          <a:xfrm>
            <a:off x="468360" y="333360"/>
            <a:ext cx="32734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241800" cy="25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16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4716360" y="2421000"/>
            <a:ext cx="3394080" cy="3211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а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0" t="0" r="0" b="-39"/>
          <a:stretch/>
        </p:blipFill>
        <p:spPr>
          <a:xfrm>
            <a:off x="324000" y="2349360"/>
            <a:ext cx="295092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6588000" y="4149720"/>
            <a:ext cx="2241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3529080" cy="2347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720" y="5805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ера: Несамовите, Марічейка, Бребенескул, Синев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3600360" cy="255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8000"/>
          </a:blip>
          <a:stretch/>
        </p:blipFill>
        <p:spPr>
          <a:xfrm>
            <a:off x="900000" y="189000"/>
            <a:ext cx="273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новні  типи  грун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84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линний  і  тваринний  сві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648400" cy="4326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952800" cy="31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еред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971880" cy="324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изьк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67120" cy="3097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ереднь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962520" cy="308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ходження  назв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“Карпати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 «Карпати» походить від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албансь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а karpë (камінь), а дакійське могло означати «гора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є польське слово «karpa» означає значні нерівності, підводні каміння, значні стовбури, або корінн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можливого дакійського значення — «гори», може походити назва народу —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арп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«ті хто живуть в горах», які населяли Карпати за часів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Римської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імпер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8"/>
          <a:stretch/>
        </p:blipFill>
        <p:spPr>
          <a:xfrm>
            <a:off x="179280" y="1844640"/>
            <a:ext cx="878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уб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3962520" cy="2905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962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3280" y="1052280"/>
            <a:ext cx="396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якую за увагу 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697440" cy="409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5636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лина  нарцисі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Використані  дані  сайті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literacy.com.u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osvita.ua/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uk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rg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Інформація з програмного засоб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навчального призначення освітньої галуз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Природознавство”, географія 8  кла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Ранок”, 2008 рі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21000"/>
            <a:ext cx="1944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альна  характеристика Українських  Карпат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хідних, Лісисти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ходять до складу гірської системи – Карпа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их припадає 10,3% площі усіх Карпат і 3,5% території Україн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ташовані на заході Украї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ягаються з північного заход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івденний схід на 280 к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а 100 км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едньовисотні  молоді  гор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вища точка – г. Говерл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61 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и альпійсь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творенн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63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5280" y="332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Карпатська  складчаста </a:t>
            </a:r>
            <a:br>
              <a:rPr sz="3200"/>
            </a:b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спору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52908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Українських  Карпатах виділяють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2276280"/>
            <a:ext cx="82152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внішн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додільні-Верховинськ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нинсько-Чорногорські Карпати (на фото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улканічний хребе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ив Рахівсько-Чивчинські гор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-48"/>
          <a:stretch/>
        </p:blipFill>
        <p:spPr>
          <a:xfrm>
            <a:off x="5148360" y="4508640"/>
            <a:ext cx="375444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0" b="-48"/>
          <a:stretch/>
        </p:blipFill>
        <p:spPr>
          <a:xfrm>
            <a:off x="900000" y="4508640"/>
            <a:ext cx="4186440" cy="213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дкарпатськ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вищена   рівни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75308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362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вніш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292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96872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154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ододільно-Верховин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29040" cy="376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67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3:03:53Z</dcterms:created>
  <dc:creator>Oleh</dc:creator>
  <dc:description/>
  <dc:language>en-US</dc:language>
  <cp:lastModifiedBy>Dmytro</cp:lastModifiedBy>
  <dcterms:modified xsi:type="dcterms:W3CDTF">2014-04-12T18:50:29Z</dcterms:modified>
  <cp:revision>149</cp:revision>
  <dc:subject/>
  <dc:title>Українські Карпа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a000000000001024140</vt:lpwstr>
  </property>
</Properties>
</file>