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BDE2-1C35-47C9-8462-ED537332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64AA-6A0D-4E61-8BE6-133B39DA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074E-5A49-4651-AD15-212282312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0676-83B6-4EC3-8BCC-6FC0B3C7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06F8-515E-4C49-BBC7-DA491A98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DDB2-86FB-480F-95ED-E8D1A567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9A9E-FBA5-496A-ABDF-A4C15602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28D0-FF7F-4D75-8DAC-747B65C0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F7EB-1351-4CC2-9E78-AF467055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A588-36AA-4C8C-8B69-B24ADAC3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9D3B-262F-462D-8644-B1736D65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4BEE-6639-4C61-824B-3EA048E6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E1E8-9A28-435E-8E1C-2546FB4ECD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53416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Внутрішнядесятьбудова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сімземлішістьтипи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чотириземноїп’ятькор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Тема ур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Внутрішня будова Земл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ому і ядро, і манті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езважаючи на те, щ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ають таку високу температур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находя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 твердому агрегатному стані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Внутрішня будова Земл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Що та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літосфера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”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астеносфера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4791240" y="1447920"/>
            <a:ext cx="2355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Внутрішня будова Земл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емна к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ант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др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%D0%A0%D0%B8%D1%81"/>
          <p:cNvPicPr/>
          <p:nvPr/>
        </p:nvPicPr>
        <p:blipFill>
          <a:blip r:embed="rId2"/>
          <a:stretch/>
        </p:blipFill>
        <p:spPr>
          <a:xfrm>
            <a:off x="4140360" y="1219320"/>
            <a:ext cx="4647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Типи земної ко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0" y="2324160"/>
            <a:ext cx="91440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Типи земної ко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0" y="2324160"/>
            <a:ext cx="9144000" cy="307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914760" y="563760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кеанічн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11880" y="571392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териков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нутрішня будова Землі. Типи земної к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Тес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1. Земля у внутрішній будові має … ша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2. Твердий, розжарений до 5 000°С внутрішній шар Землі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3. В’язка верхня частина мантії Землі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4. Зовнішня тверда (кам’яна) оболонка Землі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5. Твердий зовнішній шар Землі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6. Тип земної кори, що складається з шару базальту і осадових порід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нутрішня будова Землі. Типи земної к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Тес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1. Т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2. Яд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3. Астеносф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4. Літосф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5. Земна к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6. Океанічна земна к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План уро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1. Внутрішня будова Земл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2. Типи земної ко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Завдання уро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Знати: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складові внутрішньої будови Землі, їх особливості; типи земної к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Вміти: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показувати на малюнках-схемах складові внутрішньої будови Землі; розпізнавати на малюнках типи земної к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Цінувати: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робочий час, думку кожного учасника уро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нутрішня будова Землі.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Типи земної к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омашнє завданн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ацювати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§ 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ням, що мають багато питань з теми, визначитися з ними і знайти відповіді на них у підручнику, або підійти за роз’ясненнями до однокласників чи вчит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іркувати над запитаннями і завданнями для самоперевірки на сторінці 57 підруч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бажаючих індивідуальне творче завдання: зобразити подорож до центру Землі у малюнка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53416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 Black"/>
              </a:rPr>
              <a:t>Внутрішня</a:t>
            </a: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десять</a:t>
            </a:r>
            <a:r>
              <a:rPr b="1" lang="ru-RU" sz="4400" spc="-1" strike="noStrike">
                <a:solidFill>
                  <a:srgbClr val="800080"/>
                </a:solidFill>
                <a:latin typeface="Arial Black"/>
              </a:rPr>
              <a:t>будова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сім</a:t>
            </a:r>
            <a:r>
              <a:rPr b="1" lang="ru-RU" sz="4400" spc="-1" strike="noStrike">
                <a:solidFill>
                  <a:srgbClr val="800080"/>
                </a:solidFill>
                <a:latin typeface="Arial Black"/>
              </a:rPr>
              <a:t>землі</a:t>
            </a: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шість</a:t>
            </a:r>
            <a:r>
              <a:rPr b="1" lang="ru-RU" sz="4400" spc="-1" strike="noStrike">
                <a:solidFill>
                  <a:srgbClr val="800080"/>
                </a:solidFill>
                <a:latin typeface="Arial Black"/>
              </a:rPr>
              <a:t>типи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чотири</a:t>
            </a:r>
            <a:r>
              <a:rPr b="1" lang="ru-RU" sz="4400" spc="-1" strike="noStrike">
                <a:solidFill>
                  <a:srgbClr val="800080"/>
                </a:solidFill>
                <a:latin typeface="Arial Black"/>
              </a:rPr>
              <a:t>земної</a:t>
            </a: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п’ять</a:t>
            </a:r>
            <a:r>
              <a:rPr b="1" lang="ru-RU" sz="4400" spc="-1" strike="noStrike">
                <a:solidFill>
                  <a:srgbClr val="800080"/>
                </a:solidFill>
                <a:latin typeface="Arial Black"/>
              </a:rPr>
              <a:t>кор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Тема ур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План уро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1. Внутрішня будова Земл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2. Типи земної ко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Завдання уро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Знати: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складові внутрішньої будови Землі, їх особливості; типи земної к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Вміти: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показувати на малюнках-схемах складові внутрішньої будови Землі; розпізнавати на малюнках типи земної к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Цінувати: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робочий час, думку кожного учасника уро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Внутрішня будова Земл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п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Що так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др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Яка його температур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грегатний ста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Яка його потужність?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2"/>
          <a:srcRect l="0" t="0" r="73821" b="0"/>
          <a:stretch/>
        </p:blipFill>
        <p:spPr>
          <a:xfrm>
            <a:off x="5897520" y="1371600"/>
            <a:ext cx="24703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Внутрішня будова Земл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п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Що так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ядр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Яка його температур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грегатний ста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Яка його потужність?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rcRect l="0" t="0" r="73821" b="0"/>
          <a:stretch/>
        </p:blipFill>
        <p:spPr>
          <a:xfrm>
            <a:off x="5897520" y="1371600"/>
            <a:ext cx="2470320" cy="51814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6324480" y="4037760"/>
            <a:ext cx="12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верд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6324480" y="4342320"/>
            <a:ext cx="11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5 000°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543080" y="3732840"/>
            <a:ext cx="12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2 900 к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7009560" y="617112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6 371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7390080" y="510444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≈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3 500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Внутрішня будова Земл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п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Що так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нті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стеносфе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В якому агрегатно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ні ці складов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Яка їх потужність?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2"/>
          <a:srcRect l="34821" t="0" r="34821" b="0"/>
          <a:stretch/>
        </p:blipFill>
        <p:spPr>
          <a:xfrm>
            <a:off x="5430960" y="1447920"/>
            <a:ext cx="26128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Внутрішня будова Земл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п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Що так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нті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стеносфе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В яко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грегатно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ні ці складов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Яка їх потужність?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rcRect l="34821" t="0" r="34821" b="0"/>
          <a:stretch/>
        </p:blipFill>
        <p:spPr>
          <a:xfrm>
            <a:off x="5430960" y="1447920"/>
            <a:ext cx="2612880" cy="47242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6097320" y="220896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в’яз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6021360" y="266616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тверд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4494600" y="312336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≈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3 000 км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7085520" y="38851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2 9000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7772040" y="228492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80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Внутрішня будова Земл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І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п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Що так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емна ко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Яка її потужні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У якому агрегатно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ні вона знаходи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2"/>
          <a:srcRect l="69643" t="0" r="0" b="0"/>
          <a:stretch/>
        </p:blipFill>
        <p:spPr>
          <a:xfrm>
            <a:off x="5638680" y="1676520"/>
            <a:ext cx="2530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Внутрішня будова Земл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І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п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Що так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емна ко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Яка її потужні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У якому агрегатно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ні вона знаходи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rcRect l="69643" t="0" r="0" b="0"/>
          <a:stretch/>
        </p:blipFill>
        <p:spPr>
          <a:xfrm>
            <a:off x="5638680" y="1676520"/>
            <a:ext cx="2530440" cy="4572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6171840" y="205632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70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7620120" y="18277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5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7</cp:lastModifiedBy>
  <dcterms:modified xsi:type="dcterms:W3CDTF">2013-10-20T12:17:13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11000000000001024140</vt:lpwstr>
  </property>
  <property fmtid="{D5CDD505-2E9C-101B-9397-08002B2CF9AE}" pid="3" name="Version">
    <vt:r8>1</vt:r8>
  </property>
</Properties>
</file>