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10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1.jpeg" ContentType="image/jpeg"/>
  <Override PartName="/ppt/media/image33.jpeg" ContentType="image/jpeg"/>
  <Override PartName="/ppt/media/image36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CF1A-FFA2-43E7-B968-055FD403E2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обування зо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E93A-46ED-4D14-83B7-9EF5B779C2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родоохоронні територі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1252-7CA9-432C-BA5B-362A650AF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іональний парк Саренгет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6291-16EB-4F59-A1B3-D29B1338EB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нгерет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A965-849C-43B9-B184-0AE41F27EF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ламін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4348-AA6D-4499-8636-12848E3E59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нтилопа -г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BD8E-7A2E-47A8-9CBF-C4517344A3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еб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9217-286B-48F3-B75D-4BE7B22EF8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4F54-BB4B-4506-A4C2-C721C16488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Жираф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E36B-53D2-4052-9837-2C69436046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іональний парк Нгоронго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4952-90C1-4C87-BC8D-756BE6B21B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п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B223-821F-4C15-B4A2-55274D8529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осоріг    Геп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15EE-3526-4471-AC7E-2A8DA4B168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іональний парк Крюг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8D22-FEA3-4B3F-9F7E-9AD9C1A47D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арк Рувензор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914F-B788-4CAA-B048-F1A3AA4E24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рожай під час засу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3AA4-5309-41FF-A2F5-8D8FACC563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іщана буря в Египт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967B-2998-4932-9AC2-CCA78CED24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івденна Африканська Республі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D366-44D1-45C2-A6ED-86240CC31C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1D4-8B51-4654-B940-8F980F0F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457-57BD-4DEB-9C32-AE976431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ED7-1088-4B20-9928-C7325248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57F-9728-450C-9542-7523DBE9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54E1-A1E3-4702-AA07-669BEE53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3390-B961-4A03-92D7-8EA9BCE4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CF3D-85AB-4D52-9493-0006292C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63BB-37C2-4508-BF36-3DFCE31B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45FB-762B-436A-BEB6-6421D038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F713-2E84-4F50-82EE-7D5E3E2C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DA8E-88CB-4E8D-BE06-CDC4770A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A3F-3B1F-449C-9AC0-CB3F5EDE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A2BA-84F3-470B-B031-E81FC400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9E34-47A1-4FBE-8743-D2B595E8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463A-54F0-4307-BB89-285AAC6A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38C4-4C0D-4633-88A2-7380B6D4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6975-0CD6-4B3B-8A31-7CA61A00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1FA0-B3D0-4AE1-A6FC-9C03F246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52AD-6A6C-44CD-AC41-94759B6F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D8FD4-6543-40E2-B111-078D433A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2E92-915B-479F-9F6E-196B54B7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E425-9842-442E-9137-DA062606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F08-FB0D-44C9-9632-E521AEB8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C12E2-9261-487B-878D-3AA93F3A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26A1-2557-4B33-968C-6BDCFEC1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E4A8-90AC-4759-A3F1-AA322775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0F8F-4B25-4465-B2BD-11169CB9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511C-D38B-4528-A934-B2D28144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2E58-0D4E-480E-AFDE-1CCE96ED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2948D-ABFC-428E-9878-AD79D67D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F10C6-C8BE-49BD-904F-47FC0EEF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8558-97C1-4732-BA37-097E52E6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2354D-2361-4799-82BB-FC97D3BE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584-5633-4DC5-8187-785DA9E1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CC821-3FD2-4FB5-B722-25F2EDD3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AF1E-A05B-4EF0-B072-C9193768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9A2A-870D-411B-8028-84F1EB16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C85B7-34A6-4292-A62B-6326B6E0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5179-F32B-4B0C-9E99-0C4A17B7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18E8-A5A4-4A57-A421-1986E8DD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6C2F-99DE-4D1C-A465-2C6B459D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31DB-B5E1-4728-9FE0-9AB4EFAD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A63AF-4057-4BBD-9A85-C2866B16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9CD-FE03-4EEB-A4FF-31355D8B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2BC-5773-46EC-A11B-DF1AA636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CD5-2174-4A4A-9F9C-34B4278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1F6-7B3E-4234-B8A3-3C5CA50B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47E-128E-40D6-BC1D-5EE4C581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AED5-2862-4B61-A1B0-8BDFCB0BBE6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3D1C-33AA-4819-ADC3-DEDA015A67E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672B-7676-492C-BEE7-C46D70A150C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05ED-37F3-40B2-B42B-0EFEAB7A8E1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49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212745"/>
                </a:solidFill>
                <a:latin typeface="Trebuchet MS"/>
              </a:rPr>
              <a:t>Стихійні явища природи. Екологічні проблеми. Національні парки.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580000" y="64728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ирубування лісів під оранку полі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53211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64000" y="62028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лювання на крупних тварин. Деякі види тварин були цілком знищені (блакитна антилопа, підвиди зебр), а інші перебувають під загрозою зникнення (носороги, слони, леви, жирафи тощо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529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960720" cy="4545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5435640" y="69192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Блакитна антилопа проживала до 1800р. ПАР.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XVIII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ст. була знищена колоністами під час  охоти на неї. Свою назву блакитна антилопа отримала за блакитний відтінок сірого хутр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64000" y="25992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66680" indent="-13320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ликих збитків природі Африки завдає видобування корисних копалин. Бідність африканських держав не дозволяє їм виділяти необхідні кошти на охорону навколишнього середовища. Проблема підсилюється ще й тим, що розвинені держави розміщають на території Африки екологічно небезпечні виробництва, наприклад такі як переробка радіоактивної сировини, виробництво мінеральних добрив тощ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132840" y="454356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идобування золота в Конг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11160" y="333360"/>
            <a:ext cx="54975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8920" y="112536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ціональні природні парки — природоохоронні, рекреаційні, науково-дослідні установи загальнодержавного значення, які створюються з метою збереження, поповнення та ефективного використання природних комплексів та об’єктів. Особливістю національних парків є те, що охорона природи в них поєднується з раціональною організацією відпочинку населення і туризм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63640" y="1052280"/>
            <a:ext cx="3529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Заповідник — ділянка території або акваторії, на якій весь природний комплекс зберігається в природному стані. Використовується для різнобічних комплексних наукових досліджень природи, збереження біологічної різноманітн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468360" y="328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иродоохоронні    території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3635280" y="4167360"/>
            <a:ext cx="381636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64000" y="1268280"/>
            <a:ext cx="3600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">
              <a:lnSpc>
                <a:spcPct val="9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 перекладі з мови масаїв означає «неозорана рівнина». Парк знаходиться на висоті  1000- 2000 Національний парк Серенгеті знаходиться в Танзанії, на Східно Африканському плоскогірї. Він займає площу 14,5 тисяч км2.  Природа Сенгереті різноманітна рівнини, горби, річки,озера, скали –копєс. Рослинність представлена  саванами, тропічними злаковими, акацієвими рідколіссями, болотами і галерейними лісами по долинах річок. Тваринний світ різноманітний слони,носороги, леви, безліч пт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ахів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Прямоугольник 5"/>
          <p:cNvSpPr/>
          <p:nvPr/>
        </p:nvSpPr>
        <p:spPr>
          <a:xfrm>
            <a:off x="539640" y="549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аціональний парк Серенгеті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5084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735120" y="728640"/>
            <a:ext cx="7619760" cy="52736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611280" y="6093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ид Сенгереті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530920" cy="568800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2"/>
          <p:cNvSpPr/>
          <p:nvPr/>
        </p:nvSpPr>
        <p:spPr>
          <a:xfrm>
            <a:off x="621360" y="60213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ожевий Фламінг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08000" y="333360"/>
            <a:ext cx="8804160" cy="49388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"/>
          <p:cNvSpPr/>
          <p:nvPr/>
        </p:nvSpPr>
        <p:spPr>
          <a:xfrm>
            <a:off x="205200" y="544500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нтилопа -гн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193680" y="284040"/>
            <a:ext cx="8926560" cy="59515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1"/>
          <p:cNvSpPr/>
          <p:nvPr/>
        </p:nvSpPr>
        <p:spPr>
          <a:xfrm>
            <a:off x="501840" y="625644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ебр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98280" y="115920"/>
            <a:ext cx="8928360" cy="59529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1"/>
          <p:cNvSpPr/>
          <p:nvPr/>
        </p:nvSpPr>
        <p:spPr>
          <a:xfrm>
            <a:off x="530640" y="623736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Ле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8494560" cy="566244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1"/>
          <p:cNvSpPr/>
          <p:nvPr/>
        </p:nvSpPr>
        <p:spPr>
          <a:xfrm>
            <a:off x="600480" y="595008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ираф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5508720" y="773280"/>
            <a:ext cx="3635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ціональний парк Нгоронгоро  розташований  у вулканічному  кратері. У діаметрі до 19 км., площа 265 км.кв., на дні знаходиться щелочное озеро де живуть фламінго. Мальовничий і різноманітний ландшафт, в якому круті обриви стін кратера Нгоронгоро. Розташовані поруч з просторими долинами, вкритими травою і кущами. Нгоронгоро знаходиться на півночі Танзанії і лежить біля західного краю зони  Розломів, на кордоні з Кенією. Площа 8000 км. к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Прямоугольник 4"/>
          <p:cNvSpPr/>
          <p:nvPr/>
        </p:nvSpPr>
        <p:spPr>
          <a:xfrm>
            <a:off x="250920" y="18900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аціональний парк Нгоронгоро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5122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144360" y="4680"/>
            <a:ext cx="5710320" cy="388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3"/>
          <a:stretch/>
        </p:blipFill>
        <p:spPr>
          <a:xfrm>
            <a:off x="4427640" y="3478320"/>
            <a:ext cx="4743360" cy="32036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4"/>
          <p:cNvSpPr/>
          <p:nvPr/>
        </p:nvSpPr>
        <p:spPr>
          <a:xfrm>
            <a:off x="324000" y="42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осорі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Прямоугольник 5"/>
          <p:cNvSpPr/>
          <p:nvPr/>
        </p:nvSpPr>
        <p:spPr>
          <a:xfrm>
            <a:off x="3480480" y="4591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епар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1294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5327640" cy="3544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3"/>
          <a:stretch/>
        </p:blipFill>
        <p:spPr>
          <a:xfrm>
            <a:off x="3727440" y="3406680"/>
            <a:ext cx="50036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364000" y="1483920"/>
            <a:ext cx="3672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Один з найстаріших  на материку. Його створено у 1898 році. Один з найбільших заповідників площа якого становить близько 2 млн.га. Знаходиться в ПАР між річками Лімпопо та Крокодиловою. На сході межує з Мозамбіком. Протяжність з півночі на південь  340 км. Цей національний парк прославився завдяки слонам. У 1912р. Їх нараховувалось 25-30 шт. Охота на тварин суворо заборонен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1168920" y="620640"/>
            <a:ext cx="59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аціональний парк Крюгер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108000" y="1341360"/>
            <a:ext cx="5472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79280" y="27000"/>
            <a:ext cx="5977080" cy="34862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"/>
          <p:cNvPicPr/>
          <p:nvPr/>
        </p:nvPicPr>
        <p:blipFill>
          <a:blip r:embed="rId3"/>
          <a:stretch/>
        </p:blipFill>
        <p:spPr>
          <a:xfrm>
            <a:off x="3013200" y="3284640"/>
            <a:ext cx="626256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762120" y="900000"/>
            <a:ext cx="76197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12745"/>
                </a:solidFill>
                <a:latin typeface="Trebuchet MS"/>
              </a:rPr>
              <a:t>На території материка Африка знаходиться одне з чудес світу – єгипетські піраміди. На одній із них, а саме  піраміді Хеопса учені знайшли такий напис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rebuchet MS"/>
              </a:rPr>
              <a:t>« Люди загинуть від невміння користуватись силами природи і незнання істинного світу». Так, дійсно, сили природи надзвичайно могутні і людству не можна з ними не рахуватися, особливо ж, коли мова йде про стихійні явища. І напевно, ключі успішного і гармонійного існування людства в знання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762120" y="566640"/>
            <a:ext cx="761976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230800" y="1208160"/>
            <a:ext cx="388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248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Парк Рувензорі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248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знаходиться на сході  Африки в західній частині Угандина гірському масиві Рувензорі. В цьому масиві знаходиться третя по висоті вершина Африки – пік Маргеріта (5109 м), ще 20 вершин мають висоту близько 4500 м. Більша їх частина покрита снігом. Тала вода з вершинних льодовиків і рясні дощі живлять р. Семліки – одну з витоків Білого Нила. Організований у 1993р.Площа близько 1000 км.кв.Під охороною перебувають людиноподібні мавпи шимпанзе, гори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Прямоугольник 9"/>
          <p:cNvSpPr/>
          <p:nvPr/>
        </p:nvSpPr>
        <p:spPr>
          <a:xfrm>
            <a:off x="1578600" y="189000"/>
            <a:ext cx="40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Парк Рувензорі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0" y="1139760"/>
            <a:ext cx="52927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324000" y="165240"/>
            <a:ext cx="4032000" cy="3108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4286160" cy="3219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4859280" y="165240"/>
            <a:ext cx="38480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2" descr=""/>
          <p:cNvPicPr/>
          <p:nvPr/>
        </p:nvPicPr>
        <p:blipFill>
          <a:blip r:embed="rId2"/>
          <a:stretch/>
        </p:blipFill>
        <p:spPr>
          <a:xfrm>
            <a:off x="341280" y="109440"/>
            <a:ext cx="8485200" cy="8049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94320" y="907920"/>
            <a:ext cx="401616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43200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тихійні природні явища землетруси, засухи, повені, урагани тощо можуть завдавати величезної шкоди населенню.  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При пануванні тропічного пустельного клімату на великих просторах вічною бідою Африки є засуха – тривалий бездощовий період, що призводить до висихання ґрунтів і загибелі рослинності. Засухи завжди супроводжуються неврожаєм. Від нестачі кормів і питної води гине худоба і дикі тварини, від спраги і голоду вмирають люди. Районом частих і тривалих засух є зона Сахель (у перекладі з арабської означає берег, край, тобто край пустелі), розташована на південь від Сахари. Вона тягнеться широкою смугою з заходу на схід через усю Північну Африк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4392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1143000" y="830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4"/>
          <p:cNvSpPr/>
          <p:nvPr/>
        </p:nvSpPr>
        <p:spPr>
          <a:xfrm>
            <a:off x="611280" y="13824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рожай  під час засух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211280" y="475920"/>
            <a:ext cx="475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безпечним явищем є ураганний гарячий сухий вітер, що дме в пустелі влітку. Араби називають його «дихання смерті». Коли він дме, температура повітря підвищується до +50 0С, а відносна вологість знижується іноді до 0%. За таких умов різко збільшується випаровування з організму. У людини починається сильний головний біль і може настати смерть. Нерідко ураганний вітер супроводжується піщаними смерчами і пиловими бурями. Вони зазвичай тривають недовго (до 20 хв.), але мають велику силу і за короткий час переносять величезні маси піску, засипаючи поля, будинки, а іноді й великі поселення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179280" y="257040"/>
            <a:ext cx="4181760" cy="2784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4"/>
          <p:cNvSpPr/>
          <p:nvPr/>
        </p:nvSpPr>
        <p:spPr>
          <a:xfrm>
            <a:off x="694440" y="314172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іщана буря в Египті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108000" y="3645000"/>
            <a:ext cx="4392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24360" y="249192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воєрідним стихійним лихом є нашестя сарани, яка за кілька годин може знищити увесь урожай полів і плантаці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34920" y="115920"/>
            <a:ext cx="5759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435640" y="549360"/>
            <a:ext cx="334656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Деякі країни Африки потерпають від повеней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352760" cy="2905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534960" y="3573360"/>
            <a:ext cx="42861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5364000" y="620640"/>
            <a:ext cx="3780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Екологія — наука, учення про взаємини організмів і середовище їх життя. Екологічні проблеми виникають у зв’язку з утручанням людини в природні процеси. Вони призводять  до порушення рівноваги природних комплексів.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Зміна природних комплексів материка почалася ще в епоху його колонізації європейцями вивезення цінної  деревини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168120" y="476280"/>
            <a:ext cx="5450040" cy="41767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4"/>
          <p:cNvSpPr/>
          <p:nvPr/>
        </p:nvSpPr>
        <p:spPr>
          <a:xfrm>
            <a:off x="249120" y="4869000"/>
            <a:ext cx="41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івденна  Африканська Республіка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5:14:23Z</dcterms:created>
  <dc:creator>VLADIMIR</dc:creator>
  <dc:description/>
  <dc:language>en-US</dc:language>
  <cp:lastModifiedBy>Admin</cp:lastModifiedBy>
  <dcterms:modified xsi:type="dcterms:W3CDTF">2014-03-27T06:48:45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429000000000001024140</vt:lpwstr>
  </property>
</Properties>
</file>