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.png" ContentType="image/png"/>
  <Override PartName="/ppt/media/image25.jpeg" ContentType="image/jpeg"/>
  <Override PartName="/ppt/media/image17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761-8504-41BE-AF48-202D951A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2CF-FD46-40BF-9034-880AF03B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FB2-A2BE-4A97-94FB-2284C467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69F-66C8-4C22-8A81-2016B985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DF63-CF35-4BEF-A37F-EBD97851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BA5E-4033-47D5-98ED-BA13F33C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137F-DBB3-425A-A6D0-19FBEF20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018D-3B4A-4096-A5CE-639F6069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B606-D842-4D74-92E7-A3B45EDC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7BF9-18DF-4CA6-89DA-DD273D65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D253-21AF-4B2A-BC56-626422AB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C8B-3292-462D-91BE-678A0B1A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F062-B3DD-4FE9-A451-80EE8BF7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3D2B-E946-4624-B739-377AFEF4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B7F1-17F6-4921-A951-B11C487D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ECE3-E3E1-4E2D-BF21-A36D5CF6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A4A4-5ED4-40AB-B620-804D6849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9D6-5C41-4D45-A3BF-7734270B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FD5-E379-4725-B3A4-376EF999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3CD4-41B0-427E-BB64-6C47FC7A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7D4-D2E6-4109-ADF2-3BAEC3CB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DD2-26CB-4887-9500-22336BF9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B9B-558F-4DD5-A5A8-025FE706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2CD-3E4C-4A35-BBD2-62E4ADB3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3688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95880" y="647676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657240" y="654192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D139-F6E5-4040-AEC6-997610F159D3}" type="slidenum"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94"/>
          <p:cNvGrpSpPr/>
          <p:nvPr/>
        </p:nvGrpSpPr>
        <p:grpSpPr>
          <a:xfrm>
            <a:off x="1420920" y="122400"/>
            <a:ext cx="1733040" cy="1675440"/>
            <a:chOff x="1420920" y="122400"/>
            <a:chExt cx="1733040" cy="1675440"/>
          </a:xfrm>
        </p:grpSpPr>
        <p:pic>
          <p:nvPicPr>
            <p:cNvPr id="6" name="Picture 87" descr="season_2"/>
            <p:cNvPicPr/>
            <p:nvPr/>
          </p:nvPicPr>
          <p:blipFill>
            <a:blip r:embed="rId3"/>
            <a:srcRect l="0" t="0" r="-155" b="-56"/>
            <a:stretch/>
          </p:blipFill>
          <p:spPr>
            <a:xfrm>
              <a:off x="1420920" y="122400"/>
              <a:ext cx="9446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8" descr="season_2"/>
            <p:cNvPicPr/>
            <p:nvPr/>
          </p:nvPicPr>
          <p:blipFill>
            <a:blip r:embed="rId4"/>
            <a:stretch/>
          </p:blipFill>
          <p:spPr>
            <a:xfrm rot="6165600">
              <a:off x="1889640" y="518400"/>
              <a:ext cx="10969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Picture 89" descr="season_2"/>
          <p:cNvPicPr/>
          <p:nvPr/>
        </p:nvPicPr>
        <p:blipFill>
          <a:blip r:embed="rId5"/>
          <a:stretch/>
        </p:blipFill>
        <p:spPr>
          <a:xfrm rot="20251800">
            <a:off x="304920" y="533520"/>
            <a:ext cx="1096920" cy="12189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1" descr="03"/>
          <p:cNvPicPr/>
          <p:nvPr/>
        </p:nvPicPr>
        <p:blipFill>
          <a:blip r:embed="rId6"/>
          <a:stretch/>
        </p:blipFill>
        <p:spPr>
          <a:xfrm rot="20463000">
            <a:off x="7743600" y="439200"/>
            <a:ext cx="839520" cy="447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92" descr="03"/>
          <p:cNvPicPr/>
          <p:nvPr/>
        </p:nvPicPr>
        <p:blipFill>
          <a:blip r:embed="rId7"/>
          <a:stretch/>
        </p:blipFill>
        <p:spPr>
          <a:xfrm rot="20463000">
            <a:off x="8378640" y="171000"/>
            <a:ext cx="539640" cy="287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96" descr="01"/>
          <p:cNvPicPr/>
          <p:nvPr/>
        </p:nvPicPr>
        <p:blipFill>
          <a:blip r:embed="rId8"/>
          <a:stretch/>
        </p:blipFill>
        <p:spPr>
          <a:xfrm rot="21444000">
            <a:off x="6477120" y="721800"/>
            <a:ext cx="609480" cy="4971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95" descr="01"/>
          <p:cNvPicPr/>
          <p:nvPr/>
        </p:nvPicPr>
        <p:blipFill>
          <a:blip r:embed="rId9"/>
          <a:stretch/>
        </p:blipFill>
        <p:spPr>
          <a:xfrm rot="21112800">
            <a:off x="6858000" y="130320"/>
            <a:ext cx="96372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8"/>
          <p:cNvSpPr/>
          <p:nvPr/>
        </p:nvSpPr>
        <p:spPr>
          <a:xfrm>
            <a:off x="7738200" y="1522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2" descr="season_2"/>
          <p:cNvPicPr/>
          <p:nvPr/>
        </p:nvPicPr>
        <p:blipFill>
          <a:blip r:embed="rId3"/>
          <a:srcRect l="0" t="0" r="-291" b="320"/>
          <a:stretch/>
        </p:blipFill>
        <p:spPr>
          <a:xfrm>
            <a:off x="914400" y="609480"/>
            <a:ext cx="47160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season_2"/>
          <p:cNvPicPr/>
          <p:nvPr/>
        </p:nvPicPr>
        <p:blipFill>
          <a:blip r:embed="rId4"/>
          <a:srcRect l="0" t="0" r="-155" b="-56"/>
          <a:stretch/>
        </p:blipFill>
        <p:spPr>
          <a:xfrm>
            <a:off x="2133720" y="2590920"/>
            <a:ext cx="114588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season_2"/>
          <p:cNvPicPr/>
          <p:nvPr/>
        </p:nvPicPr>
        <p:blipFill>
          <a:blip r:embed="rId5"/>
          <a:srcRect l="0" t="0" r="-155" b="-56"/>
          <a:stretch/>
        </p:blipFill>
        <p:spPr>
          <a:xfrm>
            <a:off x="4952880" y="2438280"/>
            <a:ext cx="870120" cy="98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season_2"/>
          <p:cNvPicPr/>
          <p:nvPr/>
        </p:nvPicPr>
        <p:blipFill>
          <a:blip r:embed="rId6"/>
          <a:srcRect l="0" t="0" r="-155" b="-56"/>
          <a:stretch/>
        </p:blipFill>
        <p:spPr>
          <a:xfrm>
            <a:off x="304920" y="152280"/>
            <a:ext cx="93816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season_2"/>
          <p:cNvPicPr/>
          <p:nvPr/>
        </p:nvPicPr>
        <p:blipFill>
          <a:blip r:embed="rId7"/>
          <a:srcRect l="0" t="0" r="-291" b="0"/>
          <a:stretch/>
        </p:blipFill>
        <p:spPr>
          <a:xfrm>
            <a:off x="5410080" y="198108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season_2"/>
          <p:cNvPicPr/>
          <p:nvPr/>
        </p:nvPicPr>
        <p:blipFill>
          <a:blip r:embed="rId8"/>
          <a:stretch/>
        </p:blipFill>
        <p:spPr>
          <a:xfrm rot="6165600">
            <a:off x="2369520" y="2963520"/>
            <a:ext cx="150804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season_2"/>
          <p:cNvPicPr/>
          <p:nvPr/>
        </p:nvPicPr>
        <p:blipFill>
          <a:blip r:embed="rId9"/>
          <a:stretch/>
        </p:blipFill>
        <p:spPr>
          <a:xfrm rot="16912800">
            <a:off x="1125000" y="1464480"/>
            <a:ext cx="1055880" cy="117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season_2"/>
          <p:cNvPicPr/>
          <p:nvPr/>
        </p:nvPicPr>
        <p:blipFill>
          <a:blip r:embed="rId10"/>
          <a:srcRect l="0" t="0" r="-291" b="0"/>
          <a:stretch/>
        </p:blipFill>
        <p:spPr>
          <a:xfrm>
            <a:off x="3352680" y="213372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season_2"/>
          <p:cNvPicPr/>
          <p:nvPr/>
        </p:nvPicPr>
        <p:blipFill>
          <a:blip r:embed="rId11"/>
          <a:srcRect l="0" t="0" r="172" b="605"/>
          <a:stretch/>
        </p:blipFill>
        <p:spPr>
          <a:xfrm>
            <a:off x="3200400" y="2057400"/>
            <a:ext cx="20304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2" descr="03"/>
          <p:cNvPicPr/>
          <p:nvPr/>
        </p:nvPicPr>
        <p:blipFill>
          <a:blip r:embed="rId12"/>
          <a:stretch/>
        </p:blipFill>
        <p:spPr>
          <a:xfrm rot="546000">
            <a:off x="7245000" y="4913280"/>
            <a:ext cx="1284120" cy="68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3" descr="03"/>
          <p:cNvPicPr/>
          <p:nvPr/>
        </p:nvPicPr>
        <p:blipFill>
          <a:blip r:embed="rId13"/>
          <a:stretch/>
        </p:blipFill>
        <p:spPr>
          <a:xfrm rot="546000">
            <a:off x="8164440" y="4842000"/>
            <a:ext cx="824040" cy="43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6" descr="01"/>
          <p:cNvPicPr/>
          <p:nvPr/>
        </p:nvPicPr>
        <p:blipFill>
          <a:blip r:embed="rId14"/>
          <a:stretch/>
        </p:blipFill>
        <p:spPr>
          <a:xfrm rot="702000">
            <a:off x="5334120" y="4343040"/>
            <a:ext cx="990360" cy="8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5" descr="01"/>
          <p:cNvPicPr/>
          <p:nvPr/>
        </p:nvPicPr>
        <p:blipFill>
          <a:blip r:embed="rId15"/>
          <a:stretch/>
        </p:blipFill>
        <p:spPr>
          <a:xfrm rot="702000">
            <a:off x="6046560" y="3610080"/>
            <a:ext cx="1725480" cy="1404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CBD5-11E5-4FF6-9C23-C624BE158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000" y="836280"/>
            <a:ext cx="79246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УХОДІЛ   В  ОКЕАН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Дайте  визначення  понять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атер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стрі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вострі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Який острів  є  найбільшим  за  площею  в світі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. Які  бувають острови  за  походженням  та  як  вони утворюються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4. Дайте  визначення  поняття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рхіпела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 Наведіть  конкретні  приклади  архіпелагів  в Тихому  океані.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5. Який  півострів є  найбільшим  за  площею  в світі. Води якого  океану  омивають  його  береги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6. Географічний практикум: позначити на контурній карті гідрологічні об’єкти над якими ви працювали, та показати їх на фізичній карті світу біля дошки (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строви: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еликобританія, Шрі-Ланка, Великі Зондські, Великі Антільські, Гренландія, Мадагаскар;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івострови: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равійський, Кримський, Апеннінський, Індостан, Індокитай, Лабрадор, Сомалі.)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61722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КУЛЬТХВИЛИНК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rcRect l="0" t="0" r="35" b="23"/>
          <a:stretch/>
        </p:blipFill>
        <p:spPr>
          <a:xfrm>
            <a:off x="684360" y="1484280"/>
            <a:ext cx="77817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1722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ЕАНИ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907920"/>
            <a:ext cx="814212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pic>
        <p:nvPicPr>
          <p:cNvPr id="121" name="Схема 3" descr=""/>
          <p:cNvPicPr/>
          <p:nvPr/>
        </p:nvPicPr>
        <p:blipFill>
          <a:blip r:embed="rId2"/>
          <a:stretch/>
        </p:blipFill>
        <p:spPr>
          <a:xfrm>
            <a:off x="1444680" y="1378080"/>
            <a:ext cx="660240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818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61722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И І ЗАТОКИ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4500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147600" y="1125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ДІЛ В ОКЕАНІ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573440" cy="34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rcRect l="0" t="0" r="65" b="-69"/>
          <a:stretch/>
        </p:blipFill>
        <p:spPr>
          <a:xfrm>
            <a:off x="4427640" y="3284640"/>
            <a:ext cx="443700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1722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ДІЛ В ОКЕАНІ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4224240" cy="3168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ження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112536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стрів  Мадагаскар  - найбільший  за  площею  острів  на  земній  кулі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ен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ндія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нгальська  затока  -  найбільша  за  площею  і  об’ємом  води  затока  Світового  океану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Бенгальська  затока) 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зовське   море -  найглибше  з морів  Світового  океану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іліпінське море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Мозамбіцька протока  -  найдовша  протока  з усіх  проток   Світового океану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озамбіцька протока 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отока  Дрейка - найвужча  протока  на  земній  кулі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Ні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Аравійський  півострів -  найбільший  за  площею  півострів  земної  кулі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равійський  півострів 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Філіпінське  море – найбільше  за  площею  море  Світового океану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ргасове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4000" y="33336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79cd7"/>
                </a:solidFill>
                <a:latin typeface="Times New Roman"/>
                <a:ea typeface="Times New Roman"/>
              </a:rPr>
              <a:t>На якому з вивчених </a:t>
            </a:r>
            <a:r>
              <a:rPr b="1" lang="uk-UA" sz="4800" spc="-1" strike="noStrike">
                <a:solidFill>
                  <a:srgbClr val="179cd7"/>
                </a:solidFill>
                <a:latin typeface="Times New Roman"/>
                <a:ea typeface="Times New Roman"/>
              </a:rPr>
              <a:t>на уроці </a:t>
            </a:r>
            <a:endParaRPr b="1" lang="en-US" sz="48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79cd7"/>
                </a:solidFill>
                <a:latin typeface="Times New Roman"/>
                <a:ea typeface="Times New Roman"/>
              </a:rPr>
              <a:t>гідрологічних об'єктів ви хотіли б побувати? Чому?</a:t>
            </a:r>
            <a:endParaRPr b="1" lang="en-US" sz="48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шнє   завдання:</a:t>
            </a:r>
            <a:endParaRPr b="1" lang="en-US" sz="40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179cd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ацювати §46, вивчити географічну номенклатуру;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179cd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робити завдання в таблиці і вивчити її;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179cd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 завдання (на вибір): скласти кросворд «Світовий океан».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703520"/>
          <a:ext cx="4824360" cy="4465440"/>
        </p:xfrm>
        <a:graphic>
          <a:graphicData uri="http://schemas.openxmlformats.org/drawingml/2006/table">
            <a:tbl>
              <a:tblPr/>
              <a:tblGrid>
                <a:gridCol w="507960"/>
                <a:gridCol w="506520"/>
                <a:gridCol w="507960"/>
                <a:gridCol w="507960"/>
                <a:gridCol w="422280"/>
                <a:gridCol w="422280"/>
                <a:gridCol w="399960"/>
                <a:gridCol w="398520"/>
                <a:gridCol w="384120"/>
                <a:gridCol w="382680"/>
                <a:gridCol w="384120"/>
              </a:tblGrid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rowSpan="8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5076720" y="1674720"/>
            <a:ext cx="390384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. Водна оболонка Земл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2. Штучно створена водой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3. Частина гідросфери, що має витік і гир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4. Частина гідросфери, що поширена в нашій місцевост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5. Процес переміщення води в різних агрегатних стан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6. Багаторічні природні скупчення ль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7. Агрегатний стан ль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8. Колообіг води ( океан – атмосфера – океан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9. Вода, яка випадає з хмар у вигляді дощу, снігу, круп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0. Колообіг води ( океан – атмосфера – суходіл – океан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1. Займають найбільшу частину гідросфер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2. Сукупність води в газоподібному агрегатному ста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3. Атмосферне явище, що полягає в скупчені продуктів конденсац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684440"/>
          <a:ext cx="4824360" cy="4464000"/>
        </p:xfrm>
        <a:graphic>
          <a:graphicData uri="http://schemas.openxmlformats.org/drawingml/2006/table">
            <a:tbl>
              <a:tblPr/>
              <a:tblGrid>
                <a:gridCol w="507960"/>
                <a:gridCol w="506520"/>
                <a:gridCol w="507960"/>
                <a:gridCol w="507960"/>
                <a:gridCol w="422280"/>
                <a:gridCol w="422280"/>
                <a:gridCol w="399960"/>
                <a:gridCol w="398520"/>
                <a:gridCol w="384120"/>
                <a:gridCol w="382680"/>
                <a:gridCol w="384120"/>
              </a:tblGrid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rowSpan="8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547640" y="1341360"/>
          <a:ext cx="5761080" cy="5178600"/>
        </p:xfrm>
        <a:graphic>
          <a:graphicData uri="http://schemas.openxmlformats.org/drawingml/2006/table">
            <a:tbl>
              <a:tblPr/>
              <a:tblGrid>
                <a:gridCol w="606600"/>
                <a:gridCol w="604800"/>
                <a:gridCol w="606600"/>
                <a:gridCol w="606240"/>
                <a:gridCol w="504720"/>
                <a:gridCol w="505080"/>
                <a:gridCol w="476280"/>
                <a:gridCol w="476280"/>
                <a:gridCol w="458640"/>
                <a:gridCol w="457200"/>
                <a:gridCol w="458640"/>
              </a:tblGrid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8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2"/>
          <a:srcRect l="0" t="0" r="-8" b="52"/>
          <a:stretch/>
        </p:blipFill>
        <p:spPr>
          <a:xfrm>
            <a:off x="396720" y="141300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7640" y="40464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ження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34136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стрів  Мадагаскар  - найбільший  за  площею  острів  на  земній  кулі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нгальська  затока  -  найбільша  за  площею  і  об’ємом  води  затока  Світового  океану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зовське   море -  найглибше  з морів  Світового  океану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Мозамбіцька протока  -  найдовша  протока  з усіх  проток   Світового океану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отока  Дрейка - найвужча  протока  на  земній  кулі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Аравійський  півострів -  найбільший  за  площею  півострів  земної  кулі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Філіпінське  море – найбільше  за  площею  море  Світового океану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388200" cy="193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c4e6c"/>
                </a:solidFill>
                <a:latin typeface="Times New Roman"/>
              </a:rPr>
              <a:t>Світовий океан та його частини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Частини Світового океану.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уходіл в океані.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оняття „ Світовий океан”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актична робота №10 «Позначення на контурній карті географічних об′єктів Світового океану.»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10920" y="9079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КЕА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. Скільки  океанів  на  земній  кулі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. Що називають  Світовим  океаном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 Перелічіть    океани  в порядку  зменшення  їх  площі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 Що називають акваторією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. Де  розташовується   п’ятий  - Південний  океан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еографічний практикум: позначити на контурній карті гідрологічні об’єкти над якими ви працювали, та показати їх на фізичній карті світу біля дошки (Тихий, Атлантичний, Індійський, Північний Льодовитий океани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55280" y="404640"/>
            <a:ext cx="7924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Р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. Дайте  визначення  поняття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о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. Які  моря  називають  внутрішніми ? Наведіть  конкретні  приклади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 Які  моря  називають окраїнними? Наведіть конкретні  приклади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 Які  моря  є  найглибшим  і наймілкішим  морями  Світового океану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. Яке  море  є  найбільшим  за  площею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еографічний практикум: позначити на контурній карті гідрологічні об’єкти над якими ви працювали, та показати їх на фізичній карті світу біля дошки (моря: Чорне, Азовське, Середзем­не, Червоне, Берингове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000" y="765000"/>
            <a:ext cx="79246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ТОКИ   І    ЗАТО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Дайте  визначення  поняття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ото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 Наведіть приклади  проток  Світового океану, з  зазначенням  ділянок  суходолу , які  вони  роз’єднують, та водних  басейнів,які  вони сполучають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Дайте  визначення  понятт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зато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 Наведіть приклади  заток   Атлантичного  океану.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. Яка  затока  є  найбільшою  за  площею  і   об’ємом  води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4. До  басейну  якого  океану  належать  Перська , Аденська, Бенгальська  затоки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5. Яка  протока  є найдовшою, а яка найширшою  в світі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еографічний практикум: позначити на контурній карті гідрологічні об’єкти над якими ви працювали, та показати їх на фізичній карті світу біля дошк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и: Керченську, Босфор, Гібралтар­ську, Магелланову, Дрейка, Берингову; затоки: Біскайську, Бен­гальську, Мексиканську, Гвінейську)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1T12:21:35Z</dcterms:created>
  <dc:creator>Саша</dc:creator>
  <dc:description/>
  <dc:language>en-US</dc:language>
  <cp:lastModifiedBy>Admin</cp:lastModifiedBy>
  <dcterms:modified xsi:type="dcterms:W3CDTF">2014-03-14T09:01:05Z</dcterms:modified>
  <cp:revision>2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16000000000001024140</vt:lpwstr>
  </property>
</Properties>
</file>