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5.jpeg" ContentType="image/jpeg"/>
  <Override PartName="/ppt/media/image9.gif" ContentType="image/gif"/>
  <Override PartName="/ppt/media/image14.wmf" ContentType="image/x-wmf"/>
  <Override PartName="/ppt/media/image11.gif" ContentType="image/gif"/>
  <Override PartName="/ppt/media/image2.png" ContentType="image/png"/>
  <Override PartName="/ppt/media/image3.png" ContentType="image/png"/>
  <Override PartName="/ppt/media/image8.png" ContentType="image/png"/>
  <Override PartName="/ppt/media/image5.wmf" ContentType="image/x-wmf"/>
  <Override PartName="/ppt/media/image6.wmf" ContentType="image/x-wmf"/>
  <Override PartName="/ppt/media/image4.gif" ContentType="image/gif"/>
  <Override PartName="/ppt/media/image7.png" ContentType="image/png"/>
  <Override PartName="/ppt/media/image1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F73-7284-48C5-B994-0D451016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FDD-BD22-49F3-B751-0C0D247F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AB7-69B0-4DF5-A52A-D2249FEA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B5C8-F479-4D2E-B54A-EABB67AC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7523-4BDF-4EE6-A6B4-3AF4F766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E3C5-519E-4940-A647-DED26E4D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B049-A87A-4DD4-9A5C-28277CD8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6314-689D-447E-A9F2-DDBFD50A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670E-8FBC-41FD-82F6-DE17819E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AA1C-7E2D-4BFA-9BF5-9A3F0B93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9C58-CA11-4414-86AC-F33ED618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F9F-EE9F-405F-BB25-D73B0FAF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A11A-A78B-4300-9793-A66B08A2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CBD4-2FDB-40F5-9A78-4461CE55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A240-AA37-41CF-A0D6-92F16180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56BE-F5D8-47F8-810F-DA486204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E790-AFD2-44A2-B3D7-1092BE43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7232-38BF-401E-B009-5430F7D7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483-ABE3-44C1-A392-35D6459F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06E6-47C6-417B-8926-25ED3485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B66-71BA-4FBA-8C59-5B78EEDB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3450-5A51-446A-8D55-CB74608B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F45-5D91-40A2-B5D5-CEF203B9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04C-E60D-4786-858D-C5748E70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0015-B4EC-4E22-905A-A6D89455EE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3E2F-9AE8-4159-B797-A63095010A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1" descr=""/>
          <p:cNvPicPr/>
          <p:nvPr/>
        </p:nvPicPr>
        <p:blipFill>
          <a:blip r:embed="rId2"/>
          <a:stretch/>
        </p:blipFill>
        <p:spPr>
          <a:xfrm>
            <a:off x="-328680" y="-42840"/>
            <a:ext cx="9863280" cy="391320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2" descr=""/>
          <p:cNvPicPr/>
          <p:nvPr/>
        </p:nvPicPr>
        <p:blipFill>
          <a:blip r:embed="rId3"/>
          <a:stretch/>
        </p:blipFill>
        <p:spPr>
          <a:xfrm>
            <a:off x="3767040" y="4211640"/>
            <a:ext cx="5297760" cy="2652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108000" y="333360"/>
            <a:ext cx="9036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омітна зміна кліматичних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зонів відсутня в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іматичному поясі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ваторіальному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ропічному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убтропічному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омірному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C:\Program Files\Microsoft Office\MEDIA\CAGCAT10\j0305493.wmf"/>
          <p:cNvPicPr/>
          <p:nvPr/>
        </p:nvPicPr>
        <p:blipFill>
          <a:blip r:embed="rId1"/>
          <a:stretch/>
        </p:blipFill>
        <p:spPr>
          <a:xfrm>
            <a:off x="5651640" y="3916440"/>
            <a:ext cx="3322440" cy="2727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2" descr=""/>
          <p:cNvPicPr/>
          <p:nvPr/>
        </p:nvPicPr>
        <p:blipFill>
          <a:blip r:embed="rId1"/>
          <a:stretch/>
        </p:blipFill>
        <p:spPr>
          <a:xfrm>
            <a:off x="468360" y="297000"/>
            <a:ext cx="8351640" cy="6273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J0178115"/>
          <p:cNvPicPr/>
          <p:nvPr/>
        </p:nvPicPr>
        <p:blipFill>
          <a:blip r:embed="rId1"/>
          <a:stretch/>
        </p:blipFill>
        <p:spPr>
          <a:xfrm>
            <a:off x="6288120" y="2013120"/>
            <a:ext cx="2171520" cy="38876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250920" y="476280"/>
            <a:ext cx="7791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Найбільшу площу займає кліматичний пояс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а) екваторіальний;                       в) субекваторіальн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б) тропічний;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г) помір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395280" y="404640"/>
            <a:ext cx="84978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більша кількість опадів випадає в кліматичному поясі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ваторіальному;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ропічному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убекваторіальном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омірно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C:\Program Files\Microsoft Office\MEDIA\CAGCAT10\j0293828.wmf"/>
          <p:cNvPicPr/>
          <p:nvPr/>
        </p:nvPicPr>
        <p:blipFill>
          <a:blip r:embed="rId1"/>
          <a:stretch/>
        </p:blipFill>
        <p:spPr>
          <a:xfrm>
            <a:off x="5219640" y="2781360"/>
            <a:ext cx="383220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44400" y="333360"/>
            <a:ext cx="806616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стрів Вогняна Земля знаходиться в кліматичному поясі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ваторіальному;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ропічному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убекваторіальн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омірн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C:\Program Files\Microsoft Office\MEDIA\CAGCAT10\j0298897.wmf"/>
          <p:cNvPicPr/>
          <p:nvPr/>
        </p:nvPicPr>
        <p:blipFill>
          <a:blip r:embed="rId1"/>
          <a:stretch/>
        </p:blipFill>
        <p:spPr>
          <a:xfrm>
            <a:off x="5635800" y="3645000"/>
            <a:ext cx="3382920" cy="29541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4"/>
          <p:cNvSpPr/>
          <p:nvPr/>
        </p:nvSpPr>
        <p:spPr>
          <a:xfrm>
            <a:off x="250920" y="62064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сичує вологою течі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еруанська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Фолклендська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Бразильська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ечія Західних Вітрів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C:\Program Files\Microsoft Office\MEDIA\OFFICE14\Lines\BD21313_.gif"/>
          <p:cNvPicPr/>
          <p:nvPr/>
        </p:nvPicPr>
        <p:blipFill>
          <a:blip r:embed="rId1"/>
          <a:stretch/>
        </p:blipFill>
        <p:spPr>
          <a:xfrm>
            <a:off x="27000" y="5896080"/>
            <a:ext cx="8964720" cy="612720"/>
          </a:xfrm>
          <a:prstGeom prst="rect">
            <a:avLst/>
          </a:prstGeom>
          <a:ln w="0">
            <a:noFill/>
          </a:ln>
        </p:spPr>
      </p:pic>
      <p:sp>
        <p:nvSpPr>
          <p:cNvPr id="108" name="plant"/>
          <p:cNvSpPr/>
          <p:nvPr/>
        </p:nvSpPr>
        <p:spPr>
          <a:xfrm>
            <a:off x="6012000" y="1773360"/>
            <a:ext cx="2808000" cy="2519280"/>
          </a:xfrm>
          <a:custGeom>
            <a:avLst/>
            <a:gdLst>
              <a:gd name="textAreaLeft" fmla="*/ 923040 w 2808000"/>
              <a:gd name="textAreaRight" fmla="*/ 1891080 w 2808000"/>
              <a:gd name="textAreaTop" fmla="*/ 1177200 h 2519280"/>
              <a:gd name="textAreaBottom" fmla="*/ 1583280 h 25192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395280" y="765000"/>
            <a:ext cx="8604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Найменшу вологість має кліматичний пояс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ваторіальний;                       в) субекваторіальний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ропічний;                                г) помірни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C:\Program Files\Microsoft Office\MEDIA\CAGCAT10\j0332364.wmf"/>
          <p:cNvPicPr/>
          <p:nvPr/>
        </p:nvPicPr>
        <p:blipFill>
          <a:blip r:embed="rId1"/>
          <a:stretch/>
        </p:blipFill>
        <p:spPr>
          <a:xfrm>
            <a:off x="5718240" y="4151160"/>
            <a:ext cx="338292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J0286674"/>
          <p:cNvPicPr/>
          <p:nvPr/>
        </p:nvPicPr>
        <p:blipFill>
          <a:blip r:embed="rId1"/>
          <a:stretch/>
        </p:blipFill>
        <p:spPr>
          <a:xfrm>
            <a:off x="6227640" y="2205000"/>
            <a:ext cx="1960560" cy="25923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468360" y="333360"/>
            <a:ext cx="82072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 найвологішому місці у Південній Америці випада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дів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3 000 мм за рік;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7 000 мм за рік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5 000 мм за рік;                        г) 10 000 мм за рік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J0284133"/>
          <p:cNvPicPr/>
          <p:nvPr/>
        </p:nvPicPr>
        <p:blipFill>
          <a:blip r:embed="rId1"/>
          <a:stretch/>
        </p:blipFill>
        <p:spPr>
          <a:xfrm>
            <a:off x="6156360" y="3500280"/>
            <a:ext cx="2725560" cy="292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J0284135"/>
          <p:cNvPicPr/>
          <p:nvPr/>
        </p:nvPicPr>
        <p:blipFill>
          <a:blip r:embed="rId2"/>
          <a:stretch/>
        </p:blipFill>
        <p:spPr>
          <a:xfrm>
            <a:off x="1035000" y="4734000"/>
            <a:ext cx="1736640" cy="2089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250920" y="260280"/>
            <a:ext cx="8713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«Холодний памперос» з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панської перекладаєтьс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«холодний вітер»;                       в) «холодна пампа»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«вітер з пампи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2" descr="J0303356"/>
          <p:cNvPicPr/>
          <p:nvPr/>
        </p:nvPicPr>
        <p:blipFill>
          <a:blip r:embed="rId1"/>
          <a:stretch/>
        </p:blipFill>
        <p:spPr>
          <a:xfrm>
            <a:off x="7169040" y="4173480"/>
            <a:ext cx="2082960" cy="266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J0303355"/>
          <p:cNvPicPr/>
          <p:nvPr/>
        </p:nvPicPr>
        <p:blipFill>
          <a:blip r:embed="rId2"/>
          <a:stretch/>
        </p:blipFill>
        <p:spPr>
          <a:xfrm>
            <a:off x="324000" y="4888080"/>
            <a:ext cx="2519280" cy="19508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"/>
          <p:cNvSpPr/>
          <p:nvPr/>
        </p:nvSpPr>
        <p:spPr>
          <a:xfrm>
            <a:off x="468360" y="333360"/>
            <a:ext cx="849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Найспекотніше місце на материці 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івнина Гран-Чако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Ла-Платська низовина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гори Анди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Амазонська низовин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12:47:06Z</dcterms:created>
  <dc:creator>Гищенко</dc:creator>
  <dc:description/>
  <dc:language>en-US</dc:language>
  <cp:lastModifiedBy>Admin</cp:lastModifiedBy>
  <dcterms:modified xsi:type="dcterms:W3CDTF">2014-02-05T07:50:28Z</dcterms:modified>
  <cp:revision>34</cp:revision>
  <dc:subject/>
  <dc:title>МАСЛОВА  ОЛЕНА  ПЕТРІВ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18000000000001024140</vt:lpwstr>
  </property>
</Properties>
</file>