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jpeg" ContentType="image/jpeg"/>
  <Override PartName="/ppt/media/image9.gif" ContentType="image/gif"/>
  <Override PartName="/ppt/media/image14.wmf" ContentType="image/x-wmf"/>
  <Override PartName="/ppt/media/image11.gif" ContentType="image/gif"/>
  <Override PartName="/ppt/media/image2.png" ContentType="image/png"/>
  <Override PartName="/ppt/media/image3.png" ContentType="image/png"/>
  <Override PartName="/ppt/media/image8.png" ContentType="image/png"/>
  <Override PartName="/ppt/media/image5.wmf" ContentType="image/x-wmf"/>
  <Override PartName="/ppt/media/image6.wmf" ContentType="image/x-wmf"/>
  <Override PartName="/ppt/media/image4.gif" ContentType="image/gif"/>
  <Override PartName="/ppt/media/image7.png" ContentType="image/png"/>
  <Override PartName="/ppt/media/image1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4A4-F965-44C5-BA04-0F1F8454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5EE-2FFE-4951-9847-38DE8E2B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D65-2B52-4E5F-98EB-33C2AAD4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ACE-1B4A-46A5-A495-98D44AAF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45BC-F4F2-43D2-9EC3-448DB0BE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1BB-83A4-4C43-834C-A1C7CEBE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E14E-A34C-41BE-A8C6-2C81591C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D9E7-76BB-4753-B7BE-513A057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641F-E3F1-4CF8-B96D-58785CAC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D0D3-4B06-4512-B369-7A166B4B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6498-BCCD-41D5-8C6D-8A970D5A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DEC-80D8-40F8-AD0B-4D29B252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E594-27C6-43D2-8E0B-32AC776C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C823-BAA4-41A4-BD85-D254B3F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E783-E967-4460-A17F-2D791445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1B32-4D28-4696-B2F2-2419C7B4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DD8F-1A0A-4EC7-A619-DABABD4D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C1E-643B-499B-8D29-7F3F4E83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783-C136-4657-84FD-9E56D19C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7AE-AA3F-4B33-A371-D372AE7E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0FC-21FB-4582-8ECF-C9415495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E20-7248-4625-AF4E-83BFC67F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3B2-BAAA-4551-A9E5-9CD023B0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786-4642-42BF-9365-413FC4F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4726-FDDD-47AB-A212-3E572636C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4A43-691A-4935-AD45-7C966452AD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1" descr=""/>
          <p:cNvPicPr/>
          <p:nvPr/>
        </p:nvPicPr>
        <p:blipFill>
          <a:blip r:embed="rId2"/>
          <a:stretch/>
        </p:blipFill>
        <p:spPr>
          <a:xfrm>
            <a:off x="-328680" y="-42840"/>
            <a:ext cx="9863280" cy="39132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2" descr=""/>
          <p:cNvPicPr/>
          <p:nvPr/>
        </p:nvPicPr>
        <p:blipFill>
          <a:blip r:embed="rId3"/>
          <a:stretch/>
        </p:blipFill>
        <p:spPr>
          <a:xfrm>
            <a:off x="3767040" y="4211640"/>
            <a:ext cx="5297760" cy="2652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108000" y="333360"/>
            <a:ext cx="9036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омітна зміна кліматичних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зонів відсутня в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іматичному поясі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ому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ому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убтропічному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мірном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:\Program Files\Microsoft Office\MEDIA\CAGCAT10\j0305493.wmf"/>
          <p:cNvPicPr/>
          <p:nvPr/>
        </p:nvPicPr>
        <p:blipFill>
          <a:blip r:embed="rId1"/>
          <a:stretch/>
        </p:blipFill>
        <p:spPr>
          <a:xfrm>
            <a:off x="5651640" y="3916440"/>
            <a:ext cx="332244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73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J0178115"/>
          <p:cNvPicPr/>
          <p:nvPr/>
        </p:nvPicPr>
        <p:blipFill>
          <a:blip r:embed="rId1"/>
          <a:stretch/>
        </p:blipFill>
        <p:spPr>
          <a:xfrm>
            <a:off x="6288120" y="2013120"/>
            <a:ext cx="2171520" cy="38876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250920" y="476280"/>
            <a:ext cx="7791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Найбільшу площу займає кліматичний пояс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) екваторіальний;                       в) субекваторіальн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б) тропічний;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) помір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395280" y="404640"/>
            <a:ext cx="84978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більша кількість опадів випадає в кліматичному поясі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ому;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ом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убекваторіальном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мірно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5219640" y="2781360"/>
            <a:ext cx="38322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44400" y="333360"/>
            <a:ext cx="806616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трів Вогняна Земля знаходиться в кліматичному поясі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ому;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ому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убекваторіальн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мірн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C:\Program Files\Microsoft Office\MEDIA\CAGCAT10\j0298897.wmf"/>
          <p:cNvPicPr/>
          <p:nvPr/>
        </p:nvPicPr>
        <p:blipFill>
          <a:blip r:embed="rId1"/>
          <a:stretch/>
        </p:blipFill>
        <p:spPr>
          <a:xfrm>
            <a:off x="5635800" y="3645000"/>
            <a:ext cx="3382920" cy="2954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4"/>
          <p:cNvSpPr/>
          <p:nvPr/>
        </p:nvSpPr>
        <p:spPr>
          <a:xfrm>
            <a:off x="250920" y="62064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сичує вологою течі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руанська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лклендська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разильськ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ечія Західних Вітрі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C:\Program Files\Microsoft Office\MEDIA\OFFICE14\Lines\BD21313_.gif"/>
          <p:cNvPicPr/>
          <p:nvPr/>
        </p:nvPicPr>
        <p:blipFill>
          <a:blip r:embed="rId1"/>
          <a:stretch/>
        </p:blipFill>
        <p:spPr>
          <a:xfrm>
            <a:off x="27000" y="5896080"/>
            <a:ext cx="8964720" cy="612720"/>
          </a:xfrm>
          <a:prstGeom prst="rect">
            <a:avLst/>
          </a:prstGeom>
          <a:ln w="0">
            <a:noFill/>
          </a:ln>
        </p:spPr>
      </p:pic>
      <p:sp>
        <p:nvSpPr>
          <p:cNvPr id="108" name="plant"/>
          <p:cNvSpPr/>
          <p:nvPr/>
        </p:nvSpPr>
        <p:spPr>
          <a:xfrm>
            <a:off x="6012000" y="1773360"/>
            <a:ext cx="2808000" cy="2519280"/>
          </a:xfrm>
          <a:custGeom>
            <a:avLst/>
            <a:gdLst>
              <a:gd name="textAreaLeft" fmla="*/ 923040 w 2808000"/>
              <a:gd name="textAreaRight" fmla="*/ 1891080 w 2808000"/>
              <a:gd name="textAreaTop" fmla="*/ 1177200 h 2519280"/>
              <a:gd name="textAreaBottom" fmla="*/ 1583280 h 25192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395280" y="765000"/>
            <a:ext cx="8604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Найменшу вологість має кліматичний пояс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ий;                       в) субекваторіальний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ий;                                г) помірни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C:\Program Files\Microsoft Office\MEDIA\CAGCAT10\j0332364.wmf"/>
          <p:cNvPicPr/>
          <p:nvPr/>
        </p:nvPicPr>
        <p:blipFill>
          <a:blip r:embed="rId1"/>
          <a:stretch/>
        </p:blipFill>
        <p:spPr>
          <a:xfrm>
            <a:off x="5718240" y="4151160"/>
            <a:ext cx="338292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J0286674"/>
          <p:cNvPicPr/>
          <p:nvPr/>
        </p:nvPicPr>
        <p:blipFill>
          <a:blip r:embed="rId1"/>
          <a:stretch/>
        </p:blipFill>
        <p:spPr>
          <a:xfrm>
            <a:off x="6227640" y="2205000"/>
            <a:ext cx="1960560" cy="2592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468360" y="333360"/>
            <a:ext cx="82072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 найвологішому місці у Південній Америці випада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ів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3 000 мм за рік;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7 000 мм за рік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5 000 мм за рік;                        г) 10 000 мм за рік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J0284133"/>
          <p:cNvPicPr/>
          <p:nvPr/>
        </p:nvPicPr>
        <p:blipFill>
          <a:blip r:embed="rId1"/>
          <a:stretch/>
        </p:blipFill>
        <p:spPr>
          <a:xfrm>
            <a:off x="6156360" y="3500280"/>
            <a:ext cx="2725560" cy="292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284135"/>
          <p:cNvPicPr/>
          <p:nvPr/>
        </p:nvPicPr>
        <p:blipFill>
          <a:blip r:embed="rId2"/>
          <a:stretch/>
        </p:blipFill>
        <p:spPr>
          <a:xfrm>
            <a:off x="1035000" y="4734000"/>
            <a:ext cx="1736640" cy="2089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250920" y="260280"/>
            <a:ext cx="8713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«Холодний памперос» з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панської перекладає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холодний вітер»;                       в) «холодна пампа»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вітер з пампи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2" descr="J0303356"/>
          <p:cNvPicPr/>
          <p:nvPr/>
        </p:nvPicPr>
        <p:blipFill>
          <a:blip r:embed="rId1"/>
          <a:stretch/>
        </p:blipFill>
        <p:spPr>
          <a:xfrm>
            <a:off x="7169040" y="4173480"/>
            <a:ext cx="2082960" cy="26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J0303355"/>
          <p:cNvPicPr/>
          <p:nvPr/>
        </p:nvPicPr>
        <p:blipFill>
          <a:blip r:embed="rId2"/>
          <a:stretch/>
        </p:blipFill>
        <p:spPr>
          <a:xfrm>
            <a:off x="324000" y="4888080"/>
            <a:ext cx="2519280" cy="19508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468360" y="333360"/>
            <a:ext cx="84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Найспекотніше місце на материці 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івнина Гран-Чако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а-Платська низовин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гори Анди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Амазонська низови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2:47:06Z</dcterms:created>
  <dc:creator>Гищенко</dc:creator>
  <dc:description/>
  <dc:language>en-US</dc:language>
  <cp:lastModifiedBy>Admin</cp:lastModifiedBy>
  <dcterms:modified xsi:type="dcterms:W3CDTF">2014-02-05T07:50:28Z</dcterms:modified>
  <cp:revision>34</cp:revision>
  <dc:subject/>
  <dc:title>МАСЛОВА  ОЛЕНА  ПЕТРІ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8000000000001024140</vt:lpwstr>
  </property>
</Properties>
</file>