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879-31D0-44D7-8267-D6C83927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F88-4D22-44B2-B27D-1FAECC98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C06-936B-474F-89D6-F30BF2D9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6F8-4AC1-4F50-A33B-57215D8B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417-EA3E-4E3C-8317-B052137E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E7B-6B68-4A6A-A0D0-E4BDC373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091-AB78-4FB1-A24E-5B7BA483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490-3733-4104-9581-D277477F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C75-AFC2-422C-A782-F5B9B441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01E-F6C3-4A78-8E4B-3CD48169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C4E-672C-4481-B202-CF318652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CDD-CC1B-4EAA-A7ED-3796FB4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1361-EBCB-4EE7-BDA8-EF5DB21AA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7f7f7f"/>
                </a:solidFill>
                <a:latin typeface="Calibri"/>
              </a:rPr>
              <a:t>Країни Скандинав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Норвегі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zarubezh.rozvitok.org/wp-content/uploads/2012/10/norway-alesund-1024x679.jpg"/>
          <p:cNvPicPr/>
          <p:nvPr/>
        </p:nvPicPr>
        <p:blipFill>
          <a:blip r:embed="rId1"/>
          <a:stretch/>
        </p:blipFill>
        <p:spPr>
          <a:xfrm>
            <a:off x="214200" y="214200"/>
            <a:ext cx="4848480" cy="32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aking-up.org/wp-content/uploads/2012/06/chistoplotnye-vikingi1.jpg"/>
          <p:cNvPicPr/>
          <p:nvPr/>
        </p:nvPicPr>
        <p:blipFill>
          <a:blip r:embed="rId2"/>
          <a:stretch/>
        </p:blipFill>
        <p:spPr>
          <a:xfrm>
            <a:off x="5929200" y="357120"/>
            <a:ext cx="2389320" cy="235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upload.wikimedia.org/wikipedia/commons/1/14/Geirangerfjorden.jpg"/>
          <p:cNvPicPr/>
          <p:nvPr/>
        </p:nvPicPr>
        <p:blipFill>
          <a:blip r:embed="rId3"/>
          <a:stretch/>
        </p:blipFill>
        <p:spPr>
          <a:xfrm>
            <a:off x="4857840" y="3429000"/>
            <a:ext cx="392904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Fil:Utsikt fra Fløyfjellet.jpg"/>
          <p:cNvPicPr/>
          <p:nvPr/>
        </p:nvPicPr>
        <p:blipFill>
          <a:blip r:embed="rId4"/>
          <a:srcRect l="0" t="0" r="31" b="0"/>
          <a:stretch/>
        </p:blipFill>
        <p:spPr>
          <a:xfrm>
            <a:off x="357120" y="3571920"/>
            <a:ext cx="42861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turpogoda.ru/photo/map_img/Norvegia1.jpg"/>
          <p:cNvPicPr/>
          <p:nvPr/>
        </p:nvPicPr>
        <p:blipFill>
          <a:blip r:embed="rId1"/>
          <a:srcRect l="0" t="0" r="123" b="0"/>
          <a:stretch/>
        </p:blipFill>
        <p:spPr>
          <a:xfrm>
            <a:off x="214200" y="285840"/>
            <a:ext cx="3571920" cy="353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4" descr="Файл:Flag of Norway.svg"/>
          <p:cNvPicPr/>
          <p:nvPr/>
        </p:nvPicPr>
        <p:blipFill>
          <a:blip r:embed="rId2"/>
          <a:stretch/>
        </p:blipFill>
        <p:spPr>
          <a:xfrm>
            <a:off x="4714920" y="285840"/>
            <a:ext cx="3643200" cy="265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Файл:Coat of Arms of Norway.svg"/>
          <p:cNvPicPr/>
          <p:nvPr/>
        </p:nvPicPr>
        <p:blipFill>
          <a:blip r:embed="rId3"/>
          <a:stretch/>
        </p:blipFill>
        <p:spPr>
          <a:xfrm>
            <a:off x="6500880" y="3714840"/>
            <a:ext cx="1482480" cy="2643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28760" y="4214880"/>
            <a:ext cx="835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олиц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а найбільше місто) - Осло</a:t>
            </a:r>
            <a:br>
              <a:rPr sz="2000"/>
            </a:b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фіційна мо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орвезь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ержавний устрі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титуційна монархія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лощ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- Загалом385 186 км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селенн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- 5 063 709 чо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362480" y="3214800"/>
            <a:ext cx="46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олівство Норвегія (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ongeriket Norg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log.promodo.ua/wp-content/uploads/2011/12/santa1.png"/>
          <p:cNvPicPr/>
          <p:nvPr/>
        </p:nvPicPr>
        <p:blipFill>
          <a:blip r:embed="rId1"/>
          <a:stretch/>
        </p:blipFill>
        <p:spPr>
          <a:xfrm>
            <a:off x="-142920" y="1500120"/>
            <a:ext cx="3714840" cy="3714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500040" y="5286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Юлебук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іздво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24-25 грудня)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овий рік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1 січн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www.malinalife.ru/userfiles/picbig/img2011111806311764.jpg"/>
          <p:cNvPicPr/>
          <p:nvPr/>
        </p:nvPicPr>
        <p:blipFill>
          <a:blip r:embed="rId2"/>
          <a:srcRect l="0" t="0" r="6" b="-42"/>
          <a:stretch/>
        </p:blipFill>
        <p:spPr>
          <a:xfrm>
            <a:off x="3571920" y="1857240"/>
            <a:ext cx="5224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ень Конституції 17 трав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File:Narvik celebration.jpg"/>
          <p:cNvPicPr/>
          <p:nvPr/>
        </p:nvPicPr>
        <p:blipFill>
          <a:blip r:embed="rId1"/>
          <a:srcRect l="0" t="0" r="24" b="0"/>
          <a:stretch/>
        </p:blipFill>
        <p:spPr>
          <a:xfrm>
            <a:off x="214200" y="2214720"/>
            <a:ext cx="4143600" cy="325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upload.wikimedia.org/wikipedia/commons/9/9c/Oslo-May-17th-2005.jpg?uselang=ru"/>
          <p:cNvPicPr/>
          <p:nvPr/>
        </p:nvPicPr>
        <p:blipFill>
          <a:blip r:embed="rId2"/>
          <a:stretch/>
        </p:blipFill>
        <p:spPr>
          <a:xfrm>
            <a:off x="4429080" y="2214720"/>
            <a:ext cx="453060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ulturaskanons.lv/images/rows/i125l.jpg"/>
          <p:cNvPicPr/>
          <p:nvPr/>
        </p:nvPicPr>
        <p:blipFill>
          <a:blip r:embed="rId1"/>
          <a:stretch/>
        </p:blipFill>
        <p:spPr>
          <a:xfrm>
            <a:off x="285840" y="1928880"/>
            <a:ext cx="4794120" cy="4048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День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ітнього сонцестояння </a:t>
            </a:r>
            <a:br>
              <a:rPr sz="4000"/>
            </a:br>
            <a:r>
              <a:rPr b="0" lang="ru-RU" sz="4000" spc="-1" strike="noStrike">
                <a:solidFill>
                  <a:srgbClr val="7f7f7f"/>
                </a:solidFill>
                <a:latin typeface="Calibri"/>
              </a:rPr>
              <a:t>(24 червн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29160" y="2000160"/>
            <a:ext cx="350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вежці також відзначають Різдво Іоанна Предтечі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nsok)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ке співпадає зі святом літнього сонцестояння (24 червня). Цей день є початком літніх канікул і зазвичай зустрічається запалюванням багать у ніч напередодн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Цікаві фа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00040" y="1285920"/>
            <a:ext cx="8143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авто-заправках є лише два види пального: бензин (один тип) та дизельне пали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і стоянки в Норвегії є платними. А паркуватися поза стоянок строго забороняє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а в будинках — безкоштовна. Норвежці платять тільки за електроенергію для підігріву во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державних школах письмові приладдя, як і підручники - безкоштовні. Шкільної форми в Норвегії немає. Батькам треба купити тільки портфель та спортивну форму для фізкультур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кщо дитина навчається в приватній школі, то 80 відсотків вартості навчання оплачує держава. У школах уже з першого класу є предмети на вибір, оскільки діє профільна осві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орвегії заборонена будь-яка реклама, спрямована на дітей до 11 рок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642960" y="1571760"/>
            <a:ext cx="771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орвегії не прийнято поступатися місцем літнім людям в транспорті. Вважається , що цим ви підкреслюєте свою фізичну перевагу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вежці просто схиблені на здоровому способі життя. У країні високо розвинений «піший туризм». Тут всюди є стежки з покажчиками. А найпопулярніші навіть освітлюю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орвегії вважається вкрай неввічливо хвалитися своїм банківським рахунком, тому тут немає кам'яних хором з башточками і балкончиками, великої кількості дорогих автомобілів, а по зовнішньому вигляду людини неможливо зрозуміти, яке його соціальне становище і достат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Цікаві фа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31T08:26:13Z</dcterms:modified>
  <cp:revision>15</cp:revision>
  <dc:subject/>
  <dc:title>Країни Скандинав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8000000000001024140</vt:lpwstr>
  </property>
</Properties>
</file>