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45D6-ED29-4AC4-A063-28C56FB0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65E0-0845-4AEE-9A96-5A7EC1540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E1D4-56B1-49F5-BBCF-B3C74B47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0774-0E3C-4D01-B070-FD01C198E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A126-CC26-4E73-BEF6-63130EB67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5233-E2F7-410C-A48E-FE079E13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4A3-9453-4975-8A9C-E2D9121E6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8994-BC1B-42B3-9549-02529CC1B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D46F-46D5-43D3-9835-AC83E4E7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6386-24C5-489E-A395-8ACA4A9C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D107-5678-40A6-AE75-453303180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6855-D90D-4A55-ACE5-0C43F7A8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6B51-7771-49C2-B2B2-EECF2867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0E74-FA41-4702-852D-D7CDE26A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2F2D4-AAE1-4122-983C-27B3D682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310F-4C62-46E6-87D7-F1F41AF48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09D9B-1FBB-41EF-AAC0-4359C448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0DF-E030-461C-ADB8-CC75A599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58AC-2E40-4047-8371-0310147AC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E773-D322-458D-A2AC-9C986B80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A415-CB94-46A5-8C9A-B6064E32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1A32-1939-4984-9F26-3258C05DF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B414-8241-464E-9CA7-6FFA8716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9068-30FB-410E-B060-410A967FC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6A1D-BBF6-43CF-B277-4A5C885E69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0663A-BE0F-4858-94B5-A75CB8DE14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К</a:t>
            </a:r>
            <a:r>
              <a:rPr b="1" lang="uk-UA" sz="5400" spc="-1" strike="noStrike">
                <a:solidFill>
                  <a:srgbClr val="feec94"/>
                </a:solidFill>
                <a:latin typeface="Times New Roman"/>
              </a:rPr>
              <a:t>раїни Скандинавії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1.Фінляндська республіка 2.Королівство Данія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Новий рік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 січ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788000" y="4365720"/>
            <a:ext cx="3898800" cy="2160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3816360" cy="2160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9280" y="2205000"/>
            <a:ext cx="39610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834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еликдень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вітен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3743280" cy="38880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788000" y="1916280"/>
            <a:ext cx="3744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народження королеви Маргрете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6 квіт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0323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сесвітній день праці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,2 тра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4176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Конституції</a:t>
            </a: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5 чер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240000" cy="44373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716360" y="2133720"/>
            <a:ext cx="403236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Різдво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25 груд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889440" cy="3673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40384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Фінляндська республіка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400500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апор                         Гер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678200" cy="3095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867280" y="1557360"/>
            <a:ext cx="27972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Новий рік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 січня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87640" cy="4249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859280" y="1700280"/>
            <a:ext cx="4033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еликдень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квітень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887640" cy="3672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88000" y="2205000"/>
            <a:ext cx="4032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Всесвітній день праці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,2 тра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23840" y="1773360"/>
            <a:ext cx="70963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фінського прапора</a:t>
            </a:r>
            <a:br>
              <a:rPr sz="40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9-25 черв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332000" y="1773360"/>
            <a:ext cx="65530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незалежності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6 груд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4321440" cy="36720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003640" y="2205000"/>
            <a:ext cx="39610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День святої Люсіі</a:t>
            </a:r>
            <a:br>
              <a:rPr sz="4800"/>
            </a:b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13 грудн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4038480" cy="3283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859280" y="2492280"/>
            <a:ext cx="38275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eec94"/>
                </a:solidFill>
                <a:latin typeface="Times New Roman"/>
              </a:rPr>
              <a:t>Королівство Данія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6372360" y="1341360"/>
            <a:ext cx="2112840" cy="3457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1773360"/>
            <a:ext cx="4824360" cy="287964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апор                          Гер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8T19:25:27Z</dcterms:created>
  <dc:creator>Саша</dc:creator>
  <dc:description/>
  <dc:language>en-US</dc:language>
  <cp:lastModifiedBy>Tatiana</cp:lastModifiedBy>
  <dcterms:modified xsi:type="dcterms:W3CDTF">2014-01-30T14:04:24Z</dcterms:modified>
  <cp:revision>5</cp:revision>
  <dc:subject/>
  <dc:title>Країни Скандинавії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d000000000001024140</vt:lpwstr>
  </property>
  <property fmtid="{D5CDD505-2E9C-101B-9397-08002B2CF9AE}" pid="3" name="Version">
    <vt:r8>7</vt:r8>
  </property>
</Properties>
</file>