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6BB-B90B-4E18-BF86-CE545108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092-C358-4F30-AE50-376DC18E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9E9-6254-42ED-B3E2-58F1C2EE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4ED-A520-46CF-B183-76CCD9F8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EE8-A6CD-4B39-8E6A-9FB782E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B95-F65A-4453-8D8C-4455741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437-2209-407D-9F76-7CB1E7B2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A37-7022-4DD6-9A18-806B960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0B4-B336-4C3C-86F0-E2A2FEC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DDC-6EE7-4355-8357-52ECF9D1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8CD-5A32-40F1-BEF2-561238C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FAB-3F3C-4083-8D06-827D8C0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AF9-9E63-4803-B426-DC631ED98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f7f7f"/>
                </a:solidFill>
                <a:latin typeface="Calibri"/>
              </a:rPr>
              <a:t>Країни Скандинав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Швеці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eugeo.ru/wp-content/uploads/2012/02/surstr%C3%B6mming.jpg"/>
          <p:cNvPicPr/>
          <p:nvPr/>
        </p:nvPicPr>
        <p:blipFill>
          <a:blip r:embed="rId1"/>
          <a:stretch/>
        </p:blipFill>
        <p:spPr>
          <a:xfrm>
            <a:off x="428760" y="14288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забродженого оселед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36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2520"/>
            <a:ext cx="7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4500720" y="1785960"/>
            <a:ext cx="4071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юрстремінг - квашена салака , на честь якої також влаштовують святкування, починаючи з третього четверга серпня. Балтійська салака солиться в герметично закритих ємностях , в результаті чого вона набуває запах і смак настільки специфічні , що ті , хто не вважають його делікатесним , знаходять огидним. Сюрстремінг зазвичай загортають у туннбред (тонкі хлібні коржі) разом з мандельпотатісом ( дрібним картоплею ) і рубаним луком . Запивають пивом , а деякі гурмани - моло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" descr="Файл:Surströmming.jpg"/>
          <p:cNvPicPr/>
          <p:nvPr/>
        </p:nvPicPr>
        <p:blipFill>
          <a:blip r:embed="rId2"/>
          <a:srcRect l="0" t="0" r="-38" b="0"/>
          <a:stretch/>
        </p:blipFill>
        <p:spPr>
          <a:xfrm>
            <a:off x="357120" y="407196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Швеція"/>
          <p:cNvPicPr/>
          <p:nvPr/>
        </p:nvPicPr>
        <p:blipFill>
          <a:blip r:embed="rId1"/>
          <a:srcRect l="0" t="0" r="-53" b="0"/>
          <a:stretch/>
        </p:blipFill>
        <p:spPr>
          <a:xfrm>
            <a:off x="285840" y="285840"/>
            <a:ext cx="4429080" cy="3046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g1.liveinternet.ru/images/attach/c/9/108/479/108479385_large_SHveciya.jpg"/>
          <p:cNvPicPr/>
          <p:nvPr/>
        </p:nvPicPr>
        <p:blipFill>
          <a:blip r:embed="rId2"/>
          <a:stretch/>
        </p:blipFill>
        <p:spPr>
          <a:xfrm>
            <a:off x="4822920" y="3429000"/>
            <a:ext cx="3963960" cy="31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Fil:Visby waterfront-650px.jpg"/>
          <p:cNvPicPr/>
          <p:nvPr/>
        </p:nvPicPr>
        <p:blipFill>
          <a:blip r:embed="rId3"/>
          <a:stretch/>
        </p:blipFill>
        <p:spPr>
          <a:xfrm>
            <a:off x="285840" y="3429000"/>
            <a:ext cx="4357440" cy="3156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clickmytour.com/ru/file/13975/165226/picture.jpg%3Fitem%3D1378367585"/>
          <p:cNvPicPr/>
          <p:nvPr/>
        </p:nvPicPr>
        <p:blipFill>
          <a:blip r:embed="rId4"/>
          <a:srcRect l="0" t="0" r="-42" b="0"/>
          <a:stretch/>
        </p:blipFill>
        <p:spPr>
          <a:xfrm>
            <a:off x="4786200" y="285840"/>
            <a:ext cx="40006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Файл:Flag of Sweden.svg"/>
          <p:cNvPicPr/>
          <p:nvPr/>
        </p:nvPicPr>
        <p:blipFill>
          <a:blip r:embed="rId1"/>
          <a:stretch/>
        </p:blipFill>
        <p:spPr>
          <a:xfrm>
            <a:off x="507204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Файл:Greater coat of arms of Sweden.svg"/>
          <p:cNvPicPr/>
          <p:nvPr/>
        </p:nvPicPr>
        <p:blipFill>
          <a:blip r:embed="rId2"/>
          <a:stretch/>
        </p:blipFill>
        <p:spPr>
          <a:xfrm>
            <a:off x="5715000" y="3500280"/>
            <a:ext cx="270360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planetolog.ru/maps/country/dk/sweden.gif"/>
          <p:cNvPicPr/>
          <p:nvPr/>
        </p:nvPicPr>
        <p:blipFill>
          <a:blip r:embed="rId3"/>
          <a:srcRect l="0" t="0" r="0" b="-108"/>
          <a:stretch/>
        </p:blipFill>
        <p:spPr>
          <a:xfrm>
            <a:off x="357120" y="285840"/>
            <a:ext cx="3857760" cy="3446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0" name="TextBox 4"/>
          <p:cNvSpPr/>
          <p:nvPr/>
        </p:nvSpPr>
        <p:spPr>
          <a:xfrm>
            <a:off x="4857840" y="2714760"/>
            <a:ext cx="31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ролівство Швеція 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Konungariket Sverige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28760" y="4214880"/>
            <a:ext cx="54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та найбільше місто) - Стокголь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іційні мов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 шведсь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ржавний устрі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титуційна монархі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- 449 964 км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ня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9,354,462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ю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Шведська кр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вято Святої Луції </a:t>
            </a:r>
            <a:r>
              <a:rPr b="0" lang="uk-UA" sz="4400" spc="-1" strike="noStrike">
                <a:solidFill>
                  <a:srgbClr val="7f7f7f"/>
                </a:solidFill>
                <a:latin typeface="Calibri"/>
              </a:rPr>
              <a:t>(13 грудн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929200" y="1643040"/>
            <a:ext cx="285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о Святої Луції в Швеції 13 грудня є важливою складовою Різдвяних традицій. Спочатку в цей день носили білий одяг, пекли традиційну випічку луссекатт і співали пісні. Урочистості розпочинаються зазвичай вранці в сім'ї, і продовжуються в дитячих садах, школах і на робо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ile:Lucia-13.12.06.jpg"/>
          <p:cNvPicPr/>
          <p:nvPr/>
        </p:nvPicPr>
        <p:blipFill>
          <a:blip r:embed="rId1"/>
          <a:stretch/>
        </p:blipFill>
        <p:spPr>
          <a:xfrm>
            <a:off x="395280" y="1643040"/>
            <a:ext cx="5334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іздво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24-25 грудня)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овий рік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1 січ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ndparis.narod.ru/common/images_ndp/jultomten.jpg"/>
          <p:cNvPicPr/>
          <p:nvPr/>
        </p:nvPicPr>
        <p:blipFill>
          <a:blip r:embed="rId1"/>
          <a:stretch/>
        </p:blipFill>
        <p:spPr>
          <a:xfrm>
            <a:off x="357120" y="1643040"/>
            <a:ext cx="3316320" cy="421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209240" y="60721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Юль Томт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ndparis.narod.ru/common/images_ndp/jul_bord.jpg"/>
          <p:cNvPicPr/>
          <p:nvPr/>
        </p:nvPicPr>
        <p:blipFill>
          <a:blip r:embed="rId2"/>
          <a:stretch/>
        </p:blipFill>
        <p:spPr>
          <a:xfrm>
            <a:off x="4000680" y="2000160"/>
            <a:ext cx="49417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cs402822.vk.me/v402822021/5480/MUqAfmrD79g.jpg"/>
          <p:cNvPicPr/>
          <p:nvPr/>
        </p:nvPicPr>
        <p:blipFill>
          <a:blip r:embed="rId1"/>
          <a:stretch/>
        </p:blipFill>
        <p:spPr>
          <a:xfrm>
            <a:off x="4643280" y="1500120"/>
            <a:ext cx="382428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ь Святого Кну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8760" y="2000160"/>
            <a:ext cx="357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Кнута відзначається 13 січня. Цей день позначає кінець різдвяних святкувань та шкільних канікул. У День Кнута прибирають з дому яли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льпургієва ніч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000840" y="1571760"/>
            <a:ext cx="278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кування Вальпургієвої ночі знаменує остаточне настання весни. По всій Швеції ввечері 30 квітня люди тисячами збираються, розпалюють великі багаття і радіють весняним пісням у виконанні хорів (найчастіше чоловічих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hdfotoblog.files.wordpress.com/2012/05/20120430-2117-img_9326-2.jpg"/>
          <p:cNvPicPr/>
          <p:nvPr/>
        </p:nvPicPr>
        <p:blipFill>
          <a:blip r:embed="rId1"/>
          <a:stretch/>
        </p:blipFill>
        <p:spPr>
          <a:xfrm>
            <a:off x="214200" y="1571760"/>
            <a:ext cx="5683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clge.eu/images/news/Umea.jpg"/>
          <p:cNvPicPr/>
          <p:nvPr/>
        </p:nvPicPr>
        <p:blipFill>
          <a:blip r:embed="rId1"/>
          <a:stretch/>
        </p:blipFill>
        <p:spPr>
          <a:xfrm>
            <a:off x="214200" y="2071800"/>
            <a:ext cx="5591160" cy="3143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857920" y="1500120"/>
            <a:ext cx="307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о літнього сонцестоя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ідсоммар ( шве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sommar ) 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о свято літнього сонцестояння припадає на кінець червня і святкується в найближчу до дня літнього сонцестояння суботу . Святкування починається напередодні ввечері. Квітами прикрашають    «травневе дерево» , з них плетуть вінки - і для людей , і для будинків . Ставлення « травневого дерева » - сигнал до початку традиційних хороводів під скрипку , акордеон і гіта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то літнього сонцестоя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oxothik.ru/userimages/image/articles/4445.jpg"/>
          <p:cNvPicPr/>
          <p:nvPr/>
        </p:nvPicPr>
        <p:blipFill>
          <a:blip r:embed="rId1"/>
          <a:stretch/>
        </p:blipFill>
        <p:spPr>
          <a:xfrm>
            <a:off x="357120" y="20718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357880" y="221472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ругу середу серпня розпочинається сезон лову раків і шведи сім'ями збираються на терасах, щоб поласувати вареними раками з пивом, сиром і хлібом, співають застільні пісн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рак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31T08:26:28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a000000000001024140</vt:lpwstr>
  </property>
</Properties>
</file>