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2C6-5B71-4B18-939E-CA164961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923-98F2-42B0-8CA9-52F1E123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9C2-EBBD-44E5-9975-5052DC40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498-C330-4DD6-B2E3-3EB9256F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7AAE-E4FE-4D7A-9882-23F8B266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4B74-386A-4614-8B9E-ADF0FCF0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5C2B-8C94-4870-A79F-6371879E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AE5B-875C-4702-ACC1-72220196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84C7-C234-4EB2-816D-33AA058E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3CD6-4EAF-4787-9F4A-A656E9FA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EDBD-F9EB-4ACA-8BA9-7E6200D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2B4-6F4D-4829-979C-D9133A9C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1BDA-00F8-4259-BA70-045A06ED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9C96-931A-4A65-9118-A0561355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48B9-E1B0-4EC9-97C8-C2D94EE5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F92E-40EC-42E2-98E6-774F9C02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DCD5-5621-46AF-ABAA-F38AFF48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F54-7F6E-404A-8AB0-3E68F1C3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55B-74D9-4A60-83D5-537BEDA7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F88-0BEB-43D1-8D82-F1FB6417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97D-E61A-4A68-840A-DFA8A356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2C6-D430-4146-991C-C5620C7A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60C-7F44-49D8-A131-4C03A9D8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554-2A62-4F90-B301-0176D288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326F-B54D-412E-9837-BB9E6CE1F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83EF-AFB6-40B3-B73F-B6CF8B109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К</a:t>
            </a:r>
            <a:r>
              <a:rPr b="1" lang="uk-UA" sz="5400" spc="-1" strike="noStrike">
                <a:solidFill>
                  <a:srgbClr val="feec94"/>
                </a:solidFill>
                <a:latin typeface="Times New Roman"/>
              </a:rPr>
              <a:t>раїни Скандинавії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1.Фінляндська республіка 2.Королівство Дані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Новий рік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 січ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88000" y="4365720"/>
            <a:ext cx="3898800" cy="216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816360" cy="2160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79280" y="2205000"/>
            <a:ext cx="3961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Великдень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квітен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743280" cy="388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3744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День народження королеви Маргрете</a:t>
            </a:r>
            <a:br>
              <a:rPr sz="40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6 квіт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0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Всесвітній день праці</a:t>
            </a:r>
            <a:br>
              <a:rPr sz="40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,2 трав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176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День Конституції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5 черв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240000" cy="4437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032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Різдво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25 груд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3889440" cy="3673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4038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Фінляндська республік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4005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Прапор                         Гер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678200" cy="3095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27972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Новий рік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 січн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887640" cy="4249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4033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Великдень</a:t>
            </a:r>
            <a:br>
              <a:rPr sz="40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квітен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887640" cy="367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403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Всесвітній день праці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,2 трав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23840" y="1773360"/>
            <a:ext cx="70963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День фінського прапора</a:t>
            </a:r>
            <a:br>
              <a:rPr sz="40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9-25 черв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553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День незалежності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6 груд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321440" cy="367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3961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День святої Люсіі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3 груд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4038480" cy="328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8275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Королівство Данія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112840" cy="3457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824360" cy="2879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Прапор                          Гер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19:25:27Z</dcterms:created>
  <dc:creator>Саша</dc:creator>
  <dc:description/>
  <dc:language>en-US</dc:language>
  <cp:lastModifiedBy>Tatiana</cp:lastModifiedBy>
  <dcterms:modified xsi:type="dcterms:W3CDTF">2014-01-30T14:04:24Z</dcterms:modified>
  <cp:revision>5</cp:revision>
  <dc:subject/>
  <dc:title>Країни Скандинаві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d000000000001024140</vt:lpwstr>
  </property>
  <property fmtid="{D5CDD505-2E9C-101B-9397-08002B2CF9AE}" pid="3" name="Version">
    <vt:r8>7</vt:r8>
  </property>
</Properties>
</file>