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BB17-46E7-42E0-A5F7-34CA33456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D1E2-7E73-4A9F-93C7-77FFDE0A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544E-30F5-4C13-8455-E27B8E9F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20D-63C9-4C27-990D-834DF9A22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AFDB-1B97-4C37-A6BE-CF7BE5317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71F7-1E83-4322-994F-D6BAB17C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6E5-DA4C-4E70-9DCB-C28687938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53BC-393A-41CA-B6B2-DE558D039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469-C892-48CC-9878-C4EB28F9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1429-1FBF-406C-B6E4-9B9A2B84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BE81-ACAE-421B-B73A-80A682B0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652-C2CF-49A3-918C-43B5C9A2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FD9C-722D-491E-88FD-2D6F60D134F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600" spc="-1" strike="noStrike">
                <a:solidFill>
                  <a:srgbClr val="7f7f7f"/>
                </a:solidFill>
                <a:latin typeface="Calibri"/>
              </a:rPr>
              <a:t>Країни Скандинаві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2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Calibri"/>
              </a:rPr>
              <a:t>Норвегі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zarubezh.rozvitok.org/wp-content/uploads/2012/10/norway-alesund-1024x679.jpg"/>
          <p:cNvPicPr/>
          <p:nvPr/>
        </p:nvPicPr>
        <p:blipFill>
          <a:blip r:embed="rId1"/>
          <a:stretch/>
        </p:blipFill>
        <p:spPr>
          <a:xfrm>
            <a:off x="214200" y="214200"/>
            <a:ext cx="4848480" cy="3214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ttp://waking-up.org/wp-content/uploads/2012/06/chistoplotnye-vikingi1.jpg"/>
          <p:cNvPicPr/>
          <p:nvPr/>
        </p:nvPicPr>
        <p:blipFill>
          <a:blip r:embed="rId2"/>
          <a:stretch/>
        </p:blipFill>
        <p:spPr>
          <a:xfrm>
            <a:off x="5929200" y="357120"/>
            <a:ext cx="2389320" cy="235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upload.wikimedia.org/wikipedia/commons/1/14/Geirangerfjorden.jpg"/>
          <p:cNvPicPr/>
          <p:nvPr/>
        </p:nvPicPr>
        <p:blipFill>
          <a:blip r:embed="rId3"/>
          <a:stretch/>
        </p:blipFill>
        <p:spPr>
          <a:xfrm>
            <a:off x="4857840" y="3429000"/>
            <a:ext cx="3929040" cy="2857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Fil:Utsikt fra Fløyfjellet.jpg"/>
          <p:cNvPicPr/>
          <p:nvPr/>
        </p:nvPicPr>
        <p:blipFill>
          <a:blip r:embed="rId4"/>
          <a:srcRect l="0" t="0" r="31" b="0"/>
          <a:stretch/>
        </p:blipFill>
        <p:spPr>
          <a:xfrm>
            <a:off x="357120" y="3571920"/>
            <a:ext cx="428616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ttp://www.turpogoda.ru/photo/map_img/Norvegia1.jpg"/>
          <p:cNvPicPr/>
          <p:nvPr/>
        </p:nvPicPr>
        <p:blipFill>
          <a:blip r:embed="rId1"/>
          <a:srcRect l="0" t="0" r="123" b="0"/>
          <a:stretch/>
        </p:blipFill>
        <p:spPr>
          <a:xfrm>
            <a:off x="214200" y="285840"/>
            <a:ext cx="3571920" cy="3531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8" name="Picture 4" descr="Файл:Flag of Norway.svg"/>
          <p:cNvPicPr/>
          <p:nvPr/>
        </p:nvPicPr>
        <p:blipFill>
          <a:blip r:embed="rId2"/>
          <a:stretch/>
        </p:blipFill>
        <p:spPr>
          <a:xfrm>
            <a:off x="4714920" y="285840"/>
            <a:ext cx="3643200" cy="2651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Файл:Coat of Arms of Norway.svg"/>
          <p:cNvPicPr/>
          <p:nvPr/>
        </p:nvPicPr>
        <p:blipFill>
          <a:blip r:embed="rId3"/>
          <a:stretch/>
        </p:blipFill>
        <p:spPr>
          <a:xfrm>
            <a:off x="6500880" y="3714840"/>
            <a:ext cx="1482480" cy="26431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428760" y="4214880"/>
            <a:ext cx="83581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Столиц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та найбільше місто) - Осло</a:t>
            </a:r>
            <a:br>
              <a:rPr sz="2000"/>
            </a:b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Офіційна мов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норвезьк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Державний устрій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титуційна монархія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Площ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- Загалом385 186 км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Населенн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- 5 063 709 чо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6"/>
          <p:cNvSpPr/>
          <p:nvPr/>
        </p:nvSpPr>
        <p:spPr>
          <a:xfrm>
            <a:off x="4362480" y="3214800"/>
            <a:ext cx="463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ролівство Норвегія (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Kongeriket Norge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blog.promodo.ua/wp-content/uploads/2011/12/santa1.png"/>
          <p:cNvPicPr/>
          <p:nvPr/>
        </p:nvPicPr>
        <p:blipFill>
          <a:blip r:embed="rId1"/>
          <a:stretch/>
        </p:blipFill>
        <p:spPr>
          <a:xfrm>
            <a:off x="-142920" y="1500120"/>
            <a:ext cx="3714840" cy="3714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500040" y="528624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Юлебук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Різдво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24-25 грудня)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Новий рік </a:t>
            </a:r>
            <a:r>
              <a:rPr b="0" lang="uk-UA" sz="4000" spc="-1" strike="noStrike">
                <a:solidFill>
                  <a:srgbClr val="7f7f7f"/>
                </a:solidFill>
                <a:latin typeface="Calibri"/>
              </a:rPr>
              <a:t>(1 січн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http://www.malinalife.ru/userfiles/picbig/img2011111806311764.jpg"/>
          <p:cNvPicPr/>
          <p:nvPr/>
        </p:nvPicPr>
        <p:blipFill>
          <a:blip r:embed="rId2"/>
          <a:srcRect l="0" t="0" r="6" b="-42"/>
          <a:stretch/>
        </p:blipFill>
        <p:spPr>
          <a:xfrm>
            <a:off x="3571920" y="1857240"/>
            <a:ext cx="52243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ень Конституції 17 трав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File:Narvik celebration.jpg"/>
          <p:cNvPicPr/>
          <p:nvPr/>
        </p:nvPicPr>
        <p:blipFill>
          <a:blip r:embed="rId1"/>
          <a:srcRect l="0" t="0" r="24" b="0"/>
          <a:stretch/>
        </p:blipFill>
        <p:spPr>
          <a:xfrm>
            <a:off x="214200" y="2214720"/>
            <a:ext cx="4143600" cy="325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http://upload.wikimedia.org/wikipedia/commons/9/9c/Oslo-May-17th-2005.jpg?uselang=ru"/>
          <p:cNvPicPr/>
          <p:nvPr/>
        </p:nvPicPr>
        <p:blipFill>
          <a:blip r:embed="rId2"/>
          <a:stretch/>
        </p:blipFill>
        <p:spPr>
          <a:xfrm>
            <a:off x="4429080" y="2214720"/>
            <a:ext cx="4530600" cy="31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kulturaskanons.lv/images/rows/i125l.jpg"/>
          <p:cNvPicPr/>
          <p:nvPr/>
        </p:nvPicPr>
        <p:blipFill>
          <a:blip r:embed="rId1"/>
          <a:stretch/>
        </p:blipFill>
        <p:spPr>
          <a:xfrm>
            <a:off x="285840" y="1928880"/>
            <a:ext cx="4794120" cy="40482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День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літнього сонцестояння </a:t>
            </a:r>
            <a:br>
              <a:rPr sz="4000"/>
            </a:br>
            <a:r>
              <a:rPr b="0" lang="ru-RU" sz="4000" spc="-1" strike="noStrike">
                <a:solidFill>
                  <a:srgbClr val="7f7f7f"/>
                </a:solidFill>
                <a:latin typeface="Calibri"/>
              </a:rPr>
              <a:t>(24 червн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5429160" y="2000160"/>
            <a:ext cx="3500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вежці також відзначають Різдво Іоанна Предтечі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onsok)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ке співпадає зі святом літнього сонцестояння (24 червня). Цей день є початком літніх канікул і зазвичай зустрічається запалюванням багать у ніч напередодні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Цікаві фа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"/>
          <p:cNvSpPr/>
          <p:nvPr/>
        </p:nvSpPr>
        <p:spPr>
          <a:xfrm>
            <a:off x="500040" y="1285920"/>
            <a:ext cx="8143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авто-заправках є лише два види пального: бензин (один тип) та дизельне палив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і стоянки в Норвегії є платними. А паркуватися поза стоянок строго забороняєть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да в будинках — безкоштовна. Норвежці платять тільки за електроенергію для підігріву вод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державних школах письмові приладдя, як і підручники - безкоштовні. Шкільної форми в Норвегії немає. Батькам треба купити тільки портфель та спортивну форму для фізкультур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кщо дитина навчається в приватній школі, то 80 відсотків вартості навчання оплачує держава. У школах уже з першого класу є предмети на вибір, оскільки діє профільна осві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орвегії заборонена будь-яка реклама, спрямована на дітей до 11 рок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642960" y="1571760"/>
            <a:ext cx="7715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орвегії не прийнято поступатися місцем літнім людям в транспорті. Вважається , що цим ви підкреслюєте свою фізичну перевагу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рвежці просто схиблені на здоровому способі життя. У країні високо розвинений «піший туризм». Тут всюди є стежки з покажчиками. А найпопулярніші навіть освітлюються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 Норвегії вважається вкрай неввічливо хвалитися своїм банківським рахунком, тому тут немає кам'яних хором з башточками і балкончиками, великої кількості дорогих автомобілів, а по зовнішньому вигляду людини неможливо зрозуміти, яке його соціальне становище і достато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Цікаві фак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1-31T08:26:13Z</dcterms:modified>
  <cp:revision>15</cp:revision>
  <dc:subject/>
  <dc:title>Країни Скандинав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8000000000001024140</vt:lpwstr>
  </property>
</Properties>
</file>