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13E-ADC1-4877-B3DC-A7A4A0DC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F68D-E98A-4A56-818A-A242EC33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01D1-D4D2-44E6-BC3A-314A91963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8A60-A243-47FD-B9DA-D1096ED5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345F-7C51-492E-98AF-C28EBDE2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F4EC-CE17-4DAE-85EB-305DB767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973A-BE9F-48FA-A09F-CE0DCD1D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B4C-37AC-4FAD-A51A-E7D5E8AB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438-9D8E-439B-B4F0-BDF2468D6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B157-4DE5-4E43-91F8-9E599F54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5A83-55C0-4018-ADA3-40D9D8BD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CBB5-F88A-4319-A239-9C392ECF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B3E0-EC17-4823-B3F5-25AA28F72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500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7f7f7f"/>
                </a:solidFill>
                <a:latin typeface="Calibri"/>
              </a:rPr>
              <a:t>Країни Скандинав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Швеці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http://eugeo.ru/wp-content/uploads/2012/02/surstr%C3%B6mming.jpg"/>
          <p:cNvPicPr/>
          <p:nvPr/>
        </p:nvPicPr>
        <p:blipFill>
          <a:blip r:embed="rId1"/>
          <a:stretch/>
        </p:blipFill>
        <p:spPr>
          <a:xfrm>
            <a:off x="428760" y="1428840"/>
            <a:ext cx="2857320" cy="2428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ень забродженого оселедц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0"/>
            <a:ext cx="360" cy="27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0" y="2520"/>
            <a:ext cx="720" cy="54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4500720" y="1785960"/>
            <a:ext cx="40719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юрстремінг - квашена салака , на честь якої також влаштовують святкування, починаючи з третього четверга серпня. Балтійська салака солиться в герметично закритих ємностях , в результаті чого вона набуває запах і смак настільки специфічні , що ті , хто не вважають його делікатесним , знаходять огидним. Сюрстремінг зазвичай загортають у туннбред (тонкі хлібні коржі) разом з мандельпотатісом ( дрібним картоплею ) і рубаним луком . Запивають пивом , а деякі гурмани - моло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0" descr="Файл:Surströmming.jpg"/>
          <p:cNvPicPr/>
          <p:nvPr/>
        </p:nvPicPr>
        <p:blipFill>
          <a:blip r:embed="rId2"/>
          <a:srcRect l="0" t="0" r="-38" b="0"/>
          <a:stretch/>
        </p:blipFill>
        <p:spPr>
          <a:xfrm>
            <a:off x="357120" y="4071960"/>
            <a:ext cx="35719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Швеція"/>
          <p:cNvPicPr/>
          <p:nvPr/>
        </p:nvPicPr>
        <p:blipFill>
          <a:blip r:embed="rId1"/>
          <a:srcRect l="0" t="0" r="-53" b="0"/>
          <a:stretch/>
        </p:blipFill>
        <p:spPr>
          <a:xfrm>
            <a:off x="285840" y="285840"/>
            <a:ext cx="4429080" cy="3046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img1.liveinternet.ru/images/attach/c/9/108/479/108479385_large_SHveciya.jpg"/>
          <p:cNvPicPr/>
          <p:nvPr/>
        </p:nvPicPr>
        <p:blipFill>
          <a:blip r:embed="rId2"/>
          <a:stretch/>
        </p:blipFill>
        <p:spPr>
          <a:xfrm>
            <a:off x="4822920" y="3429000"/>
            <a:ext cx="3963960" cy="3143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Fil:Visby waterfront-650px.jpg"/>
          <p:cNvPicPr/>
          <p:nvPr/>
        </p:nvPicPr>
        <p:blipFill>
          <a:blip r:embed="rId3"/>
          <a:stretch/>
        </p:blipFill>
        <p:spPr>
          <a:xfrm>
            <a:off x="285840" y="3429000"/>
            <a:ext cx="4357440" cy="3156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clickmytour.com/ru/file/13975/165226/picture.jpg%3Fitem%3D1378367585"/>
          <p:cNvPicPr/>
          <p:nvPr/>
        </p:nvPicPr>
        <p:blipFill>
          <a:blip r:embed="rId4"/>
          <a:srcRect l="0" t="0" r="-42" b="0"/>
          <a:stretch/>
        </p:blipFill>
        <p:spPr>
          <a:xfrm>
            <a:off x="4786200" y="285840"/>
            <a:ext cx="400068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Файл:Flag of Sweden.svg"/>
          <p:cNvPicPr/>
          <p:nvPr/>
        </p:nvPicPr>
        <p:blipFill>
          <a:blip r:embed="rId1"/>
          <a:stretch/>
        </p:blipFill>
        <p:spPr>
          <a:xfrm>
            <a:off x="5072040" y="285840"/>
            <a:ext cx="3429000" cy="21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Файл:Greater coat of arms of Sweden.svg"/>
          <p:cNvPicPr/>
          <p:nvPr/>
        </p:nvPicPr>
        <p:blipFill>
          <a:blip r:embed="rId2"/>
          <a:stretch/>
        </p:blipFill>
        <p:spPr>
          <a:xfrm>
            <a:off x="5715000" y="3500280"/>
            <a:ext cx="2703600" cy="3143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http://planetolog.ru/maps/country/dk/sweden.gif"/>
          <p:cNvPicPr/>
          <p:nvPr/>
        </p:nvPicPr>
        <p:blipFill>
          <a:blip r:embed="rId3"/>
          <a:srcRect l="0" t="0" r="0" b="-108"/>
          <a:stretch/>
        </p:blipFill>
        <p:spPr>
          <a:xfrm>
            <a:off x="357120" y="285840"/>
            <a:ext cx="3857760" cy="3446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50" name="TextBox 4"/>
          <p:cNvSpPr/>
          <p:nvPr/>
        </p:nvSpPr>
        <p:spPr>
          <a:xfrm>
            <a:off x="4857840" y="2714760"/>
            <a:ext cx="312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оролівство Швеція  (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</a:rPr>
              <a:t>Konungariket Sverige</a:t>
            </a:r>
            <a:r>
              <a:rPr b="1" i="1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28760" y="4214880"/>
            <a:ext cx="5429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толиц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та найбільше місто) - Стокгольм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іційні мови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 шведсь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ржавний устрій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ституційна монархі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лощ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- 449 964 км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аселення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9,354,462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алют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Шведська кро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вято Святої Луції </a:t>
            </a:r>
            <a:r>
              <a:rPr b="0" lang="uk-UA" sz="4400" spc="-1" strike="noStrike">
                <a:solidFill>
                  <a:srgbClr val="7f7f7f"/>
                </a:solidFill>
                <a:latin typeface="Calibri"/>
              </a:rPr>
              <a:t>(13 грудня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5929200" y="1643040"/>
            <a:ext cx="285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то Святої Луції в Швеції 13 грудня є важливою складовою Різдвяних традицій. Спочатку в цей день носили білий одяг, пекли традиційну випічку луссекатт і співали пісні. Урочистості розпочинаються зазвичай вранці в сім'ї, і продовжуються в дитячих садах, школах і на робот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ile:Lucia-13.12.06.jpg"/>
          <p:cNvPicPr/>
          <p:nvPr/>
        </p:nvPicPr>
        <p:blipFill>
          <a:blip r:embed="rId1"/>
          <a:stretch/>
        </p:blipFill>
        <p:spPr>
          <a:xfrm>
            <a:off x="395280" y="1643040"/>
            <a:ext cx="533412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іздво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24-25 грудня)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овий рік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1 січн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ndparis.narod.ru/common/images_ndp/jultomten.jpg"/>
          <p:cNvPicPr/>
          <p:nvPr/>
        </p:nvPicPr>
        <p:blipFill>
          <a:blip r:embed="rId1"/>
          <a:stretch/>
        </p:blipFill>
        <p:spPr>
          <a:xfrm>
            <a:off x="357120" y="1643040"/>
            <a:ext cx="3316320" cy="421488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209240" y="60721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Юль Томте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4" descr="http://ndparis.narod.ru/common/images_ndp/jul_bord.jpg"/>
          <p:cNvPicPr/>
          <p:nvPr/>
        </p:nvPicPr>
        <p:blipFill>
          <a:blip r:embed="rId2"/>
          <a:stretch/>
        </p:blipFill>
        <p:spPr>
          <a:xfrm>
            <a:off x="4000680" y="2000160"/>
            <a:ext cx="49417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cs402822.vk.me/v402822021/5480/MUqAfmrD79g.jpg"/>
          <p:cNvPicPr/>
          <p:nvPr/>
        </p:nvPicPr>
        <p:blipFill>
          <a:blip r:embed="rId1"/>
          <a:stretch/>
        </p:blipFill>
        <p:spPr>
          <a:xfrm>
            <a:off x="4643280" y="1500120"/>
            <a:ext cx="3824280" cy="47721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нь Святого Кну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28760" y="2000160"/>
            <a:ext cx="357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Кнута відзначається 13 січня. Цей день позначає кінець різдвяних святкувань та шкільних канікул. У День Кнута прибирають з дому ялин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альпургієва ніч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6000840" y="1571760"/>
            <a:ext cx="278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ткування Вальпургієвої ночі знаменує остаточне настання весни. По всій Швеції ввечері 30 квітня люди тисячами збираються, розпалюють великі багаття і радіють весняним пісням у виконанні хорів (найчастіше чоловічих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http://hdfotoblog.files.wordpress.com/2012/05/20120430-2117-img_9326-2.jpg"/>
          <p:cNvPicPr/>
          <p:nvPr/>
        </p:nvPicPr>
        <p:blipFill>
          <a:blip r:embed="rId1"/>
          <a:stretch/>
        </p:blipFill>
        <p:spPr>
          <a:xfrm>
            <a:off x="214200" y="1571760"/>
            <a:ext cx="56833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ttp://www.clge.eu/images/news/Umea.jpg"/>
          <p:cNvPicPr/>
          <p:nvPr/>
        </p:nvPicPr>
        <p:blipFill>
          <a:blip r:embed="rId1"/>
          <a:stretch/>
        </p:blipFill>
        <p:spPr>
          <a:xfrm>
            <a:off x="214200" y="2071800"/>
            <a:ext cx="5591160" cy="314316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5857920" y="1500120"/>
            <a:ext cx="30718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ято літнього сонцестоянн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ідсоммар ( швед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dsommar ) 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бо свято літнього сонцестояння припадає на кінець червня і святкується в найближчу до дня літнього сонцестояння суботу . Святкування починається напередодні ввечері. Квітами прикрашають    «травневе дерево» , з них плетуть вінки - і для людей , і для будинків . Ставлення « травневого дерева » - сигнал до початку традиційних хороводів під скрипку , акордеон і гітар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ято літнього сонцестоя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http://oxothik.ru/userimages/image/articles/4445.jpg"/>
          <p:cNvPicPr/>
          <p:nvPr/>
        </p:nvPicPr>
        <p:blipFill>
          <a:blip r:embed="rId1"/>
          <a:stretch/>
        </p:blipFill>
        <p:spPr>
          <a:xfrm>
            <a:off x="357120" y="2071800"/>
            <a:ext cx="4762440" cy="357192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357880" y="2214720"/>
            <a:ext cx="2928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другу середу серпня розпочинається сезон лову раків і шведи сім'ями збираються на терасах, щоб поласувати вареними раками з пивом, сиром і хлібом, співають застільні пісн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ень ракі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31T08:26:28Z</dcterms:modified>
  <cp:revision>1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00a000000000001024140</vt:lpwstr>
  </property>
</Properties>
</file>