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67B-D82F-4BBB-8CBE-DDEE7ED1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042-9B90-4168-8125-C8A400E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575-9528-4D4A-B55C-81B2E9A2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570-57FA-406F-BE1D-FC55689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B9A5-6720-4B13-BA16-25ED6E73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CC44-3EF0-40E4-80AD-6ED1E844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0BF-94A2-4C0A-BCD9-D0198A9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68ED-304B-4ACE-A337-A85898B0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0C4E-0B05-4221-B66B-D287CD7B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A98-02A2-4582-9AF1-32B55BD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2E7-6BE3-4D25-9D90-5BBF308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BF9-0167-4BE2-A329-75C193A5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45B9-B683-4AF0-BFFA-E614A6F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DFD-CFF5-4E35-86D8-687500E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09F1-68FF-4787-948E-16F915EE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D9B-B566-4EB4-A700-75F4FA79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428E-700C-4C59-BC89-4A27AFC3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504-8CC5-42DB-9372-C32835BD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52C-6436-4796-A33A-90595E5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735-A592-4013-BDFC-1BEC995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312-5EEE-4ACA-9308-1055115C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8BF-081E-428E-83ED-EF1D9E4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6E4-5951-4B4C-87A2-95669C1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96E-F18E-48F4-9B0A-2FA2888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9BC7-55D1-4C44-A00F-6BC39191B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F90-924B-414A-8199-4DA999B5D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</a:t>
            </a: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раїни Скандинавії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.Фінляндська республіка 2.Королівство Дані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Новий рік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 січ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4365720"/>
            <a:ext cx="389880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1636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2205000"/>
            <a:ext cx="396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еликдень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вітен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388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74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народження королеви Маргрете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6 квіт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сесвітній день праці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,2 тра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76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Конституції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5 чер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40000" cy="443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3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Різдво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25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673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4038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Фінляндська республі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апор                         Гер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678200" cy="309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7972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Новий рік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 січн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7640" cy="424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033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еликдень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вітен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887640" cy="367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03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сесвітній день прац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,2 тра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23840" y="1773360"/>
            <a:ext cx="7096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фінського прапора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9-25 чер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незалежност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6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21440" cy="367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961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святої Люсі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3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328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827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Королівство Дані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112840" cy="3457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824360" cy="2879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апор                          Гер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9:25:27Z</dcterms:created>
  <dc:creator>Саша</dc:creator>
  <dc:description/>
  <dc:language>en-US</dc:language>
  <cp:lastModifiedBy>Tatiana</cp:lastModifiedBy>
  <dcterms:modified xsi:type="dcterms:W3CDTF">2014-01-30T14:04:24Z</dcterms:modified>
  <cp:revision>5</cp:revision>
  <dc:subject/>
  <dc:title>Країни Скандинав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d000000000001024140</vt:lpwstr>
  </property>
  <property fmtid="{D5CDD505-2E9C-101B-9397-08002B2CF9AE}" pid="3" name="Version">
    <vt:r8>7</vt:r8>
  </property>
</Properties>
</file>