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F70-2F0B-4421-8D29-DE19F66E0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8E0-9D49-4A2D-BD7E-532FCE841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36E-76CE-4203-8388-E54A3C37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15C-E670-40F2-9B46-0401CF3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88C-4CE6-4AD7-BCB7-25AD7013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BB2-6677-44D7-9788-86AFD480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4F1-2A74-4A9D-AD31-92E41A8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A04-5BA3-4FD0-8E85-A60C927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77C-1F1B-4A80-B11E-ED5179BF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BEF-EC85-4044-97E2-9CEB9B8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4E3-843E-4959-B61A-B3D6A2F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BA9-6AB7-4AD2-ACE6-335472F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16F-9EC1-41E2-A652-48F67B3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A8A-5B8F-421E-9735-2B76332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BB82-D1DE-4856-8E60-BA0A18AD325A}" type="slidenum"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C:\Documents and Settings\Володимир\Рабочий стол\stock-photo-blue-sea-with-waves-and-clear-blue-sky-5527314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255200">
            <a:off x="310680" y="2855880"/>
            <a:ext cx="88106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китні очі планети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ьодови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1430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улоговинах, які виникли під тиском льодовик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елике Солоне, Велике Ведмеже, Ладозьке,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ічечка    (Карпати)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6" name="Picture 2" descr="C:\Documents and Settings\Володимир\Рабочий стол\лед.jpg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гат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Утворюються в горах  внаслідок завалів, що перегороджують річкові долин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Синевир у Карпатах, Сарезьке на Памірі, Тан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4535640" y="3433680"/>
            <a:ext cx="4608360" cy="342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0" y="3405240"/>
            <a:ext cx="4535640" cy="3452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иман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 узбережжях морів, у гирлах давніх річок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наслідок відокремлення від моря ділянки вод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акайбо, Сасик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643200"/>
            <a:ext cx="9144000" cy="32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333360"/>
            <a:ext cx="1871640" cy="2160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333360"/>
            <a:ext cx="187164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1916280"/>
            <a:ext cx="2089080" cy="1726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581360"/>
            <a:ext cx="2016000" cy="2016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27664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вод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ежи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ПРОТО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3378000">
            <a:off x="5636160" y="1380240"/>
            <a:ext cx="677880" cy="1069920"/>
          </a:xfrm>
          <a:prstGeom prst="upArrow">
            <a:avLst>
              <a:gd name="adj1" fmla="val 50000"/>
              <a:gd name="adj2" fmla="val 394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009000">
            <a:off x="3132000" y="1555200"/>
            <a:ext cx="647640" cy="936720"/>
          </a:xfrm>
          <a:prstGeom prst="upArrow">
            <a:avLst>
              <a:gd name="adj1" fmla="val 50000"/>
              <a:gd name="adj2" fmla="val 3615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3645000"/>
            <a:ext cx="576000" cy="934920"/>
          </a:xfrm>
          <a:prstGeom prst="downArrow">
            <a:avLst>
              <a:gd name="adj1" fmla="val 50000"/>
              <a:gd name="adj2" fmla="val 4057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2"/>
          <a:srcRect l="51374" t="40423" r="5330" b="33077"/>
          <a:stretch/>
        </p:blipFill>
        <p:spPr>
          <a:xfrm>
            <a:off x="324000" y="981000"/>
            <a:ext cx="8280360" cy="5877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24000" y="333360"/>
            <a:ext cx="56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тічні – з яких витікають рі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404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– з яких жодна річка не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2"/>
          <a:srcRect l="51032" t="14872" r="5843" b="60900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точні -  в які річка як втікає так і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2"/>
          <a:srcRect l="52057" t="68592" r="6869" b="6796"/>
          <a:stretch/>
        </p:blipFill>
        <p:spPr>
          <a:xfrm>
            <a:off x="971640" y="809640"/>
            <a:ext cx="75610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2060640"/>
            <a:ext cx="84294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а- рекордсмени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Володимир\Рабочий стол\каспій1.jpg"/>
          <p:cNvPicPr/>
          <p:nvPr/>
        </p:nvPicPr>
        <p:blipFill>
          <a:blip r:embed="rId3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Каспійське море –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йбільше за площею озеро світу!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лоща —  до 400,0тис.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49" name="Picture 3" descr="C:\Documents and Settings\Володимир\Рабочий стол\каспій3.jpg"/>
          <p:cNvPicPr/>
          <p:nvPr/>
        </p:nvPicPr>
        <p:blipFill>
          <a:blip r:embed="rId4"/>
          <a:stretch/>
        </p:blipFill>
        <p:spPr>
          <a:xfrm>
            <a:off x="442908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озеро  Байкал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найглибше  озеро планети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Глибина - 1620м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3" name="Picture 3" descr="C:\Documents and Settings\Володимир\Рабочий стол\байкал.jpg"/>
          <p:cNvPicPr/>
          <p:nvPr/>
        </p:nvPicPr>
        <p:blipFill>
          <a:blip r:embed="rId3"/>
          <a:stretch/>
        </p:blipFill>
        <p:spPr>
          <a:xfrm>
            <a:off x="0" y="3286080"/>
            <a:ext cx="4357800" cy="35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Володимир\Рабочий стол\байкал.1.jpg"/>
          <p:cNvPicPr/>
          <p:nvPr/>
        </p:nvPicPr>
        <p:blipFill>
          <a:blip r:embed="rId4"/>
          <a:stretch/>
        </p:blipFill>
        <p:spPr>
          <a:xfrm>
            <a:off x="4357800" y="3286080"/>
            <a:ext cx="47862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1" lang="uk-UA" sz="4600" spc="-1" strike="noStrike">
                <a:solidFill>
                  <a:srgbClr val="000000"/>
                </a:solidFill>
                <a:latin typeface="Lucida Sans Unicode"/>
              </a:rPr>
              <a:t>Що таке озеро?</a:t>
            </a:r>
            <a:r>
              <a:rPr b="1" lang="uk-UA" sz="46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46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34640"/>
            <a:ext cx="8686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Озеро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—природне  заглиблення суходолу , яке                           заповнене водою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Площа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озер на земній кулі — 1,3 млн.км²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lang="uk-UA" sz="2600" spc="-1" strike="noStrike">
                <a:solidFill>
                  <a:srgbClr val="000000"/>
                </a:solidFill>
                <a:latin typeface="Lucida Sans Unicode"/>
              </a:rPr>
              <a:t>Україні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налічується близько 3000 озер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0" y="3714840"/>
            <a:ext cx="91440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Мертве море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71680" y="999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солоніше озеро планети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озташоване в тектонічній западині на 400 м нижче рівня мор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онцентрація солі – 270‰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8" name="Picture 2" descr="C:\Documents and Settings\Володимир\Рабочий стол\мм4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Володимир\Рабочий стол\мм.jpg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анганьїк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Найдовше прісноводне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зеро світу 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ротяжність з півночі на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івдень- 670 к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Глибина – 1435 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друге у світі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5072040" y="1000080"/>
            <a:ext cx="407196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ітікака “рудна скеля”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 світу, яке утворилось на висоті-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3 812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м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Це єдине судноплавне озеро світу на цій висоті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а система озер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071720"/>
            <a:ext cx="8586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Верхнє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82,4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руге за площею  в світі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Гуро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9,6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Мічіга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8,0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Ер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25,7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Онтаріо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19,5 тис.км ²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5786280" y="1071720"/>
            <a:ext cx="3357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Найглибше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- озеро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Світязь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оща--2622 га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овжина — 9225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ширина — 4000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аксимальна глибина —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58,4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,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ередня глибина — 6,9 м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Рекорди України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6" name="Picture 5" descr="C:\Documents and Settings\Володимир\Рабочий стол\світязь.jpg"/>
          <p:cNvPicPr/>
          <p:nvPr/>
        </p:nvPicPr>
        <p:blipFill>
          <a:blip r:embed="rId3"/>
          <a:stretch/>
        </p:blipFill>
        <p:spPr>
          <a:xfrm>
            <a:off x="5715000" y="2071800"/>
            <a:ext cx="34290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4480" y="-360"/>
            <a:ext cx="952812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е озеро України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0" y="121428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з.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Ялпуг – площа 149 км²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Друге в Європі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більший прісноводний лиман–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ністровський площа - 360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4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 Україні є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ребенескул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, що лежить на абсолютній висоті - 1 801 м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Українських Карпат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84" name="Picture 2" descr="C:\Documents and Settings\Володимир\Рабочий стол\рек1.jpg"/>
          <p:cNvPicPr/>
          <p:nvPr/>
        </p:nvPicPr>
        <p:blipFill>
          <a:blip r:embed="rId3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47640" y="404640"/>
            <a:ext cx="58294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1773360"/>
            <a:ext cx="61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араграф 52 (підручник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рактична робота 10 (продовженн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63640" y="33336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а поділяютьс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1844640"/>
            <a:ext cx="194328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773360"/>
            <a:ext cx="1727280" cy="20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628640"/>
            <a:ext cx="1800360" cy="22338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4797360"/>
            <a:ext cx="1871640" cy="1916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2276640"/>
            <a:ext cx="19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лоніст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ЛО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263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НЕРАЛЬ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5589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ІС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5831280" y="2385360"/>
            <a:ext cx="576360" cy="936360"/>
          </a:xfrm>
          <a:prstGeom prst="upArrow">
            <a:avLst>
              <a:gd name="adj1" fmla="val 50000"/>
              <a:gd name="adj2" fmla="val 406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952000" y="238536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3933720"/>
            <a:ext cx="504720" cy="790560"/>
          </a:xfrm>
          <a:prstGeom prst="downArrow">
            <a:avLst>
              <a:gd name="adj1" fmla="val 50000"/>
              <a:gd name="adj2" fmla="val 391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0920" y="0"/>
            <a:ext cx="55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Мертв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41800" cy="5616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81176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1280" y="0"/>
            <a:ext cx="48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Солоні озера Кри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69932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48000" y="2421000"/>
            <a:ext cx="2664000" cy="1439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836640"/>
            <a:ext cx="208728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89000"/>
            <a:ext cx="223200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1052640"/>
            <a:ext cx="216072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4076640"/>
            <a:ext cx="2305080" cy="1727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230364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860640"/>
            <a:ext cx="2232000" cy="1800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70828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походженн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зерних улого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55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УЛКА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ИМАН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КТО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170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ЛИШ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4724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ЬОДОВИ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0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ГАТ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844640"/>
            <a:ext cx="504720" cy="576360"/>
          </a:xfrm>
          <a:prstGeom prst="upArrow">
            <a:avLst>
              <a:gd name="adj1" fmla="val 50000"/>
              <a:gd name="adj2" fmla="val 2854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392400">
            <a:off x="2820960" y="1868400"/>
            <a:ext cx="568080" cy="1098360"/>
          </a:xfrm>
          <a:prstGeom prst="upArrow">
            <a:avLst>
              <a:gd name="adj1" fmla="val 50000"/>
              <a:gd name="adj2" fmla="val 4833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631600">
            <a:off x="5940000" y="1989000"/>
            <a:ext cx="552600" cy="1001880"/>
          </a:xfrm>
          <a:prstGeom prst="upArrow">
            <a:avLst>
              <a:gd name="adj1" fmla="val 50000"/>
              <a:gd name="adj2" fmla="val 4532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985600">
            <a:off x="2796480" y="3262680"/>
            <a:ext cx="504720" cy="1300320"/>
          </a:xfrm>
          <a:prstGeom prst="downArrow">
            <a:avLst>
              <a:gd name="adj1" fmla="val 50000"/>
              <a:gd name="adj2" fmla="val 6440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3860640"/>
            <a:ext cx="503280" cy="576360"/>
          </a:xfrm>
          <a:prstGeom prst="downArrow">
            <a:avLst>
              <a:gd name="adj1" fmla="val 50000"/>
              <a:gd name="adj2" fmla="val 286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568800">
            <a:off x="6053040" y="3287520"/>
            <a:ext cx="504720" cy="1295640"/>
          </a:xfrm>
          <a:prstGeom prst="downArrow">
            <a:avLst>
              <a:gd name="adj1" fmla="val 50000"/>
              <a:gd name="adj2" fmla="val 6417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28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лиш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03280" y="155700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Це залишки давніх морських басейнів, які відокремились у певний період підняття узбережж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аспійське та Аральське моря-озера, Чад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0" y="1635120"/>
            <a:ext cx="410364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Вулканічні озера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428480"/>
            <a:ext cx="757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У кратерах згаслих вулкані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Озера Камчатки, Ісландії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4714920" cy="3741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5286240" y="2552760"/>
            <a:ext cx="385776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6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ектоніч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ов'язані з опусканням або підніманням окремих територій (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айкал, Танганьїка, Ньяса, Мертве море, Великі Американські озера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ідмінною рисою будови є 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еликі глибини,                 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обривисті берег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стрімкі підводні схил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нерівне дно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итягнуті в довжину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5276880" y="4071960"/>
            <a:ext cx="38671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02:13Z</dcterms:created>
  <dc:creator>Володимир</dc:creator>
  <dc:description/>
  <dc:language>en-US</dc:language>
  <cp:lastModifiedBy>Семья</cp:lastModifiedBy>
  <dcterms:modified xsi:type="dcterms:W3CDTF">2013-03-19T19:30:35Z</dcterms:modified>
  <cp:revision>167</cp:revision>
  <dc:subject/>
  <dc:title>Озера. Штучні  водой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10000000000001024140</vt:lpwstr>
  </property>
</Properties>
</file>