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Lucida Sans Unicode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2F24-CD30-4CB3-A6E9-D383F80104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783F-6A20-4571-AE4C-118E02659B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26F-588F-41CE-915C-8A34C812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9DD-8E03-42B5-BC12-2BA76BE5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A9FF-AC8D-4924-B5B5-B84F23EC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D11-CC8D-4586-925D-4DCEF321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11C-0B76-42D5-8E4A-710C7508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2FB6-3D99-4C0E-95A0-28A2EF7A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7A1-67F8-48C2-9D5D-D4D51930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67A9-2B0D-4A86-9593-B2914F73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CFE3-8B1D-4BB4-9CA2-852BAD16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D5EA-3660-44E1-9DF0-77A05A68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28E0-3500-491D-9065-A326F3CF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D09-5620-4621-A522-EE570A3B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08C6-B2DA-4FED-ACB5-772FC1A97D89}" type="slidenum">
              <a:rPr b="0" lang="en-US" sz="1200" spc="-1" strike="noStrike">
                <a:solidFill>
                  <a:srgbClr val="d1eaee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C:\Documents and Settings\Володимир\Рабочий стол\stock-photo-blue-sea-with-waves-and-clear-blue-sky-5527314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1255200">
            <a:off x="310680" y="2855880"/>
            <a:ext cx="8810640" cy="20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лакитні очі планети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Льодовикові озера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760" y="114300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Lucida Sans Unicode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В улоговинах, які виникли під тиском льодовика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Велике Солоне, Велике Ведмеже, Ладозьке,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Марічечка    (Карпати)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16" name="Picture 2" descr="C:\Documents and Settings\Володимир\Рабочий стол\лед.jpg"/>
          <p:cNvPicPr/>
          <p:nvPr/>
        </p:nvPicPr>
        <p:blipFill>
          <a:blip r:embed="rId3"/>
          <a:stretch/>
        </p:blipFill>
        <p:spPr>
          <a:xfrm>
            <a:off x="0" y="2857680"/>
            <a:ext cx="914400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0979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Загатні озера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Lucida Sans Unicode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Утворюються в горах  внаслідок завалів, що перегороджують річкові долини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Синевир у Карпатах, Сарезьке на Памірі, Тана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4535640" y="3433680"/>
            <a:ext cx="4608360" cy="3424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4"/>
          <a:stretch/>
        </p:blipFill>
        <p:spPr>
          <a:xfrm>
            <a:off x="0" y="3405240"/>
            <a:ext cx="4535640" cy="3452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Лиманні озера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На узбережжях морів, у гирлах давніх річок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Внаслідок відокремлення від моря ділянки води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Маракайбо, Сасик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0" y="3643200"/>
            <a:ext cx="9144000" cy="3214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4"/>
          <a:stretch/>
        </p:blipFill>
        <p:spPr>
          <a:xfrm>
            <a:off x="5572080" y="0"/>
            <a:ext cx="357192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16000" y="333360"/>
            <a:ext cx="1871640" cy="2160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16720" y="333360"/>
            <a:ext cx="1871640" cy="2087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08360" y="1916280"/>
            <a:ext cx="2089080" cy="17269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4581360"/>
            <a:ext cx="2016000" cy="2016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227664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за водн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режим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119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СТІЧ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119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БЕЗСТІЧ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67280" y="537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ПРОТОЧ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3378000">
            <a:off x="5636160" y="1380240"/>
            <a:ext cx="677880" cy="1069920"/>
          </a:xfrm>
          <a:prstGeom prst="upArrow">
            <a:avLst>
              <a:gd name="adj1" fmla="val 50000"/>
              <a:gd name="adj2" fmla="val 39458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009000">
            <a:off x="3132000" y="1555200"/>
            <a:ext cx="647640" cy="936720"/>
          </a:xfrm>
          <a:prstGeom prst="upArrow">
            <a:avLst>
              <a:gd name="adj1" fmla="val 50000"/>
              <a:gd name="adj2" fmla="val 3615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00720" y="3645000"/>
            <a:ext cx="576000" cy="934920"/>
          </a:xfrm>
          <a:prstGeom prst="downArrow">
            <a:avLst>
              <a:gd name="adj1" fmla="val 50000"/>
              <a:gd name="adj2" fmla="val 40578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000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7000"/>
                            </p:stCondLst>
                            <p:childTnLst>
                              <p:par>
                                <p:cTn id="4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"/>
          <p:cNvPicPr/>
          <p:nvPr/>
        </p:nvPicPr>
        <p:blipFill>
          <a:blip r:embed="rId2"/>
          <a:srcRect l="51374" t="40423" r="5330" b="33077"/>
          <a:stretch/>
        </p:blipFill>
        <p:spPr>
          <a:xfrm>
            <a:off x="324000" y="981000"/>
            <a:ext cx="8280360" cy="5877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124000" y="333360"/>
            <a:ext cx="568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Стічні – з яких витікають річ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87280" y="404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Безстічні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– з яких жодна річка не витікає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Рисунок 3" descr=""/>
          <p:cNvPicPr/>
          <p:nvPr/>
        </p:nvPicPr>
        <p:blipFill>
          <a:blip r:embed="rId2"/>
          <a:srcRect l="51032" t="14872" r="5843" b="60900"/>
          <a:stretch/>
        </p:blipFill>
        <p:spPr>
          <a:xfrm>
            <a:off x="684360" y="91764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16000" y="333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Проточні -  в які річка як втікає так і витікає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Рисунок 1" descr=""/>
          <p:cNvPicPr/>
          <p:nvPr/>
        </p:nvPicPr>
        <p:blipFill>
          <a:blip r:embed="rId2"/>
          <a:srcRect l="52057" t="68592" r="6869" b="6796"/>
          <a:stretch/>
        </p:blipFill>
        <p:spPr>
          <a:xfrm>
            <a:off x="971640" y="809640"/>
            <a:ext cx="756108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68360" y="2060640"/>
            <a:ext cx="84294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зера- рекордсмени</a:t>
            </a:r>
            <a:endParaRPr b="1" lang="en-US" sz="80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blinds dir="vert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09792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:\Documents and Settings\Володимир\Рабочий стол\каспій1.jpg"/>
          <p:cNvPicPr/>
          <p:nvPr/>
        </p:nvPicPr>
        <p:blipFill>
          <a:blip r:embed="rId3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  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549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Lucida Sans Unicode"/>
              </a:rPr>
              <a:t>Каспійське море –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айбільше за площею озеро світу!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лоща —  до 400,0тис. км²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49" name="Picture 3" descr="C:\Documents and Settings\Володимир\Рабочий стол\каспій3.jpg"/>
          <p:cNvPicPr/>
          <p:nvPr/>
        </p:nvPicPr>
        <p:blipFill>
          <a:blip r:embed="rId4"/>
          <a:stretch/>
        </p:blipFill>
        <p:spPr>
          <a:xfrm>
            <a:off x="4429080" y="3000240"/>
            <a:ext cx="471492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    </a:t>
            </a:r>
            <a:r>
              <a:rPr b="0" lang="uk-UA" sz="5400" spc="-1" strike="noStrike">
                <a:solidFill>
                  <a:srgbClr val="000000"/>
                </a:solidFill>
                <a:latin typeface="Lucida Sans Unicode"/>
              </a:rPr>
              <a:t>озеро  Байкал</a:t>
            </a:r>
            <a:endParaRPr b="0" lang="en-US" sz="54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2876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найглибше  озеро планети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                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Глибина - 1620м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53" name="Picture 3" descr="C:\Documents and Settings\Володимир\Рабочий стол\байкал.jpg"/>
          <p:cNvPicPr/>
          <p:nvPr/>
        </p:nvPicPr>
        <p:blipFill>
          <a:blip r:embed="rId3"/>
          <a:stretch/>
        </p:blipFill>
        <p:spPr>
          <a:xfrm>
            <a:off x="0" y="3286080"/>
            <a:ext cx="4357800" cy="3571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Documents and Settings\Володимир\Рабочий стол\байкал.1.jpg"/>
          <p:cNvPicPr/>
          <p:nvPr/>
        </p:nvPicPr>
        <p:blipFill>
          <a:blip r:embed="rId4"/>
          <a:stretch/>
        </p:blipFill>
        <p:spPr>
          <a:xfrm>
            <a:off x="4357800" y="3286080"/>
            <a:ext cx="47862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0979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6897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dbf5f9"/>
                </a:solidFill>
                <a:latin typeface="Lucida Sans Unicode"/>
              </a:rPr>
              <a:t>             </a:t>
            </a:r>
            <a:r>
              <a:rPr b="1" lang="uk-UA" sz="4600" spc="-1" strike="noStrike">
                <a:solidFill>
                  <a:srgbClr val="000000"/>
                </a:solidFill>
                <a:latin typeface="Lucida Sans Unicode"/>
              </a:rPr>
              <a:t>Що таке озеро?</a:t>
            </a:r>
            <a:r>
              <a:rPr b="1" lang="uk-UA" sz="4600" spc="-1" strike="noStrike">
                <a:solidFill>
                  <a:srgbClr val="dbf5f9"/>
                </a:solidFill>
                <a:latin typeface="Lucida Sans Unicode"/>
              </a:rPr>
              <a:t>    </a:t>
            </a:r>
            <a:r>
              <a:rPr b="0" lang="uk-UA" sz="4600" spc="-1" strike="noStrike">
                <a:solidFill>
                  <a:srgbClr val="dbf5f9"/>
                </a:solidFill>
                <a:latin typeface="Lucida Sans Unicode"/>
              </a:rPr>
              <a:t>                </a:t>
            </a:r>
            <a:endParaRPr b="0" lang="en-US" sz="46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34640"/>
            <a:ext cx="86868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Lucida Sans Unicode"/>
              </a:rPr>
              <a:t>Озеро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—природне  заглиблення суходолу , яке                           заповнене водою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Lucida Sans Unicode"/>
              </a:rPr>
              <a:t>Площа </a:t>
            </a:r>
            <a:r>
              <a:rPr b="1" i="1" lang="ru-RU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озер на земній кулі — 1,3 млн.км²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В </a:t>
            </a:r>
            <a:r>
              <a:rPr b="1" lang="uk-UA" sz="2600" spc="-1" strike="noStrike">
                <a:solidFill>
                  <a:srgbClr val="000000"/>
                </a:solidFill>
                <a:latin typeface="Lucida Sans Unicode"/>
              </a:rPr>
              <a:t>Україні </a:t>
            </a: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налічується близько 3000 озер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0" y="3714840"/>
            <a:ext cx="9144000" cy="4357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0979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   </a:t>
            </a:r>
            <a:r>
              <a:rPr b="0" lang="uk-UA" sz="5400" spc="-1" strike="noStrike">
                <a:solidFill>
                  <a:srgbClr val="000000"/>
                </a:solidFill>
                <a:latin typeface="Lucida Sans Unicode"/>
              </a:rPr>
              <a:t>Мертве море</a:t>
            </a:r>
            <a:endParaRPr b="0" lang="en-US" sz="54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71680" y="99972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айсолоніше озеро планети.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Розташоване в тектонічній западині на 400 м нижче рівня моря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Концентрація солі – 270‰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58" name="Picture 2" descr="C:\Documents and Settings\Володимир\Рабочий стол\мм4.jpg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Володимир\Рабочий стол\мм.jpg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Танганьїка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Найдовше прісноводне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озеро світу !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Протяжність з півночі на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південь- 670 км,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Глибина – 1435 м,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друге у світі!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3"/>
          <a:stretch/>
        </p:blipFill>
        <p:spPr>
          <a:xfrm>
            <a:off x="5072040" y="1000080"/>
            <a:ext cx="4071960" cy="5857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Тітікака “рудна скеля”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Найвисокогірніше озеро світу, яке утворилось на висоті- </a:t>
            </a:r>
            <a:r>
              <a:rPr b="1" lang="ru-RU" sz="2600" spc="-1" strike="noStrike">
                <a:solidFill>
                  <a:srgbClr val="000000"/>
                </a:solidFill>
                <a:latin typeface="Lucida Sans Unicode"/>
              </a:rPr>
              <a:t>3 812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м.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Це єдине судноплавне озеро світу на цій висоті.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3"/>
          <a:stretch/>
        </p:blipFill>
        <p:spPr>
          <a:xfrm>
            <a:off x="0" y="2857680"/>
            <a:ext cx="914400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Найбільша система озер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1071720"/>
            <a:ext cx="85867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Lucida Sans Unicode"/>
              </a:rPr>
              <a:t>Верхнє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– площа 82,4 тис.км²;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друге за площею  в світі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Lucida Sans Unicode"/>
              </a:rPr>
              <a:t>Гурон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– площа 59,6 тис.км²;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Lucida Sans Unicode"/>
              </a:rPr>
              <a:t>Мічіган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– площа 58,0 тис.км²;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Lucida Sans Unicode"/>
              </a:rPr>
              <a:t>Ері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– площа 25,7 тис.км²;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Lucida Sans Unicode"/>
              </a:rPr>
              <a:t>Онтаріо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– площа 19,5 тис.км ²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        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0" y="4000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4"/>
          <a:stretch/>
        </p:blipFill>
        <p:spPr>
          <a:xfrm>
            <a:off x="5786280" y="1071720"/>
            <a:ext cx="335772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Lucida Sans Unicode"/>
              </a:rPr>
              <a:t>       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Lucida Sans Unicode"/>
              </a:rPr>
              <a:t>Найглибше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- озеро </a:t>
            </a:r>
            <a:r>
              <a:rPr b="1" i="1" lang="ru-RU" sz="2600" spc="-1" strike="noStrike">
                <a:solidFill>
                  <a:srgbClr val="000000"/>
                </a:solidFill>
                <a:latin typeface="Lucida Sans Unicode"/>
              </a:rPr>
              <a:t>Світязь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лоща--2622 га,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довжина — 9225 м,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ширина — 4000 м,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Максимальна глибина —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 58,4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м,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Середня глибина — 6,9 м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3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Рекорди України</a:t>
            </a: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pic>
        <p:nvPicPr>
          <p:cNvPr id="176" name="Picture 5" descr="C:\Documents and Settings\Володимир\Рабочий стол\світязь.jpg"/>
          <p:cNvPicPr/>
          <p:nvPr/>
        </p:nvPicPr>
        <p:blipFill>
          <a:blip r:embed="rId3"/>
          <a:stretch/>
        </p:blipFill>
        <p:spPr>
          <a:xfrm>
            <a:off x="5715000" y="2071800"/>
            <a:ext cx="3429000" cy="4786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84480" y="-360"/>
            <a:ext cx="952812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Найбільше озеро України</a:t>
            </a:r>
            <a:br>
              <a:rPr sz="5000"/>
            </a:b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0" y="1214280"/>
            <a:ext cx="91440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оз.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Ялпуг – площа 149 км²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uk-UA" sz="3600" spc="-1" strike="noStrike">
                <a:solidFill>
                  <a:srgbClr val="000000"/>
                </a:solidFill>
                <a:latin typeface="Lucida Sans Unicode"/>
              </a:rPr>
              <a:t>Друге в Європі!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айбільший прісноводний лиман–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Дністровський площа - 360 км²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>
    <p:blinds dir="vert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-4932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Найвисокогірніше озеро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14200" y="114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в Україні є </a:t>
            </a:r>
            <a:r>
              <a:rPr b="1" lang="ru-RU" sz="2600" spc="-1" strike="noStrike">
                <a:solidFill>
                  <a:srgbClr val="000000"/>
                </a:solidFill>
                <a:latin typeface="Lucida Sans Unicode"/>
              </a:rPr>
              <a:t>Бребенескул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, що лежить на абсолютній висоті - 1 801 м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Українських Карпат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84" name="Picture 2" descr="C:\Documents and Settings\Володимир\Рабочий стол\рек1.jpg"/>
          <p:cNvPicPr/>
          <p:nvPr/>
        </p:nvPicPr>
        <p:blipFill>
          <a:blip r:embed="rId3"/>
          <a:stretch/>
        </p:blipFill>
        <p:spPr>
          <a:xfrm>
            <a:off x="0" y="2428920"/>
            <a:ext cx="914400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547640" y="404640"/>
            <a:ext cx="582948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машнє завдання</a:t>
            </a:r>
            <a:endParaRPr b="1" lang="en-US" sz="4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1773360"/>
            <a:ext cx="6193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Параграф 52 (підручник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Практична робота 10 (продовження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763640" y="333360"/>
            <a:ext cx="590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зера поділяються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3708360" y="1844640"/>
            <a:ext cx="1943280" cy="2087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1773360"/>
            <a:ext cx="1727280" cy="20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88000" y="1628640"/>
            <a:ext cx="1800360" cy="22338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4797360"/>
            <a:ext cx="1871640" cy="19162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35280" y="2276640"/>
            <a:ext cx="194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солоніст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26370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ОЛОН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2637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ІНЕРАЛЬН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67280" y="55897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ПРІСН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5831280" y="2385360"/>
            <a:ext cx="576360" cy="936360"/>
          </a:xfrm>
          <a:prstGeom prst="upArrow">
            <a:avLst>
              <a:gd name="adj1" fmla="val 50000"/>
              <a:gd name="adj2" fmla="val 40615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2952000" y="2385360"/>
            <a:ext cx="504720" cy="1008000"/>
          </a:xfrm>
          <a:prstGeom prst="upArrow">
            <a:avLst>
              <a:gd name="adj1" fmla="val 50000"/>
              <a:gd name="adj2" fmla="val 4992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7640" y="3933720"/>
            <a:ext cx="504720" cy="790560"/>
          </a:xfrm>
          <a:prstGeom prst="downArrow">
            <a:avLst>
              <a:gd name="adj1" fmla="val 50000"/>
              <a:gd name="adj2" fmla="val 39158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050920" y="0"/>
            <a:ext cx="554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Мертве мо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Рисунок 1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4141800" cy="5616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"/>
          <p:cNvPicPr/>
          <p:nvPr/>
        </p:nvPicPr>
        <p:blipFill>
          <a:blip r:embed="rId3"/>
          <a:stretch/>
        </p:blipFill>
        <p:spPr>
          <a:xfrm>
            <a:off x="4284720" y="2276640"/>
            <a:ext cx="4811760" cy="3384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411280" y="0"/>
            <a:ext cx="489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Солоні озера Кри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Рисунок 1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769932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348000" y="2421000"/>
            <a:ext cx="2664000" cy="1439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836640"/>
            <a:ext cx="2087280" cy="165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189000"/>
            <a:ext cx="2232000" cy="165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1052640"/>
            <a:ext cx="2160720" cy="1728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43640" y="4076640"/>
            <a:ext cx="2305080" cy="17272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4437000"/>
            <a:ext cx="2303640" cy="1728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3860640"/>
            <a:ext cx="2232000" cy="1800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5280" y="2708280"/>
            <a:ext cx="23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за походженн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озерних улогов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1557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ВУЛКАНІЧ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ЛИМАН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836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ТЕКТОНІЧ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2720" y="170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ЗАЛИШКОВ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88000" y="472428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ЛЬОДОВИКОВ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95640" y="508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ЗАГАТ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1844640"/>
            <a:ext cx="504720" cy="576360"/>
          </a:xfrm>
          <a:prstGeom prst="upArrow">
            <a:avLst>
              <a:gd name="adj1" fmla="val 50000"/>
              <a:gd name="adj2" fmla="val 2854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8392400">
            <a:off x="2820960" y="1868400"/>
            <a:ext cx="568080" cy="1098360"/>
          </a:xfrm>
          <a:prstGeom prst="upArrow">
            <a:avLst>
              <a:gd name="adj1" fmla="val 50000"/>
              <a:gd name="adj2" fmla="val 4833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631600">
            <a:off x="5940000" y="1989000"/>
            <a:ext cx="552600" cy="1001880"/>
          </a:xfrm>
          <a:prstGeom prst="upArrow">
            <a:avLst>
              <a:gd name="adj1" fmla="val 50000"/>
              <a:gd name="adj2" fmla="val 4532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985600">
            <a:off x="2796480" y="3262680"/>
            <a:ext cx="504720" cy="1300320"/>
          </a:xfrm>
          <a:prstGeom prst="downArrow">
            <a:avLst>
              <a:gd name="adj1" fmla="val 50000"/>
              <a:gd name="adj2" fmla="val 64408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6000" y="3860640"/>
            <a:ext cx="503280" cy="576360"/>
          </a:xfrm>
          <a:prstGeom prst="downArrow">
            <a:avLst>
              <a:gd name="adj1" fmla="val 50000"/>
              <a:gd name="adj2" fmla="val 2863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8568800">
            <a:off x="6053040" y="3287520"/>
            <a:ext cx="504720" cy="1295640"/>
          </a:xfrm>
          <a:prstGeom prst="downArrow">
            <a:avLst>
              <a:gd name="adj1" fmla="val 50000"/>
              <a:gd name="adj2" fmla="val 6417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02800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Залишкові озера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103280" y="1557000"/>
            <a:ext cx="5040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Lucida Sans Unicode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Це залишки давніх морських басейнів, які відокремились у певний період підняття узбережжя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04480" indent="-20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04480" indent="-2044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Каспійське та Аральське моря-озера, Чад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3"/>
          <a:stretch/>
        </p:blipFill>
        <p:spPr>
          <a:xfrm>
            <a:off x="0" y="1635120"/>
            <a:ext cx="4103640" cy="5222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Вулканічні озера</a:t>
            </a: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      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1428480"/>
            <a:ext cx="7572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У кратерах згаслих вулканів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Озера Камчатки, Ісландії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3"/>
          <a:stretch/>
        </p:blipFill>
        <p:spPr>
          <a:xfrm>
            <a:off x="250920" y="2852640"/>
            <a:ext cx="4714920" cy="3741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4"/>
          <a:stretch/>
        </p:blipFill>
        <p:spPr>
          <a:xfrm>
            <a:off x="5286240" y="2552760"/>
            <a:ext cx="3857760" cy="4305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600"/>
                            </p:stCondLst>
                            <p:childTnLst>
                              <p:par>
                                <p:cTn id="2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Тектонічні озера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876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пов'язані з опусканням або підніманням окремих територій (</a:t>
            </a:r>
            <a:r>
              <a:rPr b="1" lang="ru-RU" sz="2600" spc="-1" strike="noStrike">
                <a:solidFill>
                  <a:srgbClr val="000000"/>
                </a:solidFill>
                <a:latin typeface="Lucida Sans Unicode"/>
              </a:rPr>
              <a:t>Байкал, Танганьїка, Ньяса, Мертве море, Великі Американські озера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).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Відмінною рисою будови є :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-великі глибини,                         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-обривисті береги,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-стрімкі підводні схили,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-нерівне дно.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-витягнуті в довжину.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3"/>
          <a:stretch/>
        </p:blipFill>
        <p:spPr>
          <a:xfrm>
            <a:off x="5276880" y="4071960"/>
            <a:ext cx="386712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9:02:13Z</dcterms:created>
  <dc:creator>Володимир</dc:creator>
  <dc:description/>
  <dc:language>en-US</dc:language>
  <cp:lastModifiedBy>Семья</cp:lastModifiedBy>
  <dcterms:modified xsi:type="dcterms:W3CDTF">2013-03-19T19:30:35Z</dcterms:modified>
  <cp:revision>167</cp:revision>
  <dc:subject/>
  <dc:title>Озера. Штучні  водойм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10000000000001024140</vt:lpwstr>
  </property>
</Properties>
</file>