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1E5-8603-4E1B-8F15-6BDF14E3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4E-F9C1-4F57-817F-E5DC542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26E-5A24-4813-B083-D0C41C2D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CFB-8E44-4101-AD52-23C48A26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F87-B373-4A2A-A89F-0C00E842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4E7-C55B-4E1F-B994-A83AF255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771-5499-444D-A369-945360F4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BA1-D2C2-4066-A2DC-2D23D33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0A9-5152-46AF-BD5A-AEFE184A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4F7-2DFB-4393-ABBE-F28E613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55C-491F-43EE-AC26-65AAEA5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D98-251D-4AB5-A8B4-D6E69BD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3F2-8AB7-4C96-A881-C9C24B409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Води суходолу. </a:t>
            </a:r>
            <a:br>
              <a:rPr sz="6000"/>
            </a:b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Річка та її частини. </a:t>
            </a:r>
            <a:br>
              <a:rPr sz="6000"/>
            </a:b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Режим та живлення річо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асейн річк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територія суходолу, з якої річка за допомогою приток збирає атмосферні опади (Амазонка має площу водозбірного басейну 7 187 тис. кв. км.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fs.servers.soneta.ru/medium/001/756aec4d-5f70-4676-8746-d84b539afed4.jpg"/>
          <p:cNvPicPr/>
          <p:nvPr/>
        </p:nvPicPr>
        <p:blipFill>
          <a:blip r:embed="rId1"/>
          <a:stretch/>
        </p:blipFill>
        <p:spPr>
          <a:xfrm>
            <a:off x="155520" y="2492280"/>
            <a:ext cx="4762440" cy="35290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87840" cy="3529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909720" y="6100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сейн Амаз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78520" y="610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андр і стариця Амаз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Басейн Дніп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08720" y="907920"/>
            <a:ext cx="352728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е третя за площею басейну річка в Європі після Волги і Дунаю. Бере початок на Валдайській височині з болота Аксенінський Мох (Смоленська область, Росія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вжина річки – 2201 км (в межах України – 981 км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лоща басейну — 504 тис. км², з них в межах України — 291,4 тис. км²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0080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доділ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лінія, що розділяє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асей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уміжних водой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9080" y="1413000"/>
            <a:ext cx="5365440" cy="5329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654520" y="2133720"/>
            <a:ext cx="331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ральські гори є вододілом  між басейнами рік Печори і Об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755640" y="3662280"/>
            <a:ext cx="73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орог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к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нисті  поперечні підвищення з твердих порід на дні річ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вають і на рівнинних, і на гірських річках. Вони заважають судноплавству (на Дніпрі між Дніпропетровськом і  Запоріжжям на поверхню виходило 9 гранітних порогів, які в 1932 р. були затоплені після спорудження Запорізької Г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30780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4" descr=""/>
          <p:cNvPicPr/>
          <p:nvPr/>
        </p:nvPicPr>
        <p:blipFill>
          <a:blip r:embed="rId1"/>
          <a:stretch/>
        </p:blipFill>
        <p:spPr>
          <a:xfrm>
            <a:off x="-396720" y="0"/>
            <a:ext cx="9216720" cy="366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ОРОГИ на Дніпрі до спорудження Запорізької ГЕ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81160" y="1413000"/>
            <a:ext cx="853884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ОРОГИ на річці Косью (Ура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338040" y="1413000"/>
            <a:ext cx="837900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ІВНИННА РІ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662360" cy="3816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5025960" y="2924280"/>
            <a:ext cx="3952800" cy="3384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79280" y="5322960"/>
            <a:ext cx="48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іссісіпі (Північна Аме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025960" y="170028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аран (Південна Пме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РІНО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53240" cy="370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travel.by/file/pic/article/itravel_by/img_2985162.jpg"/>
          <p:cNvPicPr/>
          <p:nvPr/>
        </p:nvPicPr>
        <p:blipFill>
          <a:blip r:embed="rId2"/>
          <a:stretch/>
        </p:blipFill>
        <p:spPr>
          <a:xfrm>
            <a:off x="3995640" y="2792520"/>
            <a:ext cx="5004000" cy="3782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395280" y="515772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іо-Оріноко в районі Венесу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148360" y="1557360"/>
            <a:ext cx="38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йвищий водоспад світу – Анхель (1054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Річка Ніагара та знаменитий водоспад (53 м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55640" y="1592280"/>
            <a:ext cx="720108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Calibri"/>
              </a:rPr>
              <a:t>Найвищий водоспад України УЧАН-СУ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16000" y="1341000"/>
            <a:ext cx="4248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спад у Криму, на однойменній річц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ташований на висоті 390 м над рівнем моря,на південному схилі гори Ай-Петрі, за 6 км на північ від Ялти. Висота водоспаду — 98,5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321080" cy="543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оглибити та систематизувати знання про річк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отримані на уроках природознавства; ознайомитися із частинами річок, їх режимом та способами живленн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Навчитися визначати за картою напрямок течії річки, знаходити її частини; складати комплексну характеристику річки за типовим планом, користуючись картами атласу;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бережливо ставитися до запасів прісних вод гідросфе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ІРСЬКА РІ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5829480"/>
            <a:ext cx="8686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«Підкова» річки Колора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39640" y="78912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ДИ ЖИВЛЕННЯ РО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щ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ніг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дземними во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Талими льодовиковими во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Мішане (переважання одного з джере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ніпро має мішане живлення. Взимку живиться підземними водами, навесні талими, а восени дощовими і підземними. Тому кількість води в річці за сезонами змінюєт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ЕЖИМ РІ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6640"/>
            <a:ext cx="82296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Режим річки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це зміна рівня води в річці протягом ро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овінь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найвищий рівень води в річці, викликаний основним джерелом живлення в один і той самий час (більшість річок України повноводні навесні під час танення сніг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419640" y="3567240"/>
            <a:ext cx="5627520" cy="3193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24000" y="407664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вінь на річках Закарпатт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ежен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період найнижчого рівня води в річц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раптове короткочасне підвищення рівня води в річці. Вони трапляються будь-якої пори року після випадання сильних дощів або відлиг (річки Карпат і Кримських гір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63272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одоста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еріод нерухомого льодового покриву на річці (зи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одохі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ух крижин і крижаних полів на річках під дією течії чи віт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395600" cy="342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66760" y="2797200"/>
            <a:ext cx="3873600" cy="339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1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БРУДНЕННЯ РІЧОК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новні забруднювачі води: хімічні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н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афтопереробні, целюлозно-паперові заводи; гірничо-рудна промисловість, тваринницькі комплекс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обливо небезпечні СМЗ (синтетичні миючі засоби), які надзвичайно стійкі і зберігаються у воді роками (бурхливе розмноження синьо-зелених водоростей – «цвітіння» води, «замор» риб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Біологічне забруднення спричиняється надходженням зі стічними водами мікроорганізмів (бактерій, вірусів, спор грибів, яєць червів), які  є хвороботворними для людей та інших живих істо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Перше місце серед забруднювачів посідають неочищені комунально-побутові стоки цукрових заводів м’ясокомбінатів, шкіряних фабрик (у стоках були виявлені збудники холери, дезинтерії, гепатиту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.М.Пєсков сказав: «Річки треба вважати найважливішою державною цінністю. Тільки так можна зберегти Радість, яку нам дають води, що течуть, і можливість у будь-яку хвилину втамувати спрагу. Адже немає на Землі напою кращого, ніж склянка холодної чистої вод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ЕОГРАФІЧНИЙ ПРАКТИК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ристуючись картами атласу, з’ясуйте до басейну яких океанів належать річки: перший ряд – Хуанхе, Лєна, Інд; другий ряд – Дунай, Міссісіпі, Конго; третій ряд – Волга, Парана, Ні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Відповіді на проблемні пит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Практична ро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іть характеристику річки за вибором, користуючись планом у таблиц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робіть висновок про зв'язок живлення та режиму річки з кліматом тієї території, де  вона протіка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Таблица 4" descr=""/>
          <p:cNvPicPr/>
          <p:nvPr/>
        </p:nvPicPr>
        <p:blipFill>
          <a:blip r:embed="rId1"/>
          <a:stretch/>
        </p:blipFill>
        <p:spPr>
          <a:xfrm>
            <a:off x="396720" y="3548160"/>
            <a:ext cx="8571240" cy="284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БЛЕМНІ ПИТ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Як течія річки пов’язана з рельефом території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Як режим та живлення річок пов’язані з кліматом території, по якій вони течу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рацювати параграф 32 до статті «Робота річок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ідготувати повідомлення (презентації) про великі річки план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исати режим та живленні річки Ро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кінчити практичну робо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Що таке річ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це природний водний потік, що рухається в заглибленні, створеному його рухом – русл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468360" y="3376440"/>
            <a:ext cx="4298760" cy="3005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5292720" y="3376440"/>
            <a:ext cx="3603600" cy="300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КЛАДОВІ РІ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итік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місце, де ріка бере свій початок (джерело, льодовик, озеро, бо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Гирло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місце впадіння річки в море, озеро чи іншу річ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ільшість річок несуть свої води до морів і океанів, тому вони належать до басейнів тих океанів, куди впадають. Якщо річка не має виходу до океану, вона відноситься до басейну внутрішнього сто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ДИ ГИР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ДЕЛЬТ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рло річки з рукавами, протоками та мілинами, які формуються внаслідок інтенсивного відкладення нанос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8360" y="3006720"/>
            <a:ext cx="4174920" cy="2940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258920" y="59738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льта Ні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encrypted-tbn2.gstatic.com/images?q=tbn:ANd9GcS3RItyjBGUSufMZyBQXUGozY6dp-zWATOzwjGaybmCBZjmkz9QIQ"/>
          <p:cNvPicPr/>
          <p:nvPr/>
        </p:nvPicPr>
        <p:blipFill>
          <a:blip r:embed="rId2"/>
          <a:stretch/>
        </p:blipFill>
        <p:spPr>
          <a:xfrm>
            <a:off x="5148360" y="300024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508720" y="59691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льта Дуна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ЕСТУАРІЙ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орукавне, лійкоподібне гирло річки, що розширюється в напрямку моря.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ворюється, коли море затоплює гирло річки, а припливи та відпливи виносять осадові породи в море і не дають естуарію заповнитися та перетворитися на дельт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е відбувається, коли прилегла до естуарію частина моря має велику глиби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encrypted-tbn0.gstatic.com/images?q=tbn:ANd9GcQKOsmb2InL8R0qXieeaymW-c76bOPPVF-3pTc2oW2JeZXyHdQh"/>
          <p:cNvPicPr/>
          <p:nvPr/>
        </p:nvPicPr>
        <p:blipFill>
          <a:blip r:embed="rId1"/>
          <a:stretch/>
        </p:blipFill>
        <p:spPr>
          <a:xfrm>
            <a:off x="403200" y="3540240"/>
            <a:ext cx="4103640" cy="2720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47560" y="626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стуарій річки Па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dic.academic.ru/pictures/wiki/files/82/River_Plate.jpg"/>
          <p:cNvPicPr/>
          <p:nvPr/>
        </p:nvPicPr>
        <p:blipFill>
          <a:blip r:embed="rId2"/>
          <a:stretch/>
        </p:blipFill>
        <p:spPr>
          <a:xfrm>
            <a:off x="4788000" y="3475080"/>
            <a:ext cx="41050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7640" y="810720"/>
            <a:ext cx="878508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чкова долин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звивисте заглиблення, що простягається від витока до гир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чищ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найглибша частина річкової долини, де водний потік постій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рас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території, розташовані вище заплави, що виникли внаслідок руйнівної дії вод річки (ніколи не заливаються водою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ла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на річкової долини, що лежить вище рівня води в річці і періодично затоплюється під час пове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417080" cy="2887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484360" y="2271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удова річкової до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9640" y="115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ічкова систе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головна річка з притоками (праві і ліві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еандр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лавний вигин річища рі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ця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  — відокремлена від річки ділянка (зазвичай 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еандр) її колишнього річища або озеро, що лежить у старих залишених річкою річищах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8423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01:33Z</dcterms:created>
  <dc:creator>Админ</dc:creator>
  <dc:description/>
  <dc:language>en-US</dc:language>
  <cp:lastModifiedBy>Admin</cp:lastModifiedBy>
  <dcterms:modified xsi:type="dcterms:W3CDTF">2013-12-02T09:33:57Z</dcterms:modified>
  <cp:revision>20</cp:revision>
  <dc:subject/>
  <dc:title>Води суходолу. Річка та її частини. Режим та живлення річо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1000000000001024140</vt:lpwstr>
  </property>
</Properties>
</file>