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1C10-B63C-4653-B173-F04CBF02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ACF-1A3C-4E72-BD28-4CD7B154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DE69-5BC7-4AF4-A643-5AB00DD8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9D26-2FDF-4C5F-B0AF-A588A0B9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01A5-768C-4BFF-9D09-E2FA0A17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83B-F091-490B-AAF8-D387ACAF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6061-1E9A-4E77-B326-96790F19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DAA-992D-4C5A-9426-3959626E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A598-BB9C-43EA-92D1-DBF5A091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CFD-987F-4251-9200-C599B8DB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D27-2556-4082-9FD9-A2D26F45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9C5A-CBC1-4CC8-8F3E-9AE16268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1107-BB15-4B6D-9CAF-AF36F7A41F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215968"/>
                </a:solidFill>
                <a:latin typeface="Comic Sans MS"/>
              </a:rPr>
              <a:t>Води суходолу. </a:t>
            </a:r>
            <a:br>
              <a:rPr sz="6000"/>
            </a:br>
            <a:r>
              <a:rPr b="1" lang="uk-UA" sz="6000" spc="-1" strike="noStrike">
                <a:solidFill>
                  <a:srgbClr val="215968"/>
                </a:solidFill>
                <a:latin typeface="Comic Sans MS"/>
              </a:rPr>
              <a:t>Річка та її частини. </a:t>
            </a:r>
            <a:br>
              <a:rPr sz="6000"/>
            </a:br>
            <a:r>
              <a:rPr b="1" lang="uk-UA" sz="6000" spc="-1" strike="noStrike">
                <a:solidFill>
                  <a:srgbClr val="215968"/>
                </a:solidFill>
                <a:latin typeface="Comic Sans MS"/>
              </a:rPr>
              <a:t>Режим та живлення річок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836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Басейн річки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– територія суходолу, з якої річка за допомогою приток збирає атмосферні опади (Амазонка має площу водозбірного басейну 7 187 тис. кв. км.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fs.servers.soneta.ru/medium/001/756aec4d-5f70-4676-8746-d84b539afed4.jpg"/>
          <p:cNvPicPr/>
          <p:nvPr/>
        </p:nvPicPr>
        <p:blipFill>
          <a:blip r:embed="rId1"/>
          <a:stretch/>
        </p:blipFill>
        <p:spPr>
          <a:xfrm>
            <a:off x="155520" y="2492280"/>
            <a:ext cx="4762440" cy="352908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5076720" y="2492280"/>
            <a:ext cx="3687840" cy="3529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909720" y="61009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асейн Амазо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5078520" y="610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еандр і стариця Амазо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Басейн Дніп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08720" y="907920"/>
            <a:ext cx="3527280" cy="58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Це третя за площею басейну річка в Європі після Волги і Дунаю. Бере початок на Валдайській височині з болота Аксенінський Мох (Смоленська область, Росія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вжина річки – 2201 км (в межах України – 981 км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лоща басейну — 504 тис. км², з них в межах України — 291,4 тис. км²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5500800" cy="5697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8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ододіл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– лінія, що розділяє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асейн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уміжних водой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89080" y="1413000"/>
            <a:ext cx="5365440" cy="5329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5654520" y="2133720"/>
            <a:ext cx="3310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Уральські гори є вододілом  між басейнами рік Печори і Об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4"/>
          <p:cNvSpPr/>
          <p:nvPr/>
        </p:nvSpPr>
        <p:spPr>
          <a:xfrm>
            <a:off x="755640" y="3662280"/>
            <a:ext cx="734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ороги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– к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янисті  поперечні підвищення з твердих порід на дні річ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увають і на рівнинних, і на гірських річках. Вони заважають судноплавству (на Дніпрі між Дніпропетровськом і  Запоріжжям на поверхню виходило 9 гранітних порогів, які в 1932 р. були затоплені після спорудження Запорізької ГЕ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3078000"/>
            <a:ext cx="82296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4" descr=""/>
          <p:cNvPicPr/>
          <p:nvPr/>
        </p:nvPicPr>
        <p:blipFill>
          <a:blip r:embed="rId1"/>
          <a:stretch/>
        </p:blipFill>
        <p:spPr>
          <a:xfrm>
            <a:off x="-396720" y="0"/>
            <a:ext cx="9216720" cy="3662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ПОРОГИ на Дніпрі до спорудження Запорізької ГЕ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81160" y="1413000"/>
            <a:ext cx="8538840" cy="5256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ПОРОГИ на річці Косью (Ура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338040" y="1413000"/>
            <a:ext cx="8379000" cy="5005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РІВНИННА РІ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Объект 3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4662360" cy="3816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"/>
          <p:cNvPicPr/>
          <p:nvPr/>
        </p:nvPicPr>
        <p:blipFill>
          <a:blip r:embed="rId2"/>
          <a:stretch/>
        </p:blipFill>
        <p:spPr>
          <a:xfrm>
            <a:off x="5025960" y="2924280"/>
            <a:ext cx="3952800" cy="3384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179280" y="5322960"/>
            <a:ext cx="484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іссісіпі (Північна Амери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025960" y="1700280"/>
            <a:ext cx="395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аран (Південна Пмери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ОРІНО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953240" cy="3703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itravel.by/file/pic/article/itravel_by/img_2985162.jpg"/>
          <p:cNvPicPr/>
          <p:nvPr/>
        </p:nvPicPr>
        <p:blipFill>
          <a:blip r:embed="rId2"/>
          <a:stretch/>
        </p:blipFill>
        <p:spPr>
          <a:xfrm>
            <a:off x="3995640" y="2792520"/>
            <a:ext cx="5004000" cy="378288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395280" y="515772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іо-Оріноко в районі Венесу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5148360" y="1557360"/>
            <a:ext cx="385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Найвищий водоспад світу – Анхель (1054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Річка Ніагара та знаменитий водоспад (53 м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55640" y="1592280"/>
            <a:ext cx="7201080" cy="5005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Calibri"/>
              </a:rPr>
              <a:t>Найвищий водоспад України УЧАН-СУ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16000" y="1341000"/>
            <a:ext cx="42483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оспад у Криму, на однойменній річці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зташований на висоті 390 м над рівнем моря,на південному схилі гори Ай-Петрі, за 6 км на північ від Ялти. Висота водоспаду — 98,5 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321080" cy="543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М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оглибити та систематизувати знання про річк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отримані на уроках природознавства; ознайомитися із частинами річок, їх режимом та способами живленн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Навчитися визначати за картою напрямок течії річки, знаходити її частини; складати комплексну характеристику річки за типовим планом, користуючись картами атласу;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бережливо ставитися до запасів прісних вод гідросфер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72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ГІРСЬКА РІ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5829480"/>
            <a:ext cx="868680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«Підкова» річки Колора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539640" y="789120"/>
            <a:ext cx="784872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ВИДИ ЖИВЛЕННЯ РОЧ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Дощов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Снігов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ідземними вод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Талими льодовиковими вод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Мішане (переважання одного з джерел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Дніпро має мішане живлення. Взимку живиться підземними водами, навесні талими, а восени дощовими і підземними. Тому кількість води в річці за сезонами змінюєть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РЕЖИМ РІ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6640"/>
            <a:ext cx="8229600" cy="26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Режим річки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– це зміна рівня води в річці протягом рок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Повінь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– найвищий рівень води в річці, викликаний основним джерелом живлення в один і той самий час (більшість річок України повноводні навесні під час танення снігу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3419640" y="3567240"/>
            <a:ext cx="5627520" cy="3193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24000" y="4076640"/>
            <a:ext cx="36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овінь на річках Закарпатт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ежень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– період найнижчого рівня води в річц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80360" cy="512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333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аводок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– раптове короткочасне підвищення рівня води в річці. Вони трапляються будь-якої пори року після випадання сильних дощів або відлиг (річки Карпат і Кримських гір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7632720" cy="388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ьодоста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еріод нерухомого льодового покриву на річці (зим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ьодохі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рух крижин і крижаних полів на річках під дією течії чи вітр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427640" y="2781360"/>
            <a:ext cx="4395600" cy="342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266760" y="2797200"/>
            <a:ext cx="3873600" cy="3395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31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ЗАБРУДНЕННЯ РІЧОК УКРАЇ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Основні забруднювачі води: хімічні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н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афтопереробні, целюлозно-паперові заводи; гірничо-рудна промисловість, тваринницькі комплекс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Особливо небезпечні СМЗ (синтетичні миючі засоби), які надзвичайно стійкі і зберігаються у воді роками (бурхливе розмноження синьо-зелених водоростей – «цвітіння» води, «замор» риби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Біологічне забруднення спричиняється надходженням зі стічними водами мікроорганізмів (бактерій, вірусів, спор грибів, яєць червів), які  є хвороботворними для людей та інших живих істо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Перше місце серед забруднювачів посідають неочищені комунально-побутові стоки цукрових заводів м’ясокомбінатів, шкіряних фабрик (у стоках були виявлені збудники холери, дезинтерії, гепатиту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В.М.Пєсков сказав: «Річки треба вважати найважливішою державною цінністю. Тільки так можна зберегти Радість, яку нам дають води, що течуть, і можливість у будь-яку хвилину втамувати спрагу. Адже немає на Землі напою кращого, ніж склянка холодної чистої води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ГЕОГРАФІЧНИЙ ПРАКТИКУ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ористуючись картами атласу, з’ясуйте до басейну яких океанів належать річки: перший ряд – Хуанхе, Лєна, Інд; другий ряд – Дунай, Міссісіпі, Конго; третій ряд – Волга, Парана, Ні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. Відповіді на проблемні питан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 Практична ро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ладіть характеристику річки за вибором, користуючись планом у таблиц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робіть висновок про зв'язок живлення та режиму річки з кліматом тієї території, де  вона протіка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Таблица 4" descr=""/>
          <p:cNvPicPr/>
          <p:nvPr/>
        </p:nvPicPr>
        <p:blipFill>
          <a:blip r:embed="rId1"/>
          <a:stretch/>
        </p:blipFill>
        <p:spPr>
          <a:xfrm>
            <a:off x="396720" y="3548160"/>
            <a:ext cx="8571240" cy="284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ПРОБЛЕМНІ ПИТ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Як течія річки пов’язана з рельефом території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Як режим та живлення річок пов’язані з кліматом території, по якій вони течу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ДОМАШНЄ ЗАВДАН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Опрацювати параграф 32 до статті «Робота річок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ідготувати повідомлення (презентації) про великі річки плане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Описати режим та живленні річки Рос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Закінчити практичну робот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Що таке річк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ічка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– це природний водний потік, що рухається в заглибленні, створеному його рухом – русл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6" descr=""/>
          <p:cNvPicPr/>
          <p:nvPr/>
        </p:nvPicPr>
        <p:blipFill>
          <a:blip r:embed="rId1"/>
          <a:stretch/>
        </p:blipFill>
        <p:spPr>
          <a:xfrm>
            <a:off x="468360" y="3376440"/>
            <a:ext cx="4298760" cy="30052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"/>
          <p:cNvPicPr/>
          <p:nvPr/>
        </p:nvPicPr>
        <p:blipFill>
          <a:blip r:embed="rId2"/>
          <a:stretch/>
        </p:blipFill>
        <p:spPr>
          <a:xfrm>
            <a:off x="5292720" y="3376440"/>
            <a:ext cx="3603600" cy="3005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СКЛАДОВІ РІ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итік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– місце, де ріка бере свій початок (джерело, льодовик, озеро, болото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Гирло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– місце впадіння річки в море, озеро чи іншу річ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ільшість річок несуть свої води до морів і океанів, тому вони належать до басейнів тих океанів, куди впадають. Якщо річка не має виходу до океану, вона відноситься до басейну внутрішнього сто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ВИДИ ГИР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ДЕЛЬТА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рло річки з рукавами, протоками та мілинами, які формуються внаслідок інтенсивного відкладення нанос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68360" y="3006720"/>
            <a:ext cx="4174920" cy="294012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1258920" y="597384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ельта Ні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s://encrypted-tbn2.gstatic.com/images?q=tbn:ANd9GcS3RItyjBGUSufMZyBQXUGozY6dp-zWATOzwjGaybmCBZjmkz9QIQ"/>
          <p:cNvPicPr/>
          <p:nvPr/>
        </p:nvPicPr>
        <p:blipFill>
          <a:blip r:embed="rId2"/>
          <a:stretch/>
        </p:blipFill>
        <p:spPr>
          <a:xfrm>
            <a:off x="5148360" y="3000240"/>
            <a:ext cx="3527280" cy="295272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5508720" y="59691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ельта Дуна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333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ЕСТУАРІЙ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норукавне, лійкоподібне гирло річки, що розширюється в напрямку моря.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ворюється, коли море затоплює гирло річки, а припливи та відпливи виносять осадові породи в море і не дають естуарію заповнитися та перетворитися на дельт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Це відбувається, коли прилегла до естуарію частина моря має велику глибин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s://encrypted-tbn0.gstatic.com/images?q=tbn:ANd9GcQKOsmb2InL8R0qXieeaymW-c76bOPPVF-3pTc2oW2JeZXyHdQh"/>
          <p:cNvPicPr/>
          <p:nvPr/>
        </p:nvPicPr>
        <p:blipFill>
          <a:blip r:embed="rId1"/>
          <a:stretch/>
        </p:blipFill>
        <p:spPr>
          <a:xfrm>
            <a:off x="403200" y="3540240"/>
            <a:ext cx="4103640" cy="272088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47560" y="62611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Естуарій річки Пар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http://dic.academic.ru/pictures/wiki/files/82/River_Plate.jpg"/>
          <p:cNvPicPr/>
          <p:nvPr/>
        </p:nvPicPr>
        <p:blipFill>
          <a:blip r:embed="rId2"/>
          <a:stretch/>
        </p:blipFill>
        <p:spPr>
          <a:xfrm>
            <a:off x="4788000" y="3475080"/>
            <a:ext cx="4105080" cy="3192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07640" y="810720"/>
            <a:ext cx="878508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ічкова долина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– звивисте заглиблення, що простягається від витока до гир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ічище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– найглибша частина річкової долини, де водний потік постій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Тераси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– території, розташовані вище заплави, що виникли внаслідок руйнівної дії вод річки (ніколи не заливаються водою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пла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частина річкової долини, що лежить вище рівня води в річці і періодично затоплюється під час повен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900000" y="3789360"/>
            <a:ext cx="7417080" cy="288756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2484360" y="22716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Будова річкової дол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39640" y="11592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Річкова систем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головна річка з притоками (праві і ліві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еандр 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плавний вигин річища рі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Стариця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  — відокремлена від річки ділянка (зазвичай м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еандр) її колишнього річища або озеро, що лежить у старих залишених річкою річищах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108000" y="1989000"/>
            <a:ext cx="884232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0:01:33Z</dcterms:created>
  <dc:creator>Админ</dc:creator>
  <dc:description/>
  <dc:language>en-US</dc:language>
  <cp:lastModifiedBy>Admin</cp:lastModifiedBy>
  <dcterms:modified xsi:type="dcterms:W3CDTF">2013-12-02T09:33:57Z</dcterms:modified>
  <cp:revision>20</cp:revision>
  <dc:subject/>
  <dc:title>Води суходолу. Річка та її частини. Режим та живлення річок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11000000000001024140</vt:lpwstr>
  </property>
</Properties>
</file>