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EDB-56CE-4F24-92DC-24840E66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73F-4150-4D9C-B8BA-AFC428DB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8CF-52DF-411F-86EE-EE657033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829-B091-4674-87A0-B76D9745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C45F-D55F-4C65-A427-C8ADEE5B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4BF2-83CA-40AB-B2E3-6967AE04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C593-60F1-445E-A27D-FB0DBF96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E905-B7BC-40D3-8588-0F6359D9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0692-491E-4C35-91F4-6A2EFC39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4C4E-CF9A-4239-A3B9-DE18585D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6393-A53F-4C25-A39A-32CD799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1C7-1722-48E8-94FD-0E151629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E345-DE1F-4EE5-AA48-66D5073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9E74-2580-477F-8FC1-8D9FDA66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EF36-63AE-4522-95E3-CBB84853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A94A-B466-4C31-84C9-253A8B33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FD47-E0F3-4F47-A10B-AE42EDCC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BAA-2EF1-45C1-B974-00829795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08A-E63C-4D45-9388-6913F820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FE2-FB7E-4FF3-8AA0-FC11EB1F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069-B19C-4651-A67A-500676AE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D38-5E3E-4672-84D8-D3DE7CE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3FB-EE62-4C03-9933-0A43378C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E8D-12B2-4FF9-AC2B-DBA2C2B0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60EB-3AB7-4EB5-B0C3-84CD193D781D}" type="slidenum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58B4-ECF3-43FD-A390-0B80068773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тернет-ресур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ttp://bit.ly/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QF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ttp://bit.ly/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19VKQ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ttp://bit.ly/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H7ju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ttp://bit.ly/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19VKRH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мінальний ВВП на душу насел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rcRect l="0" t="0" r="0" b="-82"/>
          <a:stretch/>
        </p:blipFill>
        <p:spPr>
          <a:xfrm>
            <a:off x="857160" y="1428840"/>
            <a:ext cx="3260880" cy="5143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3295440" cy="50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3286080" y="1000080"/>
            <a:ext cx="257184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7"/>
          <p:cNvSpPr/>
          <p:nvPr/>
        </p:nvSpPr>
        <p:spPr>
          <a:xfrm>
            <a:off x="4643280" y="5572080"/>
            <a:ext cx="3500640" cy="357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5840" y="20718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вартість кінцевих товарів і послуг, які вироблені за рік у даній країні і за кордоном, але не враховують іноземних фірм та іноземців на території даної країн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285840" y="28584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ловий національний продукт (ВНП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00040" y="178596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овостворена вартість усіх товарів і послуг у межах держави за рі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1405080" y="363600"/>
            <a:ext cx="66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ціональний дохід (НД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1357200" y="435780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740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раховує податків та відрахувань на зношеність обладнання у процесі виробниц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декс розвитку людського потенціалу (ІРЛ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7120" y="2214720"/>
          <a:ext cx="8572680" cy="3987720"/>
        </p:xfrm>
        <a:graphic>
          <a:graphicData uri="http://schemas.openxmlformats.org/drawingml/2006/table">
            <a:tbl>
              <a:tblPr/>
              <a:tblGrid>
                <a:gridCol w="3459240"/>
                <a:gridCol w="2500200"/>
                <a:gridCol w="2613240"/>
              </a:tblGrid>
              <a:tr h="97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и ІЛР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и по Україн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ітові показ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ий показ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7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3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тривалістю жит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6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івнем осві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еальним ВВ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1 особ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,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,5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rcRect l="0" t="0" r="77" b="0"/>
          <a:stretch/>
        </p:blipFill>
        <p:spPr>
          <a:xfrm>
            <a:off x="714240" y="0"/>
            <a:ext cx="73580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ляхи підвищення ефективності економічного потенціалу Украї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480" y="1885680"/>
            <a:ext cx="85438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вадження новітніх технологій, випуск якісної конкурентноспроможної продукції, випереджаючий розвиток наукомістких та високотехнологічних виробниц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іональне використання кваліфікованих трудових ресурс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іональне використання природних ресурсів: упровадження ресурсо- і енергозберігаючих та безвідходних технологі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учення внутрішніх і зовнішніх інвестиці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державна підтримка пріоритетних сфер нау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е використанн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манітних форм інформації для задоволення відповідних потреб суспіль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5000" y="356760"/>
            <a:ext cx="31003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10.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28760" y="1785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ономічний потенціал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Прямоугольник 5" descr=""/>
          <p:cNvPicPr/>
          <p:nvPr/>
        </p:nvPicPr>
        <p:blipFill>
          <a:blip r:embed="rId1"/>
          <a:stretch/>
        </p:blipFill>
        <p:spPr>
          <a:xfrm>
            <a:off x="12600" y="4535640"/>
            <a:ext cx="897264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5000" y="356760"/>
            <a:ext cx="31003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10.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28760" y="1785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ономічний потенціал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Прямоугольник 5" descr=""/>
          <p:cNvPicPr/>
          <p:nvPr/>
        </p:nvPicPr>
        <p:blipFill>
          <a:blip r:embed="rId1"/>
          <a:stretch/>
        </p:blipFill>
        <p:spPr>
          <a:xfrm>
            <a:off x="12600" y="4535640"/>
            <a:ext cx="897264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2560" y="1856880"/>
            <a:ext cx="900108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 про економічний потенціал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ові економічного потенціалу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ники соціально-економічного розвитку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хи підвищення ефективності економічного потенціалу України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ономічний потенці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4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 сукупність економічних можливостей, які можна використати  для економічного зростання й соціально-економічного прогресу краї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Диаграмма 4" descr=""/>
          <p:cNvPicPr/>
          <p:nvPr/>
        </p:nvPicPr>
        <p:blipFill>
          <a:blip r:embed="rId1"/>
          <a:stretch/>
        </p:blipFill>
        <p:spPr>
          <a:xfrm>
            <a:off x="-50760" y="-50760"/>
            <a:ext cx="9245520" cy="6959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ономічний потенці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і міжгалузеві компле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нена транспортна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овані трудові ресур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гідне економіко-географічне полож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ні площі з родючими чорнозем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тливі агрокліматичні ресур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ні рекреаційні ресур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явність різноманітних корисних коп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а наукова б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ономічний потенціал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9760" y="571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важливіші показники розвитку економіки країн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6760" y="21430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овий внутрішній продукт (ВВ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одержимое 2"/>
          <p:cNvSpPr/>
          <p:nvPr/>
        </p:nvSpPr>
        <p:spPr>
          <a:xfrm>
            <a:off x="428760" y="3071880"/>
            <a:ext cx="8858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овий національний продукт (ВН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428760" y="4000680"/>
            <a:ext cx="6500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дохід (Н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одержимое 2"/>
          <p:cNvSpPr/>
          <p:nvPr/>
        </p:nvSpPr>
        <p:spPr>
          <a:xfrm>
            <a:off x="428760" y="500076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екс розвитку людського потенціалу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ІРЛ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3840" y="1714680"/>
            <a:ext cx="89298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сукупна ринкова вартість кінцевого продукту, створеного за певний період у країні з використанням чинників виробництва, що належить цій країні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571680" y="21420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ловий внутрішній продукт (ВВП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1357200" y="471492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740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ВП входить і продукція, що вироблена підприємствами, що належать іноземним власникам у цій країн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2:53:51Z</dcterms:created>
  <dc:creator>22</dc:creator>
  <dc:description/>
  <dc:language>en-US</dc:language>
  <cp:lastModifiedBy>Admin</cp:lastModifiedBy>
  <dcterms:modified xsi:type="dcterms:W3CDTF">2013-11-21T07:12:24Z</dcterms:modified>
  <cp:revision>48</cp:revision>
  <dc:subject/>
  <dc:title>Економічний потенціал Украї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7000000000001024140</vt:lpwstr>
  </property>
</Properties>
</file>