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8DA-AC95-439F-B5F3-0F290555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074-687E-468D-9C68-8D0EBECE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AE1-9EB3-40AD-BCBD-1C2E49F8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332-5EFD-46FF-A568-CB8BE5A4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FC46-537B-4705-82CA-8A92FC7F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7203-ED24-4E40-83E5-EB1B7757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322F-B656-4E25-A894-CDA7DC60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F0C4-7E4C-4245-BB46-E111B8EC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B1FC-38C5-4B42-A1C0-B9521849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8DCB-C636-464D-A6E2-F0298E7D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43A0-6688-4650-8BF9-66A47C5B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29E-5FFE-436B-8BA5-6BD6BB96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6E74-1389-4B02-BA9A-05462212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AEC7-B785-4AAB-87FF-2B082817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7772-9AB0-417B-ADC9-3B2E01F8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6332-247F-4485-9A54-08F52247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616C-81A2-4DE1-990B-FBD98F08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04ED-6A8B-4473-8D48-AF12CC72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636-5793-43CA-91BC-7FDC67E8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222-D836-43D1-8554-6DAA81FC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B6F-B931-4440-9842-174E61C6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A93-A744-4E2A-8B62-C8B71C3E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309-328B-4BE8-A49C-A08E4F9E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A78-1844-459E-865E-27ED9999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BD75-25A8-4FC4-9B51-0342D0256698}" type="slidenum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AB09-9D21-4779-9516-D8F39B1A86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нтернет-ресур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http://bit.ly/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QF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http://bit.ly/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19VKQD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http://bit.ly/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H7juN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http://bit.ly/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19VKRH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мінальний ВВП на душу насел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rcRect l="0" t="0" r="0" b="-82"/>
          <a:stretch/>
        </p:blipFill>
        <p:spPr>
          <a:xfrm>
            <a:off x="857160" y="1428840"/>
            <a:ext cx="3260880" cy="5143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3295440" cy="500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3286080" y="1000080"/>
            <a:ext cx="2571840" cy="486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7"/>
          <p:cNvSpPr/>
          <p:nvPr/>
        </p:nvSpPr>
        <p:spPr>
          <a:xfrm>
            <a:off x="4643280" y="5572080"/>
            <a:ext cx="3500640" cy="357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5840" y="20718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вартість кінцевих товарів і послуг, які вироблені за рік у даній країні і за кордоном, але не враховують іноземних фірм та іноземців на території даної країни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285840" y="28584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ловий національний продукт (ВНП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00040" y="178596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овостворена вартість усіх товарів і послуг у межах держави за рі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1405080" y="363600"/>
            <a:ext cx="66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ціональний дохід (НД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1357200" y="435780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7400" indent="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раховує податків та відрахувань на зношеність обладнання у процесі виробниц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ндекс розвитку людського потенціалу (ІРЛ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57120" y="2214720"/>
          <a:ext cx="8572680" cy="3987720"/>
        </p:xfrm>
        <a:graphic>
          <a:graphicData uri="http://schemas.openxmlformats.org/drawingml/2006/table">
            <a:tbl>
              <a:tblPr/>
              <a:tblGrid>
                <a:gridCol w="3459240"/>
                <a:gridCol w="2500200"/>
                <a:gridCol w="2613240"/>
              </a:tblGrid>
              <a:tr h="97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и ІЛР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и по Україн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ітові показ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3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ий показ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,7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,7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3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тривалістю жит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6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3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рівнем осві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,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реальним ВВ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 1 особ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,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,5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rcRect l="0" t="0" r="77" b="0"/>
          <a:stretch/>
        </p:blipFill>
        <p:spPr>
          <a:xfrm>
            <a:off x="714240" y="0"/>
            <a:ext cx="73580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ляхи підвищення ефективності економічного потенціалу Украї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5480" y="1885680"/>
            <a:ext cx="85438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вадження новітніх технологій, випуск якісної конкурентноспроможної продукції, випереджаючий розвиток наукомістких та високотехнологічних виробниц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іональне використання кваліфікованих трудових ресурс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іональне використання природних ресурсів: упровадження ресурсо- і енергозберігаючих та безвідходних технологі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учення внутрішніх і зовнішніх інвестиці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а державна підтримка пріоритетних сфер нау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вне використанн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оманітних форм інформації для задоволення відповідних потреб суспіль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5000" y="356760"/>
            <a:ext cx="31003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10.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28760" y="1785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ономічний потенціал Украї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Прямоугольник 5" descr=""/>
          <p:cNvPicPr/>
          <p:nvPr/>
        </p:nvPicPr>
        <p:blipFill>
          <a:blip r:embed="rId1"/>
          <a:stretch/>
        </p:blipFill>
        <p:spPr>
          <a:xfrm>
            <a:off x="12600" y="4535640"/>
            <a:ext cx="897264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5000" y="356760"/>
            <a:ext cx="31003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10.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28760" y="1785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ономічний потенціал Украї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Прямоугольник 5" descr=""/>
          <p:cNvPicPr/>
          <p:nvPr/>
        </p:nvPicPr>
        <p:blipFill>
          <a:blip r:embed="rId1"/>
          <a:stretch/>
        </p:blipFill>
        <p:spPr>
          <a:xfrm>
            <a:off x="12600" y="4535640"/>
            <a:ext cx="897264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2560" y="1856880"/>
            <a:ext cx="9001080" cy="28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-43200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тя про економічний потенціал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ові економічного потенціалу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ники соціально-економічного розвитку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хи підвищення ефективності економічного потенціалу України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ономічний потенціа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4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 сукупність економічних можливостей, які можна використати  для економічного зростання й соціально-економічного прогресу краї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Диаграмма 4" descr=""/>
          <p:cNvPicPr/>
          <p:nvPr/>
        </p:nvPicPr>
        <p:blipFill>
          <a:blip r:embed="rId1"/>
          <a:stretch/>
        </p:blipFill>
        <p:spPr>
          <a:xfrm>
            <a:off x="-50760" y="-50760"/>
            <a:ext cx="9245520" cy="6959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ономічний потенціа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ужні міжгалузеві комплек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инена транспортна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іфіковані трудові ресур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гідне економіко-географічне полож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ні площі з родючими чорнозем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ятливі агрокліматичні ресур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ні рекреаційні ресур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явність різноманітних корисних копа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ужна наукова б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ономічний потенціал Украї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9760" y="57132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важливіші показники розвитку економіки країни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6760" y="21430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овий внутрішній продукт (ВВ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одержимое 2"/>
          <p:cNvSpPr/>
          <p:nvPr/>
        </p:nvSpPr>
        <p:spPr>
          <a:xfrm>
            <a:off x="428760" y="3071880"/>
            <a:ext cx="8858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овий національний продукт (ВН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одержимое 2"/>
          <p:cNvSpPr/>
          <p:nvPr/>
        </p:nvSpPr>
        <p:spPr>
          <a:xfrm>
            <a:off x="428760" y="4000680"/>
            <a:ext cx="6500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дохід (Н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одержимое 2"/>
          <p:cNvSpPr/>
          <p:nvPr/>
        </p:nvSpPr>
        <p:spPr>
          <a:xfrm>
            <a:off x="428760" y="500076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екс розвитку людського потенціалу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ІРЛ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fefd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3840" y="1714680"/>
            <a:ext cx="89298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сукупна ринкова вартість кінцевого продукту, створеного за певний період у країні з використанням чинників виробництва, що належить цій країні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571680" y="214200"/>
            <a:ext cx="85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ловий внутрішній продукт (ВВП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1357200" y="471492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7400" indent="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ВВП входить і продукція, що вироблена підприємствами, що належать іноземним власникам у цій країн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2:53:51Z</dcterms:created>
  <dc:creator>22</dc:creator>
  <dc:description/>
  <dc:language>en-US</dc:language>
  <cp:lastModifiedBy>Admin</cp:lastModifiedBy>
  <dcterms:modified xsi:type="dcterms:W3CDTF">2013-11-21T07:12:24Z</dcterms:modified>
  <cp:revision>48</cp:revision>
  <dc:subject/>
  <dc:title>Економічний потенціал Украї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07000000000001024140</vt:lpwstr>
  </property>
</Properties>
</file>