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0D6-D2AF-4AA6-892C-03E4808C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285-07A2-486F-A42E-46034A6C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C2D-115C-4239-BF7D-634DB06C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EC4-E80B-4E52-9003-43F893C5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EB23-A100-4B8D-92EE-041039EC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0F5-2374-4312-B690-ADC6DB13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8B13-D7CA-4EED-A6EE-E092A1B6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C2A8-145F-4865-93FD-F4AD044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0076-15BA-4A03-BD06-5E592F3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4C15-8CFD-45F3-9A0C-231C6C59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4C57-0E3D-4782-9557-1C0749A9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ED0-58F8-4625-B338-0D8915E6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8C5C-BDD5-4BA3-9E7F-5DF2585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4ECC-7D0B-4C53-9532-007FE24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8311-8114-4541-87DC-961DB60E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8A0E-555F-430C-903A-C6F9217D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31DC-4E5F-4CD7-BC18-EBF8050C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3FE-6B78-46C6-92A2-C7B4754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4C3-2EE6-453A-A45B-ED7F79D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BE3-0AFE-4B50-A15F-10DC6C5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06B-3AD4-41F7-A8CC-795D4BAD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A40-5C36-4558-92A2-02CE6D4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0BE-DE21-43EF-966E-6F17358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153-1276-4542-9C72-3EA8218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1CAD-06CD-418C-9425-ECC473CFFE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9D7-AC5B-4B87-B6D1-FBF6EEB353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393200">
            <a:off x="6732720" y="1484280"/>
            <a:ext cx="1547640" cy="324648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656640 h 3246480"/>
              <a:gd name="textAreaBottom" fmla="*/ 2265120 h 32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0701"/>
                </a:lnTo>
                <a:arcTo wR="21600" hR="8740" stAng="0" swAng="2931143"/>
                <a:lnTo>
                  <a:pt x="7200" y="21100"/>
                </a:lnTo>
                <a:lnTo>
                  <a:pt x="0" y="18460"/>
                </a:lnTo>
                <a:lnTo>
                  <a:pt x="7200" y="14819"/>
                </a:lnTo>
                <a:lnTo>
                  <a:pt x="7200" y="16979"/>
                </a:lnTo>
                <a:arcTo wR="21600" hR="8740" stAng="2931143" swAng="-2774209"/>
                <a:lnTo>
                  <a:pt x="21464" y="9720"/>
                </a:lnTo>
                <a:arcTo wR="21600" hR="8740" stAng="-156934" swAng="-5243066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0701"/>
                </a:lnTo>
                <a:arcTo wR="21600" hR="8740" stAng="0" swAng="-156934"/>
                <a:lnTo>
                  <a:pt x="21464" y="9720"/>
                </a:lnTo>
                <a:arcTo wR="21600" hR="8740" stAng="-156934" swAng="-5243066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564800">
            <a:off x="611280" y="2731680"/>
            <a:ext cx="1939680" cy="4125960"/>
          </a:xfrm>
          <a:custGeom>
            <a:avLst/>
            <a:gdLst>
              <a:gd name="textAreaLeft" fmla="*/ 259560 w 1939680"/>
              <a:gd name="textAreaRight" fmla="*/ 1680120 w 1939680"/>
              <a:gd name="textAreaTop" fmla="*/ 825480 h 4125960"/>
              <a:gd name="textAreaBottom" fmla="*/ 2887920 h 412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3" stAng="-5400000" swAng="-5400000"/>
                <a:lnTo>
                  <a:pt x="0" y="10797"/>
                </a:lnTo>
                <a:arcTo wR="21600" hR="8643" stAng="10800000" swAng="-2912216"/>
                <a:lnTo>
                  <a:pt x="14400" y="21106"/>
                </a:lnTo>
                <a:lnTo>
                  <a:pt x="21600" y="18363"/>
                </a:lnTo>
                <a:lnTo>
                  <a:pt x="14400" y="14632"/>
                </a:lnTo>
                <a:lnTo>
                  <a:pt x="14400" y="16792"/>
                </a:lnTo>
                <a:arcTo wR="21600" hR="8643" stAng="7887784" swAng="2739605"/>
                <a:lnTo>
                  <a:pt x="168" y="9720"/>
                </a:lnTo>
                <a:arcTo wR="21600" hR="8643" stAng="-10627389" swAng="5227389"/>
                <a:close/>
              </a:path>
              <a:path fill="darkenLess" w="21600" h="21600">
                <a:moveTo>
                  <a:pt x="21600" y="0"/>
                </a:moveTo>
                <a:arcTo wR="21600" hR="8643" stAng="-5400000" swAng="-5400000"/>
                <a:lnTo>
                  <a:pt x="0" y="8643"/>
                </a:lnTo>
                <a:arcTo wR="21600" hR="8643" stAng="10800000" swAng="-172611"/>
                <a:lnTo>
                  <a:pt x="168" y="9720"/>
                </a:lnTo>
                <a:arcTo wR="21600" hR="8643" stAng="-10627389" swAng="5227389"/>
                <a:close/>
              </a:path>
            </a:pathLst>
          </a:cu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11485440" cy="68738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262480" y="1393920"/>
            <a:ext cx="1224720" cy="1109160"/>
            <a:chOff x="5262480" y="1393920"/>
            <a:chExt cx="1224720" cy="1109160"/>
          </a:xfrm>
        </p:grpSpPr>
        <p:sp>
          <p:nvSpPr>
            <p:cNvPr id="110" name=""/>
            <p:cNvSpPr/>
            <p:nvPr/>
          </p:nvSpPr>
          <p:spPr>
            <a:xfrm rot="915000">
              <a:off x="5292720" y="1494000"/>
              <a:ext cx="431640" cy="288720"/>
            </a:xfrm>
            <a:custGeom>
              <a:avLst/>
              <a:gdLst>
                <a:gd name="textAreaLeft" fmla="*/ 98280 w 431640"/>
                <a:gd name="textAreaRight" fmla="*/ 333360 w 43164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51640" y="1854000"/>
              <a:ext cx="360360" cy="288720"/>
            </a:xfrm>
            <a:custGeom>
              <a:avLst/>
              <a:gdLst>
                <a:gd name="textAreaLeft" fmla="*/ 82080 w 360360"/>
                <a:gd name="textAreaRight" fmla="*/ 278280 w 36036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2000" y="2214360"/>
              <a:ext cx="288720" cy="288720"/>
            </a:xfrm>
            <a:custGeom>
              <a:avLst/>
              <a:gdLst>
                <a:gd name="textAreaLeft" fmla="*/ 65880 w 288720"/>
                <a:gd name="textAreaRight" fmla="*/ 222840 w 28872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2000" y="1854000"/>
              <a:ext cx="431640" cy="360000"/>
            </a:xfrm>
            <a:custGeom>
              <a:avLst/>
              <a:gdLst>
                <a:gd name="textAreaLeft" fmla="*/ 98280 w 431640"/>
                <a:gd name="textAreaRight" fmla="*/ 333360 w 431640"/>
                <a:gd name="textAreaTop" fmla="*/ 82080 h 360000"/>
                <a:gd name="textAreaBottom" fmla="*/ 27792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402200">
              <a:off x="6011640" y="1494000"/>
              <a:ext cx="431640" cy="288720"/>
            </a:xfrm>
            <a:custGeom>
              <a:avLst/>
              <a:gdLst>
                <a:gd name="textAreaLeft" fmla="*/ 98280 w 431640"/>
                <a:gd name="textAreaRight" fmla="*/ 333360 w 43164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250920" y="4121280"/>
            <a:ext cx="88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„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аруватий пиріг атмосфери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56000" y="3357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356000" y="278136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56000" y="3860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400536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роп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335772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страт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2637000"/>
            <a:ext cx="378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мез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916280"/>
            <a:ext cx="385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ерм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549360"/>
            <a:ext cx="399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екз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3573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19640" y="292428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зон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219640" y="191628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іон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565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4076640"/>
            <a:ext cx="719280" cy="2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4508640"/>
            <a:ext cx="1079280" cy="215640"/>
          </a:xfrm>
          <a:prstGeom prst="cloudCallout">
            <a:avLst>
              <a:gd name="adj1" fmla="val 60884"/>
              <a:gd name="adj2" fmla="val 698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1590480" cy="2492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020000" y="3849840"/>
            <a:ext cx="1728720" cy="86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88000" y="4437000"/>
            <a:ext cx="1079640" cy="216000"/>
          </a:xfrm>
          <a:prstGeom prst="cloudCallout">
            <a:avLst>
              <a:gd name="adj1" fmla="val -125884"/>
              <a:gd name="adj2" fmla="val 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773280"/>
            <a:ext cx="5568840" cy="4176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75160" y="0"/>
            <a:ext cx="5568840" cy="41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871640" y="539640"/>
            <a:ext cx="6661080" cy="4996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0" y="0"/>
            <a:ext cx="914400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ропосфера - "кухня" пого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0" y="2212920"/>
            <a:ext cx="6192720" cy="46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446640" y="2544840"/>
            <a:ext cx="5697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98360" y="-306360"/>
            <a:ext cx="6570720" cy="28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06280" y="-396720"/>
            <a:ext cx="8731440" cy="40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Людям яких професій 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доводиться  враховувати стан погоди? 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І чому?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205240" y="1584360"/>
            <a:ext cx="3938760" cy="527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097000" y="1808280"/>
            <a:ext cx="3691080" cy="3568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0" y="2394000"/>
            <a:ext cx="4254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62000" y="279360"/>
            <a:ext cx="8775720" cy="28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Види спостережен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за погодо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4689360"/>
            <a:ext cx="51940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еорологічн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1640" y="3159000"/>
            <a:ext cx="4969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логічн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76280" y="2484360"/>
            <a:ext cx="1215720" cy="220500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02360" y="2438280"/>
            <a:ext cx="1079640" cy="67644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52560" y="5364000"/>
            <a:ext cx="3608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meteora-атмосферні явища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68720" y="3878280"/>
            <a:ext cx="3608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грец. phainomena — явища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97000" y="2933640"/>
            <a:ext cx="3330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ТіНОМЕТРі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37000" y="5138640"/>
            <a:ext cx="365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"споглядати"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тмосферні процеси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3564000"/>
            <a:ext cx="37004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перенос і перетворенн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промянювання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97360" y="4643280"/>
            <a:ext cx="328428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НОП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72000" y="2979720"/>
            <a:ext cx="31194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246640" y="3564000"/>
            <a:ext cx="35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оптичні явищ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іраж, шарові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2000" y="0"/>
            <a:ext cx="8731080" cy="24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рогнозування погоди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лише на наукових засадах метеорологі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57360" y="1943280"/>
            <a:ext cx="2023920" cy="85536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0560" y="1854360"/>
            <a:ext cx="45720" cy="265428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898640"/>
            <a:ext cx="1439640" cy="99072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6280" y="0"/>
            <a:ext cx="87296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b7e7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„</a:t>
            </a: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b7e7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гування” атмосфер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b7e7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b7e7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негативний вплив людин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b7e7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854360"/>
            <a:ext cx="8802720" cy="1395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ffffff"/>
                </a:solidFill>
                <a:uFillTx/>
                <a:latin typeface="Arial"/>
              </a:rPr>
              <a:t>СМОГ (англ. smoke - дим й fog - туман),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 аерозоль, що складається з диму, тумана й пилу. Виникає в атмосфері промислових міст, які розміщенні у котловині, із часток сажі, попелу. У жарку суху погоду спостерігається у вигляді жовтуватої завіс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Є причиною зниження видимості, подразнення очей, гибелі рослинності, а особливо - захворювань органів дихання, кровообігу люди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Під час катастрофічного смогу в Бельгії протягом двох днів загинуло 60 чол., 2 тис. постраждали в різній мірі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81640" y="3203640"/>
            <a:ext cx="4662360" cy="36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ОЗОНОВА ДІР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розрив озоносфери (діаметром 1000 км), виник над Антарктидою й переміщається до Австралії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онова діра виникла в результаті антропогенних впливі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онова діра становить небезпеку для живих організмів, оскільки озоновий шар захищає поверхню Землі від надмірних доз ультрафіолетового випромінювання  Сонц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онова діра була виявлена англ. дослідником Дж. Фарманом в 1982, а у 1992 озонова діра була відкрита й над Арктик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1985 прийнята Віденська конвенція про охорону озонового шар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3392640"/>
            <a:ext cx="4481640" cy="3465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КИСЛОТНІ ДОЩІ</a:t>
            </a: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 (кислі дощі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), атмосферні опади  з підвищеним вмістом промислових викиді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У результаті кислотних дощів розвивається окислення ґрунту й водойм, що приводить до деградації екосистем, загибелі окремих видів риб й ін. організмі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значається на родючості ґрунтів, зниженні приросту лісів й їхньому висиханні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ислотні дощі особливо характерні для країн Європи, для США, Канади, промислових районів Російської Федерації, України й і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717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35280" y="404280"/>
            <a:ext cx="3708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b7e7ff"/>
                </a:solidFill>
                <a:uFillTx/>
                <a:latin typeface="Arial"/>
              </a:rPr>
              <a:t>ГОЛОВНІ ПАРНИКОВІ ГАЗИ:</a:t>
            </a:r>
            <a:br>
              <a:rPr sz="36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вуглекислий газ,</a:t>
            </a:r>
            <a:br>
              <a:rPr sz="40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водяна пара,</a:t>
            </a:r>
            <a:br>
              <a:rPr sz="40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метан, </a:t>
            </a:r>
            <a:br>
              <a:rPr sz="40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оксиди азоту, фреони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6600"/>
                </a:solidFill>
                <a:latin typeface="Arial"/>
              </a:rPr>
              <a:t>Глобальне потепління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0" name="inozem066" descr=""/>
          <p:cNvPicPr/>
          <p:nvPr/>
        </p:nvPicPr>
        <p:blipFill>
          <a:blip r:embed="rId2"/>
          <a:srcRect l="4029" t="0" r="0" b="6299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84720" y="0"/>
            <a:ext cx="1655640" cy="1773360"/>
          </a:xfrm>
          <a:prstGeom prst="rect">
            <a:avLst/>
          </a:prstGeom>
          <a:noFill/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Arial"/>
              </a:rPr>
              <a:t>НАСЛІДКИ ГЛОБАЛЬНОГО ПОТЕПЛІННЯ ТА ПАРНИКОВОГО ЕФЕКТУ ДЛЯ ЕКОСИСТЕМ ЗЕМЛІ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2000" y="3203280"/>
            <a:ext cx="875808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лобальне потепління для Землі має як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негативні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наслідки: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ідйом рівня океану, - вимирання білих ведмед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анення льодовиків;     - деградація вічної мерзлоти, та ін., так 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позитивні екологічні наслід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ростання продуктивності природних лісі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більшення врожайності культурних рослин й і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рім впливу на природну екосистему глобальне потепління також призведе й до значних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соціально-економічних наслідків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в енергетиці, сільському господарстві, охороні здоров'я та ін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6280" y="2079720"/>
            <a:ext cx="8775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Глобальне потепління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– швидке підвищення температури всієї планети, визнана науковим фактом з 1995 ро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8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8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8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62000" y="549360"/>
            <a:ext cx="8802720" cy="52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Impact"/>
              </a:rPr>
              <a:t>Дякую з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Impact"/>
              </a:rPr>
              <a:t>співпрац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6600"/>
                </a:solidFill>
                <a:latin typeface="Arial"/>
              </a:rPr>
              <a:t>Домашнє завдання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6640" y="1314000"/>
            <a:ext cx="85914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працювати  § 28 „Атмосфера” і §39 „Охорона атмосфери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ивчити визначення та підготуватись до усного термінологічного диктанту - опитуванн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исьмово поміркуйте над питанням: чому навіть влітку, коли температура дорівнює 34ºС, на вершинах деяких гір можна побачити „білі шапки” снігу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Заповніть таблицю „Позитивні і негативні впливи  людини на атмосферу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За РЯДАМИ підготувати на аркушах розміром А3 у файлі </a:t>
            </a:r>
            <a:r>
              <a:rPr b="0" i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проект „Хвороби” атмосфери”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мог, кислі дощі або озонові дір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розкрити сутність процесу, причини, які його викликають та наслідки до яких ці „хвороби” атмосфери” призводять). </a:t>
            </a: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ЗАХИ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6280" y="4873680"/>
          <a:ext cx="8370720" cy="1803240"/>
        </p:xfrm>
        <a:graphic>
          <a:graphicData uri="http://schemas.openxmlformats.org/drawingml/2006/table">
            <a:tbl>
              <a:tblPr/>
              <a:tblGrid>
                <a:gridCol w="4230720"/>
                <a:gridCol w="41400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пливи людини на атмосферу Земл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АТ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пособи забруднення повітря атмосфери людиною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ИТ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шляхи запобігання забруднення повітря атмосфери людино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06280" y="0"/>
            <a:ext cx="877572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Яке значення атмосфери для людей,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що живуть на планеті Земля?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снилось, как неведомая сила земную атмосферу унес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жарко так, вдруг, Солнце засветил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редсмертном хрипе замерла Земля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езде людские и животных трупы с глазами, вышедшими из орби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листья на деревьях сохли скупо, теряли свой зеленый ви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тихли ветры на Земле огромной, и стих совсем круговоро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воды пресные, довольно скром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пополнялись более из седых высо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, безнадежно суша иссыхалась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ночью наступали хол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ды в прудах, озерах не ставало, и реки опустели навсег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еориты землю сотрясали, рождая страшные видений с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на планете жутко рисовали безжизненный облик Лу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404640"/>
            <a:ext cx="6481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Impact"/>
              </a:rPr>
              <a:t>"Броня" плане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32000" y="2421000"/>
            <a:ext cx="640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Impact"/>
              </a:rPr>
              <a:t>„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Impact"/>
              </a:rPr>
              <a:t>Одяг" Земл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4365720"/>
            <a:ext cx="66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"Ковдра" плане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1640" y="1268280"/>
            <a:ext cx="8280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АТМ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овітря - природна суміш газ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51596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6280" y="0"/>
            <a:ext cx="875844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уд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атмосф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11485440" cy="687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9280" y="3573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2565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076640"/>
            <a:ext cx="719280" cy="2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4508640"/>
            <a:ext cx="1079280" cy="215640"/>
          </a:xfrm>
          <a:prstGeom prst="cloudCallout">
            <a:avLst>
              <a:gd name="adj1" fmla="val 60884"/>
              <a:gd name="adj2" fmla="val 698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4437000"/>
            <a:ext cx="1079640" cy="216000"/>
          </a:xfrm>
          <a:prstGeom prst="cloudCallout">
            <a:avLst>
              <a:gd name="adj1" fmla="val -125884"/>
              <a:gd name="adj2" fmla="val 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808280"/>
            <a:ext cx="9342360" cy="46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„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аруватий пирі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тмосфери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22360" y="2484360"/>
          <a:ext cx="8145360" cy="3768840"/>
        </p:xfrm>
        <a:graphic>
          <a:graphicData uri="http://schemas.openxmlformats.org/drawingml/2006/table">
            <a:tbl>
              <a:tblPr/>
              <a:tblGrid>
                <a:gridCol w="674640"/>
                <a:gridCol w="1935000"/>
                <a:gridCol w="719280"/>
                <a:gridCol w="1395360"/>
                <a:gridCol w="495360"/>
                <a:gridCol w="1440000"/>
                <a:gridCol w="1485720"/>
              </a:tblGrid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р атмосфе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го меж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на повітря атмо-, що місти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°ŧ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и, що відбуваються з °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ливості ша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екз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 txBox="1"/>
          <p:nvPr/>
        </p:nvSpPr>
        <p:spPr>
          <a:xfrm>
            <a:off x="250920" y="0"/>
            <a:ext cx="859608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амостійна робо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"Будова атмосфер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46640" y="4238640"/>
            <a:ext cx="4152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іва стор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37000" y="4643280"/>
            <a:ext cx="4152960" cy="3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ава стор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81280" y="5229360"/>
            <a:ext cx="4635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ередній ря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47:36Z</dcterms:created>
  <dc:creator>eXPerience</dc:creator>
  <dc:description/>
  <dc:language>en-US</dc:language>
  <cp:lastModifiedBy>User</cp:lastModifiedBy>
  <dcterms:modified xsi:type="dcterms:W3CDTF">2013-11-10T08:53:05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2000000000001024140</vt:lpwstr>
  </property>
</Properties>
</file>