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jpeg" ContentType="image/jpeg"/>
  <Override PartName="/ppt/media/image7.wmf" ContentType="image/x-wmf"/>
  <Override PartName="/ppt/media/image20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8CF-9F11-45EE-B6C3-AB931F25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820-FDDB-448E-99E7-C2F9EAC0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D87-64FB-4F12-8C8A-BA39322E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83F-0EFA-4397-B102-47C81357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EB70-8991-40AC-94C7-80F6BCA7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C392-F28A-4E73-B0C9-1DF653CD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B9DB-8A8F-430E-B15D-347B7990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949A-55CE-434F-B35F-39287228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E821-222B-4FB0-88B0-9C0D9E18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3021-B4F3-4D13-89A4-467EDAE2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8899-0B14-4316-911F-B7EA2C62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52E-77AD-4FBC-B5B1-31CA7BB4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8C2D-502F-4550-917C-38089146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248B-6D0A-4B2B-A29F-FEC5EC93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3691-440A-42F8-82FF-92C31EBB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E155-D7CD-4FCF-A395-4C2060FF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81D7-6D2A-4ECA-8E1B-0EF27012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323-12DD-41B2-909A-02D4D8A5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FC4-8DA6-4472-9F51-592411E7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D8B-26EE-4FAB-8EC9-22A60088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034E-A535-4960-9C2D-C79DF309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B44-F8AE-427D-BCCF-B3CACF3B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AFB3-F6FB-4F18-87C2-5D5DF8BC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24F5-5E60-4BD3-A938-C12D3846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EB10-20C1-4E21-A380-9C338589AA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F707-F44A-45FA-8376-A18EC5C6E1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rot="1393200">
            <a:off x="6732720" y="1484280"/>
            <a:ext cx="1547640" cy="3246480"/>
          </a:xfrm>
          <a:custGeom>
            <a:avLst/>
            <a:gdLst>
              <a:gd name="textAreaLeft" fmla="*/ 207360 w 1547640"/>
              <a:gd name="textAreaRight" fmla="*/ 1340280 w 1547640"/>
              <a:gd name="textAreaTop" fmla="*/ 656640 h 3246480"/>
              <a:gd name="textAreaBottom" fmla="*/ 2265120 h 324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40" stAng="-5400000" swAng="5400000"/>
                <a:lnTo>
                  <a:pt x="21600" y="10701"/>
                </a:lnTo>
                <a:arcTo wR="21600" hR="8740" stAng="0" swAng="2931143"/>
                <a:lnTo>
                  <a:pt x="7200" y="21100"/>
                </a:lnTo>
                <a:lnTo>
                  <a:pt x="0" y="18460"/>
                </a:lnTo>
                <a:lnTo>
                  <a:pt x="7200" y="14819"/>
                </a:lnTo>
                <a:lnTo>
                  <a:pt x="7200" y="16979"/>
                </a:lnTo>
                <a:arcTo wR="21600" hR="8740" stAng="2931143" swAng="-2774209"/>
                <a:lnTo>
                  <a:pt x="21464" y="9720"/>
                </a:lnTo>
                <a:arcTo wR="21600" hR="8740" stAng="-156934" swAng="-5243066"/>
                <a:close/>
              </a:path>
              <a:path fill="darkenLess" w="21600" h="21600">
                <a:moveTo>
                  <a:pt x="0" y="0"/>
                </a:moveTo>
                <a:arcTo wR="21600" hR="8740" stAng="-5400000" swAng="5400000"/>
                <a:lnTo>
                  <a:pt x="21600" y="10701"/>
                </a:lnTo>
                <a:arcTo wR="21600" hR="8740" stAng="0" swAng="-156934"/>
                <a:lnTo>
                  <a:pt x="21464" y="9720"/>
                </a:lnTo>
                <a:arcTo wR="21600" hR="8740" stAng="-156934" swAng="-5243066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9564800">
            <a:off x="611280" y="2731680"/>
            <a:ext cx="1939680" cy="4125960"/>
          </a:xfrm>
          <a:custGeom>
            <a:avLst/>
            <a:gdLst>
              <a:gd name="textAreaLeft" fmla="*/ 259560 w 1939680"/>
              <a:gd name="textAreaRight" fmla="*/ 1680120 w 1939680"/>
              <a:gd name="textAreaTop" fmla="*/ 825480 h 4125960"/>
              <a:gd name="textAreaBottom" fmla="*/ 2887920 h 412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43" stAng="-5400000" swAng="-5400000"/>
                <a:lnTo>
                  <a:pt x="0" y="10797"/>
                </a:lnTo>
                <a:arcTo wR="21600" hR="8643" stAng="10800000" swAng="-2912216"/>
                <a:lnTo>
                  <a:pt x="14400" y="21106"/>
                </a:lnTo>
                <a:lnTo>
                  <a:pt x="21600" y="18363"/>
                </a:lnTo>
                <a:lnTo>
                  <a:pt x="14400" y="14632"/>
                </a:lnTo>
                <a:lnTo>
                  <a:pt x="14400" y="16792"/>
                </a:lnTo>
                <a:arcTo wR="21600" hR="8643" stAng="7887784" swAng="2739605"/>
                <a:lnTo>
                  <a:pt x="168" y="9720"/>
                </a:lnTo>
                <a:arcTo wR="21600" hR="8643" stAng="-10627389" swAng="5227389"/>
                <a:close/>
              </a:path>
              <a:path fill="darkenLess" w="21600" h="21600">
                <a:moveTo>
                  <a:pt x="21600" y="0"/>
                </a:moveTo>
                <a:arcTo wR="21600" hR="8643" stAng="-5400000" swAng="-5400000"/>
                <a:lnTo>
                  <a:pt x="0" y="8643"/>
                </a:lnTo>
                <a:arcTo wR="21600" hR="8643" stAng="10800000" swAng="-172611"/>
                <a:lnTo>
                  <a:pt x="168" y="9720"/>
                </a:lnTo>
                <a:arcTo wR="21600" hR="8643" stAng="-10627389" swAng="5227389"/>
                <a:close/>
              </a:path>
            </a:pathLst>
          </a:cu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-15840"/>
            <a:ext cx="11485440" cy="687384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5262480" y="1393920"/>
            <a:ext cx="1224720" cy="1109160"/>
            <a:chOff x="5262480" y="1393920"/>
            <a:chExt cx="1224720" cy="1109160"/>
          </a:xfrm>
        </p:grpSpPr>
        <p:sp>
          <p:nvSpPr>
            <p:cNvPr id="110" name=""/>
            <p:cNvSpPr/>
            <p:nvPr/>
          </p:nvSpPr>
          <p:spPr>
            <a:xfrm rot="915000">
              <a:off x="5292720" y="1494000"/>
              <a:ext cx="431640" cy="288720"/>
            </a:xfrm>
            <a:custGeom>
              <a:avLst/>
              <a:gdLst>
                <a:gd name="textAreaLeft" fmla="*/ 98280 w 431640"/>
                <a:gd name="textAreaRight" fmla="*/ 333360 w 431640"/>
                <a:gd name="textAreaTop" fmla="*/ 65880 h 288720"/>
                <a:gd name="textAreaBottom" fmla="*/ 222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651640" y="1854000"/>
              <a:ext cx="360360" cy="288720"/>
            </a:xfrm>
            <a:custGeom>
              <a:avLst/>
              <a:gdLst>
                <a:gd name="textAreaLeft" fmla="*/ 82080 w 360360"/>
                <a:gd name="textAreaRight" fmla="*/ 278280 w 360360"/>
                <a:gd name="textAreaTop" fmla="*/ 65880 h 288720"/>
                <a:gd name="textAreaBottom" fmla="*/ 222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12000" y="2214360"/>
              <a:ext cx="288720" cy="288720"/>
            </a:xfrm>
            <a:custGeom>
              <a:avLst/>
              <a:gdLst>
                <a:gd name="textAreaLeft" fmla="*/ 65880 w 288720"/>
                <a:gd name="textAreaRight" fmla="*/ 222840 w 288720"/>
                <a:gd name="textAreaTop" fmla="*/ 65880 h 288720"/>
                <a:gd name="textAreaBottom" fmla="*/ 222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12000" y="1854000"/>
              <a:ext cx="431640" cy="360000"/>
            </a:xfrm>
            <a:custGeom>
              <a:avLst/>
              <a:gdLst>
                <a:gd name="textAreaLeft" fmla="*/ 98280 w 431640"/>
                <a:gd name="textAreaRight" fmla="*/ 333360 w 431640"/>
                <a:gd name="textAreaTop" fmla="*/ 82080 h 360000"/>
                <a:gd name="textAreaBottom" fmla="*/ 277920 h 36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9402200">
              <a:off x="6011640" y="1494000"/>
              <a:ext cx="431640" cy="288720"/>
            </a:xfrm>
            <a:custGeom>
              <a:avLst/>
              <a:gdLst>
                <a:gd name="textAreaLeft" fmla="*/ 98280 w 431640"/>
                <a:gd name="textAreaRight" fmla="*/ 333360 w 431640"/>
                <a:gd name="textAreaTop" fmla="*/ 65880 h 288720"/>
                <a:gd name="textAreaBottom" fmla="*/ 22284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250920" y="4121280"/>
            <a:ext cx="8893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4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„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Шаруватий пиріг атмосфери”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356000" y="3357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5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356000" y="278136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8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356000" y="386064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4005360"/>
            <a:ext cx="392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тропо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0" y="3357720"/>
            <a:ext cx="392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страто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2637000"/>
            <a:ext cx="3780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мезо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1916280"/>
            <a:ext cx="3851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термо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549360"/>
            <a:ext cx="3995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екзо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3573360"/>
            <a:ext cx="446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219640" y="2924280"/>
            <a:ext cx="392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озоно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219640" y="1916280"/>
            <a:ext cx="3924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іоно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2565360"/>
            <a:ext cx="446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4076640"/>
            <a:ext cx="719280" cy="216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4508640"/>
            <a:ext cx="1079280" cy="215640"/>
          </a:xfrm>
          <a:prstGeom prst="cloudCallout">
            <a:avLst>
              <a:gd name="adj1" fmla="val 60884"/>
              <a:gd name="adj2" fmla="val 6985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020000" y="0"/>
            <a:ext cx="1590480" cy="2492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020000" y="3849840"/>
            <a:ext cx="1728720" cy="865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588000" y="4437000"/>
            <a:ext cx="1079640" cy="216000"/>
          </a:xfrm>
          <a:prstGeom prst="cloudCallout">
            <a:avLst>
              <a:gd name="adj1" fmla="val -125884"/>
              <a:gd name="adj2" fmla="val 293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71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773280"/>
            <a:ext cx="5568840" cy="4176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575160" y="0"/>
            <a:ext cx="5568840" cy="4176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871640" y="539640"/>
            <a:ext cx="6661080" cy="4996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0" y="0"/>
            <a:ext cx="914400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Тропосфера - "кухня" пого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0" y="2212920"/>
            <a:ext cx="6192720" cy="4645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3446640" y="2544840"/>
            <a:ext cx="56973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198360" y="-306360"/>
            <a:ext cx="6570720" cy="289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06280" y="-396720"/>
            <a:ext cx="8731440" cy="40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Людям яких професій </a:t>
            </a:r>
            <a:endParaRPr b="0" lang="en-US" sz="1800" spc="1" strike="noStrike">
              <a:ln w="93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доводиться  враховувати стан погоди? </a:t>
            </a:r>
            <a:endParaRPr b="0" lang="en-US" sz="1800" spc="1" strike="noStrike">
              <a:ln w="93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І чому?</a:t>
            </a:r>
            <a:endParaRPr b="0" lang="en-US" sz="1800" spc="1" strike="noStrike">
              <a:ln w="93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5205240" y="1584360"/>
            <a:ext cx="3938760" cy="5273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2097000" y="1808280"/>
            <a:ext cx="3691080" cy="3568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0" y="2394000"/>
            <a:ext cx="42544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62000" y="279360"/>
            <a:ext cx="8775720" cy="28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Види спостережен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за погодо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4689360"/>
            <a:ext cx="519408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еорологічні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41640" y="3159000"/>
            <a:ext cx="496908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енологічні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76280" y="2484360"/>
            <a:ext cx="1215720" cy="2205000"/>
          </a:xfrm>
          <a:prstGeom prst="line">
            <a:avLst/>
          </a:prstGeom>
          <a:ln w="66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02360" y="2438280"/>
            <a:ext cx="1079640" cy="676440"/>
          </a:xfrm>
          <a:prstGeom prst="line">
            <a:avLst/>
          </a:prstGeom>
          <a:ln w="66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52560" y="5364000"/>
            <a:ext cx="3608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meteora-атмосферні явища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68720" y="3878280"/>
            <a:ext cx="36086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грец. phainomena — явища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97000" y="2933640"/>
            <a:ext cx="33303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КТіНОМЕТРі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637000" y="5138640"/>
            <a:ext cx="36543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"споглядати"-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тмосферні процеси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3564000"/>
            <a:ext cx="3700440" cy="6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перенос і перетворення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ипромянювання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997360" y="4643280"/>
            <a:ext cx="3284280" cy="47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ИНОПТ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472000" y="2979720"/>
            <a:ext cx="311940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ПТ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246640" y="3564000"/>
            <a:ext cx="356544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оптичні явищ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іраж, шарові)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62000" y="0"/>
            <a:ext cx="8731080" cy="24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Прогнозування погоди 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лише на наукових засадах метеорології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557360" y="1943280"/>
            <a:ext cx="2023920" cy="855360"/>
          </a:xfrm>
          <a:prstGeom prst="line">
            <a:avLst/>
          </a:prstGeom>
          <a:ln w="60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0560" y="1854360"/>
            <a:ext cx="45720" cy="2654280"/>
          </a:xfrm>
          <a:prstGeom prst="line">
            <a:avLst/>
          </a:prstGeom>
          <a:ln w="60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62720" y="1898640"/>
            <a:ext cx="1439640" cy="990720"/>
          </a:xfrm>
          <a:prstGeom prst="line">
            <a:avLst/>
          </a:prstGeom>
          <a:ln w="60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06280" y="0"/>
            <a:ext cx="872964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b7e7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„</a:t>
            </a: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b7e7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агування” атмосфери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b7e7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b7e7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негативний вплив людини</a:t>
            </a:r>
            <a:endParaRPr b="0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b7e7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1854360"/>
            <a:ext cx="8802720" cy="139536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 u="sng">
                <a:solidFill>
                  <a:srgbClr val="ffffff"/>
                </a:solidFill>
                <a:uFillTx/>
                <a:latin typeface="Arial"/>
              </a:rPr>
              <a:t>СМОГ (англ. smoke - дим й fog - туман),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 аерозоль, що складається з диму, тумана й пилу. Виникає в атмосфері промислових міст, які розміщенні у котловині, із часток сажі, попелу. У жарку суху погоду спостерігається у вигляді жовтуватої завіс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Є причиною зниження видимості, подразнення очей, гибелі рослинності, а особливо - захворювань органів дихання, кровообігу люди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Під час катастрофічного смогу в Бельгії протягом двох днів загинуло 60 чол., 2 тис. постраждали в різній мірі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481640" y="3203640"/>
            <a:ext cx="4662360" cy="365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000000"/>
                </a:solidFill>
                <a:uFillTx/>
                <a:latin typeface="Arial"/>
              </a:rPr>
              <a:t>ОЗОНОВА ДІРА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, розрив озоносфери (діаметром 1000 км), виник над Антарктидою й переміщається до Австралії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онова діра виникла в результаті антропогенних впливі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онова діра становить небезпеку для живих організмів, оскільки озоновий шар захищає поверхню Землі від надмірних доз ультрафіолетового випромінювання  Сонц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Озонова діра була виявлена англ. дослідником Дж. Фарманом в 1982, а у 1992 озонова діра була відкрита й над Арктико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 1985 прийнята Віденська конвенція про охорону озонового шар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3392640"/>
            <a:ext cx="4481640" cy="3465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ffffff"/>
                </a:solidFill>
                <a:uFillTx/>
                <a:latin typeface="Arial"/>
              </a:rPr>
              <a:t>КИСЛОТНІ ДОЩІ</a:t>
            </a:r>
            <a:r>
              <a:rPr b="0" lang="uk-UA" sz="1600" spc="-1" strike="noStrike" u="sng">
                <a:solidFill>
                  <a:srgbClr val="ffffff"/>
                </a:solidFill>
                <a:uFillTx/>
                <a:latin typeface="Arial"/>
              </a:rPr>
              <a:t> (кислі дощі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), атмосферні опади  з підвищеним вмістом промислових викидів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У результаті кислотних дощів розвивається окислення ґрунту й водойм, що приводить до деградації екосистем, загибелі окремих видів риб й ін. організмів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позначається на родючості ґрунтів, зниженні приросту лісів й їхньому висиханні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Кислотні дощі особливо характерні для країн Європи, для США, Канади, промислових районів Російської Федерації, України й і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7174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435280" y="404280"/>
            <a:ext cx="37083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b7e7ff"/>
                </a:solidFill>
                <a:uFillTx/>
                <a:latin typeface="Arial"/>
              </a:rPr>
              <a:t>ГОЛОВНІ ПАРНИКОВІ ГАЗИ:</a:t>
            </a:r>
            <a:br>
              <a:rPr sz="3600"/>
            </a:br>
            <a:r>
              <a:rPr b="0" i="1" lang="uk-UA" sz="4000" spc="-1" strike="noStrike">
                <a:solidFill>
                  <a:srgbClr val="b7e7ff"/>
                </a:solidFill>
                <a:latin typeface="Arial"/>
              </a:rPr>
              <a:t>вуглекислий газ,</a:t>
            </a:r>
            <a:br>
              <a:rPr sz="4000"/>
            </a:br>
            <a:r>
              <a:rPr b="0" i="1" lang="uk-UA" sz="4000" spc="-1" strike="noStrike">
                <a:solidFill>
                  <a:srgbClr val="b7e7ff"/>
                </a:solidFill>
                <a:latin typeface="Arial"/>
              </a:rPr>
              <a:t>водяна пара,</a:t>
            </a:r>
            <a:br>
              <a:rPr sz="4000"/>
            </a:br>
            <a:r>
              <a:rPr b="0" i="1" lang="uk-UA" sz="4000" spc="-1" strike="noStrike">
                <a:solidFill>
                  <a:srgbClr val="b7e7ff"/>
                </a:solidFill>
                <a:latin typeface="Arial"/>
              </a:rPr>
              <a:t>метан, </a:t>
            </a:r>
            <a:br>
              <a:rPr sz="4000"/>
            </a:br>
            <a:r>
              <a:rPr b="0" i="1" lang="uk-UA" sz="4000" spc="-1" strike="noStrike">
                <a:solidFill>
                  <a:srgbClr val="b7e7ff"/>
                </a:solidFill>
                <a:latin typeface="Arial"/>
              </a:rPr>
              <a:t>оксиди азоту, фреони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07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91440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6600"/>
                </a:solidFill>
                <a:latin typeface="Arial"/>
              </a:rPr>
              <a:t>Глобальне потепління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70" name="inozem066" descr=""/>
          <p:cNvPicPr/>
          <p:nvPr/>
        </p:nvPicPr>
        <p:blipFill>
          <a:blip r:embed="rId2"/>
          <a:srcRect l="4029" t="0" r="0" b="6299"/>
          <a:stretch/>
        </p:blipFill>
        <p:spPr>
          <a:xfrm>
            <a:off x="0" y="1494000"/>
            <a:ext cx="91440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284720" y="0"/>
            <a:ext cx="1655640" cy="1773360"/>
          </a:xfrm>
          <a:prstGeom prst="rect">
            <a:avLst/>
          </a:prstGeom>
          <a:noFill/>
          <a:ln w="95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33cc"/>
                </a:solidFill>
                <a:latin typeface="Arial"/>
              </a:rPr>
              <a:t>НАСЛІДКИ ГЛОБАЛЬНОГО ПОТЕПЛІННЯ ТА ПАРНИКОВОГО ЕФЕКТУ ДЛЯ ЕКОСИСТЕМ ЗЕМЛІ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2000" y="3203280"/>
            <a:ext cx="875808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Глобальне потепління для Землі має як 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негативні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наслідки: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- підйом рівня океану, - вимирання білих ведмеді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танення льодовиків;     - деградація вічної мерзлоти, та ін., так і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позитивні екологічні наслід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ростання продуктивності природних лісів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збільшення врожайності культурних рослин й ін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Крім впливу на природну екосистему глобальне потепління також призведе й до значних </a:t>
            </a:r>
            <a:r>
              <a:rPr b="0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соціально-економічних наслідків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(в енергетиці, сільському господарстві, охороні здоров'я та ін.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6280" y="2079720"/>
            <a:ext cx="87757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ffffff"/>
                </a:solidFill>
                <a:uFillTx/>
                <a:latin typeface="Arial"/>
              </a:rPr>
              <a:t>Глобальне потепління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 – швидке підвищення температури всієї планети, визнана науковим фактом з 1995 рок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8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8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8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8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8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8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8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8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8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8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8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8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8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8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8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8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8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8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8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8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8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8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8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62000" y="549360"/>
            <a:ext cx="8802720" cy="526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Impact"/>
              </a:rPr>
              <a:t>Дякую з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Impact"/>
              </a:rPr>
              <a:t>співпрацю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6600"/>
                </a:solidFill>
                <a:latin typeface="Arial"/>
              </a:rPr>
              <a:t>Домашнє завдання: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96640" y="1314000"/>
            <a:ext cx="85914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Опрацювати  § 28 „Атмосфера” і §39 „Охорона атмосфери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Вивчити визначення та підготуватись до усного термінологічного диктанту - опитуванн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Письмово поміркуйте над питанням: чому навіть влітку, коли температура дорівнює 34ºС, на вершинах деяких гір можна побачити „білі шапки” снігу?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Заповніть таблицю „Позитивні і негативні впливи  людини на атмосферу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ffffff"/>
                </a:solidFill>
                <a:latin typeface="Arial"/>
              </a:rPr>
              <a:t>За РЯДАМИ підготувати на аркушах розміром А3 у файлі </a:t>
            </a:r>
            <a:r>
              <a:rPr b="0" i="1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проект „Хвороби” атмосфери”: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смог, кислі дощі або озонові діри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(розкрити сутність процесу, причини, які його викликають та наслідки до яких ці „хвороби” атмосфери” призводять). </a:t>
            </a:r>
            <a:r>
              <a:rPr b="1" lang="uk-UA" sz="2000" spc="-1" strike="noStrike" u="sng">
                <a:solidFill>
                  <a:srgbClr val="ffffff"/>
                </a:solidFill>
                <a:uFillTx/>
                <a:latin typeface="Arial"/>
              </a:rPr>
              <a:t>ЗАХИ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76280" y="4873680"/>
          <a:ext cx="8370720" cy="1803240"/>
        </p:xfrm>
        <a:graphic>
          <a:graphicData uri="http://schemas.openxmlformats.org/drawingml/2006/table">
            <a:tbl>
              <a:tblPr/>
              <a:tblGrid>
                <a:gridCol w="4230720"/>
                <a:gridCol w="414000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38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пливи людини на атмосферу Земл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38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ГАТИВН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38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пособи забруднення повітря атмосфери людиною</a:t>
                      </a: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38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ИТИВНІ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38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шляхи запобігання забруднення повітря атмосфери людиною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06280" y="0"/>
            <a:ext cx="8775720" cy="29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Яке значення атмосфери для людей,</a:t>
            </a:r>
            <a:endParaRPr b="0" lang="en-US" sz="1800" spc="1" strike="noStrike">
              <a:ln w="93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a4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що живуть на планеті Земля?</a:t>
            </a:r>
            <a:endParaRPr b="0" lang="en-US" sz="1800" spc="1" strike="noStrike">
              <a:ln w="9360">
                <a:solidFill>
                  <a:srgbClr val="0000a4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2437920"/>
            <a:ext cx="9144000" cy="441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снилось, как неведомая сила земную атмосферу унес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жарко так, вдруг, Солнце засветил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 предсмертном хрипе замерла Земля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езде людские и животных трупы с глазами, вышедшими из орби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листья на деревьях сохли скупо, теряли свой зеленый ви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Утихли ветры на Земле огромной, и стих совсем круговоро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 воды пресные, довольно скромн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 пополнялись более из седых высо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ак, безнадежно суша иссыхалась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 ночью наступали хол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оды в прудах, озерах не ставало, и реки опустели навсег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теориты землю сотрясали, рождая страшные видений с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на планете жутко рисовали безжизненный облик Лу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50920" y="404640"/>
            <a:ext cx="6481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Impact"/>
              </a:rPr>
              <a:t>"Броня" плане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332000" y="2421000"/>
            <a:ext cx="6408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Impact"/>
              </a:rPr>
              <a:t>„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cc"/>
                </a:solidFill>
                <a:latin typeface="Impact"/>
              </a:rPr>
              <a:t>Одяг" Земл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cc"/>
              </a:solidFill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95640" y="4365720"/>
            <a:ext cx="66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Impact"/>
              </a:rPr>
              <a:t>"Ковдра" плане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Impact"/>
              <a:ea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31640" y="1268280"/>
            <a:ext cx="8280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Impact"/>
              </a:rPr>
              <a:t>АТМОСФЕ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79280" y="18900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Повітря - природна суміш газі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515960"/>
            <a:ext cx="91440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06280" y="0"/>
            <a:ext cx="8758440" cy="626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Буд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атмосфе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-15840"/>
            <a:ext cx="11485440" cy="6873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59280" y="3573360"/>
            <a:ext cx="446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9280" y="2565360"/>
            <a:ext cx="4465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4076640"/>
            <a:ext cx="719280" cy="216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4508640"/>
            <a:ext cx="1079280" cy="215640"/>
          </a:xfrm>
          <a:prstGeom prst="cloudCallout">
            <a:avLst>
              <a:gd name="adj1" fmla="val 60884"/>
              <a:gd name="adj2" fmla="val 6985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88000" y="4437000"/>
            <a:ext cx="1079640" cy="216000"/>
          </a:xfrm>
          <a:prstGeom prst="cloudCallout">
            <a:avLst>
              <a:gd name="adj1" fmla="val -125884"/>
              <a:gd name="adj2" fmla="val 293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808280"/>
            <a:ext cx="9342360" cy="46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4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„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Шаруватий пирі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атмосфери”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22360" y="2484360"/>
          <a:ext cx="8145360" cy="3768840"/>
        </p:xfrm>
        <a:graphic>
          <a:graphicData uri="http://schemas.openxmlformats.org/drawingml/2006/table">
            <a:tbl>
              <a:tblPr/>
              <a:tblGrid>
                <a:gridCol w="674640"/>
                <a:gridCol w="1935000"/>
                <a:gridCol w="719280"/>
                <a:gridCol w="1395360"/>
                <a:gridCol w="495360"/>
                <a:gridCol w="1440000"/>
                <a:gridCol w="1485720"/>
              </a:tblGrid>
              <a:tr h="174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/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р атмосфер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Його меж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ина повітря атмо-, що містить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°ŧ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°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міни, що відбуваються з °ŧ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обливості ша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Тропосфе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стратосфе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мезосфе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термосфе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0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екзосфе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22096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 txBox="1"/>
          <p:nvPr/>
        </p:nvSpPr>
        <p:spPr>
          <a:xfrm>
            <a:off x="250920" y="0"/>
            <a:ext cx="8596080" cy="275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Самостійна робот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Impact"/>
              </a:rPr>
              <a:t>"Будова атмосфер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Impact"/>
              <a:ea typeface="Impac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346640" y="4238640"/>
            <a:ext cx="415296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ліва сторо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37000" y="4643280"/>
            <a:ext cx="4152960" cy="3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права сторо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81280" y="5229360"/>
            <a:ext cx="4635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середній ря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3:47:36Z</dcterms:created>
  <dc:creator>eXPerience</dc:creator>
  <dc:description/>
  <dc:language>en-US</dc:language>
  <cp:lastModifiedBy>User</cp:lastModifiedBy>
  <dcterms:modified xsi:type="dcterms:W3CDTF">2013-11-10T08:53:05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812000000000001024140</vt:lpwstr>
  </property>
</Properties>
</file>