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00E3-07FB-4CE6-A725-1581A66628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D82-6B6D-4697-8B0E-F97F6994E6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3DD-326D-42F8-BCA3-79D82575EC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C35-F566-405B-84C2-DAE22422C4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0C28-0C06-43DB-BCD9-274C72F56A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284-81BF-4E46-BBEF-5B0D9B5780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FB89-D2B7-4F82-971E-A13A935DD4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342-E078-4054-B9C4-EACF3B1594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D9A4-ABAC-4B8A-B124-227570093AD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349-5284-439D-A3F3-E4A464F6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A7D-D31A-42AD-A32E-5FD84924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79E-5FFC-41D8-8D8A-BD62D61F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287-A340-4F99-89C6-71CF9ECC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5FB4-CA9A-4E95-A730-FA1FEDDB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0A3-459D-49D4-AFF7-8F1405E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CE65-970A-4A24-8EA1-9AB3A8CC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50AD-5A4B-4BC8-9558-A32A8F33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8A98-64F7-4BAA-8B3D-D814A1B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80C-864F-461D-B334-444B60BA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1314-45D2-46A3-9657-E6ED1E1D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E0A-2C50-4CF8-8CD8-CDFBC21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BFB9-213A-4554-BF01-8F29037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0730-A5EC-4946-A5EA-8DB92CF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759-1759-4FFE-8257-97F40DA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7D94-9505-4A42-AF59-C148250F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9E04-7BC4-4FC9-AC45-6283D5D3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0FB-274A-489A-B2CA-EED76E50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EC5-6075-4D32-9F93-72FF5FD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BC2-FAE7-4A8E-9C02-86EB2CB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05A-769A-4470-8D7F-29673D22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33C-786D-4F2F-BE17-9AD874E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882-3661-405C-8680-41237907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A78-F291-4452-9871-903940CE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3F41-9435-455E-A934-4B73E7610C0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0FFF-F414-42DA-B5F1-1FC7C9C3D21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oskolok-mirozdaniya.narod.ru/dsc_2748y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ibusiness.ru/upload/iblock/cfc50a21e8619f944dfb58f17a10ada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210960" y="0"/>
            <a:ext cx="8704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4"/>
          <p:cNvSpPr txBox="1"/>
          <p:nvPr/>
        </p:nvSpPr>
        <p:spPr>
          <a:xfrm>
            <a:off x="1187280" y="0"/>
            <a:ext cx="705672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АРКТИДА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Oval 5"/>
          <p:cNvSpPr/>
          <p:nvPr/>
        </p:nvSpPr>
        <p:spPr>
          <a:xfrm>
            <a:off x="0" y="1341360"/>
            <a:ext cx="9144000" cy="568800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ФГП. Загальні відомості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Історія відкриття матер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Сучасні наукові дослідже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708000" y="404280"/>
            <a:ext cx="497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зарє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йло Петр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4.11.1788 - 23.04.1851 г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сійський  мореплавець, тричі обігнув  Землю, флотоводець, один із першовідкривачів Антарктиди, адмір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lazar"/>
          <p:cNvPicPr/>
          <p:nvPr/>
        </p:nvPicPr>
        <p:blipFill>
          <a:blip r:embed="rId1"/>
          <a:stretch/>
        </p:blipFill>
        <p:spPr>
          <a:xfrm>
            <a:off x="324000" y="260280"/>
            <a:ext cx="3321000" cy="374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ant_htm_smartbutton1"/>
          <p:cNvPicPr/>
          <p:nvPr/>
        </p:nvPicPr>
        <p:blipFill>
          <a:blip r:embed="rId2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620280"/>
            <a:ext cx="46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ершим досягнув Південного  полюсу норвежський полярний мандрівник і досліджувач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уаль Амундсен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, який  14 грудня 1911 року з 4 супутниками досягнув Південного полюс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mundcen"/>
          <p:cNvPicPr/>
          <p:nvPr/>
        </p:nvPicPr>
        <p:blipFill>
          <a:blip r:embed="rId2"/>
          <a:stretch/>
        </p:blipFill>
        <p:spPr>
          <a:xfrm>
            <a:off x="5495760" y="404640"/>
            <a:ext cx="3318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476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8 січня 1912року група, яку очолював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Роберт Скот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 досягла полюсу,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2156_101"/>
          <p:cNvPicPr/>
          <p:nvPr/>
        </p:nvPicPr>
        <p:blipFill>
          <a:blip r:embed="rId1"/>
          <a:stretch/>
        </p:blipFill>
        <p:spPr>
          <a:xfrm>
            <a:off x="6526080" y="260280"/>
            <a:ext cx="2357640" cy="381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зеро Роберта Скотта"/>
          <p:cNvPicPr/>
          <p:nvPr/>
        </p:nvPicPr>
        <p:blipFill>
          <a:blip r:embed="rId2"/>
          <a:stretch/>
        </p:blipFill>
        <p:spPr>
          <a:xfrm>
            <a:off x="324000" y="2071800"/>
            <a:ext cx="5391000" cy="4529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83236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еро Роберта Скот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940360" y="429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берт Фалкон Скот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341280" y="60480"/>
            <a:ext cx="8631360" cy="15364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3" descr="12714.jpg"/>
          <p:cNvPicPr/>
          <p:nvPr/>
        </p:nvPicPr>
        <p:blipFill>
          <a:blip r:embed="rId2"/>
          <a:stretch/>
        </p:blipFill>
        <p:spPr>
          <a:xfrm>
            <a:off x="571680" y="1571760"/>
            <a:ext cx="6215040" cy="483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E:\ИРОЧКА\географія\7-й клас\12715.jpg"/>
          <p:cNvPicPr/>
          <p:nvPr/>
        </p:nvPicPr>
        <p:blipFill>
          <a:blip r:embed="rId3"/>
          <a:stretch/>
        </p:blipFill>
        <p:spPr>
          <a:xfrm>
            <a:off x="6929280" y="2214720"/>
            <a:ext cx="2030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HG明朝B"/>
              </a:rPr>
              <a:t>В 40-50-е р. в Антарктиді починають створювати наукові бази і станції для проведення регулярних дослідж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 25 из 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541600"/>
            <a:ext cx="59036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3" descr="antarktida.jpg"/>
          <p:cNvPicPr/>
          <p:nvPr/>
        </p:nvPicPr>
        <p:blipFill>
          <a:blip r:embed="rId2"/>
          <a:stretch/>
        </p:blipFill>
        <p:spPr>
          <a:xfrm>
            <a:off x="785880" y="2033640"/>
            <a:ext cx="78580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42960" y="357120"/>
          <a:ext cx="8001000" cy="6072120"/>
        </p:xfrm>
        <a:graphic>
          <a:graphicData uri="http://schemas.openxmlformats.org/drawingml/2006/table">
            <a:tbl>
              <a:tblPr/>
              <a:tblGrid>
                <a:gridCol w="2666880"/>
                <a:gridCol w="2409840"/>
                <a:gridCol w="2924280"/>
              </a:tblGrid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о зроби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.Ф,Беллінсгауз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.П.Лазарє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крив Антарктид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1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ягнув Південного полюс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. Скот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2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кладіть суму цифр площі Антаркти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суму цифр року відкриття Антаркти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суму цифр кількості держав, що працюють на матери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ідніміть суму цифр кількості наукових станці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кількість материків Зем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кількість океанів, що не омивають Антаркти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іть отримане число на кількість океанів , що омивають Антаркти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.Опрацювати §3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.Дати відповідь на запитання  : 1 ряд – 1, 2 ряд – 2, 3 ряд – 3 (стор. 178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.Показувати на фізичній карті географічні об'єкти материка Антаркти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.*Створити малюнок-асоціацію “ На що схожа Антарктида 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5.*Як називаються 5 полюсів Антарктид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2"/>
          <a:stretch/>
        </p:blipFill>
        <p:spPr>
          <a:xfrm>
            <a:off x="357120" y="1428840"/>
            <a:ext cx="82915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знайомитися з поняттями “Антарктида” і “Антарктика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Розкрити особливості ФГП матер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Характеризувати основні етапи відкриття  та дослідження Антарктид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оказувати на карті основні географічні об'єкти Антарктид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785440" cy="1377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Боротися, шукати, знайти і не здаватис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-128520" y="-6480"/>
            <a:ext cx="93884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Antarctica_satellite_globe"/>
          <p:cNvPicPr/>
          <p:nvPr/>
        </p:nvPicPr>
        <p:blipFill>
          <a:blip r:embed="rId2"/>
          <a:stretch/>
        </p:blipFill>
        <p:spPr>
          <a:xfrm>
            <a:off x="0" y="2133720"/>
            <a:ext cx="5219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435640" y="2276640"/>
            <a:ext cx="370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148360" y="2133720"/>
            <a:ext cx="3995640" cy="4546800"/>
          </a:xfrm>
          <a:prstGeom prst="rect">
            <a:avLst/>
          </a:prstGeom>
          <a:gradFill rotWithShape="0">
            <a:gsLst>
              <a:gs pos="0">
                <a:srgbClr val="ceb966"/>
              </a:gs>
              <a:gs pos="50000">
                <a:srgbClr val="ffff99"/>
              </a:gs>
              <a:gs pos="100000">
                <a:srgbClr val="ceb9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По фізичній карті світу визнач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 розташований материк відносно південного полярного кол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 розташований материк відносно  південного полюс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ими океанами омиваєтся Антаркти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По підручнику визнач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На стор. 174знайдіть, що називається Антарк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364000" y="5157720"/>
            <a:ext cx="378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785880" y="2143080"/>
            <a:ext cx="7000920" cy="4508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На контурну карту нанесі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Південний  полю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Південне  полярне ко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Підпиші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Океани, які омивають бере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                                    </a:t>
            </a: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матер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42848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HG明朝B"/>
              </a:rPr>
              <a:t>Задовго до відкриття материка будували  різні  припущення щодо існування Південної землі, регулярні плавання в південні полярні області почалися наприкінці ХVІІІ –на початку ХІХ столітт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571760" y="549360"/>
            <a:ext cx="671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 сто р і я  в і д к р и т т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Picture 5" descr="pingv1"/>
          <p:cNvPicPr/>
          <p:nvPr/>
        </p:nvPicPr>
        <p:blipFill>
          <a:blip r:embed="rId1"/>
          <a:stretch/>
        </p:blipFill>
        <p:spPr>
          <a:xfrm>
            <a:off x="2268360" y="3284640"/>
            <a:ext cx="4708800" cy="3268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t_htm_smartbutton1"/>
          <p:cNvPicPr/>
          <p:nvPr/>
        </p:nvPicPr>
        <p:blipFill>
          <a:blip r:embed="rId2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26" descr="Льды Антарктики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Айсберги Південного океан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8920" y="404640"/>
            <a:ext cx="47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 1772-1775 роках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жеймс  Кук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очолив експедицію, яка направлялася на пошуки південного материка. В 1774 Кук першим із мореплавців перетнув Південне  полярне коло, але материка він не знайшов і заявив, що його взагалі знайти неможливо через кригу, який робить землю недоступною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артинка 19 из 4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404640"/>
            <a:ext cx="3228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360" y="4338720"/>
            <a:ext cx="7885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HG明朝B"/>
              </a:rPr>
              <a:t>Відкриття  Антарктиді як  материка було здійснене 16січня  1820 російською  експедицією Ф. Ф. Беллінсгаузена, яка на двох суднах ("Восток", під командуванням Беллінсгаузена, і "Мирний" — М. П. Лазарєва) пройшла навколо материка і визначила його межі.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HG明朝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октыртие Антарктиды"/>
          <p:cNvPicPr/>
          <p:nvPr/>
        </p:nvPicPr>
        <p:blipFill>
          <a:blip r:embed="rId2"/>
          <a:stretch/>
        </p:blipFill>
        <p:spPr>
          <a:xfrm>
            <a:off x="611280" y="260280"/>
            <a:ext cx="4927680" cy="4035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irnai0023"/>
          <p:cNvPicPr/>
          <p:nvPr/>
        </p:nvPicPr>
        <p:blipFill>
          <a:blip r:embed="rId3"/>
          <a:stretch/>
        </p:blipFill>
        <p:spPr>
          <a:xfrm>
            <a:off x="6394320" y="260280"/>
            <a:ext cx="232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67280" y="404280"/>
            <a:ext cx="4619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Беллінсгаузен Фаддей Фаддейович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1778-1852), російський  мореплавець, адмірал (1843). Участник 1-ї россійської навколосвітньої подорожі1803-06. В 1819-21 керівник 1-й російської антарктичної експедиції на шлюпах «Восток» и «Мирний», відкривший  в січні 1820 Антарктиду и декілька островів в Атлантичному і Тихом у океан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ellin"/>
          <p:cNvPicPr/>
          <p:nvPr/>
        </p:nvPicPr>
        <p:blipFill>
          <a:blip r:embed="rId2"/>
          <a:stretch/>
        </p:blipFill>
        <p:spPr>
          <a:xfrm>
            <a:off x="324000" y="260280"/>
            <a:ext cx="3754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1</cp:lastModifiedBy>
  <dcterms:modified xsi:type="dcterms:W3CDTF">2010-11-30T05:34:47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19000000000001024140</vt:lpwstr>
  </property>
</Properties>
</file>