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8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4027-F3D3-4ED9-B8A7-A4C46CEB8A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B9B9-A0B8-4DEE-8C3E-B1EFE9E0D9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767-0A35-4FB9-8DFE-1F44C1748F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53E3-9DA2-4BDE-B3CE-9F25BFBDBC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6B78-FA9C-4676-ACE7-A34077B575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D043-EFEA-48B0-9FE7-D44240B1D9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3E09-3425-4436-A409-30D17CCFCB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9E39-4857-4510-BCEC-735A9DBF50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23C8-5CA0-4D12-A49B-2E71B8FC61D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61C-9C12-481B-BBFE-05ED04AF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712-56D7-4D0B-9226-D64F7627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23F-1D4F-4873-ADF5-BF04ABF1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0FF-1203-46AC-A808-BC1E1459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EE1C-D35A-488E-8A74-89051856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52D9-D8B5-4CA1-A717-0425BE93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CAD0-4D24-4962-A9F3-9A9F4325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5440-791D-49E6-AADB-C8ED53FE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3942-DC3A-4357-98FA-5614FD5A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816A-D23A-4D62-8DB7-BB10D65A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0606-DDA3-4AF8-B7E5-5229DC43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5BE-8D33-4D10-889B-04DEE405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8797-C6BA-4D07-B206-8E1F48D8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C386-66F1-40A8-8BEF-2C3CC800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5391-3EFA-4520-90F6-5711AB83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A5AA-286C-489D-8103-147A2AC4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2D80-F3D0-46B3-A7E6-1C2713D1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769-8148-4E88-AC29-6D9654B4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35B-A25C-4376-91DF-0C9D99D7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F79-7180-4D4B-8376-A9D53216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A7C-FA95-4B05-8146-34792598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A83-FB5D-43BC-8D16-817B3BD1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071-88B9-4AFB-9623-236E000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450-8B9F-4DD9-B8CC-D3A67675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863D-991B-4546-8668-8ABE8E26AA1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1B5C-B978-41C0-B9F8-FE9A21A0C36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oskolok-mirozdaniya.narod.ru/dsc_2748y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ibusiness.ru/upload/iblock/cfc50a21e8619f944dfb58f17a10ada5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210960" y="0"/>
            <a:ext cx="8704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4"/>
          <p:cNvSpPr txBox="1"/>
          <p:nvPr/>
        </p:nvSpPr>
        <p:spPr>
          <a:xfrm>
            <a:off x="1187280" y="0"/>
            <a:ext cx="705672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АРКТИДА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Oval 5"/>
          <p:cNvSpPr/>
          <p:nvPr/>
        </p:nvSpPr>
        <p:spPr>
          <a:xfrm>
            <a:off x="0" y="1341360"/>
            <a:ext cx="9144000" cy="568800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Monotype Corsiva"/>
              </a:rPr>
              <a:t>ФГП. Загальні відомості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Monotype Corsiva"/>
              </a:rPr>
              <a:t>Історія відкриття матер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Monotype Corsiva"/>
              </a:rPr>
              <a:t>Сучасні наукові дослідже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708000" y="404280"/>
            <a:ext cx="497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азарє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Михайло Петро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(14.11.1788 - 23.04.1851 г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сійський  мореплавець, тричі обігнув  Землю, флотоводець, один із першовідкривачів Антарктиди, адмір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lazar"/>
          <p:cNvPicPr/>
          <p:nvPr/>
        </p:nvPicPr>
        <p:blipFill>
          <a:blip r:embed="rId1"/>
          <a:stretch/>
        </p:blipFill>
        <p:spPr>
          <a:xfrm>
            <a:off x="324000" y="260280"/>
            <a:ext cx="3321000" cy="3745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ant_htm_smartbutton1"/>
          <p:cNvPicPr/>
          <p:nvPr/>
        </p:nvPicPr>
        <p:blipFill>
          <a:blip r:embed="rId2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620280"/>
            <a:ext cx="4691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ершим досягнув Південного  полюсу норвежський полярний мандрівник і досліджувач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уаль Амундсен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, який  14 грудня 1911 року з 4 супутниками досягнув Південного полюс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amundcen"/>
          <p:cNvPicPr/>
          <p:nvPr/>
        </p:nvPicPr>
        <p:blipFill>
          <a:blip r:embed="rId2"/>
          <a:stretch/>
        </p:blipFill>
        <p:spPr>
          <a:xfrm>
            <a:off x="5495760" y="404640"/>
            <a:ext cx="3318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476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8 січня 1912року група, яку очолював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Роберт Скотт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 досягла полюсу,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2156_101"/>
          <p:cNvPicPr/>
          <p:nvPr/>
        </p:nvPicPr>
        <p:blipFill>
          <a:blip r:embed="rId1"/>
          <a:stretch/>
        </p:blipFill>
        <p:spPr>
          <a:xfrm>
            <a:off x="6526080" y="260280"/>
            <a:ext cx="2357640" cy="381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Озеро Роберта Скотта"/>
          <p:cNvPicPr/>
          <p:nvPr/>
        </p:nvPicPr>
        <p:blipFill>
          <a:blip r:embed="rId2"/>
          <a:stretch/>
        </p:blipFill>
        <p:spPr>
          <a:xfrm>
            <a:off x="324000" y="2071800"/>
            <a:ext cx="5391000" cy="4529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832360" y="602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зеро Роберта Скот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940360" y="4292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берт Фалкон Скот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341280" y="60480"/>
            <a:ext cx="8631360" cy="15364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3" descr="12714.jpg"/>
          <p:cNvPicPr/>
          <p:nvPr/>
        </p:nvPicPr>
        <p:blipFill>
          <a:blip r:embed="rId2"/>
          <a:stretch/>
        </p:blipFill>
        <p:spPr>
          <a:xfrm>
            <a:off x="571680" y="1571760"/>
            <a:ext cx="6215040" cy="483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E:\ИРОЧКА\географія\7-й клас\12715.jpg"/>
          <p:cNvPicPr/>
          <p:nvPr/>
        </p:nvPicPr>
        <p:blipFill>
          <a:blip r:embed="rId3"/>
          <a:stretch/>
        </p:blipFill>
        <p:spPr>
          <a:xfrm>
            <a:off x="6929280" y="2214720"/>
            <a:ext cx="2030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HG明朝B"/>
              </a:rPr>
              <a:t>В 40-50-е р. в Антарктиді починають створювати наукові бази і станції для проведення регулярних досліджен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Картинка 25 из 5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541600"/>
            <a:ext cx="59036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3" descr="antarktida.jpg"/>
          <p:cNvPicPr/>
          <p:nvPr/>
        </p:nvPicPr>
        <p:blipFill>
          <a:blip r:embed="rId2"/>
          <a:stretch/>
        </p:blipFill>
        <p:spPr>
          <a:xfrm>
            <a:off x="785880" y="2033640"/>
            <a:ext cx="785808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42960" y="357120"/>
          <a:ext cx="8001000" cy="6072120"/>
        </p:xfrm>
        <a:graphic>
          <a:graphicData uri="http://schemas.openxmlformats.org/drawingml/2006/table">
            <a:tbl>
              <a:tblPr/>
              <a:tblGrid>
                <a:gridCol w="2666880"/>
                <a:gridCol w="2409840"/>
                <a:gridCol w="2924280"/>
              </a:tblGrid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т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о зроби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.Ф,Беллінсгауз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0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.П.Лазарє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крив Антарктид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1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ягнув Південного полюс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. Скот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2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кладіть суму цифр площі Антаркти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суму цифр року відкриття Антаркти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суму цифр кількості держав, що працюють на матери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ідніміть суму цифр кількості наукових станці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кількість материків Земл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кількість океанів, що не омивають Антаркти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зділіть отримане число на кількість океанів , що омивають Антаркти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.Опрацювати §3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.Дати відповідь на запитання  : 1 ряд – 1, 2 ряд – 2, 3 ряд – 3 (стор. 178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.Показувати на фізичній карті географічні об'єкти материка Антаркти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4.*Створити малюнок-асоціацію “ На що схожа Антарктида 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5.*Як називаються 5 полюсів Антарктид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Object 2" descr=""/>
          <p:cNvPicPr/>
          <p:nvPr/>
        </p:nvPicPr>
        <p:blipFill>
          <a:blip r:embed="rId2"/>
          <a:stretch/>
        </p:blipFill>
        <p:spPr>
          <a:xfrm>
            <a:off x="357120" y="1428840"/>
            <a:ext cx="82915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знайомитися з поняттями “Антарктида” і “Антарктика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Розкрити особливості ФГП матери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Характеризувати основні етапи відкриття  та дослідження Антарктид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оказувати на карті основні географічні об'єкти Антарктид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785440" cy="1377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Times New Roman"/>
              </a:rPr>
              <a:t>Боротися, шукати, знайти і не здаватися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-128520" y="-6480"/>
            <a:ext cx="9388440" cy="235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Antarctica_satellite_globe"/>
          <p:cNvPicPr/>
          <p:nvPr/>
        </p:nvPicPr>
        <p:blipFill>
          <a:blip r:embed="rId2"/>
          <a:stretch/>
        </p:blipFill>
        <p:spPr>
          <a:xfrm>
            <a:off x="0" y="2133720"/>
            <a:ext cx="5219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5435640" y="2276640"/>
            <a:ext cx="370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148360" y="2133720"/>
            <a:ext cx="3995640" cy="4546800"/>
          </a:xfrm>
          <a:prstGeom prst="rect">
            <a:avLst/>
          </a:prstGeom>
          <a:gradFill rotWithShape="0">
            <a:gsLst>
              <a:gs pos="0">
                <a:srgbClr val="ceb966"/>
              </a:gs>
              <a:gs pos="50000">
                <a:srgbClr val="ffff99"/>
              </a:gs>
              <a:gs pos="100000">
                <a:srgbClr val="ceb9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По фізичній карті світу визнач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Як розташований материк відносно південного полярного кол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Як розташований материк відносно  південного полюс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Якими океанами омиваєтся Антаркти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По підручнику визнач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На стор. 174знайдіть, що називається Антаркт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364000" y="5157720"/>
            <a:ext cx="378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785880" y="2143080"/>
            <a:ext cx="7000920" cy="4508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На контурну карту нанесі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Південний  полю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Південне  полярне ко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Підпиші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Океани, які омивають берег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                                    </a:t>
            </a: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матер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42848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HG明朝B"/>
              </a:rPr>
              <a:t>Задовго до відкриття материка будували  різні  припущення щодо існування Південної землі, регулярні плавання в південні полярні області почалися наприкінці ХVІІІ –на початку ХІХ столітт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571760" y="549360"/>
            <a:ext cx="671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І сто р і я  в і д к р и т т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Picture 5" descr="pingv1"/>
          <p:cNvPicPr/>
          <p:nvPr/>
        </p:nvPicPr>
        <p:blipFill>
          <a:blip r:embed="rId1"/>
          <a:stretch/>
        </p:blipFill>
        <p:spPr>
          <a:xfrm>
            <a:off x="2268360" y="3284640"/>
            <a:ext cx="4708800" cy="3268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t_htm_smartbutton1"/>
          <p:cNvPicPr/>
          <p:nvPr/>
        </p:nvPicPr>
        <p:blipFill>
          <a:blip r:embed="rId2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26" descr="Льды Антарктики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Айсберги Південного океан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8920" y="404640"/>
            <a:ext cx="475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 1772-1775 роках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жеймс  Кук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очолив експедицію, яка направлялася на пошуки південного материка. В 1774 Кук першим із мореплавців перетнув Південне  полярне коло, але материка він не знайшов і заявив, що його взагалі знайти неможливо через кригу, який робить землю недоступною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Картинка 19 из 4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404640"/>
            <a:ext cx="3228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360" y="4338720"/>
            <a:ext cx="7885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HG明朝B"/>
              </a:rPr>
              <a:t>Відкриття  Антарктиді як  материка було здійснене 16січня  1820 російською  експедицією Ф. Ф. Беллінсгаузена, яка на двох суднах ("Восток", під командуванням Беллінсгаузена, і "Мирний" — М. П. Лазарєва) пройшла навколо материка і визначила його межі.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HG明朝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октыртие Антарктиды"/>
          <p:cNvPicPr/>
          <p:nvPr/>
        </p:nvPicPr>
        <p:blipFill>
          <a:blip r:embed="rId2"/>
          <a:stretch/>
        </p:blipFill>
        <p:spPr>
          <a:xfrm>
            <a:off x="611280" y="260280"/>
            <a:ext cx="4927680" cy="4035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irnai0023"/>
          <p:cNvPicPr/>
          <p:nvPr/>
        </p:nvPicPr>
        <p:blipFill>
          <a:blip r:embed="rId3"/>
          <a:stretch/>
        </p:blipFill>
        <p:spPr>
          <a:xfrm>
            <a:off x="6394320" y="260280"/>
            <a:ext cx="2322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067280" y="404280"/>
            <a:ext cx="4619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Беллінсгаузен Фаддей Фаддейович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(1778-1852), російський  мореплавець, адмірал (1843). Участник 1-ї россійської навколосвітньої подорожі1803-06. В 1819-21 керівник 1-й російської антарктичної експедиції на шлюпах «Восток» и «Мирний», відкривший  в січні 1820 Антарктиду и декілька островів в Атлантичному і Тихом у океан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ellin"/>
          <p:cNvPicPr/>
          <p:nvPr/>
        </p:nvPicPr>
        <p:blipFill>
          <a:blip r:embed="rId2"/>
          <a:stretch/>
        </p:blipFill>
        <p:spPr>
          <a:xfrm>
            <a:off x="324000" y="260280"/>
            <a:ext cx="3754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1</cp:lastModifiedBy>
  <dcterms:modified xsi:type="dcterms:W3CDTF">2010-11-30T05:34:47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19000000000001024140</vt:lpwstr>
  </property>
</Properties>
</file>