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8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F5D20-D1DC-4443-B4E6-EE98BDE6AFE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982A9-9113-4465-9632-3B484CA8081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37AA1-8754-44D3-9E47-F7A28C6B0E1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BFF14-FC9C-4E5B-B672-829280E0D18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D8A6B-F848-458A-BB91-E89B9F3C939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C7BD1-1BB7-4E29-AFF7-DA95BE28D0D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7CE4D-C9E3-4081-90AB-B6DF4DDCF87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D2341-5146-45F1-A0C2-254C275C8F8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DFF29-8413-45F6-BF34-B0ACCC8B074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1937-1D24-4913-BAC0-6CC707A28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9A0D-12B5-42D9-B6F8-EFB2F7AB3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13CE-DF21-48BF-A4C1-E22745718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8F54-F289-44A8-809A-8B4C7FEE6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F7DF5-4B40-4D88-97A9-236AE8CCF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303C2-B67E-4330-9210-70216F626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C421F-3376-4D1B-BC24-5D446BBE5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FF969-E23E-4A22-B794-25CE6EA24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09D33-DB2D-49C1-8105-C5F7CC871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C1B29-B4B1-41D6-B898-29283E8E4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B13B7-21AD-4D93-A464-BDD7B4DF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FBE9-0B9D-4000-A9C9-F7F20EFA2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E6C32-4BB6-4D0F-9436-988FA85D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BCFBC-92EA-4F52-9E3C-BEBA42BD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DAEE9-2E87-4AB1-8E92-ABE87F613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C6172-AFE8-418D-A0E9-C9B91BD17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0F5DF-0211-441B-89DF-F1D8A571A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AD8E-F1C9-431B-9883-619A5DDD7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25FB-B66E-46BB-971B-4DBD26B44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0272-4772-44D0-BAB7-CEB4679AB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8225-8BF3-4630-952C-1D0E1949B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0ED2-3993-4D9F-B644-494F143A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ED6A-1DD5-4D0A-ABE4-510022D0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FCAE-42E7-45C2-9D3B-BEC80AB5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AD419-4580-4D28-BCA2-65E9FAAF8916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D54F4-5FCF-4BAB-BDFD-4EDFB4EC5445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oskolok-mirozdaniya.narod.ru/dsc_2748y.jpg" TargetMode="External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ibusiness.ru/upload/iblock/cfc50a21e8619f944dfb58f17a10ada5.jpg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3" descr=""/>
          <p:cNvPicPr/>
          <p:nvPr/>
        </p:nvPicPr>
        <p:blipFill>
          <a:blip r:embed="rId1"/>
          <a:stretch/>
        </p:blipFill>
        <p:spPr>
          <a:xfrm>
            <a:off x="210960" y="0"/>
            <a:ext cx="870444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WordArt 4"/>
          <p:cNvSpPr txBox="1"/>
          <p:nvPr/>
        </p:nvSpPr>
        <p:spPr>
          <a:xfrm>
            <a:off x="1187280" y="0"/>
            <a:ext cx="7056720" cy="29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НТАРКТИДА</a:t>
            </a:r>
            <a:endParaRPr b="1" lang="en-US" sz="5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" name="Oval 5"/>
          <p:cNvSpPr/>
          <p:nvPr/>
        </p:nvSpPr>
        <p:spPr>
          <a:xfrm>
            <a:off x="0" y="1341360"/>
            <a:ext cx="9144000" cy="5688000"/>
          </a:xfrm>
          <a:prstGeom prst="ellipse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c33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c3300"/>
                </a:solidFill>
                <a:latin typeface="Monotype Corsiva"/>
              </a:rPr>
              <a:t>ФГП. Загальні відомості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c33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c3300"/>
                </a:solidFill>
                <a:latin typeface="Monotype Corsiva"/>
              </a:rPr>
              <a:t>Історія відкриття матери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c33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c3300"/>
                </a:solidFill>
                <a:latin typeface="Monotype Corsiva"/>
              </a:rPr>
              <a:t>Сучасні наукові дослідженн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3708000" y="404280"/>
            <a:ext cx="4978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Лазарєв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Михайло Петрови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(14.11.1788 - 23.04.1851 г.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Російський  мореплавець, тричі обігнув  Землю, флотоводець, один із першовідкривачів Антарктиди, адміра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Picture 4" descr="lazar"/>
          <p:cNvPicPr/>
          <p:nvPr/>
        </p:nvPicPr>
        <p:blipFill>
          <a:blip r:embed="rId1"/>
          <a:stretch/>
        </p:blipFill>
        <p:spPr>
          <a:xfrm>
            <a:off x="324000" y="260280"/>
            <a:ext cx="3321000" cy="3745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ant_htm_smartbutton1"/>
          <p:cNvPicPr/>
          <p:nvPr/>
        </p:nvPicPr>
        <p:blipFill>
          <a:blip r:embed="rId2"/>
          <a:stretch/>
        </p:blipFill>
        <p:spPr>
          <a:xfrm>
            <a:off x="7236000" y="5502240"/>
            <a:ext cx="150804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56840" y="620280"/>
            <a:ext cx="469116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Першим досягнув Південного  полюсу норвежський полярний мандрівник і досліджувач </a:t>
            </a: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Руаль Амундсен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, який  14 грудня 1911 року з 4 супутниками досягнув Південного полюсу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4" descr="ant_htm_smartbutton1"/>
          <p:cNvPicPr/>
          <p:nvPr/>
        </p:nvPicPr>
        <p:blipFill>
          <a:blip r:embed="rId1"/>
          <a:stretch/>
        </p:blipFill>
        <p:spPr>
          <a:xfrm>
            <a:off x="7236000" y="5502240"/>
            <a:ext cx="1508040" cy="900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amundcen"/>
          <p:cNvPicPr/>
          <p:nvPr/>
        </p:nvPicPr>
        <p:blipFill>
          <a:blip r:embed="rId2"/>
          <a:stretch/>
        </p:blipFill>
        <p:spPr>
          <a:xfrm>
            <a:off x="5495760" y="404640"/>
            <a:ext cx="33181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95280" y="476280"/>
            <a:ext cx="619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18 січня 1912року група, яку очолював 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Роберт Скотт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,  досягла полюсу,.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5" descr="2156_101"/>
          <p:cNvPicPr/>
          <p:nvPr/>
        </p:nvPicPr>
        <p:blipFill>
          <a:blip r:embed="rId1"/>
          <a:stretch/>
        </p:blipFill>
        <p:spPr>
          <a:xfrm>
            <a:off x="6526080" y="260280"/>
            <a:ext cx="2357640" cy="3816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Озеро Роберта Скотта"/>
          <p:cNvPicPr/>
          <p:nvPr/>
        </p:nvPicPr>
        <p:blipFill>
          <a:blip r:embed="rId2"/>
          <a:stretch/>
        </p:blipFill>
        <p:spPr>
          <a:xfrm>
            <a:off x="324000" y="2071800"/>
            <a:ext cx="5391000" cy="45291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8"/>
          <p:cNvSpPr/>
          <p:nvPr/>
        </p:nvSpPr>
        <p:spPr>
          <a:xfrm>
            <a:off x="5832360" y="602136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зеро Роберта Скот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5940360" y="429264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оберт Фалкон Скот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Заголовок 1" descr=""/>
          <p:cNvPicPr/>
          <p:nvPr/>
        </p:nvPicPr>
        <p:blipFill>
          <a:blip r:embed="rId1"/>
          <a:stretch/>
        </p:blipFill>
        <p:spPr>
          <a:xfrm>
            <a:off x="341280" y="60480"/>
            <a:ext cx="8631360" cy="1536480"/>
          </a:xfrm>
          <a:prstGeom prst="rect">
            <a:avLst/>
          </a:prstGeom>
          <a:ln w="0">
            <a:noFill/>
          </a:ln>
        </p:spPr>
      </p:pic>
      <p:pic>
        <p:nvPicPr>
          <p:cNvPr id="131" name="Содержимое 3" descr="12714.jpg"/>
          <p:cNvPicPr/>
          <p:nvPr/>
        </p:nvPicPr>
        <p:blipFill>
          <a:blip r:embed="rId2"/>
          <a:stretch/>
        </p:blipFill>
        <p:spPr>
          <a:xfrm>
            <a:off x="571680" y="1571760"/>
            <a:ext cx="6215040" cy="4832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E:\ИРОЧКА\географія\7-й клас\12715.jpg"/>
          <p:cNvPicPr/>
          <p:nvPr/>
        </p:nvPicPr>
        <p:blipFill>
          <a:blip r:embed="rId3"/>
          <a:stretch/>
        </p:blipFill>
        <p:spPr>
          <a:xfrm>
            <a:off x="6929280" y="2214720"/>
            <a:ext cx="20304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964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HG明朝B"/>
              </a:rPr>
              <a:t>В 40-50-е р. в Антарктиді починають створювати наукові бази і станції для проведення регулярних досліджень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4" descr="ant_htm_smartbutton1"/>
          <p:cNvPicPr/>
          <p:nvPr/>
        </p:nvPicPr>
        <p:blipFill>
          <a:blip r:embed="rId1"/>
          <a:stretch/>
        </p:blipFill>
        <p:spPr>
          <a:xfrm>
            <a:off x="7236000" y="5502240"/>
            <a:ext cx="1508040" cy="900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Картинка 25 из 58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2541600"/>
            <a:ext cx="5903640" cy="39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50800"/>
          </a:xfrm>
          <a:prstGeom prst="rect">
            <a:avLst/>
          </a:prstGeom>
          <a:ln w="0">
            <a:noFill/>
          </a:ln>
        </p:spPr>
      </p:pic>
      <p:pic>
        <p:nvPicPr>
          <p:cNvPr id="137" name="Содержимое 3" descr="antarktida.jpg"/>
          <p:cNvPicPr/>
          <p:nvPr/>
        </p:nvPicPr>
        <p:blipFill>
          <a:blip r:embed="rId2"/>
          <a:stretch/>
        </p:blipFill>
        <p:spPr>
          <a:xfrm>
            <a:off x="785880" y="2033640"/>
            <a:ext cx="7858080" cy="45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642960" y="357120"/>
          <a:ext cx="8001000" cy="6072120"/>
        </p:xfrm>
        <a:graphic>
          <a:graphicData uri="http://schemas.openxmlformats.org/drawingml/2006/table">
            <a:tbl>
              <a:tblPr/>
              <a:tblGrid>
                <a:gridCol w="2666880"/>
                <a:gridCol w="2409840"/>
                <a:gridCol w="2924280"/>
              </a:tblGrid>
              <a:tr h="13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то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Що зробив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.Ф,Беллінсгаузе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20г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.П.Лазарє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ідкрив Антарктид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11г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сягнув Південного полюс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. Скот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12г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37560" indent="-50400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Складіть суму цифр площі Антарктид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37560" indent="-50400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Додайте суму цифр року відкриття Антарктид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37560" indent="-50400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Додайте суму цифр кількості держав, що працюють на материк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37560" indent="-50400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Відніміть суму цифр кількості наукових станці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37560" indent="-50400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Додайте кількість материків Землі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37560" indent="-50400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Додайте кількість океанів, що не омивають Антарктид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37560" indent="-50400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Розділіть отримане число на кількість океанів , що омивають Антарктид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1.Опрацювати §32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2.Дати відповідь на запитання  : 1 ряд – 1, 2 ряд – 2, 3 ряд – 3 (стор. 178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3.Показувати на фізичній карті географічні об'єкти материка Антарктид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4.*Створити малюнок-асоціацію “ На що схожа Антарктида 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5.*Як називаються 5 полюсів Антарктиди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Заголовок 1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Object 2" descr=""/>
          <p:cNvPicPr/>
          <p:nvPr/>
        </p:nvPicPr>
        <p:blipFill>
          <a:blip r:embed="rId2"/>
          <a:stretch/>
        </p:blipFill>
        <p:spPr>
          <a:xfrm>
            <a:off x="357120" y="1428840"/>
            <a:ext cx="8291520" cy="52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377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Ознайомитися з поняттями “Антарктида” і “Антарктика”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Розкрити особливості ФГП материка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Характеризувати основні етапи відкриття  та дослідження Антарктиди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Показувати на карті основні географічні об'єкти Антарктиди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785440" cy="13777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800" spc="-1" strike="noStrike">
                <a:solidFill>
                  <a:srgbClr val="ffffff"/>
                </a:solidFill>
                <a:latin typeface="Times New Roman"/>
              </a:rPr>
              <a:t>Боротися, шукати, знайти і не здаватися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Rectangle 2" descr=""/>
          <p:cNvPicPr/>
          <p:nvPr/>
        </p:nvPicPr>
        <p:blipFill>
          <a:blip r:embed="rId1"/>
          <a:stretch/>
        </p:blipFill>
        <p:spPr>
          <a:xfrm>
            <a:off x="-128520" y="-6480"/>
            <a:ext cx="9388440" cy="2359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Antarctica_satellite_globe"/>
          <p:cNvPicPr/>
          <p:nvPr/>
        </p:nvPicPr>
        <p:blipFill>
          <a:blip r:embed="rId2"/>
          <a:stretch/>
        </p:blipFill>
        <p:spPr>
          <a:xfrm>
            <a:off x="0" y="2133720"/>
            <a:ext cx="5219640" cy="47242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5435640" y="2276640"/>
            <a:ext cx="3708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5148360" y="2133720"/>
            <a:ext cx="3995640" cy="4546800"/>
          </a:xfrm>
          <a:prstGeom prst="rect">
            <a:avLst/>
          </a:prstGeom>
          <a:gradFill rotWithShape="0">
            <a:gsLst>
              <a:gs pos="0">
                <a:srgbClr val="ceb966"/>
              </a:gs>
              <a:gs pos="50000">
                <a:srgbClr val="ffff99"/>
              </a:gs>
              <a:gs pos="100000">
                <a:srgbClr val="ceb9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6600"/>
                </a:solidFill>
                <a:latin typeface="Times New Roman"/>
              </a:rPr>
              <a:t>По фізичній карті світу визначт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6600"/>
                </a:solidFill>
                <a:latin typeface="Times New Roman"/>
              </a:rPr>
              <a:t>Як розташований материк відносно південного полярного кола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6600"/>
                </a:solidFill>
                <a:latin typeface="Times New Roman"/>
              </a:rPr>
              <a:t>Як розташований материк відносно  південного полюсу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6600"/>
                </a:solidFill>
                <a:latin typeface="Times New Roman"/>
              </a:rPr>
              <a:t>Якими океанами омиваєтся Антарктида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6600"/>
                </a:solidFill>
                <a:latin typeface="Times New Roman"/>
              </a:rPr>
              <a:t>По підручнику визначт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6600"/>
                </a:solidFill>
                <a:latin typeface="Times New Roman"/>
              </a:rPr>
              <a:t>На стор. 174знайдіть, що називається Антарктик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5364000" y="5157720"/>
            <a:ext cx="3780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Oval 9"/>
          <p:cNvSpPr/>
          <p:nvPr/>
        </p:nvSpPr>
        <p:spPr>
          <a:xfrm>
            <a:off x="785880" y="2143080"/>
            <a:ext cx="7000920" cy="45086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Times New Roman"/>
              </a:rPr>
              <a:t>На контурну карту нанесіт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Times New Roman"/>
              </a:rPr>
              <a:t>Південний  полю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Times New Roman"/>
              </a:rPr>
              <a:t>Південне  полярне кол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Times New Roman"/>
              </a:rPr>
              <a:t>Підпишіт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Times New Roman"/>
              </a:rPr>
              <a:t>Океани, які омивають берег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Times New Roman"/>
              </a:rPr>
              <a:t>                                    </a:t>
            </a:r>
            <a:r>
              <a:rPr b="1" lang="uk-UA" sz="2400" spc="-1" strike="noStrike">
                <a:solidFill>
                  <a:srgbClr val="0070c0"/>
                </a:solidFill>
                <a:latin typeface="Times New Roman"/>
              </a:rPr>
              <a:t>матери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1428480"/>
            <a:ext cx="822960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  <a:ea typeface="HG明朝B"/>
              </a:rPr>
              <a:t>Задовго до відкриття материка будували  різні  припущення щодо існування Південної землі, регулярні плавання в південні полярні області почалися наприкінці ХVІІІ –на початку ХІХ столітт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WordArt 4"/>
          <p:cNvSpPr txBox="1"/>
          <p:nvPr/>
        </p:nvSpPr>
        <p:spPr>
          <a:xfrm>
            <a:off x="1571760" y="549360"/>
            <a:ext cx="67150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І сто р і я  в і д к р и т т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4" name="Picture 5" descr="pingv1"/>
          <p:cNvPicPr/>
          <p:nvPr/>
        </p:nvPicPr>
        <p:blipFill>
          <a:blip r:embed="rId1"/>
          <a:stretch/>
        </p:blipFill>
        <p:spPr>
          <a:xfrm>
            <a:off x="2268360" y="3284640"/>
            <a:ext cx="4708800" cy="3268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ant_htm_smartbutton1"/>
          <p:cNvPicPr/>
          <p:nvPr/>
        </p:nvPicPr>
        <p:blipFill>
          <a:blip r:embed="rId2"/>
          <a:stretch/>
        </p:blipFill>
        <p:spPr>
          <a:xfrm>
            <a:off x="7236000" y="5502240"/>
            <a:ext cx="150804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2280" y="1371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1026" descr="Льды Антарктики"/>
          <p:cNvPicPr/>
          <p:nvPr/>
        </p:nvPicPr>
        <p:blipFill>
          <a:blip r:embed="rId1"/>
          <a:stretch/>
        </p:blipFill>
        <p:spPr>
          <a:xfrm>
            <a:off x="0" y="-285840"/>
            <a:ext cx="9144000" cy="71438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00"/>
                </a:solidFill>
                <a:latin typeface="Times New Roman"/>
              </a:rPr>
              <a:t>Айсберги Південного океану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78920" y="404640"/>
            <a:ext cx="47530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В 1772-1775 роках </a:t>
            </a: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Джеймс  Кук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 очолив експедицію, яка направлялася на пошуки південного материка. В 1774 Кук першим із мореплавців перетнув Південне  полярне коло, але материка він не знайшов і заявив, що його взагалі знайти неможливо через кригу, який робить землю недоступною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Picture 4" descr="ant_htm_smartbutton1"/>
          <p:cNvPicPr/>
          <p:nvPr/>
        </p:nvPicPr>
        <p:blipFill>
          <a:blip r:embed="rId1"/>
          <a:stretch/>
        </p:blipFill>
        <p:spPr>
          <a:xfrm>
            <a:off x="7236000" y="5502240"/>
            <a:ext cx="1508040" cy="900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Картинка 19 из 43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35640" y="404640"/>
            <a:ext cx="32288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-360" y="4338720"/>
            <a:ext cx="788508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  <a:ea typeface="HG明朝B"/>
              </a:rPr>
              <a:t>Відкриття  Антарктиді як  материка було здійснене 16січня  1820 російською  експедицією Ф. Ф. Беллінсгаузена, яка на двох суднах ("Восток", під командуванням Беллінсгаузена, і "Мирний" — М. П. Лазарєва) пройшла навколо материка і визначила його межі.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HG明朝B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Picture 4" descr="ant_htm_smartbutton1"/>
          <p:cNvPicPr/>
          <p:nvPr/>
        </p:nvPicPr>
        <p:blipFill>
          <a:blip r:embed="rId1"/>
          <a:stretch/>
        </p:blipFill>
        <p:spPr>
          <a:xfrm>
            <a:off x="7236000" y="5502240"/>
            <a:ext cx="1508040" cy="900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октыртие Антарктиды"/>
          <p:cNvPicPr/>
          <p:nvPr/>
        </p:nvPicPr>
        <p:blipFill>
          <a:blip r:embed="rId2"/>
          <a:stretch/>
        </p:blipFill>
        <p:spPr>
          <a:xfrm>
            <a:off x="611280" y="260280"/>
            <a:ext cx="4927680" cy="4035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Mirnai0023"/>
          <p:cNvPicPr/>
          <p:nvPr/>
        </p:nvPicPr>
        <p:blipFill>
          <a:blip r:embed="rId3"/>
          <a:stretch/>
        </p:blipFill>
        <p:spPr>
          <a:xfrm>
            <a:off x="6394320" y="260280"/>
            <a:ext cx="232272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067280" y="404280"/>
            <a:ext cx="46195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Беллінсгаузен Фаддей Фаддейович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 (1778-1852), російський  мореплавець, адмірал (1843). Участник 1-ї россійської навколосвітньої подорожі1803-06. В 1819-21 керівник 1-й російської антарктичної експедиції на шлюпах «Восток» и «Мирний», відкривший  в січні 1820 Антарктиду и декілька островів в Атлантичному і Тихом у океанах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4" descr="ant_htm_smartbutton1"/>
          <p:cNvPicPr/>
          <p:nvPr/>
        </p:nvPicPr>
        <p:blipFill>
          <a:blip r:embed="rId1"/>
          <a:stretch/>
        </p:blipFill>
        <p:spPr>
          <a:xfrm>
            <a:off x="7236000" y="5502240"/>
            <a:ext cx="1508040" cy="900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bellin"/>
          <p:cNvPicPr/>
          <p:nvPr/>
        </p:nvPicPr>
        <p:blipFill>
          <a:blip r:embed="rId2"/>
          <a:stretch/>
        </p:blipFill>
        <p:spPr>
          <a:xfrm>
            <a:off x="324000" y="260280"/>
            <a:ext cx="37544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p1</cp:lastModifiedBy>
  <dcterms:modified xsi:type="dcterms:W3CDTF">2010-11-30T05:34:47Z</dcterms:modified>
  <cp:revision>4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a19000000000001024140</vt:lpwstr>
  </property>
</Properties>
</file>