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camera.wav" ContentType="audio/x-wav"/>
  <Override PartName="/ppt/media/image3.jpeg" ContentType="image/jpeg"/>
  <Override PartName="/ppt/media/drumroll.wav" ContentType="audio/x-wav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C6C-E455-43D9-A7FC-C0C24A5AA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C9E-4F47-4A61-A0D3-631035FB62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CC3-EC27-460B-9836-0D040A7D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5EE-53C6-4E27-BA53-D0FDBAE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3F7-3E0A-40A2-A854-D1A2D08C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190-DB16-4BFC-A88E-BA892D08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FF3A7-35A2-48B1-A70A-DF153CDB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17DE5-A2F5-4F18-9503-5D466F1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C5BB-5081-4F62-A018-7D92AD2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3491-1864-4C19-A72E-0851769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45749-F757-4B0C-8853-86D0ADBD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2CEE1-BBFF-45D6-B1CD-2E2EAED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629A-A40F-4B7C-9A53-E84FC40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CBC-5C38-4907-8416-6CDA1DFB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9851-4140-419C-9DE2-9559FF3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C14A6-A5CB-4BBF-9471-2F5FD23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DFB6-6C78-4650-9128-BE9A7A87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7182B-B0BE-4A68-AD3B-1372B164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85EF1-17BD-4143-8838-6CB9B323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6B2-A093-45F5-A8F4-CB1F16C9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05D-8B49-4EC8-A135-AA41F92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00D-E910-4F2C-B58C-BB6A2EC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1DE-4F78-4293-B7DF-1F57018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578-AB9A-4611-BA8B-53365737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759-6372-4C18-8014-E6D56FD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5F9-2BA3-44A7-9F96-9E2C644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4EB-607A-4B50-AA0B-4EB17C1BF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2DA6-564B-41F4-84AB-17AC248252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ranews.com/images/weather/04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ukranews.com/images/weather/07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http://www.osvitanet.com.ua/base_book/geography6/geography6_files/image14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2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042920" y="-171360"/>
            <a:ext cx="6477120" cy="2895480"/>
            <a:chOff x="1042920" y="-171360"/>
            <a:chExt cx="6477120" cy="2895480"/>
          </a:xfrm>
        </p:grpSpPr>
        <p:sp>
          <p:nvSpPr>
            <p:cNvPr id="200" name="AutoShape 3"/>
            <p:cNvSpPr/>
            <p:nvPr/>
          </p:nvSpPr>
          <p:spPr>
            <a:xfrm>
              <a:off x="1042920" y="-171360"/>
              <a:ext cx="6477120" cy="2895480"/>
            </a:xfrm>
            <a:prstGeom prst="wedgeEllipseCallout">
              <a:avLst>
                <a:gd name="adj1" fmla="val -62083"/>
                <a:gd name="adj2" fmla="val 58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WordArt 4"/>
            <p:cNvSpPr txBox="1"/>
            <p:nvPr/>
          </p:nvSpPr>
          <p:spPr>
            <a:xfrm>
              <a:off x="1805040" y="438120"/>
              <a:ext cx="5143680" cy="163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8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99ff"/>
                    </a:outerShdw>
                  </a:effectLst>
                  <a:latin typeface="Impact"/>
                </a:rPr>
                <a:t>"А тепер - самі !"</a:t>
              </a:r>
              <a:endParaRPr b="1" lang="en-US" sz="1800" spc="1" strike="noStrike">
                <a:ln w="2844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304812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на вершині гори, висотою 2000 м, якщо у підніжжя він становить 7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472428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у підніжжя гори, висотою 3700м, якщо на вершині він становить 400 мм рт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804000" y="2276640"/>
            <a:ext cx="2057400" cy="914400"/>
          </a:xfrm>
          <a:prstGeom prst="downArrowCallout">
            <a:avLst>
              <a:gd name="adj1" fmla="val 61464"/>
              <a:gd name="adj2" fmla="val 60073"/>
              <a:gd name="adj3" fmla="val 24403"/>
              <a:gd name="adj4" fmla="val 5773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еревір се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3276720"/>
            <a:ext cx="2286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5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43640" y="5084640"/>
            <a:ext cx="25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7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тиску від температури повіт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2" descr="абрикоса"/>
          <p:cNvPicPr/>
          <p:nvPr/>
        </p:nvPicPr>
        <p:blipFill>
          <a:blip r:embed="rId1"/>
          <a:stretch/>
        </p:blipFill>
        <p:spPr>
          <a:xfrm>
            <a:off x="179280" y="2205000"/>
            <a:ext cx="87854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погоди від атмосферного тис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исокий ти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изький тис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Зображення 70 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56000" cy="194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Зображення 51 з 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7664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озподіл тиску на плане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абрикос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вітря має вагу, тому тисне на земну   поверхн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Одиниці вимірювання атмосферного тиску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З висотою атмосферний тиск знижує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Високий атмосферний тиск сприяє утворенню  опад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рилад для вимірювання атмосферного тис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флюг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Нормальний атмосферний тиск – 760 мм рт.ст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Чим вища температура повітря, тим нижче атмосферний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и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WordArt 9"/>
          <p:cNvSpPr txBox="1"/>
          <p:nvPr/>
        </p:nvSpPr>
        <p:spPr>
          <a:xfrm>
            <a:off x="1116000" y="0"/>
            <a:ext cx="6840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“Світлофор”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На уроці я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Дізна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розум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вчи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йбільші труднощі відчу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е вмів, а тепер умію…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машнє завданн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2 с.107-108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3 с.111-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вісти на питання 1-2 на с.111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1-2 на с.1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класти і розв'язати задач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547640" y="3166920"/>
            <a:ext cx="5977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тмосферний тис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ahoma"/>
              </a:rPr>
              <a:t>Завдання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Сформувати поняття “атмосферний тиск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вимір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З'ясувати, як і чому змін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явити зв’язок між атмосферним тиском та станом пог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розподіляється атмосферний тиск на Земл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Отримати від уроку користь і задоволе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cc00"/>
                </a:solidFill>
                <a:latin typeface="Tahoma"/>
              </a:rPr>
              <a:t>Атмосферний тиск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 - це сила, з якою повітря тисне на земну поверхню та об'єкти і тіла розташовані на ній.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Сила тис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см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с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 1кг 33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000 кг =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=1,5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5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19280" y="184464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32000" y="3213000"/>
            <a:ext cx="151128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2524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слід Торрічелл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304920" y="22860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ИЙ ТИС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56360" y="189000"/>
            <a:ext cx="2663640" cy="6426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00400" y="990720"/>
            <a:ext cx="2971800" cy="7034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c600"/>
                </a:solidFill>
                <a:latin typeface="Times New Roman"/>
              </a:rPr>
              <a:t>Бар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395280" y="1989000"/>
            <a:ext cx="4419720" cy="3505320"/>
            <a:chOff x="395280" y="1989000"/>
            <a:chExt cx="4419720" cy="3505320"/>
          </a:xfrm>
        </p:grpSpPr>
        <p:sp>
          <p:nvSpPr>
            <p:cNvPr id="112" name="AutoShape 8"/>
            <p:cNvSpPr/>
            <p:nvPr/>
          </p:nvSpPr>
          <p:spPr>
            <a:xfrm>
              <a:off x="395280" y="198900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1843200" y="2446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Ртутн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AutoShape 10"/>
          <p:cNvSpPr/>
          <p:nvPr/>
        </p:nvSpPr>
        <p:spPr>
          <a:xfrm>
            <a:off x="914400" y="4495680"/>
            <a:ext cx="3276720" cy="685800"/>
          </a:xfrm>
          <a:custGeom>
            <a:avLst/>
            <a:gdLst>
              <a:gd name="textAreaLeft" fmla="*/ 682560 w 3276720"/>
              <a:gd name="textAreaRight" fmla="*/ 2594160 w 3276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219320" y="4724280"/>
            <a:ext cx="2666880" cy="457200"/>
          </a:xfrm>
          <a:custGeom>
            <a:avLst/>
            <a:gdLst>
              <a:gd name="textAreaLeft" fmla="*/ 483480 w 2666880"/>
              <a:gd name="textAreaRight" fmla="*/ 2183400 w 266688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32" y="21600"/>
                </a:lnTo>
                <a:lnTo>
                  <a:pt x="1736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2362320" y="2819520"/>
            <a:ext cx="533160" cy="2286000"/>
            <a:chOff x="2362320" y="2819520"/>
            <a:chExt cx="533160" cy="2286000"/>
          </a:xfrm>
        </p:grpSpPr>
        <p:grpSp>
          <p:nvGrpSpPr>
            <p:cNvPr id="117" name="Group 13"/>
            <p:cNvGrpSpPr/>
            <p:nvPr/>
          </p:nvGrpSpPr>
          <p:grpSpPr>
            <a:xfrm>
              <a:off x="2362320" y="2819520"/>
              <a:ext cx="533160" cy="2286000"/>
              <a:chOff x="2362320" y="2819520"/>
              <a:chExt cx="533160" cy="2286000"/>
            </a:xfrm>
          </p:grpSpPr>
          <p:sp>
            <p:nvSpPr>
              <p:cNvPr id="118" name="AutoShape 14"/>
              <p:cNvSpPr/>
              <p:nvPr/>
            </p:nvSpPr>
            <p:spPr>
              <a:xfrm>
                <a:off x="2362320" y="2819520"/>
                <a:ext cx="456840" cy="2286000"/>
              </a:xfrm>
              <a:prstGeom prst="can">
                <a:avLst>
                  <a:gd name="adj" fmla="val 12013"/>
                </a:avLst>
              </a:prstGeom>
              <a:solidFill>
                <a:srgbClr val="0000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2362320" y="4495680"/>
                <a:ext cx="4568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362320" y="472428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666880" y="3352680"/>
              <a:ext cx="151920" cy="609840"/>
              <a:chOff x="2666880" y="3352680"/>
              <a:chExt cx="151920" cy="609840"/>
            </a:xfrm>
          </p:grpSpPr>
          <p:sp>
            <p:nvSpPr>
              <p:cNvPr id="122" name="Line 18"/>
              <p:cNvSpPr/>
              <p:nvPr/>
            </p:nvSpPr>
            <p:spPr>
              <a:xfrm>
                <a:off x="2742480" y="350532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666880" y="365760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2742480" y="380988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2666880" y="396252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2666880" y="335268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2362320" y="4038480"/>
            <a:ext cx="533160" cy="1067040"/>
            <a:chOff x="2362320" y="4038480"/>
            <a:chExt cx="533160" cy="1067040"/>
          </a:xfrm>
        </p:grpSpPr>
        <p:sp>
          <p:nvSpPr>
            <p:cNvPr id="128" name="AutoShape 24"/>
            <p:cNvSpPr/>
            <p:nvPr/>
          </p:nvSpPr>
          <p:spPr>
            <a:xfrm>
              <a:off x="2362320" y="4038480"/>
              <a:ext cx="456840" cy="1067040"/>
            </a:xfrm>
            <a:prstGeom prst="can">
              <a:avLst>
                <a:gd name="adj" fmla="val 1201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362320" y="4495680"/>
              <a:ext cx="533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362320" y="4724280"/>
              <a:ext cx="456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1676520" y="3429000"/>
            <a:ext cx="1904760" cy="1295280"/>
            <a:chOff x="1676520" y="3429000"/>
            <a:chExt cx="1904760" cy="1295280"/>
          </a:xfrm>
        </p:grpSpPr>
        <p:sp>
          <p:nvSpPr>
            <p:cNvPr id="132" name="Line 28"/>
            <p:cNvSpPr/>
            <p:nvPr/>
          </p:nvSpPr>
          <p:spPr>
            <a:xfrm>
              <a:off x="320040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35053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98108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765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32004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765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6804000" y="333360"/>
            <a:ext cx="2085480" cy="459720"/>
            <a:chOff x="6804000" y="333360"/>
            <a:chExt cx="2085480" cy="459720"/>
          </a:xfrm>
        </p:grpSpPr>
        <p:sp>
          <p:nvSpPr>
            <p:cNvPr id="139" name="AutoShape 35"/>
            <p:cNvSpPr/>
            <p:nvPr/>
          </p:nvSpPr>
          <p:spPr>
            <a:xfrm>
              <a:off x="6804000" y="409320"/>
              <a:ext cx="1896120" cy="38124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804000" y="33336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мм рт. ст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495680" y="1981080"/>
            <a:ext cx="4419720" cy="3505320"/>
            <a:chOff x="4495680" y="1981080"/>
            <a:chExt cx="4419720" cy="3505320"/>
          </a:xfrm>
        </p:grpSpPr>
        <p:sp>
          <p:nvSpPr>
            <p:cNvPr id="142" name="AutoShape 38"/>
            <p:cNvSpPr/>
            <p:nvPr/>
          </p:nvSpPr>
          <p:spPr>
            <a:xfrm>
              <a:off x="4495680" y="198108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181480" y="2438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Анероїд</a:t>
              </a:r>
              <a:r>
                <a:rPr b="1" i="1" lang="uk-UA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666633"/>
                  </a:solidFill>
                  <a:latin typeface="Times New Roman"/>
                </a:rPr>
                <a:t>(без рідини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40"/>
          <p:cNvGrpSpPr/>
          <p:nvPr/>
        </p:nvGrpSpPr>
        <p:grpSpPr>
          <a:xfrm>
            <a:off x="5410080" y="2819520"/>
            <a:ext cx="2613960" cy="2590560"/>
            <a:chOff x="5410080" y="2819520"/>
            <a:chExt cx="2613960" cy="2590560"/>
          </a:xfrm>
        </p:grpSpPr>
        <p:grpSp>
          <p:nvGrpSpPr>
            <p:cNvPr id="145" name="Group 41"/>
            <p:cNvGrpSpPr/>
            <p:nvPr/>
          </p:nvGrpSpPr>
          <p:grpSpPr>
            <a:xfrm>
              <a:off x="5410080" y="2819520"/>
              <a:ext cx="2613960" cy="2590560"/>
              <a:chOff x="5410080" y="2819520"/>
              <a:chExt cx="2613960" cy="2590560"/>
            </a:xfrm>
          </p:grpSpPr>
          <p:sp>
            <p:nvSpPr>
              <p:cNvPr id="146" name="Oval 42"/>
              <p:cNvSpPr/>
              <p:nvPr/>
            </p:nvSpPr>
            <p:spPr>
              <a:xfrm>
                <a:off x="5410080" y="2819520"/>
                <a:ext cx="2590920" cy="259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" name="Group 43"/>
              <p:cNvGrpSpPr/>
              <p:nvPr/>
            </p:nvGrpSpPr>
            <p:grpSpPr>
              <a:xfrm>
                <a:off x="5463000" y="2819520"/>
                <a:ext cx="2561040" cy="1245600"/>
                <a:chOff x="5463000" y="2819520"/>
                <a:chExt cx="2561040" cy="1245600"/>
              </a:xfrm>
            </p:grpSpPr>
            <p:sp>
              <p:nvSpPr>
                <p:cNvPr id="148" name="Line 44"/>
                <p:cNvSpPr/>
                <p:nvPr/>
              </p:nvSpPr>
              <p:spPr>
                <a:xfrm>
                  <a:off x="670572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5"/>
                <p:cNvSpPr/>
                <p:nvPr/>
              </p:nvSpPr>
              <p:spPr>
                <a:xfrm flipH="1">
                  <a:off x="7096680" y="2896560"/>
                  <a:ext cx="131760" cy="326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 flipH="1">
                  <a:off x="7337160" y="3170160"/>
                  <a:ext cx="260280" cy="23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47"/>
                <p:cNvSpPr/>
                <p:nvPr/>
              </p:nvSpPr>
              <p:spPr>
                <a:xfrm flipH="1">
                  <a:off x="7543440" y="3581280"/>
                  <a:ext cx="304920" cy="176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48"/>
                <p:cNvSpPr/>
                <p:nvPr/>
              </p:nvSpPr>
              <p:spPr>
                <a:xfrm>
                  <a:off x="5562720" y="3505320"/>
                  <a:ext cx="304560" cy="176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 flipV="1">
                  <a:off x="5463000" y="3969000"/>
                  <a:ext cx="351720" cy="1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5820480" y="3162600"/>
                  <a:ext cx="246240" cy="25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6180120" y="2897640"/>
                  <a:ext cx="136080" cy="32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 flipV="1">
                  <a:off x="7673040" y="4035960"/>
                  <a:ext cx="351000" cy="29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7" name="Text Box 53"/>
            <p:cNvSpPr/>
            <p:nvPr/>
          </p:nvSpPr>
          <p:spPr>
            <a:xfrm>
              <a:off x="64008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760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54"/>
          <p:cNvGrpSpPr/>
          <p:nvPr/>
        </p:nvGrpSpPr>
        <p:grpSpPr>
          <a:xfrm>
            <a:off x="6248520" y="4343400"/>
            <a:ext cx="990360" cy="685800"/>
            <a:chOff x="6248520" y="4343400"/>
            <a:chExt cx="990360" cy="685800"/>
          </a:xfrm>
        </p:grpSpPr>
        <p:sp>
          <p:nvSpPr>
            <p:cNvPr id="159" name="AutoShape 55"/>
            <p:cNvSpPr/>
            <p:nvPr/>
          </p:nvSpPr>
          <p:spPr>
            <a:xfrm>
              <a:off x="6248520" y="43434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56"/>
            <p:cNvSpPr/>
            <p:nvPr/>
          </p:nvSpPr>
          <p:spPr>
            <a:xfrm>
              <a:off x="6248520" y="45720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57"/>
            <p:cNvSpPr/>
            <p:nvPr/>
          </p:nvSpPr>
          <p:spPr>
            <a:xfrm>
              <a:off x="6248520" y="48006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AutoShape 58"/>
          <p:cNvSpPr/>
          <p:nvPr/>
        </p:nvSpPr>
        <p:spPr>
          <a:xfrm rot="18926400">
            <a:off x="6171840" y="3124080"/>
            <a:ext cx="228600" cy="14479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Group 59"/>
          <p:cNvGrpSpPr/>
          <p:nvPr/>
        </p:nvGrpSpPr>
        <p:grpSpPr>
          <a:xfrm>
            <a:off x="6621480" y="3486600"/>
            <a:ext cx="2293560" cy="1545120"/>
            <a:chOff x="6621480" y="3486600"/>
            <a:chExt cx="2293560" cy="1545120"/>
          </a:xfrm>
        </p:grpSpPr>
        <p:sp>
          <p:nvSpPr>
            <p:cNvPr id="164" name="Text Box 60"/>
            <p:cNvSpPr/>
            <p:nvPr/>
          </p:nvSpPr>
          <p:spPr>
            <a:xfrm>
              <a:off x="8001000" y="4572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61"/>
            <p:cNvGrpSpPr/>
            <p:nvPr/>
          </p:nvGrpSpPr>
          <p:grpSpPr>
            <a:xfrm>
              <a:off x="6621480" y="3486600"/>
              <a:ext cx="2293560" cy="1452240"/>
              <a:chOff x="6621480" y="3486600"/>
              <a:chExt cx="2293560" cy="1452240"/>
            </a:xfrm>
          </p:grpSpPr>
          <p:sp>
            <p:nvSpPr>
              <p:cNvPr id="166" name="AutoShape 62"/>
              <p:cNvSpPr/>
              <p:nvPr/>
            </p:nvSpPr>
            <p:spPr>
              <a:xfrm rot="3265800">
                <a:off x="7162200" y="3276720"/>
                <a:ext cx="228600" cy="1447560"/>
              </a:xfrm>
              <a:prstGeom prst="flowChartExtra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Line 63"/>
              <p:cNvSpPr/>
              <p:nvPr/>
            </p:nvSpPr>
            <p:spPr>
              <a:xfrm flipH="1">
                <a:off x="6933960" y="44197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H="1">
                <a:off x="7086240" y="457200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933960" y="41911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0" name="Text Box 66"/>
          <p:cNvSpPr/>
          <p:nvPr/>
        </p:nvSpPr>
        <p:spPr>
          <a:xfrm>
            <a:off x="395280" y="5867280"/>
            <a:ext cx="8569440" cy="520560"/>
          </a:xfrm>
          <a:prstGeom prst="rect">
            <a:avLst/>
          </a:prstGeom>
          <a:solidFill>
            <a:srgbClr val="33cccc"/>
          </a:solidFill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нормальний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760 мм рт с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на рівні моря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7"/>
          <p:cNvGrpSpPr/>
          <p:nvPr/>
        </p:nvGrpSpPr>
        <p:grpSpPr>
          <a:xfrm>
            <a:off x="2362320" y="3352680"/>
            <a:ext cx="457200" cy="1752840"/>
            <a:chOff x="2362320" y="3352680"/>
            <a:chExt cx="457200" cy="1752840"/>
          </a:xfrm>
        </p:grpSpPr>
        <p:grpSp>
          <p:nvGrpSpPr>
            <p:cNvPr id="172" name="Group 68"/>
            <p:cNvGrpSpPr/>
            <p:nvPr/>
          </p:nvGrpSpPr>
          <p:grpSpPr>
            <a:xfrm>
              <a:off x="2362320" y="3352680"/>
              <a:ext cx="457200" cy="1752840"/>
              <a:chOff x="2362320" y="3352680"/>
              <a:chExt cx="457200" cy="1752840"/>
            </a:xfrm>
          </p:grpSpPr>
          <p:sp>
            <p:nvSpPr>
              <p:cNvPr id="173" name="AutoShape 69"/>
              <p:cNvSpPr/>
              <p:nvPr/>
            </p:nvSpPr>
            <p:spPr>
              <a:xfrm>
                <a:off x="2362320" y="3352680"/>
                <a:ext cx="457200" cy="1752840"/>
              </a:xfrm>
              <a:prstGeom prst="can">
                <a:avLst>
                  <a:gd name="adj" fmla="val 1201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a7a7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>
                <a:off x="2362320" y="44956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>
                <a:off x="2362320" y="47242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6" name="Group 72"/>
            <p:cNvGrpSpPr/>
            <p:nvPr/>
          </p:nvGrpSpPr>
          <p:grpSpPr>
            <a:xfrm>
              <a:off x="2666880" y="3505320"/>
              <a:ext cx="152280" cy="457200"/>
              <a:chOff x="2666880" y="3505320"/>
              <a:chExt cx="152280" cy="457200"/>
            </a:xfrm>
          </p:grpSpPr>
          <p:sp>
            <p:nvSpPr>
              <p:cNvPr id="177" name="Line 73"/>
              <p:cNvSpPr/>
              <p:nvPr/>
            </p:nvSpPr>
            <p:spPr>
              <a:xfrm>
                <a:off x="2742840" y="350532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>
                <a:off x="2666880" y="365760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Line 75"/>
              <p:cNvSpPr/>
              <p:nvPr/>
            </p:nvSpPr>
            <p:spPr>
              <a:xfrm>
                <a:off x="2742840" y="380988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>
                <a:off x="2666880" y="396252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міна атмосферного тиску з висото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40" y="50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7" descr="http://school.xvatit.com/images/f/fe/As97.jpg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6264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634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35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ДАЧ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33520" y="2514600"/>
            <a:ext cx="8229600" cy="100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а якій висоті знаходиться альпініст, якщо атмосферний тиск у підніжжя гори становить 760 мм рт ст, а на вершині 570 мм рт ст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4000" y="3573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РОЗВ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ЯЗ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1547640" y="3789360"/>
            <a:ext cx="2362320" cy="2895480"/>
            <a:chOff x="1547640" y="3789360"/>
            <a:chExt cx="2362320" cy="2895480"/>
          </a:xfrm>
        </p:grpSpPr>
        <p:sp>
          <p:nvSpPr>
            <p:cNvPr id="190" name="Line 6"/>
            <p:cNvSpPr/>
            <p:nvPr/>
          </p:nvSpPr>
          <p:spPr>
            <a:xfrm>
              <a:off x="3452760" y="3789360"/>
              <a:ext cx="0" cy="28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1547640" y="40939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r>
                <a:rPr b="1" i="1" lang="uk-UA" sz="2400" spc="-1" strike="noStrike">
                  <a:solidFill>
                    <a:srgbClr val="660066"/>
                  </a:solidFill>
                  <a:latin typeface="Times New Roman"/>
                </a:rPr>
                <a:t>=?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547640" y="4703400"/>
              <a:ext cx="19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Text Box 9"/>
          <p:cNvSpPr/>
          <p:nvPr/>
        </p:nvSpPr>
        <p:spPr>
          <a:xfrm>
            <a:off x="609480" y="4952880"/>
            <a:ext cx="317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1 = 76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2 = 5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995640" y="3645000"/>
            <a:ext cx="4673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760мм рт ст – 570 мм рт ст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1" i="1" lang="uk-UA" sz="1800" spc="-1" strike="noStrike">
                <a:solidFill>
                  <a:srgbClr val="010199"/>
                </a:solidFill>
                <a:latin typeface="Times New Roman"/>
              </a:rPr>
              <a:t>1000м – 10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      -  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= (190*1000)/ 100 = 1900 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Відповідь:</a:t>
            </a:r>
            <a:r>
              <a:rPr b="1" i="1" lang="uk-UA" sz="1800" spc="-1" strike="noStrike">
                <a:solidFill>
                  <a:srgbClr val="cc0000"/>
                </a:solidFill>
                <a:latin typeface="Times New Roman"/>
              </a:rPr>
              <a:t> 1900 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1280" y="228600"/>
            <a:ext cx="8137440" cy="947160"/>
          </a:xfrm>
          <a:prstGeom prst="rect">
            <a:avLst/>
          </a:prstGeom>
          <a:gradFill rotWithShape="0">
            <a:gsLst>
              <a:gs pos="0">
                <a:srgbClr val="e1ffe1"/>
              </a:gs>
              <a:gs pos="100000">
                <a:srgbClr val="ccffcc"/>
              </a:gs>
            </a:gsLst>
            <a:lin ang="189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БАРИЧНА СТУПІ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закономірна змін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атмосферного тиску з висот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12"/>
          <p:cNvGrpSpPr/>
          <p:nvPr/>
        </p:nvGrpSpPr>
        <p:grpSpPr>
          <a:xfrm>
            <a:off x="2133720" y="1371600"/>
            <a:ext cx="4876560" cy="581400"/>
            <a:chOff x="2133720" y="1371600"/>
            <a:chExt cx="4876560" cy="581400"/>
          </a:xfrm>
        </p:grpSpPr>
        <p:sp>
          <p:nvSpPr>
            <p:cNvPr id="197" name="Text Box 13"/>
            <p:cNvSpPr/>
            <p:nvPr/>
          </p:nvSpPr>
          <p:spPr>
            <a:xfrm>
              <a:off x="2133720" y="1371600"/>
              <a:ext cx="4876560" cy="581400"/>
            </a:xfrm>
            <a:prstGeom prst="rect">
              <a:avLst/>
            </a:prstGeom>
            <a:noFill/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c0066"/>
                  </a:solidFill>
                  <a:latin typeface="Times New Roman"/>
                </a:rPr>
                <a:t>-100 мм рт ст   на   1 км</a:t>
              </a: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 flipV="1">
              <a:off x="6705720" y="1523520"/>
              <a:ext cx="0" cy="381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6:26Z</dcterms:created>
  <dc:creator>Admin</dc:creator>
  <dc:description/>
  <dc:language>en-US</dc:language>
  <cp:lastModifiedBy>User</cp:lastModifiedBy>
  <dcterms:modified xsi:type="dcterms:W3CDTF">2013-04-26T19:12:21Z</dcterms:modified>
  <cp:revision>12</cp:revision>
  <dc:subject/>
  <dc:title>26 січ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140</vt:lpwstr>
  </property>
</Properties>
</file>