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clap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media/camera.wav" ContentType="audio/x-wav"/>
  <Override PartName="/ppt/media/image3.jpeg" ContentType="image/jpeg"/>
  <Override PartName="/ppt/media/drumroll.wav" ContentType="audio/x-wav"/>
  <Override PartName="/ppt/media/image8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2F61-138E-4AD3-9EEF-B9EE35CF2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FBCE-813D-4E65-851C-A52DC0C235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B42-8993-4DAA-AC79-7C97AAB3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663-F1A3-4DBF-8760-2E1FE2F4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6A8-94D0-41E6-A2DC-04995806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A25A-4B80-4FF7-8523-2D905181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36AE3-D995-4CF3-B241-69DFB5A4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8BE91-3729-4BBD-AEED-5C761CC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C25B8-0E41-48D9-B3EE-B0E7B899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C732F-E4B5-49AC-A3AD-9262A9A6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96D46-FECE-47FC-B330-4468BA89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06D63-2E3E-487C-8AA3-652DC78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CF702-9939-419E-87CB-1022C5C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77D-A96A-4FDF-8018-D7ADB24E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000B3-7A50-4693-BCB2-DC04CB08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0C4E3-8B01-460C-9B98-A039C7A8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D7FD8-B964-47AC-BECE-0598623E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A1D01-5DBB-4F2F-97AE-BBF9C07D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B8D53-D7FB-4541-BA88-50388AC1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07D-C114-4F1A-9B24-FC9B818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709-9C4A-4A9B-A550-3813661A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415-4ED1-4B40-A2FD-33668E4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9B2-AFA4-4260-8BDA-0E02DD2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782-493D-4A8B-86B1-C0DD227A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C7F-EB4E-4184-B408-DA6E0FC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40D-DE84-4B19-97FF-6C551E27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A171-7A9A-4EA0-8A94-132DE2BC79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82A-CA13-430F-8633-CBB7B3AEB4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kranews.com/images/weather/04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ukranews.com/images/weather/07.gif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http://www.osvitanet.com.ua/base_book/geography6/geography6_files/image14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623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042920" y="-171360"/>
            <a:ext cx="6477120" cy="2895480"/>
            <a:chOff x="1042920" y="-171360"/>
            <a:chExt cx="6477120" cy="2895480"/>
          </a:xfrm>
        </p:grpSpPr>
        <p:sp>
          <p:nvSpPr>
            <p:cNvPr id="200" name="AutoShape 3"/>
            <p:cNvSpPr/>
            <p:nvPr/>
          </p:nvSpPr>
          <p:spPr>
            <a:xfrm>
              <a:off x="1042920" y="-171360"/>
              <a:ext cx="6477120" cy="2895480"/>
            </a:xfrm>
            <a:prstGeom prst="wedgeEllipseCallout">
              <a:avLst>
                <a:gd name="adj1" fmla="val -62083"/>
                <a:gd name="adj2" fmla="val 586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WordArt 4"/>
            <p:cNvSpPr txBox="1"/>
            <p:nvPr/>
          </p:nvSpPr>
          <p:spPr>
            <a:xfrm>
              <a:off x="1805040" y="438120"/>
              <a:ext cx="5143680" cy="163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8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9999ff"/>
                    </a:outerShdw>
                  </a:effectLst>
                  <a:latin typeface="Impact"/>
                </a:rPr>
                <a:t>"А тепер - самі !"</a:t>
              </a:r>
              <a:endParaRPr b="1" lang="en-US" sz="1800" spc="1" strike="noStrike">
                <a:ln w="2844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02" name="Text Box 5"/>
          <p:cNvSpPr/>
          <p:nvPr/>
        </p:nvSpPr>
        <p:spPr>
          <a:xfrm>
            <a:off x="0" y="304812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на вершині гори, висотою 2000 м, якщо у підніжжя він становить 7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472428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у підніжжя гори, висотою 3700м, якщо на вершині він становить 400 мм рт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6804000" y="2276640"/>
            <a:ext cx="2057400" cy="914400"/>
          </a:xfrm>
          <a:prstGeom prst="downArrowCallout">
            <a:avLst>
              <a:gd name="adj1" fmla="val 61464"/>
              <a:gd name="adj2" fmla="val 60073"/>
              <a:gd name="adj3" fmla="val 24403"/>
              <a:gd name="adj4" fmla="val 5773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еревір се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29400" y="3276720"/>
            <a:ext cx="2286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5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443640" y="5084640"/>
            <a:ext cx="250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7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тиску від температури повіт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12" descr="абрикоса"/>
          <p:cNvPicPr/>
          <p:nvPr/>
        </p:nvPicPr>
        <p:blipFill>
          <a:blip r:embed="rId1"/>
          <a:stretch/>
        </p:blipFill>
        <p:spPr>
          <a:xfrm>
            <a:off x="179280" y="2205000"/>
            <a:ext cx="87854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погоди від атмосферного тис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исокий тис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изький тиск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9" descr="Зображення 70 з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3456000" cy="194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Зображення 51 з 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076640"/>
            <a:ext cx="345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озподіл тиску на плане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абрикос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вітря має вагу, тому тисне на земну   поверхн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Одиниці вимірювання атмосферного тиску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З висотою атмосферний тиск знижує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Високий атмосферний тиск сприяє утворенню  опад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рилад для вимірювання атмосферного тиск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флюг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Нормальний атмосферний тиск – 760 мм рт.ст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Чим вища температура повітря, тим нижче атмосферний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ис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WordArt 9"/>
          <p:cNvSpPr txBox="1"/>
          <p:nvPr/>
        </p:nvSpPr>
        <p:spPr>
          <a:xfrm>
            <a:off x="1116000" y="0"/>
            <a:ext cx="684072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 “Світлофор”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На уроці я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Дізна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розумі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вчи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йбільші труднощі відчу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е вмів, а тепер умію…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машнє завданн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2 с.107-108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3 с.111-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повісти на питання 1-2 на с.111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1-2 на с.1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класти і розв'язати задач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547640" y="3166920"/>
            <a:ext cx="5977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тмосферний тис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ahoma"/>
              </a:rPr>
              <a:t>Завдання урок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Сформувати поняття “атмосферний тиск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вимір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З'ясувати, як і чому змін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явити зв’язок між атмосферним тиском та станом пого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розподіляється атмосферний тиск на Земл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Отримати від уроку користь і задоволен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cc00"/>
                </a:solidFill>
                <a:latin typeface="Tahoma"/>
              </a:rPr>
              <a:t>Атмосферний тиск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 - це сила, з якою повітря тисне на земну поверхню та об'єкти і тіла розташовані на ній.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Сила тис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см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с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 1кг 33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000 кг =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=1,5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5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619280" y="184464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32000" y="3213000"/>
            <a:ext cx="151128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125244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слід Торрічелл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304920" y="22860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МОСФЕРНИЙ ТИС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56360" y="189000"/>
            <a:ext cx="2663640" cy="6426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00400" y="990720"/>
            <a:ext cx="2971800" cy="703440"/>
          </a:xfrm>
          <a:prstGeom prst="rect">
            <a:avLst/>
          </a:prstGeom>
          <a:solidFill>
            <a:srgbClr val="33cccc"/>
          </a:solidFill>
          <a:ln w="572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c600"/>
                </a:solidFill>
                <a:latin typeface="Times New Roman"/>
              </a:rPr>
              <a:t>Баромет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395280" y="1989000"/>
            <a:ext cx="4419720" cy="3505320"/>
            <a:chOff x="395280" y="1989000"/>
            <a:chExt cx="4419720" cy="3505320"/>
          </a:xfrm>
        </p:grpSpPr>
        <p:sp>
          <p:nvSpPr>
            <p:cNvPr id="112" name="AutoShape 8"/>
            <p:cNvSpPr/>
            <p:nvPr/>
          </p:nvSpPr>
          <p:spPr>
            <a:xfrm>
              <a:off x="395280" y="198900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1843200" y="2446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Ртутн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" name="AutoShape 10"/>
          <p:cNvSpPr/>
          <p:nvPr/>
        </p:nvSpPr>
        <p:spPr>
          <a:xfrm>
            <a:off x="914400" y="4495680"/>
            <a:ext cx="3276720" cy="685800"/>
          </a:xfrm>
          <a:custGeom>
            <a:avLst/>
            <a:gdLst>
              <a:gd name="textAreaLeft" fmla="*/ 682560 w 3276720"/>
              <a:gd name="textAreaRight" fmla="*/ 2594160 w 327672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219320" y="4724280"/>
            <a:ext cx="2666880" cy="457200"/>
          </a:xfrm>
          <a:custGeom>
            <a:avLst/>
            <a:gdLst>
              <a:gd name="textAreaLeft" fmla="*/ 483480 w 2666880"/>
              <a:gd name="textAreaRight" fmla="*/ 2183400 w 266688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32" y="21600"/>
                </a:lnTo>
                <a:lnTo>
                  <a:pt x="1736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Group 12"/>
          <p:cNvGrpSpPr/>
          <p:nvPr/>
        </p:nvGrpSpPr>
        <p:grpSpPr>
          <a:xfrm>
            <a:off x="2362320" y="2819520"/>
            <a:ext cx="533160" cy="2286000"/>
            <a:chOff x="2362320" y="2819520"/>
            <a:chExt cx="533160" cy="2286000"/>
          </a:xfrm>
        </p:grpSpPr>
        <p:grpSp>
          <p:nvGrpSpPr>
            <p:cNvPr id="117" name="Group 13"/>
            <p:cNvGrpSpPr/>
            <p:nvPr/>
          </p:nvGrpSpPr>
          <p:grpSpPr>
            <a:xfrm>
              <a:off x="2362320" y="2819520"/>
              <a:ext cx="533160" cy="2286000"/>
              <a:chOff x="2362320" y="2819520"/>
              <a:chExt cx="533160" cy="2286000"/>
            </a:xfrm>
          </p:grpSpPr>
          <p:sp>
            <p:nvSpPr>
              <p:cNvPr id="118" name="AutoShape 14"/>
              <p:cNvSpPr/>
              <p:nvPr/>
            </p:nvSpPr>
            <p:spPr>
              <a:xfrm>
                <a:off x="2362320" y="2819520"/>
                <a:ext cx="456840" cy="2286000"/>
              </a:xfrm>
              <a:prstGeom prst="can">
                <a:avLst>
                  <a:gd name="adj" fmla="val 12013"/>
                </a:avLst>
              </a:prstGeom>
              <a:solidFill>
                <a:srgbClr val="0000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2362320" y="4495680"/>
                <a:ext cx="4568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2362320" y="472428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666880" y="3352680"/>
              <a:ext cx="151920" cy="609840"/>
              <a:chOff x="2666880" y="3352680"/>
              <a:chExt cx="151920" cy="609840"/>
            </a:xfrm>
          </p:grpSpPr>
          <p:sp>
            <p:nvSpPr>
              <p:cNvPr id="122" name="Line 18"/>
              <p:cNvSpPr/>
              <p:nvPr/>
            </p:nvSpPr>
            <p:spPr>
              <a:xfrm>
                <a:off x="2742480" y="350532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2666880" y="365760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2742480" y="380988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2666880" y="396252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2666880" y="335268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7" name="Group 23"/>
          <p:cNvGrpSpPr/>
          <p:nvPr/>
        </p:nvGrpSpPr>
        <p:grpSpPr>
          <a:xfrm>
            <a:off x="2362320" y="4038480"/>
            <a:ext cx="533160" cy="1067040"/>
            <a:chOff x="2362320" y="4038480"/>
            <a:chExt cx="533160" cy="1067040"/>
          </a:xfrm>
        </p:grpSpPr>
        <p:sp>
          <p:nvSpPr>
            <p:cNvPr id="128" name="AutoShape 24"/>
            <p:cNvSpPr/>
            <p:nvPr/>
          </p:nvSpPr>
          <p:spPr>
            <a:xfrm>
              <a:off x="2362320" y="4038480"/>
              <a:ext cx="456840" cy="1067040"/>
            </a:xfrm>
            <a:prstGeom prst="can">
              <a:avLst>
                <a:gd name="adj" fmla="val 1201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2362320" y="4495680"/>
              <a:ext cx="533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2362320" y="4724280"/>
              <a:ext cx="456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27"/>
          <p:cNvGrpSpPr/>
          <p:nvPr/>
        </p:nvGrpSpPr>
        <p:grpSpPr>
          <a:xfrm>
            <a:off x="1676520" y="3429000"/>
            <a:ext cx="1904760" cy="1295280"/>
            <a:chOff x="1676520" y="3429000"/>
            <a:chExt cx="1904760" cy="1295280"/>
          </a:xfrm>
        </p:grpSpPr>
        <p:sp>
          <p:nvSpPr>
            <p:cNvPr id="132" name="Line 28"/>
            <p:cNvSpPr/>
            <p:nvPr/>
          </p:nvSpPr>
          <p:spPr>
            <a:xfrm>
              <a:off x="320040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35053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>
              <a:off x="198108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16765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32004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16765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4"/>
          <p:cNvGrpSpPr/>
          <p:nvPr/>
        </p:nvGrpSpPr>
        <p:grpSpPr>
          <a:xfrm>
            <a:off x="6804000" y="333360"/>
            <a:ext cx="2085480" cy="459720"/>
            <a:chOff x="6804000" y="333360"/>
            <a:chExt cx="2085480" cy="459720"/>
          </a:xfrm>
        </p:grpSpPr>
        <p:sp>
          <p:nvSpPr>
            <p:cNvPr id="139" name="AutoShape 35"/>
            <p:cNvSpPr/>
            <p:nvPr/>
          </p:nvSpPr>
          <p:spPr>
            <a:xfrm>
              <a:off x="6804000" y="409320"/>
              <a:ext cx="1896120" cy="38124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804000" y="33336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ff"/>
                  </a:solidFill>
                  <a:latin typeface="Times New Roman"/>
                </a:rPr>
                <a:t>мм рт. ст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495680" y="1981080"/>
            <a:ext cx="4419720" cy="3505320"/>
            <a:chOff x="4495680" y="1981080"/>
            <a:chExt cx="4419720" cy="3505320"/>
          </a:xfrm>
        </p:grpSpPr>
        <p:sp>
          <p:nvSpPr>
            <p:cNvPr id="142" name="AutoShape 38"/>
            <p:cNvSpPr/>
            <p:nvPr/>
          </p:nvSpPr>
          <p:spPr>
            <a:xfrm>
              <a:off x="4495680" y="198108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5181480" y="2438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Анероїд</a:t>
              </a:r>
              <a:r>
                <a:rPr b="1" i="1" lang="uk-UA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666633"/>
                  </a:solidFill>
                  <a:latin typeface="Times New Roman"/>
                </a:rPr>
                <a:t>(без рідини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40"/>
          <p:cNvGrpSpPr/>
          <p:nvPr/>
        </p:nvGrpSpPr>
        <p:grpSpPr>
          <a:xfrm>
            <a:off x="5410080" y="2819520"/>
            <a:ext cx="2613960" cy="2590560"/>
            <a:chOff x="5410080" y="2819520"/>
            <a:chExt cx="2613960" cy="2590560"/>
          </a:xfrm>
        </p:grpSpPr>
        <p:grpSp>
          <p:nvGrpSpPr>
            <p:cNvPr id="145" name="Group 41"/>
            <p:cNvGrpSpPr/>
            <p:nvPr/>
          </p:nvGrpSpPr>
          <p:grpSpPr>
            <a:xfrm>
              <a:off x="5410080" y="2819520"/>
              <a:ext cx="2613960" cy="2590560"/>
              <a:chOff x="5410080" y="2819520"/>
              <a:chExt cx="2613960" cy="2590560"/>
            </a:xfrm>
          </p:grpSpPr>
          <p:sp>
            <p:nvSpPr>
              <p:cNvPr id="146" name="Oval 42"/>
              <p:cNvSpPr/>
              <p:nvPr/>
            </p:nvSpPr>
            <p:spPr>
              <a:xfrm>
                <a:off x="5410080" y="2819520"/>
                <a:ext cx="2590920" cy="2590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" name="Group 43"/>
              <p:cNvGrpSpPr/>
              <p:nvPr/>
            </p:nvGrpSpPr>
            <p:grpSpPr>
              <a:xfrm>
                <a:off x="5463000" y="2819520"/>
                <a:ext cx="2561040" cy="1245600"/>
                <a:chOff x="5463000" y="2819520"/>
                <a:chExt cx="2561040" cy="1245600"/>
              </a:xfrm>
            </p:grpSpPr>
            <p:sp>
              <p:nvSpPr>
                <p:cNvPr id="148" name="Line 44"/>
                <p:cNvSpPr/>
                <p:nvPr/>
              </p:nvSpPr>
              <p:spPr>
                <a:xfrm>
                  <a:off x="6705720" y="2819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5"/>
                <p:cNvSpPr/>
                <p:nvPr/>
              </p:nvSpPr>
              <p:spPr>
                <a:xfrm flipH="1">
                  <a:off x="7096680" y="2896560"/>
                  <a:ext cx="131760" cy="326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6"/>
                <p:cNvSpPr/>
                <p:nvPr/>
              </p:nvSpPr>
              <p:spPr>
                <a:xfrm flipH="1">
                  <a:off x="7337160" y="3170160"/>
                  <a:ext cx="260280" cy="236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47"/>
                <p:cNvSpPr/>
                <p:nvPr/>
              </p:nvSpPr>
              <p:spPr>
                <a:xfrm flipH="1">
                  <a:off x="7543440" y="3581280"/>
                  <a:ext cx="304920" cy="176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48"/>
                <p:cNvSpPr/>
                <p:nvPr/>
              </p:nvSpPr>
              <p:spPr>
                <a:xfrm>
                  <a:off x="5562720" y="3505320"/>
                  <a:ext cx="304560" cy="176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49"/>
                <p:cNvSpPr/>
                <p:nvPr/>
              </p:nvSpPr>
              <p:spPr>
                <a:xfrm flipV="1">
                  <a:off x="5463000" y="3969000"/>
                  <a:ext cx="351720" cy="1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5820480" y="3162600"/>
                  <a:ext cx="246240" cy="251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6180120" y="2897640"/>
                  <a:ext cx="136080" cy="324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 flipV="1">
                  <a:off x="7673040" y="4035960"/>
                  <a:ext cx="351000" cy="29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7" name="Text Box 53"/>
            <p:cNvSpPr/>
            <p:nvPr/>
          </p:nvSpPr>
          <p:spPr>
            <a:xfrm>
              <a:off x="64008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760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54"/>
          <p:cNvGrpSpPr/>
          <p:nvPr/>
        </p:nvGrpSpPr>
        <p:grpSpPr>
          <a:xfrm>
            <a:off x="6248520" y="4343400"/>
            <a:ext cx="990360" cy="685800"/>
            <a:chOff x="6248520" y="4343400"/>
            <a:chExt cx="990360" cy="685800"/>
          </a:xfrm>
        </p:grpSpPr>
        <p:sp>
          <p:nvSpPr>
            <p:cNvPr id="159" name="AutoShape 55"/>
            <p:cNvSpPr/>
            <p:nvPr/>
          </p:nvSpPr>
          <p:spPr>
            <a:xfrm>
              <a:off x="6248520" y="43434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56"/>
            <p:cNvSpPr/>
            <p:nvPr/>
          </p:nvSpPr>
          <p:spPr>
            <a:xfrm>
              <a:off x="6248520" y="45720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57"/>
            <p:cNvSpPr/>
            <p:nvPr/>
          </p:nvSpPr>
          <p:spPr>
            <a:xfrm>
              <a:off x="6248520" y="48006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AutoShape 58"/>
          <p:cNvSpPr/>
          <p:nvPr/>
        </p:nvSpPr>
        <p:spPr>
          <a:xfrm rot="18926400">
            <a:off x="6171840" y="3124080"/>
            <a:ext cx="228600" cy="14479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3" name="Group 59"/>
          <p:cNvGrpSpPr/>
          <p:nvPr/>
        </p:nvGrpSpPr>
        <p:grpSpPr>
          <a:xfrm>
            <a:off x="6621480" y="3486600"/>
            <a:ext cx="2293560" cy="1545120"/>
            <a:chOff x="6621480" y="3486600"/>
            <a:chExt cx="2293560" cy="1545120"/>
          </a:xfrm>
        </p:grpSpPr>
        <p:sp>
          <p:nvSpPr>
            <p:cNvPr id="164" name="Text Box 60"/>
            <p:cNvSpPr/>
            <p:nvPr/>
          </p:nvSpPr>
          <p:spPr>
            <a:xfrm>
              <a:off x="8001000" y="4572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5" name="Group 61"/>
            <p:cNvGrpSpPr/>
            <p:nvPr/>
          </p:nvGrpSpPr>
          <p:grpSpPr>
            <a:xfrm>
              <a:off x="6621480" y="3486600"/>
              <a:ext cx="2293560" cy="1452240"/>
              <a:chOff x="6621480" y="3486600"/>
              <a:chExt cx="2293560" cy="1452240"/>
            </a:xfrm>
          </p:grpSpPr>
          <p:sp>
            <p:nvSpPr>
              <p:cNvPr id="166" name="AutoShape 62"/>
              <p:cNvSpPr/>
              <p:nvPr/>
            </p:nvSpPr>
            <p:spPr>
              <a:xfrm rot="3265800">
                <a:off x="7162200" y="3276720"/>
                <a:ext cx="228600" cy="1447560"/>
              </a:xfrm>
              <a:prstGeom prst="flowChartExtra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Line 63"/>
              <p:cNvSpPr/>
              <p:nvPr/>
            </p:nvSpPr>
            <p:spPr>
              <a:xfrm flipH="1">
                <a:off x="6933960" y="44197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Line 64"/>
              <p:cNvSpPr/>
              <p:nvPr/>
            </p:nvSpPr>
            <p:spPr>
              <a:xfrm flipH="1">
                <a:off x="7086240" y="457200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Line 65"/>
              <p:cNvSpPr/>
              <p:nvPr/>
            </p:nvSpPr>
            <p:spPr>
              <a:xfrm flipH="1">
                <a:off x="6933960" y="41911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0" name="Text Box 66"/>
          <p:cNvSpPr/>
          <p:nvPr/>
        </p:nvSpPr>
        <p:spPr>
          <a:xfrm>
            <a:off x="395280" y="5867280"/>
            <a:ext cx="8569440" cy="520560"/>
          </a:xfrm>
          <a:prstGeom prst="rect">
            <a:avLst/>
          </a:prstGeom>
          <a:solidFill>
            <a:srgbClr val="33cccc"/>
          </a:solidFill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нормальний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760 мм рт ст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на рівні моря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Group 67"/>
          <p:cNvGrpSpPr/>
          <p:nvPr/>
        </p:nvGrpSpPr>
        <p:grpSpPr>
          <a:xfrm>
            <a:off x="2362320" y="3352680"/>
            <a:ext cx="457200" cy="1752840"/>
            <a:chOff x="2362320" y="3352680"/>
            <a:chExt cx="457200" cy="1752840"/>
          </a:xfrm>
        </p:grpSpPr>
        <p:grpSp>
          <p:nvGrpSpPr>
            <p:cNvPr id="172" name="Group 68"/>
            <p:cNvGrpSpPr/>
            <p:nvPr/>
          </p:nvGrpSpPr>
          <p:grpSpPr>
            <a:xfrm>
              <a:off x="2362320" y="3352680"/>
              <a:ext cx="457200" cy="1752840"/>
              <a:chOff x="2362320" y="3352680"/>
              <a:chExt cx="457200" cy="1752840"/>
            </a:xfrm>
          </p:grpSpPr>
          <p:sp>
            <p:nvSpPr>
              <p:cNvPr id="173" name="AutoShape 69"/>
              <p:cNvSpPr/>
              <p:nvPr/>
            </p:nvSpPr>
            <p:spPr>
              <a:xfrm>
                <a:off x="2362320" y="3352680"/>
                <a:ext cx="457200" cy="1752840"/>
              </a:xfrm>
              <a:prstGeom prst="can">
                <a:avLst>
                  <a:gd name="adj" fmla="val 1201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a7a7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Line 70"/>
              <p:cNvSpPr/>
              <p:nvPr/>
            </p:nvSpPr>
            <p:spPr>
              <a:xfrm>
                <a:off x="2362320" y="44956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Line 71"/>
              <p:cNvSpPr/>
              <p:nvPr/>
            </p:nvSpPr>
            <p:spPr>
              <a:xfrm>
                <a:off x="2362320" y="47242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6" name="Group 72"/>
            <p:cNvGrpSpPr/>
            <p:nvPr/>
          </p:nvGrpSpPr>
          <p:grpSpPr>
            <a:xfrm>
              <a:off x="2666880" y="3505320"/>
              <a:ext cx="152280" cy="457200"/>
              <a:chOff x="2666880" y="3505320"/>
              <a:chExt cx="152280" cy="457200"/>
            </a:xfrm>
          </p:grpSpPr>
          <p:sp>
            <p:nvSpPr>
              <p:cNvPr id="177" name="Line 73"/>
              <p:cNvSpPr/>
              <p:nvPr/>
            </p:nvSpPr>
            <p:spPr>
              <a:xfrm>
                <a:off x="2742840" y="350532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Line 74"/>
              <p:cNvSpPr/>
              <p:nvPr/>
            </p:nvSpPr>
            <p:spPr>
              <a:xfrm>
                <a:off x="2666880" y="365760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Line 75"/>
              <p:cNvSpPr/>
              <p:nvPr/>
            </p:nvSpPr>
            <p:spPr>
              <a:xfrm>
                <a:off x="2742840" y="380988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Line 76"/>
              <p:cNvSpPr/>
              <p:nvPr/>
            </p:nvSpPr>
            <p:spPr>
              <a:xfrm>
                <a:off x="2666880" y="396252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міна атмосферного тиску з висото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440" y="508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7" descr="http://school.xvatit.com/images/f/fe/As97.jpg"/>
          <p:cNvPicPr/>
          <p:nvPr/>
        </p:nvPicPr>
        <p:blipFill>
          <a:blip r:embed="rId1"/>
          <a:stretch/>
        </p:blipFill>
        <p:spPr>
          <a:xfrm>
            <a:off x="2195640" y="1557360"/>
            <a:ext cx="4681440" cy="6264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0" y="634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33520" y="2057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АДАЧ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33520" y="2514600"/>
            <a:ext cx="8229600" cy="100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На якій висоті знаходиться альпініст, якщо атмосферний тиск у підніжжя гори становить 760 мм рт ст, а на вершині 570 мм рт ст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24000" y="3573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РОЗВ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ЯЗО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1547640" y="3789360"/>
            <a:ext cx="2362320" cy="2895480"/>
            <a:chOff x="1547640" y="3789360"/>
            <a:chExt cx="2362320" cy="2895480"/>
          </a:xfrm>
        </p:grpSpPr>
        <p:sp>
          <p:nvSpPr>
            <p:cNvPr id="190" name="Line 6"/>
            <p:cNvSpPr/>
            <p:nvPr/>
          </p:nvSpPr>
          <p:spPr>
            <a:xfrm>
              <a:off x="3452760" y="3789360"/>
              <a:ext cx="0" cy="289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1547640" y="40939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r>
                <a:rPr b="1" i="1" lang="uk-UA" sz="2400" spc="-1" strike="noStrike">
                  <a:solidFill>
                    <a:srgbClr val="660066"/>
                  </a:solidFill>
                  <a:latin typeface="Times New Roman"/>
                </a:rPr>
                <a:t>=?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547640" y="4703400"/>
              <a:ext cx="190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Text Box 9"/>
          <p:cNvSpPr/>
          <p:nvPr/>
        </p:nvSpPr>
        <p:spPr>
          <a:xfrm>
            <a:off x="609480" y="4952880"/>
            <a:ext cx="3170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1 = 76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2 = 5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995640" y="3645000"/>
            <a:ext cx="46735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760мм рт ст – 570 мм рт ст=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1" i="1" lang="uk-UA" sz="1800" spc="-1" strike="noStrike">
                <a:solidFill>
                  <a:srgbClr val="010199"/>
                </a:solidFill>
                <a:latin typeface="Times New Roman"/>
              </a:rPr>
              <a:t>1000м – 10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      -  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= (190*1000)/ 100 = 1900 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Відповідь:</a:t>
            </a:r>
            <a:r>
              <a:rPr b="1" i="1" lang="uk-UA" sz="1800" spc="-1" strike="noStrike">
                <a:solidFill>
                  <a:srgbClr val="cc0000"/>
                </a:solidFill>
                <a:latin typeface="Times New Roman"/>
              </a:rPr>
              <a:t> 1900 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1280" y="228600"/>
            <a:ext cx="8137440" cy="947160"/>
          </a:xfrm>
          <a:prstGeom prst="rect">
            <a:avLst/>
          </a:prstGeom>
          <a:gradFill rotWithShape="0">
            <a:gsLst>
              <a:gs pos="0">
                <a:srgbClr val="e1ffe1"/>
              </a:gs>
              <a:gs pos="100000">
                <a:srgbClr val="ccffcc"/>
              </a:gs>
            </a:gsLst>
            <a:lin ang="189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Times New Roman"/>
              </a:rPr>
              <a:t>БАРИЧНА СТУПІ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закономірна змін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атмосферного тиску з висот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Group 12"/>
          <p:cNvGrpSpPr/>
          <p:nvPr/>
        </p:nvGrpSpPr>
        <p:grpSpPr>
          <a:xfrm>
            <a:off x="2133720" y="1371600"/>
            <a:ext cx="4876560" cy="581400"/>
            <a:chOff x="2133720" y="1371600"/>
            <a:chExt cx="4876560" cy="581400"/>
          </a:xfrm>
        </p:grpSpPr>
        <p:sp>
          <p:nvSpPr>
            <p:cNvPr id="197" name="Text Box 13"/>
            <p:cNvSpPr/>
            <p:nvPr/>
          </p:nvSpPr>
          <p:spPr>
            <a:xfrm>
              <a:off x="2133720" y="1371600"/>
              <a:ext cx="4876560" cy="581400"/>
            </a:xfrm>
            <a:prstGeom prst="rect">
              <a:avLst/>
            </a:prstGeom>
            <a:noFill/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c0066"/>
                  </a:solidFill>
                  <a:latin typeface="Times New Roman"/>
                </a:rPr>
                <a:t>-100 мм рт ст   на   1 км</a:t>
              </a: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14"/>
            <p:cNvSpPr/>
            <p:nvPr/>
          </p:nvSpPr>
          <p:spPr>
            <a:xfrm flipV="1">
              <a:off x="6705720" y="1523520"/>
              <a:ext cx="0" cy="3812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6:26Z</dcterms:created>
  <dc:creator>Admin</dc:creator>
  <dc:description/>
  <dc:language>en-US</dc:language>
  <cp:lastModifiedBy>User</cp:lastModifiedBy>
  <dcterms:modified xsi:type="dcterms:W3CDTF">2013-04-26T19:12:21Z</dcterms:modified>
  <cp:revision>12</cp:revision>
  <dc:subject/>
  <dc:title>26 січня Класна робот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8000000000001024140</vt:lpwstr>
  </property>
</Properties>
</file>