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clap.wav" ContentType="audio/x-wav"/>
  <Override PartName="/ppt/media/image4.jpeg" ContentType="image/jpeg"/>
  <Override PartName="/ppt/media/image5.jpeg" ContentType="image/jpeg"/>
  <Override PartName="/ppt/media/image7.jpeg" ContentType="image/jpeg"/>
  <Override PartName="/ppt/media/camera.wav" ContentType="audio/x-wav"/>
  <Override PartName="/ppt/media/image3.jpeg" ContentType="image/jpeg"/>
  <Override PartName="/ppt/media/drumroll.wav" ContentType="audio/x-wav"/>
  <Override PartName="/ppt/media/image8.jpeg" ContentType="image/jpe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C0B6-C1E9-4686-A791-5D0DB3E391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C01F-A2B1-4F72-B062-48D6E810F4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F780-313A-41A3-A3D4-7BFB3B68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D63D-380E-460D-B8BF-C8523E4E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309A-1F1D-46D7-8B0F-FFF5FB2E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1BB-9884-47A1-8AC5-509A0B18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A570C-D608-4B4B-9CB9-9BB80AC6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A4525-4370-4A9E-BEA1-34443AF8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80213-B183-4DC0-AF41-9CFBFA06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40D16-725F-4387-844F-EA651535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78022-F1A5-44A5-AC94-C388256E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D2D3B-5F46-4E72-9227-69E7E006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756BC-2894-4921-92B9-AF7FDF7D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85A3-6743-4E9E-92E3-8DE5BC14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D1FE0-F0BC-4B3A-98E0-B55B3AFB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70D7A-0EB7-449B-8797-ADAFBFF6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B0C8B-E04F-4629-8CC4-84CD7AAC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98C9C-B0B5-4A0A-8609-E3BD63DC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9A13C-F3AB-4270-A619-FB745647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6DD0-FC18-44FA-945D-6587CFC6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EC0-DBC7-4518-9DD1-2ECE48FF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1B8B-F624-4DC6-AFCE-8A328D89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8EEE-4A34-4D67-A839-143E2C9A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2AD-CAA3-4096-A434-0422821E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E75-C9E8-472F-B1DF-696C05B5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923-F37F-43D8-89F2-E061E5CB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EF06-1ADD-48AA-BD9D-DB4D64931B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1597-6D1D-4A27-98A1-EA9119F023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drumroll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clap.wav"/><Relationship Id="rId8" Type="http://schemas.openxmlformats.org/officeDocument/2006/relationships/audio" Target="../media/clap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kranews.com/images/weather/04.gif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ukranews.com/images/weather/07.gif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http://www.osvitanet.com.ua/base_book/geography6/geography6_files/image14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0" y="623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1042920" y="-171360"/>
            <a:ext cx="6477120" cy="2895480"/>
            <a:chOff x="1042920" y="-171360"/>
            <a:chExt cx="6477120" cy="2895480"/>
          </a:xfrm>
        </p:grpSpPr>
        <p:sp>
          <p:nvSpPr>
            <p:cNvPr id="200" name="AutoShape 3"/>
            <p:cNvSpPr/>
            <p:nvPr/>
          </p:nvSpPr>
          <p:spPr>
            <a:xfrm>
              <a:off x="1042920" y="-171360"/>
              <a:ext cx="6477120" cy="2895480"/>
            </a:xfrm>
            <a:prstGeom prst="wedgeEllipseCallout">
              <a:avLst>
                <a:gd name="adj1" fmla="val -62083"/>
                <a:gd name="adj2" fmla="val 586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WordArt 4"/>
            <p:cNvSpPr txBox="1"/>
            <p:nvPr/>
          </p:nvSpPr>
          <p:spPr>
            <a:xfrm>
              <a:off x="1805040" y="438120"/>
              <a:ext cx="5143680" cy="163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86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9999ff"/>
                    </a:outerShdw>
                  </a:effectLst>
                  <a:latin typeface="Impact"/>
                </a:rPr>
                <a:t>"А тепер - самі !"</a:t>
              </a:r>
              <a:endParaRPr b="1" lang="en-US" sz="1800" spc="1" strike="noStrike">
                <a:ln w="2844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02" name="Text Box 5"/>
          <p:cNvSpPr/>
          <p:nvPr/>
        </p:nvSpPr>
        <p:spPr>
          <a:xfrm>
            <a:off x="0" y="3048120"/>
            <a:ext cx="6400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c600"/>
                </a:solidFill>
                <a:latin typeface="Times New Roman"/>
              </a:rPr>
              <a:t>Який тиск на вершині гори, висотою 2000 м, якщо у підніжжя він становить 750 мм рт 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0" y="4724280"/>
            <a:ext cx="6400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c600"/>
                </a:solidFill>
                <a:latin typeface="Times New Roman"/>
              </a:rPr>
              <a:t>Який тиск у підніжжя гори, висотою 3700м, якщо на вершині він становить 400 мм рт 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6804000" y="2276640"/>
            <a:ext cx="2057400" cy="914400"/>
          </a:xfrm>
          <a:prstGeom prst="downArrowCallout">
            <a:avLst>
              <a:gd name="adj1" fmla="val 61464"/>
              <a:gd name="adj2" fmla="val 60073"/>
              <a:gd name="adj3" fmla="val 24403"/>
              <a:gd name="adj4" fmla="val 57736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еревір се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629400" y="3276720"/>
            <a:ext cx="2286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c600"/>
                </a:solidFill>
                <a:latin typeface="Times New Roman"/>
              </a:rPr>
              <a:t>550 мм рт 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443640" y="5084640"/>
            <a:ext cx="2502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c600"/>
                </a:solidFill>
                <a:latin typeface="Times New Roman"/>
              </a:rPr>
              <a:t>770 мм рт 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3" dur="1" fill="hold"/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Tahoma"/>
              </a:rPr>
              <a:t>Залежність тиску від температури повітр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12" descr="абрикоса"/>
          <p:cNvPicPr/>
          <p:nvPr/>
        </p:nvPicPr>
        <p:blipFill>
          <a:blip r:embed="rId1"/>
          <a:stretch/>
        </p:blipFill>
        <p:spPr>
          <a:xfrm>
            <a:off x="179280" y="2205000"/>
            <a:ext cx="878544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Tahoma"/>
              </a:rPr>
              <a:t>Залежність погоди від атмосферного тиск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40384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Високий тис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изький тиск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9" descr="Зображення 70 з 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16280"/>
            <a:ext cx="3456000" cy="194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Зображення 51 з 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4076640"/>
            <a:ext cx="34560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Розподіл тиску на планет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5" descr="абрикос"/>
          <p:cNvPicPr/>
          <p:nvPr/>
        </p:nvPicPr>
        <p:blipFill>
          <a:blip r:embed="rId1"/>
          <a:stretch/>
        </p:blipFill>
        <p:spPr>
          <a:xfrm>
            <a:off x="971640" y="1268280"/>
            <a:ext cx="72723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Повітря має вагу, тому тисне на земну   поверхн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Одиниці вимірювання атмосферного тиску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З висотою атмосферний тиск знижуєть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Високий атмосферний тиск сприяє утворенню  опаді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Прилад для вимірювання атмосферного тиску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флюге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Нормальний атмосферний тиск – 760 мм рт.ст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Чим вища температура повітря, тим нижче атмосферний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uk-UA" sz="2400" spc="-1" strike="noStrike">
                <a:solidFill>
                  <a:srgbClr val="ffffff"/>
                </a:solidFill>
                <a:latin typeface="Tahoma"/>
              </a:rPr>
              <a:t>тис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WordArt 9"/>
          <p:cNvSpPr txBox="1"/>
          <p:nvPr/>
        </p:nvSpPr>
        <p:spPr>
          <a:xfrm>
            <a:off x="1116000" y="0"/>
            <a:ext cx="6840720" cy="13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ра “Світлофор”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На уроці я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Дізнався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Зрозумів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Навчився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Найбільші труднощі відчув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Не вмів, а тепер умію…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Домашнє завданн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Опрацюват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§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22 с.107-108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§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23 с.111-11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ідповісти на питання 1-2 на с.111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та 1-2 на с.11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класти і розв'язати задач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547640" y="3166920"/>
            <a:ext cx="597708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тмосферний тис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ffff"/>
                </a:solidFill>
                <a:latin typeface="Tahoma"/>
              </a:rPr>
              <a:t>Завдання уроку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Сформувати поняття “атмосферний тиск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Визначити, як вимірюється атмосферний тис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З'ясувати, як і чому змінюється атмосферний тис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Виявити зв’язок між атмосферним тиском та станом пого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Визначити, як розподіляється атмосферний тиск на Земл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ahoma"/>
              </a:rPr>
              <a:t>Отримати від уроку користь і задоволенн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3493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cc00"/>
                </a:solidFill>
                <a:latin typeface="Tahoma"/>
              </a:rPr>
              <a:t>Атмосферний тиск</a:t>
            </a: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 - це сила, з якою повітря тисне на земну поверхню та об'єкти і тіла розташовані на ній.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Сила тиск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1 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1см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на 1с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²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- 1кг 33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100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100см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на 1 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²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-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10000 кг =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10 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=1,5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15 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619280" y="1844640"/>
            <a:ext cx="9144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332000" y="3213000"/>
            <a:ext cx="1511280" cy="1513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03280" y="4869000"/>
            <a:ext cx="125244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Дослід Торрічелл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304920" y="228600"/>
            <a:ext cx="5486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ТМОСФЕРНИЙ ТИС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156360" y="189000"/>
            <a:ext cx="2663640" cy="64260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ff0066"/>
                </a:solidFill>
                <a:latin typeface="Times New Roman"/>
              </a:rPr>
              <a:t>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200400" y="990720"/>
            <a:ext cx="2971800" cy="703440"/>
          </a:xfrm>
          <a:prstGeom prst="rect">
            <a:avLst/>
          </a:prstGeom>
          <a:solidFill>
            <a:srgbClr val="33cccc"/>
          </a:solidFill>
          <a:ln w="572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uk-UA" sz="4000" spc="-1" strike="noStrike">
                <a:solidFill>
                  <a:srgbClr val="00c600"/>
                </a:solidFill>
                <a:latin typeface="Times New Roman"/>
              </a:rPr>
              <a:t>Баромет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Group 7"/>
          <p:cNvGrpSpPr/>
          <p:nvPr/>
        </p:nvGrpSpPr>
        <p:grpSpPr>
          <a:xfrm>
            <a:off x="395280" y="1989000"/>
            <a:ext cx="4419720" cy="3505320"/>
            <a:chOff x="395280" y="1989000"/>
            <a:chExt cx="4419720" cy="3505320"/>
          </a:xfrm>
        </p:grpSpPr>
        <p:sp>
          <p:nvSpPr>
            <p:cNvPr id="112" name="AutoShape 8"/>
            <p:cNvSpPr/>
            <p:nvPr/>
          </p:nvSpPr>
          <p:spPr>
            <a:xfrm>
              <a:off x="395280" y="1989000"/>
              <a:ext cx="4419720" cy="350532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71dcdc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Text Box 9"/>
            <p:cNvSpPr/>
            <p:nvPr/>
          </p:nvSpPr>
          <p:spPr>
            <a:xfrm>
              <a:off x="1843200" y="24462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ffff00"/>
                  </a:solidFill>
                  <a:latin typeface="Times New Roman"/>
                </a:rPr>
                <a:t>Ртутний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4" name="AutoShape 10"/>
          <p:cNvSpPr/>
          <p:nvPr/>
        </p:nvSpPr>
        <p:spPr>
          <a:xfrm>
            <a:off x="914400" y="4495680"/>
            <a:ext cx="3276720" cy="685800"/>
          </a:xfrm>
          <a:custGeom>
            <a:avLst/>
            <a:gdLst>
              <a:gd name="textAreaLeft" fmla="*/ 682560 w 3276720"/>
              <a:gd name="textAreaRight" fmla="*/ 2594160 w 3276720"/>
              <a:gd name="textAreaTop" fmla="*/ 142920 h 685800"/>
              <a:gd name="textAreaBottom" fmla="*/ 542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1219320" y="4724280"/>
            <a:ext cx="2666880" cy="457200"/>
          </a:xfrm>
          <a:custGeom>
            <a:avLst/>
            <a:gdLst>
              <a:gd name="textAreaLeft" fmla="*/ 483480 w 2666880"/>
              <a:gd name="textAreaRight" fmla="*/ 2183400 w 2666880"/>
              <a:gd name="textAreaTop" fmla="*/ 82800 h 457200"/>
              <a:gd name="textAreaBottom" fmla="*/ 3744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232" y="21600"/>
                </a:lnTo>
                <a:lnTo>
                  <a:pt x="1736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" name="Group 12"/>
          <p:cNvGrpSpPr/>
          <p:nvPr/>
        </p:nvGrpSpPr>
        <p:grpSpPr>
          <a:xfrm>
            <a:off x="2362320" y="2819520"/>
            <a:ext cx="533160" cy="2286000"/>
            <a:chOff x="2362320" y="2819520"/>
            <a:chExt cx="533160" cy="2286000"/>
          </a:xfrm>
        </p:grpSpPr>
        <p:grpSp>
          <p:nvGrpSpPr>
            <p:cNvPr id="117" name="Group 13"/>
            <p:cNvGrpSpPr/>
            <p:nvPr/>
          </p:nvGrpSpPr>
          <p:grpSpPr>
            <a:xfrm>
              <a:off x="2362320" y="2819520"/>
              <a:ext cx="533160" cy="2286000"/>
              <a:chOff x="2362320" y="2819520"/>
              <a:chExt cx="533160" cy="2286000"/>
            </a:xfrm>
          </p:grpSpPr>
          <p:sp>
            <p:nvSpPr>
              <p:cNvPr id="118" name="AutoShape 14"/>
              <p:cNvSpPr/>
              <p:nvPr/>
            </p:nvSpPr>
            <p:spPr>
              <a:xfrm>
                <a:off x="2362320" y="2819520"/>
                <a:ext cx="456840" cy="2286000"/>
              </a:xfrm>
              <a:prstGeom prst="can">
                <a:avLst>
                  <a:gd name="adj" fmla="val 12013"/>
                </a:avLst>
              </a:prstGeom>
              <a:solidFill>
                <a:srgbClr val="000099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>
                <a:off x="2362320" y="4495680"/>
                <a:ext cx="4568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2362320" y="4724280"/>
                <a:ext cx="5331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1" name="Group 17"/>
            <p:cNvGrpSpPr/>
            <p:nvPr/>
          </p:nvGrpSpPr>
          <p:grpSpPr>
            <a:xfrm>
              <a:off x="2666880" y="3352680"/>
              <a:ext cx="151920" cy="609840"/>
              <a:chOff x="2666880" y="3352680"/>
              <a:chExt cx="151920" cy="609840"/>
            </a:xfrm>
          </p:grpSpPr>
          <p:sp>
            <p:nvSpPr>
              <p:cNvPr id="122" name="Line 18"/>
              <p:cNvSpPr/>
              <p:nvPr/>
            </p:nvSpPr>
            <p:spPr>
              <a:xfrm>
                <a:off x="2742480" y="3505320"/>
                <a:ext cx="759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2666880" y="3657600"/>
                <a:ext cx="151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>
                <a:off x="2742480" y="3809880"/>
                <a:ext cx="759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Line 21"/>
              <p:cNvSpPr/>
              <p:nvPr/>
            </p:nvSpPr>
            <p:spPr>
              <a:xfrm>
                <a:off x="2666880" y="3962520"/>
                <a:ext cx="151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>
                <a:off x="2666880" y="3352680"/>
                <a:ext cx="151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7" name="Group 23"/>
          <p:cNvGrpSpPr/>
          <p:nvPr/>
        </p:nvGrpSpPr>
        <p:grpSpPr>
          <a:xfrm>
            <a:off x="2362320" y="4038480"/>
            <a:ext cx="533160" cy="1067040"/>
            <a:chOff x="2362320" y="4038480"/>
            <a:chExt cx="533160" cy="1067040"/>
          </a:xfrm>
        </p:grpSpPr>
        <p:sp>
          <p:nvSpPr>
            <p:cNvPr id="128" name="AutoShape 24"/>
            <p:cNvSpPr/>
            <p:nvPr/>
          </p:nvSpPr>
          <p:spPr>
            <a:xfrm>
              <a:off x="2362320" y="4038480"/>
              <a:ext cx="456840" cy="1067040"/>
            </a:xfrm>
            <a:prstGeom prst="can">
              <a:avLst>
                <a:gd name="adj" fmla="val 1201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Line 25"/>
            <p:cNvSpPr/>
            <p:nvPr/>
          </p:nvSpPr>
          <p:spPr>
            <a:xfrm>
              <a:off x="2362320" y="4495680"/>
              <a:ext cx="5331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>
              <a:off x="2362320" y="4724280"/>
              <a:ext cx="4568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1" name="Group 27"/>
          <p:cNvGrpSpPr/>
          <p:nvPr/>
        </p:nvGrpSpPr>
        <p:grpSpPr>
          <a:xfrm>
            <a:off x="1676520" y="3429000"/>
            <a:ext cx="1904760" cy="1295280"/>
            <a:chOff x="1676520" y="3429000"/>
            <a:chExt cx="1904760" cy="1295280"/>
          </a:xfrm>
        </p:grpSpPr>
        <p:sp>
          <p:nvSpPr>
            <p:cNvPr id="132" name="Line 28"/>
            <p:cNvSpPr/>
            <p:nvPr/>
          </p:nvSpPr>
          <p:spPr>
            <a:xfrm>
              <a:off x="3200400" y="396216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Line 29"/>
            <p:cNvSpPr/>
            <p:nvPr/>
          </p:nvSpPr>
          <p:spPr>
            <a:xfrm>
              <a:off x="3505320" y="396216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Line 30"/>
            <p:cNvSpPr/>
            <p:nvPr/>
          </p:nvSpPr>
          <p:spPr>
            <a:xfrm>
              <a:off x="1981080" y="396216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Line 31"/>
            <p:cNvSpPr/>
            <p:nvPr/>
          </p:nvSpPr>
          <p:spPr>
            <a:xfrm>
              <a:off x="1676520" y="396216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320040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99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167652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99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8" name="Group 34"/>
          <p:cNvGrpSpPr/>
          <p:nvPr/>
        </p:nvGrpSpPr>
        <p:grpSpPr>
          <a:xfrm>
            <a:off x="6804000" y="333360"/>
            <a:ext cx="2085480" cy="459720"/>
            <a:chOff x="6804000" y="333360"/>
            <a:chExt cx="2085480" cy="459720"/>
          </a:xfrm>
        </p:grpSpPr>
        <p:sp>
          <p:nvSpPr>
            <p:cNvPr id="139" name="AutoShape 35"/>
            <p:cNvSpPr/>
            <p:nvPr/>
          </p:nvSpPr>
          <p:spPr>
            <a:xfrm>
              <a:off x="6804000" y="409320"/>
              <a:ext cx="1896120" cy="38124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6804000" y="333360"/>
              <a:ext cx="20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ffffff"/>
                  </a:solidFill>
                  <a:latin typeface="Times New Roman"/>
                </a:rPr>
                <a:t>мм рт. ст.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1" name="Group 37"/>
          <p:cNvGrpSpPr/>
          <p:nvPr/>
        </p:nvGrpSpPr>
        <p:grpSpPr>
          <a:xfrm>
            <a:off x="4495680" y="1981080"/>
            <a:ext cx="4419720" cy="3505320"/>
            <a:chOff x="4495680" y="1981080"/>
            <a:chExt cx="4419720" cy="3505320"/>
          </a:xfrm>
        </p:grpSpPr>
        <p:sp>
          <p:nvSpPr>
            <p:cNvPr id="142" name="AutoShape 38"/>
            <p:cNvSpPr/>
            <p:nvPr/>
          </p:nvSpPr>
          <p:spPr>
            <a:xfrm>
              <a:off x="4495680" y="1981080"/>
              <a:ext cx="4419720" cy="350532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71dcdc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Text Box 39"/>
            <p:cNvSpPr/>
            <p:nvPr/>
          </p:nvSpPr>
          <p:spPr>
            <a:xfrm>
              <a:off x="5181480" y="243828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i="1" lang="uk-UA" sz="2000" spc="-1" strike="noStrike">
                  <a:solidFill>
                    <a:srgbClr val="ffff00"/>
                  </a:solidFill>
                  <a:latin typeface="Times New Roman"/>
                </a:rPr>
                <a:t>Анероїд</a:t>
              </a:r>
              <a:r>
                <a:rPr b="1" i="1" lang="uk-UA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i="1" lang="uk-UA" sz="2000" spc="-1" strike="noStrike">
                  <a:solidFill>
                    <a:srgbClr val="666633"/>
                  </a:solidFill>
                  <a:latin typeface="Times New Roman"/>
                </a:rPr>
                <a:t>(без рідини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4" name="Group 40"/>
          <p:cNvGrpSpPr/>
          <p:nvPr/>
        </p:nvGrpSpPr>
        <p:grpSpPr>
          <a:xfrm>
            <a:off x="5410080" y="2819520"/>
            <a:ext cx="2613960" cy="2590560"/>
            <a:chOff x="5410080" y="2819520"/>
            <a:chExt cx="2613960" cy="2590560"/>
          </a:xfrm>
        </p:grpSpPr>
        <p:grpSp>
          <p:nvGrpSpPr>
            <p:cNvPr id="145" name="Group 41"/>
            <p:cNvGrpSpPr/>
            <p:nvPr/>
          </p:nvGrpSpPr>
          <p:grpSpPr>
            <a:xfrm>
              <a:off x="5410080" y="2819520"/>
              <a:ext cx="2613960" cy="2590560"/>
              <a:chOff x="5410080" y="2819520"/>
              <a:chExt cx="2613960" cy="2590560"/>
            </a:xfrm>
          </p:grpSpPr>
          <p:sp>
            <p:nvSpPr>
              <p:cNvPr id="146" name="Oval 42"/>
              <p:cNvSpPr/>
              <p:nvPr/>
            </p:nvSpPr>
            <p:spPr>
              <a:xfrm>
                <a:off x="5410080" y="2819520"/>
                <a:ext cx="2590920" cy="2590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47" name="Group 43"/>
              <p:cNvGrpSpPr/>
              <p:nvPr/>
            </p:nvGrpSpPr>
            <p:grpSpPr>
              <a:xfrm>
                <a:off x="5463000" y="2819520"/>
                <a:ext cx="2561040" cy="1245600"/>
                <a:chOff x="5463000" y="2819520"/>
                <a:chExt cx="2561040" cy="1245600"/>
              </a:xfrm>
            </p:grpSpPr>
            <p:sp>
              <p:nvSpPr>
                <p:cNvPr id="148" name="Line 44"/>
                <p:cNvSpPr/>
                <p:nvPr/>
              </p:nvSpPr>
              <p:spPr>
                <a:xfrm>
                  <a:off x="6705720" y="281952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5"/>
                <p:cNvSpPr/>
                <p:nvPr/>
              </p:nvSpPr>
              <p:spPr>
                <a:xfrm flipH="1">
                  <a:off x="7096680" y="2896560"/>
                  <a:ext cx="131760" cy="326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6"/>
                <p:cNvSpPr/>
                <p:nvPr/>
              </p:nvSpPr>
              <p:spPr>
                <a:xfrm flipH="1">
                  <a:off x="7337160" y="3170160"/>
                  <a:ext cx="260280" cy="236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47"/>
                <p:cNvSpPr/>
                <p:nvPr/>
              </p:nvSpPr>
              <p:spPr>
                <a:xfrm flipH="1">
                  <a:off x="7543440" y="3581280"/>
                  <a:ext cx="304920" cy="1764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48"/>
                <p:cNvSpPr/>
                <p:nvPr/>
              </p:nvSpPr>
              <p:spPr>
                <a:xfrm>
                  <a:off x="5562720" y="3505320"/>
                  <a:ext cx="304560" cy="1760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49"/>
                <p:cNvSpPr/>
                <p:nvPr/>
              </p:nvSpPr>
              <p:spPr>
                <a:xfrm flipV="1">
                  <a:off x="5463000" y="3969000"/>
                  <a:ext cx="351720" cy="100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0"/>
                <p:cNvSpPr/>
                <p:nvPr/>
              </p:nvSpPr>
              <p:spPr>
                <a:xfrm>
                  <a:off x="5820480" y="3162600"/>
                  <a:ext cx="246240" cy="2516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1"/>
                <p:cNvSpPr/>
                <p:nvPr/>
              </p:nvSpPr>
              <p:spPr>
                <a:xfrm>
                  <a:off x="6180120" y="2897640"/>
                  <a:ext cx="136080" cy="3247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2"/>
                <p:cNvSpPr/>
                <p:nvPr/>
              </p:nvSpPr>
              <p:spPr>
                <a:xfrm flipV="1">
                  <a:off x="7673040" y="4035960"/>
                  <a:ext cx="351000" cy="291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57" name="Text Box 53"/>
            <p:cNvSpPr/>
            <p:nvPr/>
          </p:nvSpPr>
          <p:spPr>
            <a:xfrm>
              <a:off x="6400800" y="2971800"/>
              <a:ext cx="8380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ffffff"/>
                  </a:solidFill>
                  <a:latin typeface="Times New Roman"/>
                </a:rPr>
                <a:t>760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8" name="Group 54"/>
          <p:cNvGrpSpPr/>
          <p:nvPr/>
        </p:nvGrpSpPr>
        <p:grpSpPr>
          <a:xfrm>
            <a:off x="6248520" y="4343400"/>
            <a:ext cx="990360" cy="685800"/>
            <a:chOff x="6248520" y="4343400"/>
            <a:chExt cx="990360" cy="685800"/>
          </a:xfrm>
        </p:grpSpPr>
        <p:sp>
          <p:nvSpPr>
            <p:cNvPr id="159" name="AutoShape 55"/>
            <p:cNvSpPr/>
            <p:nvPr/>
          </p:nvSpPr>
          <p:spPr>
            <a:xfrm>
              <a:off x="6248520" y="4343400"/>
              <a:ext cx="990360" cy="228600"/>
            </a:xfrm>
            <a:prstGeom prst="flowChartTerminator">
              <a:avLst/>
            </a:prstGeom>
            <a:solidFill>
              <a:srgbClr val="000099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AutoShape 56"/>
            <p:cNvSpPr/>
            <p:nvPr/>
          </p:nvSpPr>
          <p:spPr>
            <a:xfrm>
              <a:off x="6248520" y="4572000"/>
              <a:ext cx="990360" cy="228600"/>
            </a:xfrm>
            <a:prstGeom prst="flowChartTerminator">
              <a:avLst/>
            </a:prstGeom>
            <a:solidFill>
              <a:srgbClr val="000099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AutoShape 57"/>
            <p:cNvSpPr/>
            <p:nvPr/>
          </p:nvSpPr>
          <p:spPr>
            <a:xfrm>
              <a:off x="6248520" y="4800600"/>
              <a:ext cx="990360" cy="228600"/>
            </a:xfrm>
            <a:prstGeom prst="flowChartTerminator">
              <a:avLst/>
            </a:prstGeom>
            <a:solidFill>
              <a:srgbClr val="000099"/>
            </a:solidFill>
            <a:ln w="0">
              <a:noFill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2" name="AutoShape 58"/>
          <p:cNvSpPr/>
          <p:nvPr/>
        </p:nvSpPr>
        <p:spPr>
          <a:xfrm rot="18926400">
            <a:off x="6171840" y="3124080"/>
            <a:ext cx="228600" cy="144792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3" name="Group 59"/>
          <p:cNvGrpSpPr/>
          <p:nvPr/>
        </p:nvGrpSpPr>
        <p:grpSpPr>
          <a:xfrm>
            <a:off x="6621480" y="3486600"/>
            <a:ext cx="2293560" cy="1545120"/>
            <a:chOff x="6621480" y="3486600"/>
            <a:chExt cx="2293560" cy="1545120"/>
          </a:xfrm>
        </p:grpSpPr>
        <p:sp>
          <p:nvSpPr>
            <p:cNvPr id="164" name="Text Box 60"/>
            <p:cNvSpPr/>
            <p:nvPr/>
          </p:nvSpPr>
          <p:spPr>
            <a:xfrm>
              <a:off x="8001000" y="4572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99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5" name="Group 61"/>
            <p:cNvGrpSpPr/>
            <p:nvPr/>
          </p:nvGrpSpPr>
          <p:grpSpPr>
            <a:xfrm>
              <a:off x="6621480" y="3486600"/>
              <a:ext cx="2293560" cy="1452240"/>
              <a:chOff x="6621480" y="3486600"/>
              <a:chExt cx="2293560" cy="1452240"/>
            </a:xfrm>
          </p:grpSpPr>
          <p:sp>
            <p:nvSpPr>
              <p:cNvPr id="166" name="AutoShape 62"/>
              <p:cNvSpPr/>
              <p:nvPr/>
            </p:nvSpPr>
            <p:spPr>
              <a:xfrm rot="3265800">
                <a:off x="7162200" y="3276720"/>
                <a:ext cx="228600" cy="1447560"/>
              </a:xfrm>
              <a:prstGeom prst="flowChartExtra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" name="Line 63"/>
              <p:cNvSpPr/>
              <p:nvPr/>
            </p:nvSpPr>
            <p:spPr>
              <a:xfrm flipH="1">
                <a:off x="6933960" y="4419720"/>
                <a:ext cx="1828800" cy="36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Line 64"/>
              <p:cNvSpPr/>
              <p:nvPr/>
            </p:nvSpPr>
            <p:spPr>
              <a:xfrm flipH="1">
                <a:off x="7086240" y="4572000"/>
                <a:ext cx="1828800" cy="36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Line 65"/>
              <p:cNvSpPr/>
              <p:nvPr/>
            </p:nvSpPr>
            <p:spPr>
              <a:xfrm flipH="1">
                <a:off x="6933960" y="4191120"/>
                <a:ext cx="1828800" cy="36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70" name="Text Box 66"/>
          <p:cNvSpPr/>
          <p:nvPr/>
        </p:nvSpPr>
        <p:spPr>
          <a:xfrm>
            <a:off x="395280" y="5867280"/>
            <a:ext cx="8569440" cy="520560"/>
          </a:xfrm>
          <a:prstGeom prst="rect">
            <a:avLst/>
          </a:prstGeom>
          <a:solidFill>
            <a:srgbClr val="33cccc"/>
          </a:solidFill>
          <a:ln w="7632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00"/>
                </a:solidFill>
                <a:latin typeface="Times New Roman"/>
              </a:rPr>
              <a:t>Р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ffff00"/>
                </a:solidFill>
                <a:latin typeface="Times New Roman"/>
              </a:rPr>
              <a:t>нормальний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ffff00"/>
                </a:solidFill>
                <a:latin typeface="Times New Roman"/>
              </a:rPr>
              <a:t>760 мм рт ст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ffffff"/>
                </a:solidFill>
                <a:latin typeface="Times New Roman"/>
              </a:rPr>
              <a:t>на рівні моря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uk-UA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1" name="Group 67"/>
          <p:cNvGrpSpPr/>
          <p:nvPr/>
        </p:nvGrpSpPr>
        <p:grpSpPr>
          <a:xfrm>
            <a:off x="2362320" y="3352680"/>
            <a:ext cx="457200" cy="1752840"/>
            <a:chOff x="2362320" y="3352680"/>
            <a:chExt cx="457200" cy="1752840"/>
          </a:xfrm>
        </p:grpSpPr>
        <p:grpSp>
          <p:nvGrpSpPr>
            <p:cNvPr id="172" name="Group 68"/>
            <p:cNvGrpSpPr/>
            <p:nvPr/>
          </p:nvGrpSpPr>
          <p:grpSpPr>
            <a:xfrm>
              <a:off x="2362320" y="3352680"/>
              <a:ext cx="457200" cy="1752840"/>
              <a:chOff x="2362320" y="3352680"/>
              <a:chExt cx="457200" cy="1752840"/>
            </a:xfrm>
          </p:grpSpPr>
          <p:sp>
            <p:nvSpPr>
              <p:cNvPr id="173" name="AutoShape 69"/>
              <p:cNvSpPr/>
              <p:nvPr/>
            </p:nvSpPr>
            <p:spPr>
              <a:xfrm>
                <a:off x="2362320" y="3352680"/>
                <a:ext cx="457200" cy="1752840"/>
              </a:xfrm>
              <a:prstGeom prst="can">
                <a:avLst>
                  <a:gd name="adj" fmla="val 1201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a7a7a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Line 70"/>
              <p:cNvSpPr/>
              <p:nvPr/>
            </p:nvSpPr>
            <p:spPr>
              <a:xfrm>
                <a:off x="2362320" y="4495680"/>
                <a:ext cx="457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Line 71"/>
              <p:cNvSpPr/>
              <p:nvPr/>
            </p:nvSpPr>
            <p:spPr>
              <a:xfrm>
                <a:off x="2362320" y="4724280"/>
                <a:ext cx="457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76" name="Group 72"/>
            <p:cNvGrpSpPr/>
            <p:nvPr/>
          </p:nvGrpSpPr>
          <p:grpSpPr>
            <a:xfrm>
              <a:off x="2666880" y="3505320"/>
              <a:ext cx="152280" cy="457200"/>
              <a:chOff x="2666880" y="3505320"/>
              <a:chExt cx="152280" cy="457200"/>
            </a:xfrm>
          </p:grpSpPr>
          <p:sp>
            <p:nvSpPr>
              <p:cNvPr id="177" name="Line 73"/>
              <p:cNvSpPr/>
              <p:nvPr/>
            </p:nvSpPr>
            <p:spPr>
              <a:xfrm>
                <a:off x="2742840" y="3505320"/>
                <a:ext cx="76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Line 74"/>
              <p:cNvSpPr/>
              <p:nvPr/>
            </p:nvSpPr>
            <p:spPr>
              <a:xfrm>
                <a:off x="2666880" y="3657600"/>
                <a:ext cx="152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Line 75"/>
              <p:cNvSpPr/>
              <p:nvPr/>
            </p:nvSpPr>
            <p:spPr>
              <a:xfrm>
                <a:off x="2742840" y="3809880"/>
                <a:ext cx="763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Line 76"/>
              <p:cNvSpPr/>
              <p:nvPr/>
            </p:nvSpPr>
            <p:spPr>
              <a:xfrm>
                <a:off x="2666880" y="3962520"/>
                <a:ext cx="152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Зміна атмосферного тиску з висото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1440" y="5086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SimSun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7" descr="http://school.xvatit.com/images/f/fe/As97.jpg"/>
          <p:cNvPicPr/>
          <p:nvPr/>
        </p:nvPicPr>
        <p:blipFill>
          <a:blip r:embed="rId1"/>
          <a:stretch/>
        </p:blipFill>
        <p:spPr>
          <a:xfrm>
            <a:off x="2195640" y="1557360"/>
            <a:ext cx="4681440" cy="62643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0" y="634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533520" y="20574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АДАЧА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33520" y="2514600"/>
            <a:ext cx="8229600" cy="1008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Times New Roman"/>
              </a:rPr>
              <a:t>На якій висоті знаходиться альпініст, якщо атмосферний тиск у підніжжя гори становить 760 мм рт ст, а на вершині 570 мм рт ст 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24000" y="357336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00"/>
                </a:solidFill>
                <a:latin typeface="Times New Roman"/>
              </a:rPr>
              <a:t>РОЗВ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’</a:t>
            </a:r>
            <a:r>
              <a:rPr b="1" lang="uk-UA" sz="2000" spc="-1" strike="noStrike">
                <a:solidFill>
                  <a:srgbClr val="006600"/>
                </a:solidFill>
                <a:latin typeface="Times New Roman"/>
              </a:rPr>
              <a:t>ЯЗО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1547640" y="3789360"/>
            <a:ext cx="2362320" cy="2895480"/>
            <a:chOff x="1547640" y="3789360"/>
            <a:chExt cx="2362320" cy="2895480"/>
          </a:xfrm>
        </p:grpSpPr>
        <p:sp>
          <p:nvSpPr>
            <p:cNvPr id="190" name="Line 6"/>
            <p:cNvSpPr/>
            <p:nvPr/>
          </p:nvSpPr>
          <p:spPr>
            <a:xfrm>
              <a:off x="3452760" y="3789360"/>
              <a:ext cx="0" cy="2895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Text Box 7"/>
            <p:cNvSpPr/>
            <p:nvPr/>
          </p:nvSpPr>
          <p:spPr>
            <a:xfrm>
              <a:off x="1547640" y="40939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660066"/>
                  </a:solidFill>
                  <a:latin typeface="Times New Roman"/>
                </a:rPr>
                <a:t>h</a:t>
              </a:r>
              <a:r>
                <a:rPr b="1" i="1" lang="uk-UA" sz="2400" spc="-1" strike="noStrike">
                  <a:solidFill>
                    <a:srgbClr val="660066"/>
                  </a:solidFill>
                  <a:latin typeface="Times New Roman"/>
                </a:rPr>
                <a:t>=?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>
              <a:off x="1547640" y="4703400"/>
              <a:ext cx="1905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3" name="Text Box 9"/>
          <p:cNvSpPr/>
          <p:nvPr/>
        </p:nvSpPr>
        <p:spPr>
          <a:xfrm>
            <a:off x="609480" y="4952880"/>
            <a:ext cx="3170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66"/>
                </a:solidFill>
                <a:latin typeface="Times New Roman"/>
              </a:rPr>
              <a:t>Р1 = 760 мм рт 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0066"/>
                </a:solidFill>
                <a:latin typeface="Times New Roman"/>
              </a:rPr>
              <a:t>Р2 = 570 мм рт 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3995640" y="3645000"/>
            <a:ext cx="467352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760мм рт ст – 570 мм рт ст=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190 мм рт 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2) </a:t>
            </a:r>
            <a:r>
              <a:rPr b="1" i="1" lang="uk-UA" sz="1800" spc="-1" strike="noStrike">
                <a:solidFill>
                  <a:srgbClr val="010199"/>
                </a:solidFill>
                <a:latin typeface="Times New Roman"/>
              </a:rPr>
              <a:t>1000м – 100 мм рт 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Х       -  190 мм рт 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Х = (190*1000)/ 100 = 1900 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c600"/>
                </a:solidFill>
                <a:latin typeface="Times New Roman"/>
              </a:rPr>
              <a:t>Відповідь:</a:t>
            </a:r>
            <a:r>
              <a:rPr b="1" i="1" lang="uk-UA" sz="1800" spc="-1" strike="noStrike">
                <a:solidFill>
                  <a:srgbClr val="cc0000"/>
                </a:solidFill>
                <a:latin typeface="Times New Roman"/>
              </a:rPr>
              <a:t> 1900 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11280" y="228600"/>
            <a:ext cx="8137440" cy="947160"/>
          </a:xfrm>
          <a:prstGeom prst="rect">
            <a:avLst/>
          </a:prstGeom>
          <a:gradFill rotWithShape="0">
            <a:gsLst>
              <a:gs pos="0">
                <a:srgbClr val="e1ffe1"/>
              </a:gs>
              <a:gs pos="100000">
                <a:srgbClr val="ccffcc"/>
              </a:gs>
            </a:gsLst>
            <a:lin ang="189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00"/>
                </a:solidFill>
                <a:latin typeface="Times New Roman"/>
              </a:rPr>
              <a:t>БАРИЧНА СТУПІНЬ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закономірна зміна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cc0000"/>
                </a:solidFill>
                <a:latin typeface="Times New Roman"/>
              </a:rPr>
              <a:t>атмосферного тиску з висото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6" name="Group 12"/>
          <p:cNvGrpSpPr/>
          <p:nvPr/>
        </p:nvGrpSpPr>
        <p:grpSpPr>
          <a:xfrm>
            <a:off x="2133720" y="1371600"/>
            <a:ext cx="4876560" cy="581400"/>
            <a:chOff x="2133720" y="1371600"/>
            <a:chExt cx="4876560" cy="581400"/>
          </a:xfrm>
        </p:grpSpPr>
        <p:sp>
          <p:nvSpPr>
            <p:cNvPr id="197" name="Text Box 13"/>
            <p:cNvSpPr/>
            <p:nvPr/>
          </p:nvSpPr>
          <p:spPr>
            <a:xfrm>
              <a:off x="2133720" y="1371600"/>
              <a:ext cx="4876560" cy="581400"/>
            </a:xfrm>
            <a:prstGeom prst="rect">
              <a:avLst/>
            </a:prstGeom>
            <a:noFill/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cc0066"/>
                  </a:solidFill>
                  <a:latin typeface="Times New Roman"/>
                </a:rPr>
                <a:t>-100 мм рт ст   на   1 км</a:t>
              </a:r>
              <a:r>
                <a:rPr b="0" lang="uk-UA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Line 14"/>
            <p:cNvSpPr/>
            <p:nvPr/>
          </p:nvSpPr>
          <p:spPr>
            <a:xfrm flipV="1">
              <a:off x="6705720" y="1523520"/>
              <a:ext cx="0" cy="3812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7:06:26Z</dcterms:created>
  <dc:creator>Admin</dc:creator>
  <dc:description/>
  <dc:language>en-US</dc:language>
  <cp:lastModifiedBy>User</cp:lastModifiedBy>
  <dcterms:modified xsi:type="dcterms:W3CDTF">2013-04-26T19:12:21Z</dcterms:modified>
  <cp:revision>12</cp:revision>
  <dc:subject/>
  <dc:title>26 січня Класна робот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08000000000001024140</vt:lpwstr>
  </property>
</Properties>
</file>