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4.jpeg" ContentType="image/jpeg"/>
  <Override PartName="/ppt/media/image7.jpeg" ContentType="image/jpeg"/>
  <Override PartName="/ppt/media/image36.png" ContentType="image/png"/>
  <Override PartName="/ppt/media/image6.jpeg" ContentType="image/jpeg"/>
  <Override PartName="/ppt/media/image27.jpeg" ContentType="image/jpeg"/>
  <Override PartName="/ppt/media/image4.gif" ContentType="image/gif"/>
  <Override PartName="/ppt/media/image22.jpeg" ContentType="image/jpeg"/>
  <Override PartName="/ppt/media/image28.jpeg" ContentType="image/jpeg"/>
  <Override PartName="/ppt/media/tn555.wav" ContentType="audio/x-wav"/>
  <Override PartName="/ppt/media/image19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06C-82C7-4897-A841-A48E940C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E2A-4306-4658-8F93-39DC02A6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CB5-7344-4945-89B9-88CA4936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56C-0A48-499B-9139-B4ED7F15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AADA-C6B0-49E4-86DE-DA9C8FBA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EC49-416A-4833-8799-FEB8D266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2E09-4099-493E-9EC7-195A01EC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E13F-972E-4DEF-B79E-DC722F65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1FF9-11E9-4927-9F36-D49B8F63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3F30-25F8-4419-9722-BD742D41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B76D-BC81-437E-B6F7-4070A365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DFF-E2BB-4448-8AE8-0933309C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20C2-304E-4DF0-BA1B-5D02797B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090F-6E0C-4B78-8ED6-D38AAE44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0F46-1007-4A80-8534-32CD9528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49AE-23EF-41FB-A978-7AB7115F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A245-9B1C-4B03-BBDF-38C53F86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39D-F68A-463E-82E5-D1CD9D8D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ADF6-19CA-4684-8658-D08D7BF5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543-29E4-4BB0-A20E-4BA365D3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D4C-A27E-4184-9387-CBB44CBF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A47F-BF09-4202-A6AB-527A101F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696-0CA3-464C-9313-D01D48BD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8FD-1ECA-4A39-A6CF-E6BBB432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6DFD-716F-4862-81B0-FE6BEECD44DD}" type="slidenum">
              <a:rPr b="0" lang="uk-U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6883-A884-4F1A-A603-FFD2F66B39A9}" type="slidenum">
              <a:rPr b="0" lang="uk-U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tn555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80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835280" y="4292640"/>
            <a:ext cx="6960960" cy="13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0066cc"/>
                  </a:outerShdw>
                </a:effectLst>
                <a:latin typeface="Comic Sans MS"/>
              </a:rPr>
              <a:t>ПІВНІЧНА  АМЕРИКА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0066cc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n55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0" t="0" r="14" b="18729"/>
          <a:stretch/>
        </p:blipFill>
        <p:spPr>
          <a:xfrm>
            <a:off x="422280" y="576360"/>
            <a:ext cx="8366040" cy="5298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rcRect l="2030" t="88132" r="14" b="-331"/>
          <a:stretch/>
        </p:blipFill>
        <p:spPr>
          <a:xfrm>
            <a:off x="263520" y="5899320"/>
            <a:ext cx="8643960" cy="839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476360" y="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Book Antiqua"/>
              </a:rPr>
              <a:t>Природні зони сві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2520" y="582660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Georgia"/>
              </a:rPr>
              <a:t>?</a:t>
            </a:r>
            <a:r>
              <a:rPr b="1" i="1" lang="uk-UA" sz="2000" spc="-1" strike="noStrike">
                <a:solidFill>
                  <a:srgbClr val="ffff00"/>
                </a:solidFill>
                <a:latin typeface="Georgia"/>
              </a:rPr>
              <a:t>Чому на рівнинній території Північної Америки                      деякі зони простягаються меридіонально,                                     а не за законом широтної зональності?</a:t>
            </a: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48000" y="0"/>
            <a:ext cx="508788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24360" y="98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32720" y="3068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2060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328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3500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4360" y="3500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2060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36000" y="4365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Georgi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4292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2360" y="465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Georgi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8800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Georgi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522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Georgi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205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Картографічна розмин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44440" y="4381560"/>
            <a:ext cx="35560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0" t="0" r="-18" b="-12"/>
          <a:stretch/>
        </p:blipFill>
        <p:spPr>
          <a:xfrm>
            <a:off x="5435640" y="15840"/>
            <a:ext cx="3684600" cy="5452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1332720" y="5868000"/>
            <a:ext cx="77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16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4.Гудзонова, Каліфорнійська, Гвінейська, Мексикансь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979640" y="285264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7480" y="4937040"/>
            <a:ext cx="503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Book Antiqua"/>
              </a:rPr>
              <a:t>2.Міссісіпі, Юкон, Онтаріо, Колорад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8000" y="5398920"/>
            <a:ext cx="686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Book Antiqua"/>
              </a:rPr>
              <a:t>3.Примексиканська, Приатлантична, Амазонсь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11400" y="6280200"/>
            <a:ext cx="60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Book Antiqua"/>
              </a:rPr>
              <a:t>5.Гольфстрім, Аляскинська, Каліфорнійсь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9920" y="4449600"/>
            <a:ext cx="59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1</a:t>
            </a:r>
            <a:r>
              <a:rPr b="1" lang="uk-UA" sz="2000" spc="-1" strike="noStrike">
                <a:solidFill>
                  <a:srgbClr val="ffff00"/>
                </a:solidFill>
                <a:latin typeface="Book Antiqua"/>
              </a:rPr>
              <a:t>.Ері, Вінніпег, Маракайбо, Мічиган, Гур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971640" y="0"/>
            <a:ext cx="3384360" cy="2541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11280" y="404640"/>
            <a:ext cx="49323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Georgia"/>
              </a:rPr>
              <a:t>Латук –       природний компас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357800" y="3179880"/>
            <a:ext cx="4680000" cy="3603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4135320" cy="5513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75120" y="74520"/>
            <a:ext cx="3024000" cy="2271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13000" y="2482920"/>
            <a:ext cx="2737080" cy="2052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057480" y="4648320"/>
            <a:ext cx="3008520" cy="2114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7640" y="1300320"/>
            <a:ext cx="2920680" cy="2192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5"/>
          <a:srcRect l="0" t="0" r="58" b="0"/>
          <a:stretch/>
        </p:blipFill>
        <p:spPr>
          <a:xfrm>
            <a:off x="6238800" y="1328760"/>
            <a:ext cx="2894040" cy="1984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19080" y="3835440"/>
            <a:ext cx="2911320" cy="1994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6216480" y="3679920"/>
            <a:ext cx="2911680" cy="21715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rcRect l="0" t="0" r="0" b="-57"/>
          <a:stretch/>
        </p:blipFill>
        <p:spPr>
          <a:xfrm>
            <a:off x="209520" y="2562120"/>
            <a:ext cx="2489400" cy="1774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0" t="0" r="-34" b="0"/>
          <a:stretch/>
        </p:blipFill>
        <p:spPr>
          <a:xfrm>
            <a:off x="-9360" y="0"/>
            <a:ext cx="2952720" cy="2219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rcRect l="0" t="0" r="0" b="76"/>
          <a:stretch/>
        </p:blipFill>
        <p:spPr>
          <a:xfrm>
            <a:off x="3403440" y="209520"/>
            <a:ext cx="2484720" cy="17845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356520" y="4632480"/>
            <a:ext cx="2787480" cy="22255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2664000" y="1971720"/>
            <a:ext cx="2338200" cy="1639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6300720" y="0"/>
            <a:ext cx="2843280" cy="2131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0" y="4643280"/>
            <a:ext cx="2952720" cy="2214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6516720" y="2533680"/>
            <a:ext cx="2489040" cy="17715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3419640" y="4941720"/>
            <a:ext cx="2500200" cy="1762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10"/>
          <a:srcRect l="0" t="0" r="-57" b="104"/>
          <a:stretch/>
        </p:blipFill>
        <p:spPr>
          <a:xfrm>
            <a:off x="4184640" y="3349800"/>
            <a:ext cx="2365560" cy="1625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-1440" y="3859200"/>
            <a:ext cx="3985920" cy="2989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2"/>
          <a:srcRect l="0" t="0" r="0" b="32"/>
          <a:stretch/>
        </p:blipFill>
        <p:spPr>
          <a:xfrm>
            <a:off x="0" y="0"/>
            <a:ext cx="3987720" cy="3174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3"/>
          <a:srcRect l="0" t="0" r="36" b="0"/>
          <a:stretch/>
        </p:blipFill>
        <p:spPr>
          <a:xfrm>
            <a:off x="5137200" y="-9360"/>
            <a:ext cx="3992400" cy="3213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148360" y="3871800"/>
            <a:ext cx="3994200" cy="2997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422080" y="906840"/>
            <a:ext cx="63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Рослинний і тваринний сві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Північної Амери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Природні зони матер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3537000"/>
            <a:ext cx="4427640" cy="3321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716360" y="3537000"/>
            <a:ext cx="4427640" cy="3321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0" t="0" r="-32" b="5"/>
          <a:stretch/>
        </p:blipFill>
        <p:spPr>
          <a:xfrm>
            <a:off x="3722760" y="-3240"/>
            <a:ext cx="5322960" cy="68547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4456080"/>
            <a:ext cx="3203640" cy="2401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03640" cy="2506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9:55:36Z</dcterms:created>
  <dc:creator>CEC</dc:creator>
  <dc:description/>
  <dc:language>en-US</dc:language>
  <cp:lastModifiedBy>CEC</cp:lastModifiedBy>
  <dcterms:modified xsi:type="dcterms:W3CDTF">2013-03-26T09:56:25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1a000000000001024140</vt:lpwstr>
  </property>
</Properties>
</file>