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7.jpeg" ContentType="image/jpeg"/>
  <Override PartName="/ppt/media/image12.jpeg" ContentType="image/jpeg"/>
  <Override PartName="/ppt/media/image3.gif" ContentType="image/gif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71BD-8628-4239-8AB4-C71E5DE26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F785-386C-4C91-92F3-26F418183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7ECD-E0E6-4431-82D0-3955CCB38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0244-9663-4C19-98CF-943575277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2FFC3-AB2A-4619-8EAE-ED4CB7FDF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7A6C1-39ED-4580-BB1E-94A9268D6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49A04-23A1-47A9-8D9D-2A8541FDC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62CE1-701F-486B-94EA-B32AFC3F3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C5284-C6F8-43B4-9272-582C883A2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C69F1-7144-4BC6-86B0-F88B87968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DFC9A-BE67-4CDD-8B8E-9FF2BA77D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2817-B338-400C-BE41-2A5F2D495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6ED0A-2E28-4C8A-9BF9-71F0FA5D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5DBD9-BC3B-4DBD-9B3C-610B329C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E3B07-E460-4768-9004-F7BC8DE0E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2467D-033E-4026-A265-57693F67D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E1493-735B-4355-A708-EE4BFEF50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050A-D9E3-434A-91CE-502C0C5BB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9216-32A1-49C1-B202-A735EB2BB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E144-482B-4A7B-B4DA-9EE98DD18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B945-01EB-4615-9AE0-C6DB501BA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FE00-CB53-4E24-8D3C-8C5A03679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ADD8-341D-4850-94F7-B10651F0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344F-E333-4580-BB15-203B70A6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DB4E7-84EC-4C89-8C29-28DBDE495A71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62391-CA06-4B3F-B0CD-38DEFC9200CF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-3960"/>
            <a:ext cx="550872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44600" indent="-263520" algn="r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ffff"/>
                </a:solidFill>
                <a:latin typeface="Book Antiqua"/>
              </a:rPr>
              <a:t>План характеристики природної зо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-263520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Book Antiqua"/>
              </a:rPr>
              <a:t>1. Географічне положенн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4600" indent="-263520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Book Antiqua"/>
              </a:rPr>
              <a:t>2. Кліма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4600" indent="-263520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Book Antiqua"/>
              </a:rPr>
              <a:t>3. Переважаючі типи ґрунті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4600" indent="-263520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Book Antiqua"/>
              </a:rPr>
              <a:t>4. Характерні представники рослинного світ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4600" indent="-263520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Book Antiqua"/>
              </a:rPr>
              <a:t>5. Типові представники тваринного світ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4600" indent="-263520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Book Antiqua"/>
              </a:rPr>
              <a:t>6. Зміна природних комплексів у результаті господарської діяльності людини, екологічний стан території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24000" y="5373720"/>
          <a:ext cx="8447040" cy="1227240"/>
        </p:xfrm>
        <a:graphic>
          <a:graphicData uri="http://schemas.openxmlformats.org/drawingml/2006/table">
            <a:tbl>
              <a:tblPr/>
              <a:tblGrid>
                <a:gridCol w="1206360"/>
                <a:gridCol w="1386000"/>
                <a:gridCol w="1027080"/>
                <a:gridCol w="1208160"/>
                <a:gridCol w="1077840"/>
                <a:gridCol w="1008000"/>
                <a:gridCol w="1533600"/>
              </a:tblGrid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родна зо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еографічне положенн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ліма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Ґрун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ослин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варин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240" indent="-324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кологічн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240" indent="-324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а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580000" y="0"/>
            <a:ext cx="3564000" cy="26733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580000" y="2852640"/>
            <a:ext cx="3564000" cy="23716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042920" cy="1042920"/>
          </a:xfrm>
          <a:prstGeom prst="rect">
            <a:avLst/>
          </a:prstGeom>
          <a:ln w="0">
            <a:noFill/>
          </a:ln>
        </p:spPr>
      </p:pic>
      <p:grpSp>
        <p:nvGrpSpPr>
          <p:cNvPr id="160" name=""/>
          <p:cNvGrpSpPr/>
          <p:nvPr/>
        </p:nvGrpSpPr>
        <p:grpSpPr>
          <a:xfrm>
            <a:off x="324000" y="5365800"/>
            <a:ext cx="8466120" cy="1241280"/>
            <a:chOff x="324000" y="5365800"/>
            <a:chExt cx="8466120" cy="1241280"/>
          </a:xfrm>
        </p:grpSpPr>
        <p:sp>
          <p:nvSpPr>
            <p:cNvPr id="161" name=""/>
            <p:cNvSpPr/>
            <p:nvPr/>
          </p:nvSpPr>
          <p:spPr>
            <a:xfrm>
              <a:off x="324000" y="6021360"/>
              <a:ext cx="8466120" cy="6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324000" y="6595560"/>
              <a:ext cx="846612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4000" y="5373720"/>
              <a:ext cx="2880" cy="1222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167440" y="5384880"/>
              <a:ext cx="2880" cy="1222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86600" y="5365800"/>
              <a:ext cx="3240" cy="1222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261200" y="5376960"/>
              <a:ext cx="3240" cy="1222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782200" y="5380200"/>
              <a:ext cx="2880" cy="1222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919240" y="5384880"/>
              <a:ext cx="3240" cy="1222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56040" y="5376960"/>
              <a:ext cx="3240" cy="1222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519200" y="5375160"/>
              <a:ext cx="3240" cy="1222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24000" y="5374800"/>
              <a:ext cx="846612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79280" y="-204480"/>
            <a:ext cx="6193080" cy="71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0720">
              <a:lnSpc>
                <a:spcPct val="12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320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Times New Roman"/>
              </a:rPr>
              <a:t>Материк Північна Америка має значну протяжність із півночі на південь - ?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20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20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Times New Roman"/>
              </a:rPr>
              <a:t>2. На заході материка знаходяться гірські хребти Кордильєр -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20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20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Times New Roman"/>
              </a:rPr>
              <a:t>3. Північ і південь східної частини материка рівнинний -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20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20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Times New Roman"/>
              </a:rPr>
              <a:t>4. В центральній частині материка надходженню вологи з океанів перешкоджають гірські хребти Кордильєр та Аппалачів -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20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20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Times New Roman"/>
              </a:rPr>
              <a:t>5. На території материка ведеться активна господарська діяльність - ?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148360" y="26370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6788160" y="0"/>
            <a:ext cx="2355840" cy="31417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6797520" y="3336840"/>
            <a:ext cx="2346480" cy="35211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9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9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9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9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900" fill="hold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5003640" y="173160"/>
            <a:ext cx="41403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6036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uk-UA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uk-UA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i="1" lang="uk-UA" sz="2000" spc="-1" strike="noStrike" u="sng">
                <a:solidFill>
                  <a:srgbClr val="ffff00"/>
                </a:solidFill>
                <a:uFillTx/>
                <a:latin typeface="Bookman Old Style"/>
              </a:rPr>
              <a:t>Домашнє завдання:</a:t>
            </a:r>
            <a:r>
              <a:rPr b="1" lang="uk-UA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uk-UA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uk-UA" sz="2000" spc="-1" strike="noStrike">
                <a:solidFill>
                  <a:srgbClr val="ccecff"/>
                </a:solidFill>
                <a:latin typeface="Bookman Old Style"/>
              </a:rPr>
              <a:t>Опрацювати матеріал параграфа 38 с 202-206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6036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cecff"/>
                </a:solidFill>
                <a:latin typeface="Bookman Old Style"/>
              </a:rPr>
              <a:t>	</a:t>
            </a:r>
            <a:r>
              <a:rPr b="1" lang="uk-UA" sz="2000" spc="-1" strike="noStrike">
                <a:solidFill>
                  <a:srgbClr val="ccecff"/>
                </a:solidFill>
                <a:latin typeface="Bookman Old Style"/>
              </a:rPr>
              <a:t>Скласти характеристику природних зон материка, (саван та рідколісся, твердолистих лісів та чагарників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6036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uk-UA" sz="2000" spc="-1" strike="noStrike">
                <a:solidFill>
                  <a:srgbClr val="ffffcc"/>
                </a:solidFill>
                <a:latin typeface="Bookman Old Style"/>
              </a:rPr>
              <a:t>група Б: скласти тестові завдання(4), підготувати повідомлення про природоохоронні території материка*</a:t>
            </a: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243000" y="1341360"/>
            <a:ext cx="4159080" cy="23497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241200" y="4005360"/>
            <a:ext cx="4186440" cy="27907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229" name="" descr=""/>
          <p:cNvPicPr/>
          <p:nvPr/>
        </p:nvPicPr>
        <p:blipFill>
          <a:blip r:embed="rId4"/>
          <a:stretch/>
        </p:blipFill>
        <p:spPr>
          <a:xfrm>
            <a:off x="5254560" y="4365720"/>
            <a:ext cx="3710160" cy="24238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5" dur="1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9" dur="10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14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3" dur="10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163960" y="3141000"/>
            <a:ext cx="487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Bookman Old Style"/>
              </a:rPr>
              <a:t>Зона арктичних пустель</a:t>
            </a:r>
            <a:r>
              <a:rPr b="1" lang="ru-RU" sz="2800" spc="-1" strike="noStrike">
                <a:solidFill>
                  <a:srgbClr val="ffff00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5400" y="620640"/>
            <a:ext cx="3369960" cy="22464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5710320" y="620640"/>
            <a:ext cx="3354480" cy="22370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75" name="" descr=""/>
          <p:cNvPicPr/>
          <p:nvPr/>
        </p:nvPicPr>
        <p:blipFill>
          <a:blip r:embed="rId3"/>
          <a:srcRect l="0" t="0" r="0" b="-102"/>
          <a:stretch/>
        </p:blipFill>
        <p:spPr>
          <a:xfrm>
            <a:off x="119160" y="4065480"/>
            <a:ext cx="4414680" cy="26449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76" name="" descr=""/>
          <p:cNvPicPr/>
          <p:nvPr/>
        </p:nvPicPr>
        <p:blipFill>
          <a:blip r:embed="rId4"/>
          <a:srcRect l="0" t="0" r="-15" b="-89"/>
          <a:stretch/>
        </p:blipFill>
        <p:spPr>
          <a:xfrm>
            <a:off x="4618080" y="4065480"/>
            <a:ext cx="4390920" cy="26496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77" name="" descr=""/>
          <p:cNvPicPr/>
          <p:nvPr/>
        </p:nvPicPr>
        <p:blipFill>
          <a:blip r:embed="rId5"/>
          <a:stretch/>
        </p:blipFill>
        <p:spPr>
          <a:xfrm>
            <a:off x="3527280" y="115920"/>
            <a:ext cx="2136960" cy="25909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78" name="" descr=""/>
          <p:cNvPicPr/>
          <p:nvPr/>
        </p:nvPicPr>
        <p:blipFill>
          <a:blip r:embed="rId6"/>
          <a:stretch/>
        </p:blipFill>
        <p:spPr>
          <a:xfrm>
            <a:off x="0" y="2852640"/>
            <a:ext cx="12952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535120" y="3212280"/>
            <a:ext cx="414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Bookman Old Style"/>
              </a:rPr>
              <a:t>Тундра та лісотунд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74520" y="54000"/>
            <a:ext cx="3198960" cy="23986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4680000" y="3789360"/>
            <a:ext cx="4427640" cy="30002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5837400" y="42840"/>
            <a:ext cx="3232080" cy="24242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57240" y="3803760"/>
            <a:ext cx="4443480" cy="29988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84" name="" descr=""/>
          <p:cNvPicPr/>
          <p:nvPr/>
        </p:nvPicPr>
        <p:blipFill>
          <a:blip r:embed="rId5"/>
          <a:srcRect l="0" t="0" r="44" b="0"/>
          <a:stretch/>
        </p:blipFill>
        <p:spPr>
          <a:xfrm>
            <a:off x="3392640" y="333360"/>
            <a:ext cx="2327040" cy="28558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85" name="" descr=""/>
          <p:cNvPicPr/>
          <p:nvPr/>
        </p:nvPicPr>
        <p:blipFill>
          <a:blip r:embed="rId6"/>
          <a:stretch/>
        </p:blipFill>
        <p:spPr>
          <a:xfrm>
            <a:off x="250920" y="2492280"/>
            <a:ext cx="12952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783960" y="1556640"/>
            <a:ext cx="152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Bookman Old Style"/>
              </a:rPr>
              <a:t>Тайга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3919680"/>
            <a:ext cx="4441680" cy="29383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-11160" y="-4680"/>
            <a:ext cx="3022560" cy="34336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4703760" y="3929040"/>
            <a:ext cx="4438800" cy="29289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90" name="" descr=""/>
          <p:cNvPicPr/>
          <p:nvPr/>
        </p:nvPicPr>
        <p:blipFill>
          <a:blip r:embed="rId4"/>
          <a:srcRect l="0" t="0" r="0" b="10"/>
          <a:stretch/>
        </p:blipFill>
        <p:spPr>
          <a:xfrm>
            <a:off x="6116760" y="-12600"/>
            <a:ext cx="3017880" cy="34239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3059280" y="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293200" y="159480"/>
            <a:ext cx="554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Bookman Old Style"/>
              </a:rPr>
              <a:t>Мішані та широколисті ліси</a:t>
            </a:r>
            <a:r>
              <a:rPr b="1" lang="ru-RU" sz="2800" spc="-1" strike="noStrike">
                <a:solidFill>
                  <a:srgbClr val="ffff00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79280" y="3860640"/>
            <a:ext cx="4032360" cy="28022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166680" y="1041480"/>
            <a:ext cx="4019400" cy="27082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500720" y="836640"/>
            <a:ext cx="4375080" cy="58323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57240" y="1908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832840" y="3067920"/>
            <a:ext cx="383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Bookman Old Style"/>
              </a:rPr>
              <a:t>Лісостепи та прерії</a:t>
            </a:r>
            <a:r>
              <a:rPr b="1" lang="ru-RU" sz="2800" spc="-1" strike="noStrike">
                <a:solidFill>
                  <a:srgbClr val="ffff00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79280" y="200160"/>
            <a:ext cx="4067280" cy="27064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179280" y="3809880"/>
            <a:ext cx="4105440" cy="28418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5148360" y="3825720"/>
            <a:ext cx="3803400" cy="28274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5148360" y="189000"/>
            <a:ext cx="3789360" cy="27018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395280" y="270828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590200" y="70560"/>
            <a:ext cx="46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Bookman Old Style"/>
              </a:rPr>
              <a:t>Напівпустелі та пустелі</a:t>
            </a:r>
            <a:r>
              <a:rPr b="1" lang="ru-RU" sz="2800" spc="-1" strike="noStrike">
                <a:solidFill>
                  <a:srgbClr val="ffff00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565440" y="2157480"/>
            <a:ext cx="2057400" cy="30826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82440" y="692280"/>
            <a:ext cx="3384720" cy="25383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82440" y="4103640"/>
            <a:ext cx="3384720" cy="26510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207" name="" descr=""/>
          <p:cNvPicPr/>
          <p:nvPr/>
        </p:nvPicPr>
        <p:blipFill>
          <a:blip r:embed="rId4"/>
          <a:srcRect l="0" t="0" r="-100" b="0"/>
          <a:stretch/>
        </p:blipFill>
        <p:spPr>
          <a:xfrm>
            <a:off x="5692680" y="4098960"/>
            <a:ext cx="3381480" cy="26589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208" name="" descr=""/>
          <p:cNvPicPr/>
          <p:nvPr/>
        </p:nvPicPr>
        <p:blipFill>
          <a:blip r:embed="rId5"/>
          <a:stretch/>
        </p:blipFill>
        <p:spPr>
          <a:xfrm>
            <a:off x="5692680" y="654120"/>
            <a:ext cx="3380040" cy="26431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209" name="" descr=""/>
          <p:cNvPicPr/>
          <p:nvPr/>
        </p:nvPicPr>
        <p:blipFill>
          <a:blip r:embed="rId6"/>
          <a:stretch/>
        </p:blipFill>
        <p:spPr>
          <a:xfrm>
            <a:off x="3995640" y="5373720"/>
            <a:ext cx="12956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496960" y="-720"/>
            <a:ext cx="44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Bookman Old Style"/>
              </a:rPr>
              <a:t>Перемінно-вологі ліси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4716360" y="763560"/>
            <a:ext cx="4276800" cy="59500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179280" y="765000"/>
            <a:ext cx="4127760" cy="27561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179280" y="3635280"/>
            <a:ext cx="4138560" cy="31053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7667640" y="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590120" y="2489040"/>
            <a:ext cx="67950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uk-UA" sz="1800" spc="-1" strike="noStrike">
                <a:solidFill>
                  <a:srgbClr val="ffffff"/>
                </a:solidFill>
                <a:latin typeface="Bookman Old Style"/>
              </a:rPr>
              <a:t>Природні зони        </a:t>
            </a:r>
            <a:r>
              <a:rPr b="1" lang="uk-UA" sz="1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uk-UA" sz="1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uk-UA" sz="1800" spc="-1" strike="noStrike">
                <a:solidFill>
                  <a:srgbClr val="ffffff"/>
                </a:solidFill>
                <a:latin typeface="Bookman Old Style"/>
              </a:rPr>
              <a:t>               Код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Bookman Old Style"/>
              </a:rPr>
              <a:t>    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1" lang="uk-UA" sz="1800" spc="-1" strike="noStrike">
                <a:solidFill>
                  <a:srgbClr val="ffffff"/>
                </a:solidFill>
                <a:latin typeface="Bookman Old Style"/>
              </a:rPr>
              <a:t> варіант       </a:t>
            </a:r>
            <a:r>
              <a:rPr b="1" lang="en-US" sz="1800" spc="-1" strike="noStrike">
                <a:solidFill>
                  <a:srgbClr val="ffffff"/>
                </a:solidFill>
                <a:latin typeface="Bookman Old Style"/>
              </a:rPr>
              <a:t>    </a:t>
            </a:r>
            <a:r>
              <a:rPr b="1" lang="uk-UA" sz="1800" spc="-1" strike="noStrike">
                <a:solidFill>
                  <a:srgbClr val="ffffff"/>
                </a:solidFill>
                <a:latin typeface="Bookman Old Style"/>
              </a:rPr>
              <a:t>ІІ варіан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Bookman Old Style"/>
              </a:rPr>
              <a:t>Арктичні пустелі                     8                 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Bookman Old Style"/>
              </a:rPr>
              <a:t>Тундра                                      3                  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Bookman Old Style"/>
              </a:rPr>
              <a:t>Тайга                                        1                  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Bookman Old Style"/>
              </a:rPr>
              <a:t>Мішані та широколисті ліси    5                 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Bookman Old Style"/>
              </a:rPr>
              <a:t>Лісостепи і степи                     2                 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Bookman Old Style"/>
              </a:rPr>
              <a:t>Перемінно-вологі ліси              4                 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Bookman Old Style"/>
              </a:rPr>
              <a:t>Пустелі та напівпустелі           7                  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60120" y="5868720"/>
            <a:ext cx="75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6ccff"/>
                </a:solidFill>
                <a:latin typeface="Book Antiqua"/>
              </a:rPr>
              <a:t>І варіант  </a:t>
            </a:r>
            <a:r>
              <a:rPr b="1" lang="uk-UA" sz="2800" spc="-1" strike="noStrike">
                <a:solidFill>
                  <a:srgbClr val="66ccff"/>
                </a:solidFill>
                <a:latin typeface="Book Antiqua"/>
              </a:rPr>
              <a:t>	</a:t>
            </a:r>
            <a:r>
              <a:rPr b="1" lang="uk-UA" sz="2800" spc="-1" strike="noStrike">
                <a:solidFill>
                  <a:srgbClr val="66ccff"/>
                </a:solidFill>
                <a:latin typeface="Book Antiqua"/>
              </a:rPr>
              <a:t>	</a:t>
            </a:r>
            <a:r>
              <a:rPr b="1" lang="uk-UA" sz="2800" spc="-1" strike="noStrike">
                <a:solidFill>
                  <a:srgbClr val="66ccff"/>
                </a:solidFill>
                <a:latin typeface="Book Antiqua"/>
              </a:rPr>
              <a:t>	</a:t>
            </a:r>
            <a:r>
              <a:rPr b="1" lang="uk-UA" sz="2800" spc="-1" strike="noStrike">
                <a:solidFill>
                  <a:srgbClr val="66ccff"/>
                </a:solidFill>
                <a:latin typeface="Book Antiqua"/>
              </a:rPr>
              <a:t>	</a:t>
            </a:r>
            <a:r>
              <a:rPr b="1" lang="uk-UA" sz="2800" spc="-1" strike="noStrike">
                <a:solidFill>
                  <a:srgbClr val="66ccff"/>
                </a:solidFill>
                <a:latin typeface="Book Antiqua"/>
              </a:rPr>
              <a:t>ІІ варіант</a:t>
            </a:r>
            <a:r>
              <a:rPr b="1" lang="uk-UA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6ff33"/>
                </a:solidFill>
                <a:latin typeface="Book Antiqua"/>
              </a:rPr>
              <a:t>8, 7, 2, 4, 1, 5. </a:t>
            </a:r>
            <a:r>
              <a:rPr b="1" lang="uk-UA" sz="2800" spc="-1" strike="noStrike">
                <a:solidFill>
                  <a:srgbClr val="66ff33"/>
                </a:solidFill>
                <a:latin typeface="Book Antiqua"/>
              </a:rPr>
              <a:t>	</a:t>
            </a:r>
            <a:r>
              <a:rPr b="1" lang="uk-UA" sz="2800" spc="-1" strike="noStrike">
                <a:solidFill>
                  <a:srgbClr val="66ff33"/>
                </a:solidFill>
                <a:latin typeface="Book Antiqua"/>
              </a:rPr>
              <a:t>	</a:t>
            </a:r>
            <a:r>
              <a:rPr b="1" lang="uk-UA" sz="2800" spc="-1" strike="noStrike">
                <a:solidFill>
                  <a:srgbClr val="66ff33"/>
                </a:solidFill>
                <a:latin typeface="Book Antiqua"/>
              </a:rPr>
              <a:t>	</a:t>
            </a:r>
            <a:r>
              <a:rPr b="1" lang="uk-UA" sz="2800" spc="-1" strike="noStrike">
                <a:solidFill>
                  <a:srgbClr val="66ff33"/>
                </a:solidFill>
                <a:latin typeface="Book Antiqua"/>
              </a:rPr>
              <a:t>2, 8, 1, 4, 7, 3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276720" cy="24573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5867280" y="0"/>
            <a:ext cx="3276720" cy="24591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219" name="" descr=""/>
          <p:cNvPicPr/>
          <p:nvPr/>
        </p:nvPicPr>
        <p:blipFill>
          <a:blip r:embed="rId3"/>
          <a:srcRect l="0" t="0" r="73" b="0"/>
          <a:stretch/>
        </p:blipFill>
        <p:spPr>
          <a:xfrm>
            <a:off x="3419640" y="0"/>
            <a:ext cx="2319120" cy="23367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0" y="256536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3T21:14:45Z</dcterms:created>
  <dc:creator>ETALON</dc:creator>
  <dc:description/>
  <dc:language>en-US</dc:language>
  <cp:lastModifiedBy>CEC</cp:lastModifiedBy>
  <dcterms:modified xsi:type="dcterms:W3CDTF">2013-03-26T09:56:39Z</dcterms:modified>
  <cp:revision>3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814000000000001024140</vt:lpwstr>
  </property>
</Properties>
</file>