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AF7-DDD9-490A-BF2D-88A5F5AA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0E7-9F3B-4459-B53F-976685C9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02A-2D97-48C6-89A8-10345F7F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219-4112-4845-B7EE-73AE5953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9AB0-7F41-453E-A213-13A8D411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895-F81D-4217-85BD-9090F4B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B113-ADE0-426B-91F5-0289381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4A9D-6741-43F6-9243-21C2785A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2DE0-8DEB-4133-890A-36FDA9F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504-37A4-4216-8BBD-CBAB310B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D588-79BA-45AB-B465-D1BED46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269-950F-4A39-86E2-3144CC09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3545-8AB3-413B-9845-FCDA9C0D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4771-54BE-4BA1-8760-7F60CD24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9331-979C-4EC9-A534-2CDDB580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8EE-9100-4772-839C-969877CA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22AC-2646-4B81-8DEC-DCA5EB93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8BD-B8C6-48BE-9011-AA2938B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EC8-3D6D-4D0E-A223-B0D54E20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7AF-7714-4328-90AB-C1BDA9FE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6DA-D6FB-4DAB-8787-C971A3F9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C17-4C2F-4EF3-BC51-A7288063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A73-BA5E-48B0-A924-4A70A3C5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BA6-2D3D-4FA9-A165-7DC6FFD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233F-39BB-4EE9-A719-1D18227B62B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B52B-673B-4144-A4C6-D721A2194B0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-3960"/>
            <a:ext cx="5508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263520" algn="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ook Antiqua"/>
              </a:rPr>
              <a:t>План характеристики природної зо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1. Географічне положе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2. Клім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3. Переважаючі типи ґрунт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4. Характерні представники рослинного сві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5. Типові представники тваринного сві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6. Зміна природних комплексів у результаті господарської діяльності людини, екологічний стан території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5373720"/>
          <a:ext cx="8447040" cy="1227240"/>
        </p:xfrm>
        <a:graphic>
          <a:graphicData uri="http://schemas.openxmlformats.org/drawingml/2006/table">
            <a:tbl>
              <a:tblPr/>
              <a:tblGrid>
                <a:gridCol w="1206360"/>
                <a:gridCol w="1386000"/>
                <a:gridCol w="1027080"/>
                <a:gridCol w="1208160"/>
                <a:gridCol w="1077840"/>
                <a:gridCol w="1008000"/>
                <a:gridCol w="15336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а з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ічне поло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ім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Ґрун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л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р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-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логіч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240" indent="-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673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564000" cy="2371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24000" y="5365800"/>
            <a:ext cx="8466120" cy="1241280"/>
            <a:chOff x="324000" y="5365800"/>
            <a:chExt cx="8466120" cy="1241280"/>
          </a:xfrm>
        </p:grpSpPr>
        <p:sp>
          <p:nvSpPr>
            <p:cNvPr id="161" name=""/>
            <p:cNvSpPr/>
            <p:nvPr/>
          </p:nvSpPr>
          <p:spPr>
            <a:xfrm>
              <a:off x="324000" y="6021360"/>
              <a:ext cx="8466120" cy="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4000" y="6595560"/>
              <a:ext cx="8466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537372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67440" y="538488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600" y="536580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61200" y="537696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782200" y="538020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9240" y="538488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6040" y="537696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9200" y="5375160"/>
              <a:ext cx="3240" cy="122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24000" y="5374800"/>
              <a:ext cx="8466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-204480"/>
            <a:ext cx="6193080" cy="71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2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Материк Північна Америка має значну протяжність із півночі на південь - 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2. На заході материка знаходяться гірські хребти Кордильєр 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3. Північ і південь східної частини материка рівнинний 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4. В центральній частині материка надходженню вологи з океанів перешкоджають гірські хребти Кордильєр та Аппалачів 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5. На території материка ведеться активна господарська діяльність - ?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788160" y="0"/>
            <a:ext cx="2355840" cy="3141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797520" y="3336840"/>
            <a:ext cx="2346480" cy="3521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03640" y="173160"/>
            <a:ext cx="414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uk-UA" sz="2000" spc="-1" strike="noStrike" u="sng">
                <a:solidFill>
                  <a:srgbClr val="ffff00"/>
                </a:solidFill>
                <a:uFillTx/>
                <a:latin typeface="Bookman Old Style"/>
              </a:rPr>
              <a:t>Домашнє завдання: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Опрацювати матеріал параграфа 38 с 202-2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Скласти характеристику природних зон материка, (саван та рідколісся, твердолистих лісів та чагарникі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cc"/>
                </a:solidFill>
                <a:latin typeface="Bookman Old Style"/>
              </a:rPr>
              <a:t>група Б: скласти тестові завдання(4), підготувати повідомлення про природоохоронні території материка*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3000" y="1341360"/>
            <a:ext cx="4159080" cy="2349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41200" y="4005360"/>
            <a:ext cx="4186440" cy="2790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254560" y="4365720"/>
            <a:ext cx="3710160" cy="2423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63960" y="314100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Зона арктичних пустель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5400" y="620640"/>
            <a:ext cx="3369960" cy="2246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10320" y="620640"/>
            <a:ext cx="3354480" cy="2237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0" b="-102"/>
          <a:stretch/>
        </p:blipFill>
        <p:spPr>
          <a:xfrm>
            <a:off x="119160" y="4065480"/>
            <a:ext cx="4414680" cy="264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rcRect l="0" t="0" r="-15" b="-89"/>
          <a:stretch/>
        </p:blipFill>
        <p:spPr>
          <a:xfrm>
            <a:off x="4618080" y="4065480"/>
            <a:ext cx="4390920" cy="2649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527280" y="115920"/>
            <a:ext cx="2136960" cy="2590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0" y="28526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35120" y="321228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Тундра та лісотун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4520" y="54000"/>
            <a:ext cx="3198960" cy="2398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0000" y="3789360"/>
            <a:ext cx="442764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37400" y="42840"/>
            <a:ext cx="3232080" cy="242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7240" y="3803760"/>
            <a:ext cx="4443480" cy="299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5"/>
          <a:srcRect l="0" t="0" r="44" b="0"/>
          <a:stretch/>
        </p:blipFill>
        <p:spPr>
          <a:xfrm>
            <a:off x="3392640" y="333360"/>
            <a:ext cx="2327040" cy="2855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783960" y="15566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Тайга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3919680"/>
            <a:ext cx="4441680" cy="2938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11160" y="-4680"/>
            <a:ext cx="3022560" cy="3433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703760" y="3929040"/>
            <a:ext cx="4438800" cy="2928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0" t="0" r="0" b="10"/>
          <a:stretch/>
        </p:blipFill>
        <p:spPr>
          <a:xfrm>
            <a:off x="6116760" y="-12600"/>
            <a:ext cx="3017880" cy="3423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93200" y="159480"/>
            <a:ext cx="55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Мішані та широколисті ліси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4032360" cy="2802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66680" y="1041480"/>
            <a:ext cx="4019400" cy="2708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4375080" cy="583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7240" y="1908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32840" y="3067920"/>
            <a:ext cx="38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Лісостепи та прерії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200160"/>
            <a:ext cx="4067280" cy="2706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9280" y="3809880"/>
            <a:ext cx="4105440" cy="2841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148360" y="3825720"/>
            <a:ext cx="3803400" cy="282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148360" y="189000"/>
            <a:ext cx="3789360" cy="270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5280" y="270828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90200" y="7056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Напівпустелі та пустелі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565440" y="2157480"/>
            <a:ext cx="2057400" cy="308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2440" y="692280"/>
            <a:ext cx="3384720" cy="253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2440" y="4103640"/>
            <a:ext cx="3384720" cy="2651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0" t="0" r="-100" b="0"/>
          <a:stretch/>
        </p:blipFill>
        <p:spPr>
          <a:xfrm>
            <a:off x="5692680" y="4098960"/>
            <a:ext cx="3381480" cy="2658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692680" y="654120"/>
            <a:ext cx="3380040" cy="264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995640" y="5373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496960" y="-72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Перемінно-вологі ліс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716360" y="763560"/>
            <a:ext cx="4276800" cy="5950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127760" cy="2756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9280" y="3635280"/>
            <a:ext cx="4138560" cy="3105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66764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90120" y="2489040"/>
            <a:ext cx="6795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Природні зони       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              Ко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варіант  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ІІ варі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Арктичні пустелі                     8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Тундра                                      3               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Тайга                                        1                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Мішані та широколисті ліси    5     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Лісостепи і степи                     2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Перемінно-вологі ліси              4          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Пустелі та напівпустелі           7                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60120" y="5868720"/>
            <a:ext cx="75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І варіант  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ІІ варіант</a:t>
            </a: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8, 7, 2, 4, 1, 5. 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2, 8, 1, 4, 7,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459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0" t="0" r="73" b="0"/>
          <a:stretch/>
        </p:blipFill>
        <p:spPr>
          <a:xfrm>
            <a:off x="3419640" y="0"/>
            <a:ext cx="2319120" cy="2336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2565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21:14:45Z</dcterms:created>
  <dc:creator>ETALON</dc:creator>
  <dc:description/>
  <dc:language>en-US</dc:language>
  <cp:lastModifiedBy>CEC</cp:lastModifiedBy>
  <dcterms:modified xsi:type="dcterms:W3CDTF">2013-03-26T09:56:39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4000000000001024140</vt:lpwstr>
  </property>
</Properties>
</file>