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DE88-F909-4142-887C-5E814C95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26D9-158E-4BAB-9189-CDC59997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C58-6C37-4F4C-95D0-2325CE68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DFB-EC26-4427-9DDE-1C7FA32A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E89F-6137-4B23-891E-F5EE196F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A12A-FF9B-4FB6-8380-BACD743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924F-ACE5-4889-BE5A-E897E303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C315-744C-4273-8EAA-8F64374C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64B-66F4-46D3-99C3-7BBC008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A425-51F8-4615-8826-BC484F4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0E3B-BDB9-4521-8346-A4B662F1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F2F-54A2-4E92-9E02-A60D12AC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C69-1911-40E1-B418-E2AEEFA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5ECC-3D25-4043-BE21-30050A42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0B09-8EE0-4A90-B6E0-A4D31673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1A76-0CC7-4AB9-AEDE-C9B3407E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AC5D-EE0E-4EA7-B988-7C13FBEF1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400-872E-4B28-836D-DF4DCE0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EAC-655B-418E-84D6-97F197514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92DC-09B0-4D48-84B8-A4B595F1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500-BF36-40BD-AA3E-BDEEE16C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3470-5C5C-493D-8823-3E86925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A35-8687-4992-81DD-DF67C4FE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7280-8F55-4294-B4ED-5C628A9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E2C-F3BF-40B1-BAA3-F86FDC71820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86C-B4B1-4350-86BE-6AA29372E0B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-3960"/>
            <a:ext cx="5508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4600" indent="-263520" algn="r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ook Antiqua"/>
              </a:rPr>
              <a:t>План характеристики природної зо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1. Географічне положенн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2. Кліма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3. Переважаючі типи ґрунт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4. Характерні представники росл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5. Типові представники тваринного сві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4600" indent="-263520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 Antiqua"/>
              </a:rPr>
              <a:t>6. Зміна природних комплексів у результаті господарської діяльності людини, екологічний стан території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4000" y="5373720"/>
          <a:ext cx="8447040" cy="1227240"/>
        </p:xfrm>
        <a:graphic>
          <a:graphicData uri="http://schemas.openxmlformats.org/drawingml/2006/table">
            <a:tbl>
              <a:tblPr/>
              <a:tblGrid>
                <a:gridCol w="1206360"/>
                <a:gridCol w="1386000"/>
                <a:gridCol w="1027080"/>
                <a:gridCol w="1208160"/>
                <a:gridCol w="1077840"/>
                <a:gridCol w="1008000"/>
                <a:gridCol w="15336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родна з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еографічне положенн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ім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Ґрунт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осл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вари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кологічн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240" indent="-32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2673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3564000" cy="2371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24000" y="5365800"/>
            <a:ext cx="8466120" cy="1241280"/>
            <a:chOff x="324000" y="5365800"/>
            <a:chExt cx="8466120" cy="1241280"/>
          </a:xfrm>
        </p:grpSpPr>
        <p:sp>
          <p:nvSpPr>
            <p:cNvPr id="161" name=""/>
            <p:cNvSpPr/>
            <p:nvPr/>
          </p:nvSpPr>
          <p:spPr>
            <a:xfrm>
              <a:off x="324000" y="6021360"/>
              <a:ext cx="8466120" cy="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4000" y="659556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537372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67440" y="538488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86600" y="536580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6120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782200" y="5380200"/>
              <a:ext cx="288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19240" y="538488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6040" y="5376960"/>
              <a:ext cx="3240" cy="122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9200" y="5375160"/>
              <a:ext cx="3240" cy="122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4000" y="5374800"/>
              <a:ext cx="846612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-204480"/>
            <a:ext cx="6193080" cy="71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>
              <a:lnSpc>
                <a:spcPct val="120000"/>
              </a:lnSpc>
              <a:buClr>
                <a:srgbClr val="ffff00"/>
              </a:buClr>
              <a:buFont typeface="Times New Roman"/>
              <a:buAutoNum type="arabicPeriod"/>
              <a:tabLst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Материк Північна Америка має значну протяжність із півночі на південь - 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2. На заході материка знаходяться гірські хребти Кордильєр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3. Північ і південь східної частини материка рівнинний -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4. В центральній частині материка надходженню вологи з океанів перешкоджають гірські хребти Кордильєр та Аппалачів -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32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5. На території материка ведеться активна господарська діяльність - ?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148360" y="2637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788160" y="0"/>
            <a:ext cx="2355840" cy="3141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797520" y="3336840"/>
            <a:ext cx="2346480" cy="3521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003640" y="173160"/>
            <a:ext cx="4140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i="1" lang="uk-UA" sz="2000" spc="-1" strike="noStrike" u="sng">
                <a:solidFill>
                  <a:srgbClr val="ffff00"/>
                </a:solidFill>
                <a:uFillTx/>
                <a:latin typeface="Bookman Old Style"/>
              </a:rPr>
              <a:t>Домашнє завдання: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Опрацювати матеріал параграфа 38 с 202-206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ccecff"/>
                </a:solidFill>
                <a:latin typeface="Bookman Old Style"/>
              </a:rPr>
              <a:t>Скласти характеристику природних зон материка, (саван та рідколісся, твердолистих лісів та чагарникі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0360"/>
                <a:tab algn="l" pos="54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ffffcc"/>
                </a:solidFill>
                <a:latin typeface="Bookman Old Style"/>
              </a:rPr>
              <a:t>група Б: скласти тестові завдання(4), підготувати повідомлення про природоохоронні території материка*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243000" y="1341360"/>
            <a:ext cx="4159080" cy="2349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41200" y="4005360"/>
            <a:ext cx="4186440" cy="2790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5254560" y="4365720"/>
            <a:ext cx="3710160" cy="2423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5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4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63960" y="314100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Зона арктичних пустель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5400" y="620640"/>
            <a:ext cx="3369960" cy="2246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710320" y="620640"/>
            <a:ext cx="3354480" cy="2237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0" b="-102"/>
          <a:stretch/>
        </p:blipFill>
        <p:spPr>
          <a:xfrm>
            <a:off x="119160" y="4065480"/>
            <a:ext cx="4414680" cy="2644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4"/>
          <a:srcRect l="0" t="0" r="-15" b="-89"/>
          <a:stretch/>
        </p:blipFill>
        <p:spPr>
          <a:xfrm>
            <a:off x="4618080" y="4065480"/>
            <a:ext cx="4390920" cy="2649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527280" y="115920"/>
            <a:ext cx="2136960" cy="2590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35120" y="3212280"/>
            <a:ext cx="41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ундра та лісотун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4520" y="54000"/>
            <a:ext cx="3198960" cy="2398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80000" y="3789360"/>
            <a:ext cx="4427640" cy="3000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37400" y="42840"/>
            <a:ext cx="3232080" cy="2424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7240" y="3803760"/>
            <a:ext cx="4443480" cy="2998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5"/>
          <a:srcRect l="0" t="0" r="44" b="0"/>
          <a:stretch/>
        </p:blipFill>
        <p:spPr>
          <a:xfrm>
            <a:off x="3392640" y="333360"/>
            <a:ext cx="2327040" cy="2855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783960" y="155664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Тайга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3919680"/>
            <a:ext cx="4441680" cy="2938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11160" y="-4680"/>
            <a:ext cx="3022560" cy="3433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703760" y="3929040"/>
            <a:ext cx="4438800" cy="292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0" b="10"/>
          <a:stretch/>
        </p:blipFill>
        <p:spPr>
          <a:xfrm>
            <a:off x="6116760" y="-12600"/>
            <a:ext cx="3017880" cy="3423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305928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93200" y="159480"/>
            <a:ext cx="55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9280" y="3860640"/>
            <a:ext cx="4032360" cy="280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66680" y="1041480"/>
            <a:ext cx="4019400" cy="2708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00720" y="836640"/>
            <a:ext cx="4375080" cy="5832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57240" y="190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832840" y="3067920"/>
            <a:ext cx="383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Лісостепи та прерії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9280" y="200160"/>
            <a:ext cx="4067280" cy="2706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79280" y="3809880"/>
            <a:ext cx="4105440" cy="2841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148360" y="3825720"/>
            <a:ext cx="3803400" cy="2827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5148360" y="189000"/>
            <a:ext cx="3789360" cy="270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95280" y="270828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590200" y="7056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Напівпустелі та пустелі</a:t>
            </a:r>
            <a:r>
              <a:rPr b="1" lang="ru-RU" sz="28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565440" y="2157480"/>
            <a:ext cx="2057400" cy="3082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2440" y="692280"/>
            <a:ext cx="3384720" cy="2538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82440" y="4103640"/>
            <a:ext cx="3384720" cy="2651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7" name="" descr=""/>
          <p:cNvPicPr/>
          <p:nvPr/>
        </p:nvPicPr>
        <p:blipFill>
          <a:blip r:embed="rId4"/>
          <a:srcRect l="0" t="0" r="-100" b="0"/>
          <a:stretch/>
        </p:blipFill>
        <p:spPr>
          <a:xfrm>
            <a:off x="5692680" y="4098960"/>
            <a:ext cx="3381480" cy="2658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5692680" y="654120"/>
            <a:ext cx="3380040" cy="264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3995640" y="537372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496960" y="-72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Перемінно-вологі ліс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716360" y="763560"/>
            <a:ext cx="4276800" cy="5950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4127760" cy="2756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79280" y="3635280"/>
            <a:ext cx="4138560" cy="3105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766764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90120" y="2489040"/>
            <a:ext cx="67950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Природні зони    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              Код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Bookman Old Style"/>
              </a:rPr>
              <a:t>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I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 варіант       </a:t>
            </a: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1" lang="uk-UA" sz="1800" spc="-1" strike="noStrike">
                <a:solidFill>
                  <a:srgbClr val="ffffff"/>
                </a:solidFill>
                <a:latin typeface="Bookman Old Style"/>
              </a:rPr>
              <a:t>ІІ варі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Арктичні пустелі                     8                 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ундра                                      3                 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Тайга                                        1                 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Мішані та широколисті ліси    5                 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Лісостепи і степи                     2                 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еремінно-вологі ліси              4                 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Bookman Old Style"/>
              </a:rPr>
              <a:t>Пустелі та напівпустелі           7                 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60120" y="5868720"/>
            <a:ext cx="75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 варіант  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ccff"/>
                </a:solidFill>
                <a:latin typeface="Book Antiqua"/>
              </a:rPr>
              <a:t>ІІ варіант</a:t>
            </a: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8, 7, 2, 4, 1, 5. 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	</a:t>
            </a:r>
            <a:r>
              <a:rPr b="1" lang="uk-UA" sz="2800" spc="-1" strike="noStrike">
                <a:solidFill>
                  <a:srgbClr val="66ff33"/>
                </a:solidFill>
                <a:latin typeface="Book Antiqua"/>
              </a:rPr>
              <a:t>2, 8, 1, 4, 7,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4591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9" name="" descr=""/>
          <p:cNvPicPr/>
          <p:nvPr/>
        </p:nvPicPr>
        <p:blipFill>
          <a:blip r:embed="rId3"/>
          <a:srcRect l="0" t="0" r="73" b="0"/>
          <a:stretch/>
        </p:blipFill>
        <p:spPr>
          <a:xfrm>
            <a:off x="3419640" y="0"/>
            <a:ext cx="2319120" cy="23367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0" y="256536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21:14:45Z</dcterms:created>
  <dc:creator>ETALON</dc:creator>
  <dc:description/>
  <dc:language>en-US</dc:language>
  <cp:lastModifiedBy>CEC</cp:lastModifiedBy>
  <dcterms:modified xsi:type="dcterms:W3CDTF">2013-03-26T09:56:39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14000000000001024140</vt:lpwstr>
  </property>
</Properties>
</file>