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28.jpeg" ContentType="image/jpeg"/>
  <Override PartName="/ppt/media/tn555.wav" ContentType="audio/x-wav"/>
  <Override PartName="/ppt/media/image19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C7D-DE84-4DD2-99F7-17176B08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41F-9A30-4186-BE33-D913AC8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3DD-723A-4D18-B41D-6663EAEC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5C4-DFA3-4C47-B55F-0ACA2E60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3AB3-814F-4250-A7D3-C68878B6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F761-0884-4260-A9BD-3AA8C57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616F-20D4-45E3-992F-288635BD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FBE-4EB7-49E0-8DEE-F97F1FD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53E-7699-47DF-8098-3418A530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B9DF-B234-4961-BB24-E870C23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2632-1CBF-435B-8B39-70DE01A5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003-0CA5-4B03-8D9D-41B27714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959-B5BE-44D9-8395-E3F8CB8B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C711-32FA-4D34-91EE-8F147F6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C3F6-2AE4-4111-97B8-AA33FF1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803-30D9-4484-A80D-2D99A12B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C524-F88F-4792-ABC0-EAAD0F78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230-65DE-402A-B3ED-E593006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F45-4D98-4951-8210-4483CE8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CCC-4F5F-482F-943D-4A038CE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4EB-9D43-4A3F-9902-FDEE3C3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5E7-D0A3-428D-A01E-8FA0332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F26-7FC4-4060-ACBF-8E30118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AFF-CC0E-46C0-8E67-1BC53AB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9D2-9BE3-41EB-A98D-8B08E492086F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BED-5FC3-45B0-AE6F-641910D67892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n555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0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835280" y="4292640"/>
            <a:ext cx="696096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66cc"/>
                  </a:outerShdw>
                </a:effectLst>
                <a:latin typeface="Comic Sans MS"/>
              </a:rPr>
              <a:t>ПІВНІЧНА  АМЕРИК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66cc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n55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14" b="18729"/>
          <a:stretch/>
        </p:blipFill>
        <p:spPr>
          <a:xfrm>
            <a:off x="422280" y="576360"/>
            <a:ext cx="8366040" cy="529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2030" t="88132" r="14" b="-331"/>
          <a:stretch/>
        </p:blipFill>
        <p:spPr>
          <a:xfrm>
            <a:off x="263520" y="5899320"/>
            <a:ext cx="8643960" cy="839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76360" y="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Book Antiqua"/>
              </a:rPr>
              <a:t>Природні зони сві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520" y="582660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?</a:t>
            </a:r>
            <a:r>
              <a:rPr b="1" i="1" lang="uk-UA" sz="2000" spc="-1" strike="noStrike">
                <a:solidFill>
                  <a:srgbClr val="ffff00"/>
                </a:solidFill>
                <a:latin typeface="Georgia"/>
              </a:rPr>
              <a:t>Чому на рівнинній території Північної Америки                      деякі зони простягаються меридіонально,                                     а не за законом широтної зональності?</a:t>
            </a: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0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24360" y="98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36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205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Картографічна розми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44440" y="4381560"/>
            <a:ext cx="3556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-18" b="-12"/>
          <a:stretch/>
        </p:blipFill>
        <p:spPr>
          <a:xfrm>
            <a:off x="5435640" y="15840"/>
            <a:ext cx="3684600" cy="5452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332720" y="586800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16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4.Гудзонова, Каліфорнійська, Гвінейська, Мексика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7480" y="493704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2.Міссісіпі, Юкон, Онтаріо, Колор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00" y="539892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3.Примексиканська, Приатлантична, Амазо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11400" y="628020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5.Гольфстрім, Аляскинська, Каліфорній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9920" y="4449600"/>
            <a:ext cx="59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1</a:t>
            </a: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.Ері, Вінніпег, Маракайбо, Мічиган, Гу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3384360" cy="2541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11280" y="404640"/>
            <a:ext cx="4932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Georgia"/>
              </a:rPr>
              <a:t>Латук –       природний компас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357800" y="3179880"/>
            <a:ext cx="4680000" cy="360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35320" cy="551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75120" y="74520"/>
            <a:ext cx="3024000" cy="2271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13000" y="2482920"/>
            <a:ext cx="2737080" cy="2052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57480" y="4648320"/>
            <a:ext cx="3008520" cy="2114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640" y="1300320"/>
            <a:ext cx="2920680" cy="219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0" t="0" r="58" b="0"/>
          <a:stretch/>
        </p:blipFill>
        <p:spPr>
          <a:xfrm>
            <a:off x="6238800" y="1328760"/>
            <a:ext cx="2894040" cy="1984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9080" y="3835440"/>
            <a:ext cx="2911320" cy="1994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216480" y="3679920"/>
            <a:ext cx="2911680" cy="2171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0" r="0" b="-57"/>
          <a:stretch/>
        </p:blipFill>
        <p:spPr>
          <a:xfrm>
            <a:off x="209520" y="2562120"/>
            <a:ext cx="2489400" cy="1774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-34" b="0"/>
          <a:stretch/>
        </p:blipFill>
        <p:spPr>
          <a:xfrm>
            <a:off x="-9360" y="0"/>
            <a:ext cx="2952720" cy="2219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0" r="0" b="76"/>
          <a:stretch/>
        </p:blipFill>
        <p:spPr>
          <a:xfrm>
            <a:off x="3403440" y="209520"/>
            <a:ext cx="2484720" cy="1784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56520" y="4632480"/>
            <a:ext cx="2787480" cy="2225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664000" y="1971720"/>
            <a:ext cx="2338200" cy="1639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0" y="4643280"/>
            <a:ext cx="2952720" cy="2214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516720" y="2533680"/>
            <a:ext cx="2489040" cy="1771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3419640" y="4941720"/>
            <a:ext cx="2500200" cy="1762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0"/>
          <a:srcRect l="0" t="0" r="-57" b="104"/>
          <a:stretch/>
        </p:blipFill>
        <p:spPr>
          <a:xfrm>
            <a:off x="4184640" y="3349800"/>
            <a:ext cx="2365560" cy="162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1440" y="3859200"/>
            <a:ext cx="3985920" cy="2989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32"/>
          <a:stretch/>
        </p:blipFill>
        <p:spPr>
          <a:xfrm>
            <a:off x="0" y="0"/>
            <a:ext cx="3987720" cy="3174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0" r="36" b="0"/>
          <a:stretch/>
        </p:blipFill>
        <p:spPr>
          <a:xfrm>
            <a:off x="5137200" y="-9360"/>
            <a:ext cx="3992400" cy="3213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148360" y="3871800"/>
            <a:ext cx="3994200" cy="299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22080" y="90684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Рослинний і тваринний сві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івнічної Амери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риродні зони мат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-32" b="5"/>
          <a:stretch/>
        </p:blipFill>
        <p:spPr>
          <a:xfrm>
            <a:off x="3722760" y="-3240"/>
            <a:ext cx="5322960" cy="6854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456080"/>
            <a:ext cx="3203640" cy="240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2506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55:36Z</dcterms:created>
  <dc:creator>CEC</dc:creator>
  <dc:description/>
  <dc:language>en-US</dc:language>
  <cp:lastModifiedBy>CEC</cp:lastModifiedBy>
  <dcterms:modified xsi:type="dcterms:W3CDTF">2013-03-26T09:56:25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a000000000001024140</vt:lpwstr>
  </property>
</Properties>
</file>