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6.jpeg" ContentType="image/jpeg"/>
  <Override PartName="/ppt/media/image27.jpeg" ContentType="image/jpeg"/>
  <Override PartName="/ppt/media/image4.gif" ContentType="image/gif"/>
  <Override PartName="/ppt/media/image22.jpeg" ContentType="image/jpeg"/>
  <Override PartName="/ppt/media/image28.jpeg" ContentType="image/jpeg"/>
  <Override PartName="/ppt/media/tn555.wav" ContentType="audio/x-wav"/>
  <Override PartName="/ppt/media/image19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FD2-F7A9-4D3C-A215-FB26F5B3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3B4-115F-49A6-8A8C-A9C46A51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2CD-2065-4B7A-B74F-4CCD113D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ECD-37CD-4314-BEE0-20052D0C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B97C-DADF-4EDF-B206-B3029B25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94A6-064B-49A6-A504-07D0291C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E037-CBE5-4F7D-A76E-23D774AC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DB93-6873-425A-9797-8FC4447A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B289-FB0B-4D25-A703-42B97C79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5A6B-EC0E-4AB6-B1BB-08A17495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EA69-AE2D-478E-877D-F23927A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987-B6E7-42BE-A406-D5A21C67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FC0D-7455-4675-B79E-677C6C5D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F56F-7989-4F8C-892C-E6BE58C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4A4B-D1A6-4573-80D3-6CBAF20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EA65-93E4-464B-A499-2741890D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7517-D2A4-4F0B-ACAC-56A9FE0A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E95-F0EC-4319-A7A7-A5CE6BBA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61A-8327-4C90-B876-FDB804D8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00D-97B8-4F1E-85A7-CFCA58C3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B810-122B-4D37-AB78-3A8CFD4A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CFE-7047-4D9A-A017-F8D8553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963-38D0-4909-957D-3935B3B0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499-4262-4666-B302-0466E940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7B4F-8211-489B-B189-A9C4D698EB67}" type="slidenum">
              <a:rPr b="0" lang="uk-U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A991-8641-4050-927F-C3CAF4CA4786}" type="slidenum">
              <a:rPr b="0" lang="uk-U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tn555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0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835280" y="4292640"/>
            <a:ext cx="6960960" cy="13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ffff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0066cc"/>
                  </a:outerShdw>
                </a:effectLst>
                <a:latin typeface="Comic Sans MS"/>
              </a:rPr>
              <a:t>ПІВНІЧНА  АМЕРИКА</a:t>
            </a:r>
            <a:endParaRPr b="1" lang="en-US" sz="1800" spc="1" strike="noStrike">
              <a:ln w="3240">
                <a:solidFill>
                  <a:srgbClr val="ffffff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0066cc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n55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rcRect l="0" t="0" r="14" b="18729"/>
          <a:stretch/>
        </p:blipFill>
        <p:spPr>
          <a:xfrm>
            <a:off x="422280" y="576360"/>
            <a:ext cx="8366040" cy="52988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rcRect l="2030" t="88132" r="14" b="-331"/>
          <a:stretch/>
        </p:blipFill>
        <p:spPr>
          <a:xfrm>
            <a:off x="263520" y="5899320"/>
            <a:ext cx="8643960" cy="839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476360" y="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Book Antiqua"/>
              </a:rPr>
              <a:t>Природні зони сві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2520" y="582660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0000"/>
                </a:solidFill>
                <a:latin typeface="Georgia"/>
              </a:rPr>
              <a:t>?</a:t>
            </a:r>
            <a:r>
              <a:rPr b="1" i="1" lang="uk-UA" sz="2000" spc="-1" strike="noStrike">
                <a:solidFill>
                  <a:srgbClr val="ffff00"/>
                </a:solidFill>
                <a:latin typeface="Georgia"/>
              </a:rPr>
              <a:t>Чому на рівнинній території Північної Америки                      деякі зони простягаються меридіонально,                                     а не за законом широтної зональності?</a:t>
            </a: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48000" y="0"/>
            <a:ext cx="508788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24360" y="981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32720" y="3068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20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3284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64360" y="350028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2060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236000" y="4365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Georgi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4292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465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8800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04000" y="5229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Georgia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205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00"/>
                </a:solidFill>
                <a:latin typeface="Bookman Old Style"/>
              </a:rPr>
              <a:t>Картографічна розмин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44440" y="4381560"/>
            <a:ext cx="35560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rcRect l="0" t="0" r="-18" b="-12"/>
          <a:stretch/>
        </p:blipFill>
        <p:spPr>
          <a:xfrm>
            <a:off x="5435640" y="15840"/>
            <a:ext cx="3684600" cy="5452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1332720" y="5868000"/>
            <a:ext cx="77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916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4.Гудзонова, Каліфорнійська, Гвінейська, Мексикан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979640" y="285264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7480" y="4937040"/>
            <a:ext cx="503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2.Міссісіпі, Юкон, Онтаріо, Колорад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8000" y="5398920"/>
            <a:ext cx="686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3.Примексиканська, Приатлантична, Амазон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11400" y="6280200"/>
            <a:ext cx="608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5.Гольфстрім, Аляскинська, Каліфорнійсь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-79920" y="4449600"/>
            <a:ext cx="59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Book Antiqua"/>
              </a:rPr>
              <a:t>1</a:t>
            </a:r>
            <a:r>
              <a:rPr b="1" lang="uk-UA" sz="2000" spc="-1" strike="noStrike">
                <a:solidFill>
                  <a:srgbClr val="ffff00"/>
                </a:solidFill>
                <a:latin typeface="Book Antiqua"/>
              </a:rPr>
              <a:t>.Ері, Вінніпег, Маракайбо, Мічиган, Гур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971640" y="0"/>
            <a:ext cx="3384360" cy="2541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11280" y="404640"/>
            <a:ext cx="493236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Georgia"/>
              </a:rPr>
              <a:t>Латук –       природний компас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357800" y="3179880"/>
            <a:ext cx="4680000" cy="3603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4135320" cy="5513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75120" y="74520"/>
            <a:ext cx="3024000" cy="2271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213000" y="2482920"/>
            <a:ext cx="2737080" cy="2052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057480" y="4648320"/>
            <a:ext cx="3008520" cy="2114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640" y="1300320"/>
            <a:ext cx="2920680" cy="2192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0" name="" descr=""/>
          <p:cNvPicPr/>
          <p:nvPr/>
        </p:nvPicPr>
        <p:blipFill>
          <a:blip r:embed="rId5"/>
          <a:srcRect l="0" t="0" r="58" b="0"/>
          <a:stretch/>
        </p:blipFill>
        <p:spPr>
          <a:xfrm>
            <a:off x="6238800" y="1328760"/>
            <a:ext cx="2894040" cy="1984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9080" y="3835440"/>
            <a:ext cx="2911320" cy="19940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6216480" y="3679920"/>
            <a:ext cx="2911680" cy="2171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0" r="0" b="-57"/>
          <a:stretch/>
        </p:blipFill>
        <p:spPr>
          <a:xfrm>
            <a:off x="209520" y="2562120"/>
            <a:ext cx="2489400" cy="1774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0" t="0" r="-34" b="0"/>
          <a:stretch/>
        </p:blipFill>
        <p:spPr>
          <a:xfrm>
            <a:off x="-9360" y="0"/>
            <a:ext cx="2952720" cy="2219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rcRect l="0" t="0" r="0" b="76"/>
          <a:stretch/>
        </p:blipFill>
        <p:spPr>
          <a:xfrm>
            <a:off x="3403440" y="209520"/>
            <a:ext cx="2484720" cy="1784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6356520" y="4632480"/>
            <a:ext cx="2787480" cy="2225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2664000" y="1971720"/>
            <a:ext cx="2338200" cy="1639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6300720" y="0"/>
            <a:ext cx="2843280" cy="2131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0" y="4643280"/>
            <a:ext cx="2952720" cy="2214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6516720" y="2533680"/>
            <a:ext cx="2489040" cy="17715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3419640" y="4941720"/>
            <a:ext cx="2500200" cy="1762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10"/>
          <a:srcRect l="0" t="0" r="-57" b="104"/>
          <a:stretch/>
        </p:blipFill>
        <p:spPr>
          <a:xfrm>
            <a:off x="4184640" y="3349800"/>
            <a:ext cx="2365560" cy="1625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1440" y="3859200"/>
            <a:ext cx="3985920" cy="2989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0" t="0" r="0" b="32"/>
          <a:stretch/>
        </p:blipFill>
        <p:spPr>
          <a:xfrm>
            <a:off x="0" y="0"/>
            <a:ext cx="3987720" cy="31748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3"/>
          <a:srcRect l="0" t="0" r="36" b="0"/>
          <a:stretch/>
        </p:blipFill>
        <p:spPr>
          <a:xfrm>
            <a:off x="5137200" y="-9360"/>
            <a:ext cx="3992400" cy="3213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148360" y="3871800"/>
            <a:ext cx="3994200" cy="2997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422080" y="906840"/>
            <a:ext cx="63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Рослинний і тваринний сві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Північної Амери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Bookman Old Style"/>
              </a:rPr>
              <a:t>Природні зони матер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3537000"/>
            <a:ext cx="4427640" cy="3321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285264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0" t="0" r="-32" b="5"/>
          <a:stretch/>
        </p:blipFill>
        <p:spPr>
          <a:xfrm>
            <a:off x="3722760" y="-3240"/>
            <a:ext cx="5322960" cy="6854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4456080"/>
            <a:ext cx="3203640" cy="2401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03640" cy="2506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9:55:36Z</dcterms:created>
  <dc:creator>CEC</dc:creator>
  <dc:description/>
  <dc:language>en-US</dc:language>
  <cp:lastModifiedBy>CEC</cp:lastModifiedBy>
  <dcterms:modified xsi:type="dcterms:W3CDTF">2013-03-26T09:56:25Z</dcterms:modified>
  <cp:revision>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1a000000000001024140</vt:lpwstr>
  </property>
</Properties>
</file>