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5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1.png" ContentType="image/png"/>
  <Override PartName="/ppt/media/image54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5.jpeg" ContentType="image/jpeg"/>
  <Override PartName="/ppt/media/image5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EFBE-438E-43FF-AA5D-03E2993C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F49-858E-42E0-AC44-2C9EB7AE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CB25-A90E-4A40-A164-1A364204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7E8-61B3-4ED4-9FD0-8FDAAD15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47DC-9EFC-41C1-8BA3-78349DA9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94C0-CBBF-46D7-9BA5-343B5149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8213-11F9-4523-B6A0-B724645A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CF90-968E-48F6-8195-79D7021E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D153-F4CD-4837-B66E-2F596BE9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6412-01DA-4E08-A057-DE0F7391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4F69-FF1E-456D-9C55-C8629BE5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E14-67CE-4196-BE73-90657224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93C9-7563-4F79-A485-174D962A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24A9-01C2-4A33-BC5D-88F523EE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3D07-8EFB-447B-927A-C2448F04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C208-E75E-47CE-B5E9-8051AD03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1695-21A8-4B14-9725-2DCCEB19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1A840-9DC5-4369-862C-EB6D5018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74E04-1455-416C-BF79-37969E1B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B4376-1216-4865-B7DE-6A0F503D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982E7-4F7F-415E-B83C-CE37641E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2247F-E5DA-4DF8-88C2-A5CEFF06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91FE-06FA-47E0-8E5A-3B24857F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FDD37-8D28-4D70-B081-45F69635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0C416-BBFA-49A7-AAB1-6E515F27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519AB-E589-41A0-85CA-D3C8838C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2F5D3-B3EA-41C7-93FB-7C10197F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72FF9-9F60-4D0A-B76D-76687BC5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15648-9D77-407D-94FA-10DE9A76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72AF0-5F4A-4120-BE7E-CDCD880F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7396A-4850-4490-8BAB-9BBA44B0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419A6-6BB4-42BC-9707-13C7FC1A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AD056-24B4-4434-B1D1-8F01B71C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E3DE-D9D5-4A54-8C4F-CBE3FA44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7D3E0-0BED-4BEC-AD4A-0F7D9B2A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99C84-2DEA-4B8E-B45D-EA1882DF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891CF-A045-4ED7-9886-8C8E7722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5EA27-49A6-4490-865E-575AC7B5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FFA96-2A4F-49DA-8818-B6E94BA3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CF434-EE09-4FD5-ABFF-DC548887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26139-D0B5-49C1-880C-28B4171A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8D88A-5B36-4A70-AF7C-12F405C7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3CB1B-3E00-4408-AF8E-FC3E7A37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B89A5-BDFD-4F5C-B2B8-1635E6E9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72C-CC58-4ED7-ACBA-110A95A5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10C80-00A1-4C00-9CAC-F1256AAA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9B36F-46DF-4E65-B665-0D5F24D6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21D68-1C35-4615-B0FC-EE716665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B5B15-3737-4A37-A79B-1C80785F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4FA5C-E9D1-4762-B452-55764466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51ADD-DD79-4377-ACA2-3C55DF81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9BD25-CC38-4356-8011-7CCBC88D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547B1-C02E-4245-84BC-907BB15D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544C8-62FC-4591-8B28-256C932C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D03C8-9D02-4F90-93ED-E51CFE00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413-65ED-4D60-8963-938D1F16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4A5FD-758E-4AD3-BB66-5B06CDDE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82DD9-C511-483E-8FA2-17D39709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F12A9-AE46-400F-90E8-7EE5DEC5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20971-6BB8-4EF3-9CC9-DCDA1F97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D6CED-D377-4C9D-B890-97BC622C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C4662-3039-43E9-8338-E7AA02FB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B14C3-DD67-47E7-87FD-449D47EE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CDF59-C22D-4E10-8D99-CEFFC81B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058FA-E07B-443D-A998-FF1BA029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44C75-DA93-42D6-B033-593423E1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B14-52A2-497A-A514-F460387D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EF38A-13A8-4139-91D1-65F02F7F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72621-9282-45A5-982A-AE4C7F81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CC081-0E71-4837-AF52-BCDB6A20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4E0A7-955F-444A-97D0-F45AF4F9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A6AEA-03FA-42A5-A846-54CD1AD3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F59E9-E3FF-4191-809D-8D7E49C5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659D1-826C-483F-84DD-D7F9A38A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0D32A-7C4F-4E8D-89DB-398110CB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E9A35-B020-48BC-8893-EF18082B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44FC5-D256-4C38-8E00-9996B130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BD7C-E68B-4FF8-AF08-580D30CE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055E9-3940-4280-A187-6D578918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93B15-D900-4B4F-A6BA-0BC14B1D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3BE4B-FCB4-439B-BB99-A9E3EDA2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DE3C9-4B64-4C60-8427-80651C5C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828BF-74D3-4CB2-9A76-7034EB9D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E8F5-F504-4A8F-A232-F4B79E6F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5986-7D5A-4425-856E-9EA9DC68664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417C-8692-49DA-9DF4-978B1D076F5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A962-037B-4ECF-AC5F-3C33309EE516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A8F0-CEA9-4A96-B22B-AB9846BD1B9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57D7-89A7-4351-A06B-B5153105690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E6D6-06D1-4DA5-9BF3-0A4BC0C53C4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CFB9-BAD9-40B1-B245-E6A0B6BDCA2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ndara"/>
              </a:rPr>
              <a:t>       </a:t>
            </a:r>
            <a:r>
              <a:rPr b="0" lang="uk-UA" sz="4800" spc="-1" strike="noStrike">
                <a:solidFill>
                  <a:srgbClr val="ffffff"/>
                </a:solidFill>
                <a:latin typeface="Candara"/>
              </a:rPr>
              <a:t>АНТАРКТИДА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521080" cy="1873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2"/>
          <a:stretch/>
        </p:blipFill>
        <p:spPr>
          <a:xfrm>
            <a:off x="282600" y="2133720"/>
            <a:ext cx="86104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191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1" descr="DSC_1661.JPG"/>
          <p:cNvPicPr/>
          <p:nvPr/>
        </p:nvPicPr>
        <p:blipFill>
          <a:blip r:embed="rId1"/>
          <a:srcRect l="0" t="0" r="0" b="-16"/>
          <a:stretch/>
        </p:blipFill>
        <p:spPr>
          <a:xfrm>
            <a:off x="2214720" y="428760"/>
            <a:ext cx="45907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G:\DSC_0781.JPG"/>
          <p:cNvPicPr/>
          <p:nvPr/>
        </p:nvPicPr>
        <p:blipFill>
          <a:blip r:embed="rId1"/>
          <a:srcRect l="0" t="0" r="0" b="-27"/>
          <a:stretch/>
        </p:blipFill>
        <p:spPr>
          <a:xfrm>
            <a:off x="2786040" y="243000"/>
            <a:ext cx="4214880" cy="63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032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2" descr="IMG_6033.JPG"/>
          <p:cNvPicPr/>
          <p:nvPr/>
        </p:nvPicPr>
        <p:blipFill>
          <a:blip r:embed="rId1"/>
          <a:srcRect l="-1385" t="0" r="0" b="-16"/>
          <a:stretch/>
        </p:blipFill>
        <p:spPr>
          <a:xfrm>
            <a:off x="1928880" y="357120"/>
            <a:ext cx="52149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250920" y="37944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Картографічна зупин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1332000" y="1935000"/>
            <a:ext cx="648000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457440" cy="2376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"/>
          <p:cNvPicPr/>
          <p:nvPr/>
        </p:nvPicPr>
        <p:blipFill>
          <a:blip r:embed="rId2"/>
          <a:stretch/>
        </p:blipFill>
        <p:spPr>
          <a:xfrm>
            <a:off x="5796000" y="4221000"/>
            <a:ext cx="2825640" cy="2303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"/>
          <p:cNvPicPr/>
          <p:nvPr/>
        </p:nvPicPr>
        <p:blipFill>
          <a:blip r:embed="rId4"/>
          <a:stretch/>
        </p:blipFill>
        <p:spPr>
          <a:xfrm>
            <a:off x="3562200" y="3362400"/>
            <a:ext cx="2019600" cy="142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"/>
          <p:cNvPicPr/>
          <p:nvPr/>
        </p:nvPicPr>
        <p:blipFill>
          <a:blip r:embed="rId5"/>
          <a:stretch/>
        </p:blipFill>
        <p:spPr>
          <a:xfrm>
            <a:off x="5435640" y="1295280"/>
            <a:ext cx="3457440" cy="249408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Гарного улову!!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5724360" y="368280"/>
            <a:ext cx="3095640" cy="1944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36720" cy="2039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3"/>
          <a:stretch/>
        </p:blipFill>
        <p:spPr>
          <a:xfrm>
            <a:off x="304920" y="2130480"/>
            <a:ext cx="2519280" cy="2232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4"/>
          <a:stretch/>
        </p:blipFill>
        <p:spPr>
          <a:xfrm>
            <a:off x="3654360" y="4113360"/>
            <a:ext cx="3600360" cy="22795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1333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73e87"/>
                </a:solidFill>
                <a:latin typeface="Candara"/>
              </a:rPr>
              <a:t>Айсберг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73e87"/>
                </a:solidFill>
                <a:latin typeface="Candara"/>
              </a:rPr>
              <a:t>Антарктида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73e87"/>
                </a:solidFill>
                <a:latin typeface="Candara"/>
              </a:rPr>
              <a:t>Беллінсгаузен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Перевірте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73e87"/>
                </a:solidFill>
                <a:latin typeface="Candara"/>
              </a:rPr>
              <a:t>А= </a:t>
            </a: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S14+1820+(</a:t>
            </a:r>
            <a:r>
              <a:rPr b="0" lang="uk-UA" sz="2800" spc="-1" strike="noStrike">
                <a:solidFill>
                  <a:srgbClr val="073e87"/>
                </a:solidFill>
                <a:latin typeface="Candara"/>
              </a:rPr>
              <a:t>38---17)+3794+А-90% +80% = МН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РОЗШИФРУЙ ФОРМУЛУ 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33320" y="404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ШКОЛА ЮНИХ ПОЛЯРНИКІВ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28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ndara"/>
              </a:rPr>
              <a:t>ІНТЕНСИВНИЙ КУРС ПІДГОТОВКИ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3708360" y="281160"/>
            <a:ext cx="1189080" cy="1431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6012000" y="2786040"/>
            <a:ext cx="2199960" cy="1428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"/>
          <p:cNvPicPr/>
          <p:nvPr/>
        </p:nvPicPr>
        <p:blipFill>
          <a:blip r:embed="rId3"/>
          <a:stretch/>
        </p:blipFill>
        <p:spPr>
          <a:xfrm>
            <a:off x="5435640" y="4869000"/>
            <a:ext cx="2228760" cy="1428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"/>
          <p:cNvPicPr/>
          <p:nvPr/>
        </p:nvPicPr>
        <p:blipFill>
          <a:blip r:embed="rId4"/>
          <a:stretch/>
        </p:blipFill>
        <p:spPr>
          <a:xfrm>
            <a:off x="250920" y="3500280"/>
            <a:ext cx="48672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968720" cy="3384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6012000" y="2060640"/>
            <a:ext cx="2376360" cy="187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3"/>
          <a:stretch/>
        </p:blipFill>
        <p:spPr>
          <a:xfrm>
            <a:off x="6227640" y="4245120"/>
            <a:ext cx="2293920" cy="2376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"/>
          <p:cNvPicPr/>
          <p:nvPr/>
        </p:nvPicPr>
        <p:blipFill>
          <a:blip r:embed="rId4"/>
          <a:stretch/>
        </p:blipFill>
        <p:spPr>
          <a:xfrm>
            <a:off x="1638360" y="4797360"/>
            <a:ext cx="2519280" cy="1727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"/>
          <p:cNvPicPr/>
          <p:nvPr/>
        </p:nvPicPr>
        <p:blipFill>
          <a:blip r:embed="rId5"/>
          <a:stretch/>
        </p:blipFill>
        <p:spPr>
          <a:xfrm>
            <a:off x="250920" y="4437000"/>
            <a:ext cx="1390680" cy="142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6"/>
          <a:stretch/>
        </p:blipFill>
        <p:spPr>
          <a:xfrm>
            <a:off x="4157640" y="4797360"/>
            <a:ext cx="21718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***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655640" cy="2590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2665440" cy="4896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3"/>
          <a:stretch/>
        </p:blipFill>
        <p:spPr>
          <a:xfrm>
            <a:off x="6300720" y="3284640"/>
            <a:ext cx="2449440" cy="2808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"/>
          <p:cNvPicPr/>
          <p:nvPr/>
        </p:nvPicPr>
        <p:blipFill>
          <a:blip r:embed="rId4"/>
          <a:stretch/>
        </p:blipFill>
        <p:spPr>
          <a:xfrm>
            <a:off x="3492360" y="2637000"/>
            <a:ext cx="24386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Логічний ланцюжо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265800" cy="27367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>
            <a:off x="1332000" y="4808520"/>
            <a:ext cx="63356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871560" y="1916280"/>
            <a:ext cx="7408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…</a:t>
            </a: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. та їсти морозиво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ndara"/>
              </a:rPr>
              <a:t>Щоб бути полярником необхідно активно готуватись…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1944720" cy="32814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3203640" y="3089160"/>
            <a:ext cx="2160360" cy="2808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3"/>
          <a:stretch/>
        </p:blipFill>
        <p:spPr>
          <a:xfrm>
            <a:off x="5867280" y="2854440"/>
            <a:ext cx="20894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У  -  УМІНН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С  - СПІВРОБІТНИЦТВО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П  - ПАРТНЕРСТВО, ПОДОЛАННЯ </a:t>
            </a: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ТРУДНОЩІВ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І  - ІНІЦІАТИВА, ІДЕ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Х  - ХОРОШИЙ НАСТРІЙ, ХАРИЗМ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ndara"/>
              </a:rPr>
              <a:t>ВіТАЮ! Ви  успішно закінчили курс </a:t>
            </a:r>
            <a:br>
              <a:rPr sz="4000"/>
            </a:br>
            <a:r>
              <a:rPr b="0" lang="uk-UA" sz="4000" spc="-1" strike="noStrike">
                <a:solidFill>
                  <a:srgbClr val="ffffff"/>
                </a:solidFill>
                <a:latin typeface="Candara"/>
              </a:rPr>
              <a:t>інтенсивної підготовки полярників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5940360" y="1700280"/>
            <a:ext cx="27370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871560" y="2349000"/>
            <a:ext cx="7408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Випереджальне завдання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: </a:t>
            </a: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Рекорди Південної Америки ( 1 варіант)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Творче завдання: “1 день в Антарктиді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Запропонуйте своє бачення проведення вільного часу людьми, що вибрали таку нелегку, але потрібну Україні професію ( 2 варіант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Домашнє завданн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395280" y="1281240"/>
            <a:ext cx="20844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Королева, холоду, королева льод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Тут неважко визначить щоденну погод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Половина року день, половина ночі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Хто тут побував, бути ще охочий!!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Антарктид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6732720" y="4653000"/>
            <a:ext cx="1942920" cy="2008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6764400" y="3141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"/>
          <p:cNvPicPr/>
          <p:nvPr/>
        </p:nvPicPr>
        <p:blipFill>
          <a:blip r:embed="rId3"/>
          <a:stretch/>
        </p:blipFill>
        <p:spPr>
          <a:xfrm>
            <a:off x="676440" y="1268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4"/>
          <a:stretch/>
        </p:blipFill>
        <p:spPr>
          <a:xfrm>
            <a:off x="6764400" y="31766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1360440" y="2990880"/>
            <a:ext cx="4772160" cy="3313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"/>
          <p:cNvPicPr/>
          <p:nvPr/>
        </p:nvPicPr>
        <p:blipFill>
          <a:blip r:embed="rId2"/>
          <a:stretch/>
        </p:blipFill>
        <p:spPr>
          <a:xfrm>
            <a:off x="2771640" y="380880"/>
            <a:ext cx="2376720" cy="223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"/>
          <p:cNvPicPr/>
          <p:nvPr/>
        </p:nvPicPr>
        <p:blipFill>
          <a:blip r:embed="rId3"/>
          <a:stretch/>
        </p:blipFill>
        <p:spPr>
          <a:xfrm>
            <a:off x="7380360" y="400536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"/>
          <p:cNvPicPr/>
          <p:nvPr/>
        </p:nvPicPr>
        <p:blipFill>
          <a:blip r:embed="rId4"/>
          <a:stretch/>
        </p:blipFill>
        <p:spPr>
          <a:xfrm>
            <a:off x="468360" y="907920"/>
            <a:ext cx="142704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5832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1" descr="d57ol4ABYMU.jpg"/>
          <p:cNvPicPr/>
          <p:nvPr/>
        </p:nvPicPr>
        <p:blipFill>
          <a:blip r:embed="rId1"/>
          <a:stretch/>
        </p:blipFill>
        <p:spPr>
          <a:xfrm>
            <a:off x="2286000" y="285840"/>
            <a:ext cx="47149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857160" y="1857240"/>
            <a:ext cx="3502080" cy="3002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65520" y="1916280"/>
            <a:ext cx="2221200" cy="2776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6458040" y="1916280"/>
            <a:ext cx="23619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G:\DSC_0993.JPG"/>
          <p:cNvPicPr/>
          <p:nvPr/>
        </p:nvPicPr>
        <p:blipFill>
          <a:blip r:embed="rId1"/>
          <a:stretch/>
        </p:blipFill>
        <p:spPr>
          <a:xfrm>
            <a:off x="1971720" y="571680"/>
            <a:ext cx="432900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1" descr="i007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4:13:08Z</dcterms:created>
  <dc:creator>Admin</dc:creator>
  <dc:description/>
  <dc:language>en-US</dc:language>
  <cp:lastModifiedBy>Admin</cp:lastModifiedBy>
  <dcterms:modified xsi:type="dcterms:W3CDTF">2013-02-28T06:51:34Z</dcterms:modified>
  <cp:revision>51</cp:revision>
  <dc:subject/>
  <dc:title>АНТАРКТИ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1d000000000001024140</vt:lpwstr>
  </property>
</Properties>
</file>