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ADF-3699-4722-A960-D785BEBA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CA1-4BA8-4709-9E42-6F33D3E5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5AB-EC28-456E-AB92-5E08B595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92E-C3A1-486C-B4DE-C6D28BD1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05E8-2BD3-4A49-910F-69A51AB8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0404-FB8C-4D2C-86FF-53280838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440E-236D-4C47-873A-8E4DAC21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8F53-66C7-462C-B9ED-8A8F85D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7FBA-BDE9-49C5-8BE5-059698B4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D416-765F-47E0-B29A-128E318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0126-7C64-4026-8752-B75F5F4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79B-5F78-4E5D-92C9-3FADC753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D1E6-4F46-4D1A-BC81-016C772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F7CF-AB48-41BB-B7F2-F73AC5D4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DDBF-D4FA-40A5-AD42-73C30C4D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4EB-1000-4147-9AC8-258ABCF5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9AF1-1AFA-4DDF-B4BA-D922A6A4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3C1A-06B7-4B33-8709-00FDE149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1102B-4DFD-4EC4-BCD0-6A0A3CB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FED4-83E5-4EAA-8DEC-B6ECF46B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B0683-85EE-48B9-9D01-D0F81CE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5953-B6D1-426D-9823-F3680C08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261-0AA4-4F0F-88E8-3559C072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259A-B2BB-404D-BAE2-19301923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39FB-39A8-4CD9-B8A6-80259FE7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0928-0F4D-4D4E-AC0D-2166C50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0FB9-A898-4D31-8D24-D73EAD9B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745A-D20F-4415-86E0-B90D3F3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2129-B564-418E-A12C-4CD6E77E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3721-E421-4CF9-BF45-99F4F7B7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8E64-C6C0-4DA4-92F4-B3E15E2E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087C4-2742-495A-B784-C8436698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185D-38B5-4131-9E06-E662615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1BE-CED0-4927-9EC6-A819D15D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7CC5-FA87-4E63-A1B1-5CA2F8B2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AAFA-F4CC-419B-806A-5AE576F5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2E9A5-1D93-4271-A720-09AF2607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9F08-0613-425E-B95D-2A5804E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687E3-7E6C-4DCE-8772-62A9D31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B047-5EB8-461C-95AE-5F12EF2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492D2-90B0-4B11-8772-D07870AC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33CB-C904-4B4C-93AC-EB15AD75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48E8-CA4D-40CE-B3FC-A15DFFB1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615E4-9AE7-44AB-BBE1-5F306A63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AB9-4C39-4D2E-A366-26EDAFA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E846-664C-41D1-ABCB-B25DAADC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1524F-59A9-4170-BBFD-B69F6F79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9420-ACD9-49C8-91B4-6A7D1458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DA38-D068-41F3-B184-226D8358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B2F1-6E09-4287-A5C4-B7DEAF18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8C59-0C8A-42F5-B70F-930ED072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CEE8-6C70-414E-879F-56098016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58DF-6DC1-469D-93F8-86D1B470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8EE1-1760-44EC-821B-56CFA33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0F135-93F4-4239-843F-2F23DC14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78C-8A63-445D-ADA7-3218105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71606-F130-4C4D-AF35-5C8AB79E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AF9BA-4C14-4F6F-8FB9-72FCC0EE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C0B3E-F115-4A3B-B432-B8380C2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593A2-6977-4CD1-B576-66EEB467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A19E-0AB8-4601-AD27-532ABFF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4AE19-CAF5-4FD3-B963-46B829E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7A66-A509-4997-AA45-9065F68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E508-624A-48C9-A1EB-F9BD5AEC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C217-CDDB-43EB-AFAB-84A1A23F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DA51-AAB0-4368-AC3D-D229E42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6B4-73AC-4D93-926C-84E77F0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11A8D-775F-4100-BE3D-0072F9C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091FA-2DA5-4A79-8D8A-4FC5BEB6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06BFA-AAEB-4AFA-995B-6793BF30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15876-8884-4D4F-B35D-5BF71521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7AF59-9E83-46B9-A80E-B1A705A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32581-E0C1-4C76-B1E1-860B8DC7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1955-E446-4755-B62C-AFE662E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80AD-ECC2-4039-890F-F9F49B4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BAEC2-DCA2-4174-94D8-7535C66D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E6B8-6C70-45B1-B1B9-B27D7F4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D1D-826A-41E6-9ED6-A544A820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ABF14-7166-4A07-B4F5-344792D0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4D825-7B20-4182-BB03-8EB0374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3FC7D-30BC-42F0-9D7F-4E0F34A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5EA01-4A82-46F0-B0F1-28C2C324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66611-3C88-4758-9C15-3F6F737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D11-4EEE-4FE0-BB25-A3E01DB8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E822-1E44-418A-8CD7-03DA5CA6C47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4F6E-8A2A-4E0A-84DE-3BE236E68E3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8591-6290-4577-AB08-C4752FEE2BF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27F4-C197-4B3F-A347-392FA190932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7255-B9B2-41A5-BC33-64D50BC5751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2592-CAF5-4937-895D-85B5F929A21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009-771E-48D3-85D0-65A4F6FBC091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ndara"/>
              </a:rPr>
              <a:t>       </a:t>
            </a:r>
            <a:r>
              <a:rPr b="0" lang="uk-UA" sz="48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521080" cy="18734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2"/>
          <a:stretch/>
        </p:blipFill>
        <p:spPr>
          <a:xfrm>
            <a:off x="282600" y="2133720"/>
            <a:ext cx="86104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1" descr="DSC_1661.JPG"/>
          <p:cNvPicPr/>
          <p:nvPr/>
        </p:nvPicPr>
        <p:blipFill>
          <a:blip r:embed="rId1"/>
          <a:srcRect l="0" t="0" r="0" b="-16"/>
          <a:stretch/>
        </p:blipFill>
        <p:spPr>
          <a:xfrm>
            <a:off x="2214720" y="428760"/>
            <a:ext cx="45907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G:\DSC_0781.JPG"/>
          <p:cNvPicPr/>
          <p:nvPr/>
        </p:nvPicPr>
        <p:blipFill>
          <a:blip r:embed="rId1"/>
          <a:srcRect l="0" t="0" r="0" b="-27"/>
          <a:stretch/>
        </p:blipFill>
        <p:spPr>
          <a:xfrm>
            <a:off x="2786040" y="243000"/>
            <a:ext cx="421488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032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2" descr="IMG_6033.JPG"/>
          <p:cNvPicPr/>
          <p:nvPr/>
        </p:nvPicPr>
        <p:blipFill>
          <a:blip r:embed="rId1"/>
          <a:srcRect l="-1385" t="0" r="0" b="-16"/>
          <a:stretch/>
        </p:blipFill>
        <p:spPr>
          <a:xfrm>
            <a:off x="1928880" y="357120"/>
            <a:ext cx="5214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Картографічна зупин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332000" y="1935000"/>
            <a:ext cx="648000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825640" cy="2303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4"/>
          <a:stretch/>
        </p:blipFill>
        <p:spPr>
          <a:xfrm>
            <a:off x="3562200" y="336240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5"/>
          <a:stretch/>
        </p:blipFill>
        <p:spPr>
          <a:xfrm>
            <a:off x="5435640" y="1295280"/>
            <a:ext cx="3457440" cy="24940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Гарного улову!!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724360" y="36828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2987640" y="1557360"/>
            <a:ext cx="2736720" cy="20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04920" y="213048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4"/>
          <a:stretch/>
        </p:blipFill>
        <p:spPr>
          <a:xfrm>
            <a:off x="3654360" y="4113360"/>
            <a:ext cx="3600360" cy="2279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3334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йсберг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Антарктида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73e87"/>
                </a:solidFill>
                <a:latin typeface="Candara"/>
              </a:rPr>
              <a:t>Беллінсгаузен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Перевірте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А=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S14+1820+(</a:t>
            </a:r>
            <a:r>
              <a:rPr b="0" lang="uk-UA" sz="2800" spc="-1" strike="noStrike">
                <a:solidFill>
                  <a:srgbClr val="073e87"/>
                </a:solidFill>
                <a:latin typeface="Candara"/>
              </a:rPr>
              <a:t>38---17)+3794+А-90% +80% = МН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РОЗШИФРУЙ ФОРМУЛУ 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3320" y="404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ШКОЛА ЮНИХ ПОЛЯРНИКІ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28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ІНТЕНСИВНИЙ КУРС ПІДГОТОВ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708360" y="281160"/>
            <a:ext cx="1189080" cy="1431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6012000" y="2786040"/>
            <a:ext cx="2199960" cy="1428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"/>
          <p:cNvPicPr/>
          <p:nvPr/>
        </p:nvPicPr>
        <p:blipFill>
          <a:blip r:embed="rId3"/>
          <a:stretch/>
        </p:blipFill>
        <p:spPr>
          <a:xfrm>
            <a:off x="5435640" y="4869000"/>
            <a:ext cx="2228760" cy="1428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4867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968720" cy="3384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6227640" y="4245120"/>
            <a:ext cx="2293920" cy="2376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1638360" y="479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6"/>
          <a:stretch/>
        </p:blipFill>
        <p:spPr>
          <a:xfrm>
            <a:off x="4157640" y="4797360"/>
            <a:ext cx="21718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665440" cy="489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449440" cy="2808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4"/>
          <a:stretch/>
        </p:blipFill>
        <p:spPr>
          <a:xfrm>
            <a:off x="3492360" y="2637000"/>
            <a:ext cx="24386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Логічний ланцюжо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265800" cy="27367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1332000" y="4808520"/>
            <a:ext cx="63356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…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. та їсти морози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Щоб бути полярником необхідно активно готуватись…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1944720" cy="3281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3203640" y="3089160"/>
            <a:ext cx="2160360" cy="28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5867280" y="2854440"/>
            <a:ext cx="20894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У  -  УМІНН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С  - СПІВРОБІТНИЦТВО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П  - ПАРТНЕРСТВО, ПОДОЛАННЯ 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ТРУДНОЩІ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І  - ІНІЦІАТИВА, ІДЕ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73e87"/>
                </a:solidFill>
                <a:latin typeface="Candara"/>
              </a:rPr>
              <a:t>Х  - ХОРОШИЙ НАСТРІЙ, ХАРИЗМ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ВіТАЮ! Ви  успішно закінчили курс 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інтенсивної підготовки полярникі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5940360" y="1700280"/>
            <a:ext cx="27370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349000"/>
            <a:ext cx="7408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Випереджальне завданн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</a:t>
            </a: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Рекорди Південної Америки ( 1 варіант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ворче завдання: “1 день в Антарктиді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Запропонуйте своє бачення проведення вільного часу людьми, що вибрали таку нелегку, але потрібну Україні професію ( 2 варіант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395280" y="1281240"/>
            <a:ext cx="20844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Королева, холоду, королева ль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Тут неважко визначить щоденну погод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Половина року день, половина ночі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3e87"/>
                </a:solidFill>
                <a:latin typeface="Candara"/>
              </a:rPr>
              <a:t>Хто тут побував, бути ще охочий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ndara"/>
              </a:rPr>
              <a:t>Антарктид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6732720" y="4653000"/>
            <a:ext cx="1942920" cy="200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76440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"/>
          <p:cNvPicPr/>
          <p:nvPr/>
        </p:nvPicPr>
        <p:blipFill>
          <a:blip r:embed="rId3"/>
          <a:stretch/>
        </p:blipFill>
        <p:spPr>
          <a:xfrm>
            <a:off x="676440" y="12682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4"/>
          <a:stretch/>
        </p:blipFill>
        <p:spPr>
          <a:xfrm>
            <a:off x="6764400" y="3176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360440" y="2990880"/>
            <a:ext cx="4772160" cy="3313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771640" y="38088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4"/>
          <a:stretch/>
        </p:blipFill>
        <p:spPr>
          <a:xfrm>
            <a:off x="468360" y="907920"/>
            <a:ext cx="1427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83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d57ol4ABYMU.jpg"/>
          <p:cNvPicPr/>
          <p:nvPr/>
        </p:nvPicPr>
        <p:blipFill>
          <a:blip r:embed="rId1"/>
          <a:stretch/>
        </p:blipFill>
        <p:spPr>
          <a:xfrm>
            <a:off x="2286000" y="285840"/>
            <a:ext cx="4714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3502080" cy="3002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65520" y="1916280"/>
            <a:ext cx="2221200" cy="2776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6458040" y="1916280"/>
            <a:ext cx="23619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G:\DSC_0993.JPG"/>
          <p:cNvPicPr/>
          <p:nvPr/>
        </p:nvPicPr>
        <p:blipFill>
          <a:blip r:embed="rId1"/>
          <a:stretch/>
        </p:blipFill>
        <p:spPr>
          <a:xfrm>
            <a:off x="1971720" y="571680"/>
            <a:ext cx="43290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i007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13:08Z</dcterms:created>
  <dc:creator>Admin</dc:creator>
  <dc:description/>
  <dc:language>en-US</dc:language>
  <cp:lastModifiedBy>Admin</cp:lastModifiedBy>
  <dcterms:modified xsi:type="dcterms:W3CDTF">2013-02-28T06:51:34Z</dcterms:modified>
  <cp:revision>51</cp:revision>
  <dc:subject/>
  <dc:title>АНТАРКТИ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1d000000000001024140</vt:lpwstr>
  </property>
</Properties>
</file>