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5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1.png" ContentType="image/png"/>
  <Override PartName="/ppt/media/image54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5.jpeg" ContentType="image/jpeg"/>
  <Override PartName="/ppt/media/image5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61D7-2F10-4AD8-8E71-E704E1C3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8D0-EDA9-451A-AB9B-B84A6592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436-D67F-4D24-9268-E5676684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3EDC-2065-4B77-8C41-6EABC49E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1216-C64E-4140-8B9B-FAADEAC0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D473-B888-4B11-874F-FCB8D21E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9576-2E60-4016-9D04-62D557C0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C84C-AC99-4ECF-B089-4E5159F2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37AF-135E-4AE6-9209-29348B34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53DD-CA6F-4BCC-8DBA-EF69234C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B0CD-F10B-469E-BC35-333B4C3D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506-5F9A-445E-ADF0-84843558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66C2-4F6F-48CC-BEDF-73148A30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4B87-F540-4503-AEDA-93C19D5F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734E-DCB4-4FC0-B05A-AC75DCCD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A976-4C73-4799-882F-F4922051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F7A1-4626-4F1D-87C8-5DBF66CD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0827A-EDA3-418B-A9DE-5FD3C407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BBB02-1597-4B21-979D-9ACEE6A8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7427D-B7D0-448F-9639-F9943E67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BB39C-67BB-4CFF-B7D7-0511B9ED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40D52-3E52-4513-AED2-C1D4C6CF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001-C1A2-41C3-9213-622D6605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E070E-F9DE-4C3A-8AC9-EE465321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F8CE9-C32E-4BBA-A510-12B81E40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868D6-CCAB-4C9F-8CF1-86738CE8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D9C47-BE0F-4C28-99C6-160D371D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46E17-A9DE-427B-9059-3D53A820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C0F91-17ED-4C96-B380-81222919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65FEC-81E9-4BDB-88F3-806476F1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1459B-7423-49EA-9C68-75A05D49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56DB3-8B46-4A07-8DDB-273CA019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2DD7D-D105-41ED-A86E-0F513445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20A5-5822-4798-B42D-5E5E4B56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58149-ABD9-48BF-B1E9-C6CA63F1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A2C48-1C3C-4BBC-ADCA-DD0814F8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F19BE-A2F7-40C4-A826-50B69F58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05791-DD5C-4203-BC46-881C5AF4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503A0-9E96-46B6-A59F-DA799702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E3062-8511-4286-9253-86E707BB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792CC-A743-4C23-947D-5E877EEA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0BB21-C7BB-468C-A3E8-0C6DABDD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5B9F0-BB85-47DA-860F-BD85A186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99209-844A-45AA-A795-5736F977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D0C-B39D-4024-9DCF-C2F9FCDF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40640-3C1E-400C-937E-47FEB23D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78EC4-7AD3-4C10-B2EC-ABBEA5C0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24AB1-8858-4FCD-9253-2327F4A3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38AE3-1373-4CD1-830C-C6738B15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CE95E-B3BC-477B-AF1F-20AD632F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4DEC0-B4EE-417C-B147-CE455BBA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FB516-992A-4AF7-B059-61DFB7AD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3F229-732F-4B88-895A-A385E370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3D774-4A20-4ADC-9577-2CBC3665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5A461-8CB1-4C11-AAD3-EC04114F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D89-B443-463F-B25D-0CC82718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4A6D6-D91D-4D15-8AE2-0291A05F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78C76-EF1E-4CFA-9F76-79ECA510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F7189-719E-4967-94F7-3D0AB954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EF8C5-0F2A-486A-A569-A5760019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CD4D7-1641-49BC-90C1-EF13DC03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FF557-B378-4ED1-B6A8-A6096B8B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D1C08-12D0-432E-9F90-A021DECA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A26CB-F353-4F2C-9B23-73326364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8C8F2-EDA9-4268-8068-7DAD3225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5D4F3-F5F4-4774-BD68-E6456682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83B-20D5-4D4B-8762-DFC4D595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AA74B-3F54-4231-837E-763FA2A1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BDB7B-91C5-40F1-AD1E-A299B61C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62AE6-5364-47C9-AC05-F01D46A4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21433-B57D-494D-A04A-096DED3C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A1FE6-3FCD-46DA-81D3-5335BB21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D7F38-FFA8-47CF-8874-566AAB31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47AB4-0270-488A-8B57-840EB54C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E2770-A4C7-4E6E-8872-1A519C8F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A33BB-9454-4145-82F6-2E191CC7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41D78-C266-4E82-AEBA-658B4585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0E5-3678-47BA-9C51-07445246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E35AC-0379-4F1C-A437-4A0B9B0E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A5F5E-B45B-4DA6-A521-A3A36F0F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B5E92-5F1F-407F-ABFF-40647713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0A2F4-B07C-45D6-8503-4E63A6B6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172FF-CA12-4D2A-AB9D-24F39E5F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CACA-932C-4E1E-ADCA-20A21CEB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AEE4-F5CA-4635-A4E1-721D304652C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7D42-AF75-41D4-8929-64900A7753F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F4C5-149A-4A48-9507-94063B49A2C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1E18-9FC2-4677-8208-8C6888627C2C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C1FC-93E1-418B-81C4-C5EEB0ECA27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EDD3-E7F3-47F5-BEC3-983E80B2827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7D9E-DF3D-4F7E-BDA1-75CAB965107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ndara"/>
              </a:rPr>
              <a:t>       </a:t>
            </a:r>
            <a:r>
              <a:rPr b="0" lang="uk-UA" sz="4800" spc="-1" strike="noStrike">
                <a:solidFill>
                  <a:srgbClr val="ffffff"/>
                </a:solidFill>
                <a:latin typeface="Candara"/>
              </a:rPr>
              <a:t>АНТАРКТИДА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521080" cy="1873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2"/>
          <a:stretch/>
        </p:blipFill>
        <p:spPr>
          <a:xfrm>
            <a:off x="282600" y="2133720"/>
            <a:ext cx="86104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191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1" descr="DSC_1661.JPG"/>
          <p:cNvPicPr/>
          <p:nvPr/>
        </p:nvPicPr>
        <p:blipFill>
          <a:blip r:embed="rId1"/>
          <a:srcRect l="0" t="0" r="0" b="-16"/>
          <a:stretch/>
        </p:blipFill>
        <p:spPr>
          <a:xfrm>
            <a:off x="2214720" y="428760"/>
            <a:ext cx="45907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G:\DSC_0781.JPG"/>
          <p:cNvPicPr/>
          <p:nvPr/>
        </p:nvPicPr>
        <p:blipFill>
          <a:blip r:embed="rId1"/>
          <a:srcRect l="0" t="0" r="0" b="-27"/>
          <a:stretch/>
        </p:blipFill>
        <p:spPr>
          <a:xfrm>
            <a:off x="2786040" y="243000"/>
            <a:ext cx="4214880" cy="63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032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2" descr="IMG_6033.JPG"/>
          <p:cNvPicPr/>
          <p:nvPr/>
        </p:nvPicPr>
        <p:blipFill>
          <a:blip r:embed="rId1"/>
          <a:srcRect l="-1385" t="0" r="0" b="-16"/>
          <a:stretch/>
        </p:blipFill>
        <p:spPr>
          <a:xfrm>
            <a:off x="1928880" y="357120"/>
            <a:ext cx="52149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250920" y="37944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Картографічна зупин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1332000" y="1935000"/>
            <a:ext cx="648000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457440" cy="2376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"/>
          <p:cNvPicPr/>
          <p:nvPr/>
        </p:nvPicPr>
        <p:blipFill>
          <a:blip r:embed="rId2"/>
          <a:stretch/>
        </p:blipFill>
        <p:spPr>
          <a:xfrm>
            <a:off x="5796000" y="4221000"/>
            <a:ext cx="2825640" cy="2303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"/>
          <p:cNvPicPr/>
          <p:nvPr/>
        </p:nvPicPr>
        <p:blipFill>
          <a:blip r:embed="rId4"/>
          <a:stretch/>
        </p:blipFill>
        <p:spPr>
          <a:xfrm>
            <a:off x="3562200" y="3362400"/>
            <a:ext cx="2019600" cy="142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"/>
          <p:cNvPicPr/>
          <p:nvPr/>
        </p:nvPicPr>
        <p:blipFill>
          <a:blip r:embed="rId5"/>
          <a:stretch/>
        </p:blipFill>
        <p:spPr>
          <a:xfrm>
            <a:off x="5435640" y="1295280"/>
            <a:ext cx="3457440" cy="249408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Гарного улову!!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5724360" y="368280"/>
            <a:ext cx="3095640" cy="1944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36720" cy="2039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3"/>
          <a:stretch/>
        </p:blipFill>
        <p:spPr>
          <a:xfrm>
            <a:off x="304920" y="2130480"/>
            <a:ext cx="2519280" cy="2232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4"/>
          <a:stretch/>
        </p:blipFill>
        <p:spPr>
          <a:xfrm>
            <a:off x="3654360" y="4113360"/>
            <a:ext cx="3600360" cy="22795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1333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73e87"/>
                </a:solidFill>
                <a:latin typeface="Candara"/>
              </a:rPr>
              <a:t>Айсберг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73e87"/>
                </a:solidFill>
                <a:latin typeface="Candara"/>
              </a:rPr>
              <a:t>Антарктида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73e87"/>
                </a:solidFill>
                <a:latin typeface="Candara"/>
              </a:rPr>
              <a:t>Беллінсгаузен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Перевірте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73e87"/>
                </a:solidFill>
                <a:latin typeface="Candara"/>
              </a:rPr>
              <a:t>А= </a:t>
            </a: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S14+1820+(</a:t>
            </a:r>
            <a:r>
              <a:rPr b="0" lang="uk-UA" sz="2800" spc="-1" strike="noStrike">
                <a:solidFill>
                  <a:srgbClr val="073e87"/>
                </a:solidFill>
                <a:latin typeface="Candara"/>
              </a:rPr>
              <a:t>38---17)+3794+А-90% +80% = МН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РОЗШИФРУЙ ФОРМУЛУ 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33320" y="404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ШКОЛА ЮНИХ ПОЛЯРНИКІВ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28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ndara"/>
              </a:rPr>
              <a:t>ІНТЕНСИВНИЙ КУРС ПІДГОТОВКИ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3708360" y="281160"/>
            <a:ext cx="1189080" cy="1431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6012000" y="2786040"/>
            <a:ext cx="2199960" cy="1428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"/>
          <p:cNvPicPr/>
          <p:nvPr/>
        </p:nvPicPr>
        <p:blipFill>
          <a:blip r:embed="rId3"/>
          <a:stretch/>
        </p:blipFill>
        <p:spPr>
          <a:xfrm>
            <a:off x="5435640" y="4869000"/>
            <a:ext cx="2228760" cy="1428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"/>
          <p:cNvPicPr/>
          <p:nvPr/>
        </p:nvPicPr>
        <p:blipFill>
          <a:blip r:embed="rId4"/>
          <a:stretch/>
        </p:blipFill>
        <p:spPr>
          <a:xfrm>
            <a:off x="250920" y="3500280"/>
            <a:ext cx="48672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968720" cy="3384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6012000" y="2060640"/>
            <a:ext cx="2376360" cy="187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3"/>
          <a:stretch/>
        </p:blipFill>
        <p:spPr>
          <a:xfrm>
            <a:off x="6227640" y="4245120"/>
            <a:ext cx="2293920" cy="2376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"/>
          <p:cNvPicPr/>
          <p:nvPr/>
        </p:nvPicPr>
        <p:blipFill>
          <a:blip r:embed="rId4"/>
          <a:stretch/>
        </p:blipFill>
        <p:spPr>
          <a:xfrm>
            <a:off x="1638360" y="4797360"/>
            <a:ext cx="2519280" cy="1727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"/>
          <p:cNvPicPr/>
          <p:nvPr/>
        </p:nvPicPr>
        <p:blipFill>
          <a:blip r:embed="rId5"/>
          <a:stretch/>
        </p:blipFill>
        <p:spPr>
          <a:xfrm>
            <a:off x="250920" y="4437000"/>
            <a:ext cx="1390680" cy="142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6"/>
          <a:stretch/>
        </p:blipFill>
        <p:spPr>
          <a:xfrm>
            <a:off x="4157640" y="4797360"/>
            <a:ext cx="21718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***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655640" cy="2590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2665440" cy="4896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3"/>
          <a:stretch/>
        </p:blipFill>
        <p:spPr>
          <a:xfrm>
            <a:off x="6300720" y="3284640"/>
            <a:ext cx="2449440" cy="2808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"/>
          <p:cNvPicPr/>
          <p:nvPr/>
        </p:nvPicPr>
        <p:blipFill>
          <a:blip r:embed="rId4"/>
          <a:stretch/>
        </p:blipFill>
        <p:spPr>
          <a:xfrm>
            <a:off x="3492360" y="2637000"/>
            <a:ext cx="24386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Логічний ланцюжо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265800" cy="27367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>
            <a:off x="1332000" y="4808520"/>
            <a:ext cx="63356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871560" y="1916280"/>
            <a:ext cx="7408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…</a:t>
            </a: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. та їсти морозиво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ndara"/>
              </a:rPr>
              <a:t>Щоб бути полярником необхідно активно готуватись…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1944720" cy="32814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3203640" y="3089160"/>
            <a:ext cx="2160360" cy="2808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3"/>
          <a:stretch/>
        </p:blipFill>
        <p:spPr>
          <a:xfrm>
            <a:off x="5867280" y="2854440"/>
            <a:ext cx="20894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У  -  УМІНН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С  - СПІВРОБІТНИЦТВО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П  - ПАРТНЕРСТВО, ПОДОЛАННЯ </a:t>
            </a: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ТРУДНОЩІВ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І  - ІНІЦІАТИВА, ІДЕ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Х  - ХОРОШИЙ НАСТРІЙ, ХАРИЗМ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ndara"/>
              </a:rPr>
              <a:t>ВіТАЮ! Ви  успішно закінчили курс </a:t>
            </a:r>
            <a:br>
              <a:rPr sz="4000"/>
            </a:br>
            <a:r>
              <a:rPr b="0" lang="uk-UA" sz="4000" spc="-1" strike="noStrike">
                <a:solidFill>
                  <a:srgbClr val="ffffff"/>
                </a:solidFill>
                <a:latin typeface="Candara"/>
              </a:rPr>
              <a:t>інтенсивної підготовки полярників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5940360" y="1700280"/>
            <a:ext cx="27370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871560" y="2349000"/>
            <a:ext cx="7408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Випереджальне завдання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: </a:t>
            </a: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Рекорди Південної Америки ( 1 варіант)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Творче завдання: “1 день в Антарктиді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Запропонуйте своє бачення проведення вільного часу людьми, що вибрали таку нелегку, але потрібну Україні професію ( 2 варіант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Домашнє завданн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395280" y="1281240"/>
            <a:ext cx="20844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Королева, холоду, королева льод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Тут неважко визначить щоденну погод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Половина року день, половина ночі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Хто тут побував, бути ще охочий!!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Антарктид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6732720" y="4653000"/>
            <a:ext cx="1942920" cy="2008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6764400" y="3141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"/>
          <p:cNvPicPr/>
          <p:nvPr/>
        </p:nvPicPr>
        <p:blipFill>
          <a:blip r:embed="rId3"/>
          <a:stretch/>
        </p:blipFill>
        <p:spPr>
          <a:xfrm>
            <a:off x="676440" y="1268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4"/>
          <a:stretch/>
        </p:blipFill>
        <p:spPr>
          <a:xfrm>
            <a:off x="6764400" y="31766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1360440" y="2990880"/>
            <a:ext cx="4772160" cy="3313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"/>
          <p:cNvPicPr/>
          <p:nvPr/>
        </p:nvPicPr>
        <p:blipFill>
          <a:blip r:embed="rId2"/>
          <a:stretch/>
        </p:blipFill>
        <p:spPr>
          <a:xfrm>
            <a:off x="2771640" y="380880"/>
            <a:ext cx="2376720" cy="223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"/>
          <p:cNvPicPr/>
          <p:nvPr/>
        </p:nvPicPr>
        <p:blipFill>
          <a:blip r:embed="rId3"/>
          <a:stretch/>
        </p:blipFill>
        <p:spPr>
          <a:xfrm>
            <a:off x="7380360" y="400536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"/>
          <p:cNvPicPr/>
          <p:nvPr/>
        </p:nvPicPr>
        <p:blipFill>
          <a:blip r:embed="rId4"/>
          <a:stretch/>
        </p:blipFill>
        <p:spPr>
          <a:xfrm>
            <a:off x="468360" y="907920"/>
            <a:ext cx="142704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5832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1" descr="d57ol4ABYMU.jpg"/>
          <p:cNvPicPr/>
          <p:nvPr/>
        </p:nvPicPr>
        <p:blipFill>
          <a:blip r:embed="rId1"/>
          <a:stretch/>
        </p:blipFill>
        <p:spPr>
          <a:xfrm>
            <a:off x="2286000" y="285840"/>
            <a:ext cx="47149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857160" y="1857240"/>
            <a:ext cx="3502080" cy="3002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65520" y="1916280"/>
            <a:ext cx="2221200" cy="2776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6458040" y="1916280"/>
            <a:ext cx="23619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G:\DSC_0993.JPG"/>
          <p:cNvPicPr/>
          <p:nvPr/>
        </p:nvPicPr>
        <p:blipFill>
          <a:blip r:embed="rId1"/>
          <a:stretch/>
        </p:blipFill>
        <p:spPr>
          <a:xfrm>
            <a:off x="1971720" y="571680"/>
            <a:ext cx="432900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1" descr="i007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4:13:08Z</dcterms:created>
  <dc:creator>Admin</dc:creator>
  <dc:description/>
  <dc:language>en-US</dc:language>
  <cp:lastModifiedBy>Admin</cp:lastModifiedBy>
  <dcterms:modified xsi:type="dcterms:W3CDTF">2013-02-28T06:51:34Z</dcterms:modified>
  <cp:revision>51</cp:revision>
  <dc:subject/>
  <dc:title>АНТАРКТИ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1d000000000001024140</vt:lpwstr>
  </property>
</Properties>
</file>