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5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1.png" ContentType="image/png"/>
  <Override PartName="/ppt/media/image54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FA7A-2CE4-482C-A83C-22AD4A66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F5A4-CCD9-4111-8989-D4990F18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86B-31BA-40F1-9CC4-F9F5F942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4C8-10C0-464D-8792-8C8C9F1A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1E1C-48F2-4D62-A031-97DD5286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092D-24F1-49AF-9693-28D10C07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16E6-549C-490F-A749-34F4D86C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7944-5F93-4654-9EC4-BE33F548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69F3-D0B6-4EC8-99EF-1B316C39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16F9-6C0F-4711-9BB1-66969095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0FEB-C8AB-41EC-AC8E-AC4E3B38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1F7-CECC-4366-BF6A-797ABDBA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7C4A-0109-40D5-8299-B01B10C3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E51E-8518-4C00-9BD0-F292EC32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A584-D210-484E-BDD3-B4141988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CD8F-6232-4CF9-B6CB-C48B583D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C59F-5818-4779-94EC-4DD1CE2F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489A8-7602-4CB3-8756-44E70182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20531-9536-4BFE-9A40-BC20B823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52AE-BD90-4B30-9CE2-0329439B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3D74C-6CB0-44CD-912B-F4382019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46B6-9A11-4F48-82FD-627A1152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7D1-08FE-40E0-9593-110B4311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770DD-52C3-49E2-BA5F-B9EA2D2A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8BB5-9540-4DFA-9D04-8A97AF5F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3A6DF-4F75-4E63-BEC1-7B1137C6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21E7F-093B-4B17-9433-78155982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E49B7-4726-40CA-9978-28E3BF43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8945A-6E2B-4746-A4B6-1624A837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BC39-8A3B-491B-90AB-EFED54BC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9FBE4-AB14-43CD-9CE7-7D748322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54710-15D2-4C70-85D8-65D899AA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D74A0-8482-4C26-8922-D3F88B57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F9F-D833-4B49-9F06-63E9E15C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9080E-ADD7-4B8E-B124-A70B8AEC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2A03D-45C7-46AB-B53B-7800956E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87558-ABF9-49B2-8F14-88594C5B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B4D2-AE8F-4870-9FA4-FBAE46B3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66B9D-688C-4EF2-B2D0-97ED2631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3036D-F148-4CAA-AE35-7A3A770E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AD145-EDCC-4C75-85E7-79E6468B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8D387-95DD-4539-AF29-5B7C90A0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83238-CDA1-4A82-A436-BC602FB7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4D21D-47F5-40EE-8156-B5B0E407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616-60AF-460F-9BAC-6D5C9F34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31AFA-28ED-48FB-A0BF-A0A8D640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EF9F2-8D0A-4E3D-8247-0EB2FBA1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EB24B-07E4-4662-A2BA-FA5004AB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78308-2B1F-4F14-BF40-14BED400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BD13B-F2F8-4938-94BC-4881AD77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20FC1-836B-4E0D-AAB2-BEF230DE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80B81-AC8A-4C02-8C4E-B1EB53AF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41030-A0DA-48F3-BE06-74B004D8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92DC9-7AB8-4EC0-A1A5-407D0A48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B26AC-0FF4-41C5-8DCA-8C9D8BAE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862-E896-40F3-8B52-F29B9935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79404-CAB5-4C07-81BC-A742D0EF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7D328-F8F6-44FE-9ED8-2C3D1130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5C6A2-F8CD-416B-90A1-1EAFD830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EDE55-A828-411C-B741-3C1E54F4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F5EE5-33F5-42EB-AB58-FED6F760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96275-DAB6-4BEB-9979-47777F97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448E9-4853-4B75-896A-B73FA8B0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FFD02-2B29-45EC-92A9-19CDBA6B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6BBCD-CCFA-4888-9CE8-6FB383AA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F42DC-62BA-488B-B9DE-FBBEE5F7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242-D7A5-47B9-A603-8B9D1092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6B344-6FAC-4B07-93D1-40A5D074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7F644-2B45-4E6A-AB72-D731A8A0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F4876-85D1-405B-BD19-4B95CF42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E0B0B-3EFE-4610-B59B-10743D92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01EB0-57B5-4666-BD96-B403AEBB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2E057-99DB-4586-A833-D08EB530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3F72A-FEBD-4085-95A0-D025D9F3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08007-C1E8-4F17-BDA9-B819A4AB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132B0-E209-4953-ABAA-AFCB0424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20731-6CC8-4ABA-8770-3DA44AA4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7A2-5704-4BF4-9659-2D4BF93A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CF687-2336-4709-9919-3F0EA5E0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68C6F-12BD-480D-9251-33E32186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E8235-8547-46F3-8BAA-1E9C6D7C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AE9DA-77D4-46FC-A158-A04D240A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652C6-7976-49AA-8E5B-3C9F1B7D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1FA-79C5-4C0E-B7CF-B1F722D0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1E41-865C-4CCA-8C53-A6B14B33E65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ACCA-F98F-4D9C-8F7D-0A70C47BC31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7FBD-BBEA-414F-B4F2-019A201B294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A21C-8932-4207-AD57-1F8233003F9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6070-3574-461F-B0EF-D9F887E4E60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09A1-AE20-4283-8F85-2425FC9031A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3960-7821-4D05-96C0-D36711E9A6E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ndara"/>
              </a:rPr>
              <a:t>       </a:t>
            </a:r>
            <a:r>
              <a:rPr b="0" lang="uk-UA" sz="4800" spc="-1" strike="noStrike">
                <a:solidFill>
                  <a:srgbClr val="ffffff"/>
                </a:solidFill>
                <a:latin typeface="Candara"/>
              </a:rPr>
              <a:t>АНТАРКТИДА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521080" cy="1873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2"/>
          <a:stretch/>
        </p:blipFill>
        <p:spPr>
          <a:xfrm>
            <a:off x="282600" y="2133720"/>
            <a:ext cx="86104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9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1" descr="DSC_1661.JPG"/>
          <p:cNvPicPr/>
          <p:nvPr/>
        </p:nvPicPr>
        <p:blipFill>
          <a:blip r:embed="rId1"/>
          <a:srcRect l="0" t="0" r="0" b="-16"/>
          <a:stretch/>
        </p:blipFill>
        <p:spPr>
          <a:xfrm>
            <a:off x="2214720" y="428760"/>
            <a:ext cx="45907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G:\DSC_0781.JPG"/>
          <p:cNvPicPr/>
          <p:nvPr/>
        </p:nvPicPr>
        <p:blipFill>
          <a:blip r:embed="rId1"/>
          <a:srcRect l="0" t="0" r="0" b="-27"/>
          <a:stretch/>
        </p:blipFill>
        <p:spPr>
          <a:xfrm>
            <a:off x="2786040" y="243000"/>
            <a:ext cx="4214880" cy="63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032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2" descr="IMG_6033.JPG"/>
          <p:cNvPicPr/>
          <p:nvPr/>
        </p:nvPicPr>
        <p:blipFill>
          <a:blip r:embed="rId1"/>
          <a:srcRect l="-1385" t="0" r="0" b="-16"/>
          <a:stretch/>
        </p:blipFill>
        <p:spPr>
          <a:xfrm>
            <a:off x="1928880" y="357120"/>
            <a:ext cx="5214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250920" y="37944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Картографічна зупин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332000" y="1935000"/>
            <a:ext cx="648000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457440" cy="2376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2"/>
          <a:stretch/>
        </p:blipFill>
        <p:spPr>
          <a:xfrm>
            <a:off x="5796000" y="4221000"/>
            <a:ext cx="2825640" cy="2303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4"/>
          <a:stretch/>
        </p:blipFill>
        <p:spPr>
          <a:xfrm>
            <a:off x="3562200" y="3362400"/>
            <a:ext cx="2019600" cy="142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5"/>
          <a:stretch/>
        </p:blipFill>
        <p:spPr>
          <a:xfrm>
            <a:off x="5435640" y="1295280"/>
            <a:ext cx="3457440" cy="24940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Гарного улову!!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5724360" y="368280"/>
            <a:ext cx="3095640" cy="1944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36720" cy="2039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3"/>
          <a:stretch/>
        </p:blipFill>
        <p:spPr>
          <a:xfrm>
            <a:off x="304920" y="2130480"/>
            <a:ext cx="2519280" cy="223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4"/>
          <a:stretch/>
        </p:blipFill>
        <p:spPr>
          <a:xfrm>
            <a:off x="3654360" y="4113360"/>
            <a:ext cx="3600360" cy="22795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333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73e87"/>
                </a:solidFill>
                <a:latin typeface="Candara"/>
              </a:rPr>
              <a:t>Айсберг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73e87"/>
                </a:solidFill>
                <a:latin typeface="Candara"/>
              </a:rPr>
              <a:t>Антарктида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73e87"/>
                </a:solidFill>
                <a:latin typeface="Candara"/>
              </a:rPr>
              <a:t>Беллінсгаузен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Перевірте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73e87"/>
                </a:solidFill>
                <a:latin typeface="Candara"/>
              </a:rPr>
              <a:t>А= </a:t>
            </a: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S14+1820+(</a:t>
            </a:r>
            <a:r>
              <a:rPr b="0" lang="uk-UA" sz="2800" spc="-1" strike="noStrike">
                <a:solidFill>
                  <a:srgbClr val="073e87"/>
                </a:solidFill>
                <a:latin typeface="Candara"/>
              </a:rPr>
              <a:t>38---17)+3794+А-90% +80% = МН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РОЗШИФРУЙ ФОРМУЛУ 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3320" y="404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ШКОЛА ЮНИХ ПОЛЯРНИКІ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ndara"/>
              </a:rPr>
              <a:t>ІНТЕНСИВНИЙ КУРС ПІДГОТОВК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3708360" y="281160"/>
            <a:ext cx="1189080" cy="1431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6012000" y="2786040"/>
            <a:ext cx="2199960" cy="1428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3"/>
          <a:stretch/>
        </p:blipFill>
        <p:spPr>
          <a:xfrm>
            <a:off x="5435640" y="4869000"/>
            <a:ext cx="2228760" cy="1428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4"/>
          <a:stretch/>
        </p:blipFill>
        <p:spPr>
          <a:xfrm>
            <a:off x="250920" y="3500280"/>
            <a:ext cx="48672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968720" cy="3384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376360" cy="187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6227640" y="4245120"/>
            <a:ext cx="2293920" cy="2376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"/>
          <p:cNvPicPr/>
          <p:nvPr/>
        </p:nvPicPr>
        <p:blipFill>
          <a:blip r:embed="rId4"/>
          <a:stretch/>
        </p:blipFill>
        <p:spPr>
          <a:xfrm>
            <a:off x="1638360" y="4797360"/>
            <a:ext cx="2519280" cy="1727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"/>
          <p:cNvPicPr/>
          <p:nvPr/>
        </p:nvPicPr>
        <p:blipFill>
          <a:blip r:embed="rId5"/>
          <a:stretch/>
        </p:blipFill>
        <p:spPr>
          <a:xfrm>
            <a:off x="250920" y="4437000"/>
            <a:ext cx="1390680" cy="142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6"/>
          <a:stretch/>
        </p:blipFill>
        <p:spPr>
          <a:xfrm>
            <a:off x="4157640" y="4797360"/>
            <a:ext cx="21718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***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655640" cy="2590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665440" cy="4896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3"/>
          <a:stretch/>
        </p:blipFill>
        <p:spPr>
          <a:xfrm>
            <a:off x="6300720" y="3284640"/>
            <a:ext cx="2449440" cy="2808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"/>
          <p:cNvPicPr/>
          <p:nvPr/>
        </p:nvPicPr>
        <p:blipFill>
          <a:blip r:embed="rId4"/>
          <a:stretch/>
        </p:blipFill>
        <p:spPr>
          <a:xfrm>
            <a:off x="3492360" y="2637000"/>
            <a:ext cx="2438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Логічний ланцюжо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265800" cy="2736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1332000" y="4808520"/>
            <a:ext cx="63356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871560" y="1916280"/>
            <a:ext cx="7408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…</a:t>
            </a: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. та їсти морозиво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ndara"/>
              </a:rPr>
              <a:t>Щоб бути полярником необхідно активно готуватись…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1944720" cy="32814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3203640" y="3089160"/>
            <a:ext cx="2160360" cy="2808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5867280" y="2854440"/>
            <a:ext cx="2089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У  -  УМІНН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С  - СПІВРОБІТНИЦТВО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П  - ПАРТНЕРСТВО, ПОДОЛАННЯ </a:t>
            </a: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ТРУДНОЩІВ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І  - ІНІЦІАТИВА, ІДЕ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Х  - ХОРОШИЙ НАСТРІЙ, ХАРИЗМ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ndara"/>
              </a:rPr>
              <a:t>ВіТАЮ! Ви  успішно закінчили курс </a:t>
            </a: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Candara"/>
              </a:rPr>
              <a:t>інтенсивної підготовки полярників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5940360" y="1700280"/>
            <a:ext cx="27370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871560" y="2349000"/>
            <a:ext cx="7408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Випереджальне завдання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: </a:t>
            </a: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Рекорди Південної Америки ( 1 варіант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Творче завдання: “1 день в Антарктиді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Запропонуйте своє бачення проведення вільного часу людьми, що вибрали таку нелегку, але потрібну Україні професію ( 2 варіант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395280" y="1281240"/>
            <a:ext cx="20844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Королева, холоду, королева льод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Тут неважко визначить щоденну погод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Половина року день, половина ночі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Хто тут побував, бути ще охочий!!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Антарктид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6732720" y="4653000"/>
            <a:ext cx="1942920" cy="2008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764400" y="3141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"/>
          <p:cNvPicPr/>
          <p:nvPr/>
        </p:nvPicPr>
        <p:blipFill>
          <a:blip r:embed="rId3"/>
          <a:stretch/>
        </p:blipFill>
        <p:spPr>
          <a:xfrm>
            <a:off x="676440" y="1268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4"/>
          <a:stretch/>
        </p:blipFill>
        <p:spPr>
          <a:xfrm>
            <a:off x="6764400" y="3176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360440" y="2990880"/>
            <a:ext cx="4772160" cy="3313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"/>
          <p:cNvPicPr/>
          <p:nvPr/>
        </p:nvPicPr>
        <p:blipFill>
          <a:blip r:embed="rId2"/>
          <a:stretch/>
        </p:blipFill>
        <p:spPr>
          <a:xfrm>
            <a:off x="2771640" y="380880"/>
            <a:ext cx="2376720" cy="223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3"/>
          <a:stretch/>
        </p:blipFill>
        <p:spPr>
          <a:xfrm>
            <a:off x="7380360" y="40053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"/>
          <p:cNvPicPr/>
          <p:nvPr/>
        </p:nvPicPr>
        <p:blipFill>
          <a:blip r:embed="rId4"/>
          <a:stretch/>
        </p:blipFill>
        <p:spPr>
          <a:xfrm>
            <a:off x="468360" y="907920"/>
            <a:ext cx="14270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83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d57ol4ABYMU.jpg"/>
          <p:cNvPicPr/>
          <p:nvPr/>
        </p:nvPicPr>
        <p:blipFill>
          <a:blip r:embed="rId1"/>
          <a:stretch/>
        </p:blipFill>
        <p:spPr>
          <a:xfrm>
            <a:off x="2286000" y="285840"/>
            <a:ext cx="47149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3502080" cy="3002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65520" y="1916280"/>
            <a:ext cx="2221200" cy="2776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6458040" y="1916280"/>
            <a:ext cx="23619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G:\DSC_0993.JPG"/>
          <p:cNvPicPr/>
          <p:nvPr/>
        </p:nvPicPr>
        <p:blipFill>
          <a:blip r:embed="rId1"/>
          <a:stretch/>
        </p:blipFill>
        <p:spPr>
          <a:xfrm>
            <a:off x="1971720" y="571680"/>
            <a:ext cx="43290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1" descr="i007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4:13:08Z</dcterms:created>
  <dc:creator>Admin</dc:creator>
  <dc:description/>
  <dc:language>en-US</dc:language>
  <cp:lastModifiedBy>Admin</cp:lastModifiedBy>
  <dcterms:modified xsi:type="dcterms:W3CDTF">2013-02-28T06:51:34Z</dcterms:modified>
  <cp:revision>51</cp:revision>
  <dc:subject/>
  <dc:title>АНТАРКТИ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1d000000000001024140</vt:lpwstr>
  </property>
</Properties>
</file>