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45.jpeg" ContentType="image/jpeg"/>
  <Override PartName="/ppt/media/image44.jpeg" ContentType="image/jpeg"/>
  <Override PartName="/ppt/media/%D0%A3%D1%84%D0%BE.wav" ContentType="audio/x-wav"/>
  <Override PartName="/ppt/media/SOFTCORK.WAV" ContentType="audio/x-wav"/>
  <Override PartName="/ppt/media/image4.jpeg" ContentType="image/jpeg"/>
  <Override PartName="/ppt/media/%D0%A1%D0%B2%D0%B8%D1%81%D1%82+%D0%97%D0%B2%D0%BE%D0%BD.wav" ContentType="audio/x-wav"/>
  <Override PartName="/ppt/media/image46.jpeg" ContentType="image/jpeg"/>
  <Override PartName="/ppt/media/arrow.wav" ContentType="audio/x-wav"/>
  <Override PartName="/ppt/media/%D0%90%D1%80%D1%84%D0%B0.wav" ContentType="audio/x-wav"/>
  <Override PartName="/ppt/media/image42.png" ContentType="image/png"/>
  <Override PartName="/ppt/media/image43.jpeg" ContentType="image/jpeg"/>
  <Override PartName="/ppt/media/SIZZLING.WAV" ContentType="audio/x-wav"/>
  <Override PartName="/ppt/media/image35.png" ContentType="image/png"/>
  <Override PartName="/ppt/media/image37.png" ContentType="image/png"/>
  <Override PartName="/ppt/media/image34.jpeg" ContentType="image/jpeg"/>
  <Override PartName="/ppt/media/SPACEGUN.WAV" ContentType="audio/x-wav"/>
  <Override PartName="/ppt/media/image33.jpeg" ContentType="image/jpeg"/>
  <Override PartName="/ppt/media/image32.jpeg" ContentType="image/jpeg"/>
  <Override PartName="/ppt/media/%D0%BA%D0%BE%D0%BB%D0%BE%D0%BA%D0%BE%D0%BB%D1%8C%D1%87%D0%B8%D0%BA%D0%B82.wav" ContentType="audio/x-wav"/>
  <Override PartName="/ppt/media/image1.jpeg" ContentType="image/jpeg"/>
  <Override PartName="/ppt/media/DICE_IN_.WAV" ContentType="audio/x-wav"/>
  <Override PartName="/ppt/media/image22.jpeg" ContentType="image/jpeg"/>
  <Override PartName="/ppt/media/image41.jpeg" ContentType="image/jpeg"/>
  <Override PartName="/ppt/media/image14.jpeg" ContentType="image/jpeg"/>
  <Override PartName="/ppt/media/image21.jpeg" ContentType="image/jpeg"/>
  <Override PartName="/ppt/media/image47.jpeg" ContentType="image/jpeg"/>
  <Override PartName="/ppt/media/image48.jpeg" ContentType="image/jpeg"/>
  <Override PartName="/ppt/media/image20.jpeg" ContentType="image/jpeg"/>
  <Override PartName="/ppt/media/image49.jpeg" ContentType="image/jpeg"/>
  <Override PartName="/ppt/media/image50.jpeg" ContentType="image/jpeg"/>
  <Override PartName="/ppt/media/CLICK_BE.WAV" ContentType="audio/x-wav"/>
  <Override PartName="/ppt/media/image51.jpeg" ContentType="image/jpeg"/>
  <Override PartName="/ppt/media/image15.jpeg" ContentType="image/jpeg"/>
  <Override PartName="/ppt/media/image53.jpeg" ContentType="image/jpeg"/>
  <Override PartName="/ppt/media/image52.jpeg" ContentType="image/jpeg"/>
  <Override PartName="/ppt/media/image16.jpeg" ContentType="image/jpeg"/>
  <Override PartName="/ppt/media/image54.jpeg" ContentType="image/jpeg"/>
  <Override PartName="/ppt/media/image60.jpeg" ContentType="image/jpeg"/>
  <Override PartName="/ppt/media/image3.jpeg" ContentType="image/jpeg"/>
  <Override PartName="/ppt/media/image65.jpeg" ContentType="image/jpeg"/>
  <Override PartName="/ppt/media/image39.jpeg" ContentType="image/jpeg"/>
  <Override PartName="/ppt/media/BLEEP6.WAV" ContentType="audio/x-wav"/>
  <Override PartName="/ppt/media/image5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5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57.jpeg" ContentType="image/jpeg"/>
  <Override PartName="/ppt/media/image18.jpeg" ContentType="image/jpeg"/>
  <Override PartName="/ppt/media/image56.jpeg" ContentType="image/jpeg"/>
  <Override PartName="/ppt/media/image17.jpeg" ContentType="image/jpeg"/>
  <Override PartName="/ppt/media/image61.jpeg" ContentType="image/jpeg"/>
  <Override PartName="/ppt/media/image5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5.jpeg" ContentType="image/jpeg"/>
  <Override PartName="/ppt/media/whoosh.wav" ContentType="audio/x-wav"/>
  <Override PartName="/ppt/media/image62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6.png" ContentType="image/pn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%D0%A0%D0%B8%D0%BA%D0%BE%D1%88%D0%B5%D1%824.wav" ContentType="audio/x-wav"/>
  <Override PartName="/ppt/media/image9.jpeg" ContentType="image/jpeg"/>
  <Override PartName="/ppt/media/image30.jpeg" ContentType="image/jpeg"/>
  <Override PartName="/ppt/media/image3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517-112D-46F8-8A9F-1EFE29C9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7E04-0B19-486F-8C2C-BA19CB63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174F-C5B8-4412-ADFD-D2A7B3BE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2DA-CF92-4B72-BAE8-9590749E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408F6-BE3B-453A-BE15-803B8A3B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F8FFA-4793-4271-824A-D5F8F74E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E3815-722A-4C39-92FE-3DBDB139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D73AA-2E64-4B28-ADE7-F5C71E72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17800-4ABB-4A5B-9B7F-49F90C57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18D0D-A6BA-4DC3-A81E-DE821C23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7E5F3-36B0-47C4-8605-8C54F783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9E84-088E-4829-9D65-07FF312A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FD35A-C472-4DC1-A799-DD1B87FB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77D33-2506-47B5-A816-40A0D458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5099F-CC92-48FE-9AA4-B2B0A36E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375B1-DA95-4B57-A82A-5F1A36E7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86440-3949-4EB9-8B0D-0783F9BF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0E3-5153-47D3-B6C6-5B1335BF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BE3-D895-4F66-860A-2CA75761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2D8-0A19-4B3D-BB0D-B94F0C35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FE5-8372-4066-9FD8-C24795A5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09F1-3E4B-496B-BD83-093B2BB0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90D-BC33-46AC-8766-46CA1739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010-8F7F-4FB8-86A0-214A6CD8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FA5A-D1D8-463C-AD2B-396CE0A4953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E3E2-C522-4BB1-943A-5761347247C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30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hyperlink" Target="file:///tmp/home/.config/libreoffice/4/user/gallery/photo.wav" TargetMode="External"/><Relationship Id="rId8" Type="http://schemas.openxmlformats.org/officeDocument/2006/relationships/audio" Target="../media/&#1056;&#1080;&#1082;&#1086;&#1096;&#1077;&#1090;4.wav"/><Relationship Id="rId9" Type="http://schemas.openxmlformats.org/officeDocument/2006/relationships/audio" Target="../media/&#1056;&#1080;&#1082;&#1086;&#1096;&#1077;&#1090;4.wav"/><Relationship Id="rId10" Type="http://schemas.openxmlformats.org/officeDocument/2006/relationships/audio" Target="../media/&#1082;&#1086;&#1083;&#1086;&#1082;&#1086;&#1083;&#1100;&#1095;&#1080;&#1082;&#1080;2.wav"/><Relationship Id="rId11" Type="http://schemas.openxmlformats.org/officeDocument/2006/relationships/audio" Target="../media/SOFTCORK.WAV"/><Relationship Id="rId12" Type="http://schemas.openxmlformats.org/officeDocument/2006/relationships/audio" Target="../media/&#1082;&#1086;&#1083;&#1086;&#1082;&#1086;&#1083;&#1100;&#1095;&#1080;&#1082;&#1080;2.wav"/><Relationship Id="rId13" Type="http://schemas.openxmlformats.org/officeDocument/2006/relationships/audio" Target="../media/BLEEP6.WAV"/><Relationship Id="rId14" Type="http://schemas.openxmlformats.org/officeDocument/2006/relationships/audio" Target="../media/CLICK_BE.WAV"/><Relationship Id="rId15" Type="http://schemas.openxmlformats.org/officeDocument/2006/relationships/audio" Target="../media/SOFTCORK.WAV"/><Relationship Id="rId16" Type="http://schemas.openxmlformats.org/officeDocument/2006/relationships/audio" Target="../media/SPACEGUN.WAV"/><Relationship Id="rId17" Type="http://schemas.openxmlformats.org/officeDocument/2006/relationships/audio" Target="../media/&#1056;&#1080;&#1082;&#1086;&#1096;&#1077;&#1090;4.wav"/><Relationship Id="rId18" Type="http://schemas.openxmlformats.org/officeDocument/2006/relationships/audio" Target="../media/&#1056;&#1080;&#1082;&#1086;&#1096;&#1077;&#1090;4.wav"/><Relationship Id="rId19" Type="http://schemas.openxmlformats.org/officeDocument/2006/relationships/audio" Target="../media/SOFTCORK.WAV"/><Relationship Id="rId20" Type="http://schemas.openxmlformats.org/officeDocument/2006/relationships/audio" Target="../media/SOFTCORK.WAV"/><Relationship Id="rId21" Type="http://schemas.openxmlformats.org/officeDocument/2006/relationships/audio" Target="../media/SIZZLING.WAV"/><Relationship Id="rId22" Type="http://schemas.openxmlformats.org/officeDocument/2006/relationships/audio" Target="../media/DICE_IN_.WAV"/><Relationship Id="rId23" Type="http://schemas.openxmlformats.org/officeDocument/2006/relationships/audio" Target="../media/SPACEGUN.WAV"/><Relationship Id="rId24" Type="http://schemas.openxmlformats.org/officeDocument/2006/relationships/audio" Target="../media/SOFTCORK.WAV"/><Relationship Id="rId25" Type="http://schemas.openxmlformats.org/officeDocument/2006/relationships/audio" Target="../media/BLEEP6.WAV"/><Relationship Id="rId2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audio" Target="../media/&#1040;&#1088;&#1092;&#1072;.wav"/><Relationship Id="rId6" Type="http://schemas.openxmlformats.org/officeDocument/2006/relationships/audio" Target="../media/arrow.wav"/><Relationship Id="rId7" Type="http://schemas.openxmlformats.org/officeDocument/2006/relationships/audio" Target="../media/&#1057;&#1074;&#1080;&#1089;&#1090;+&#1047;&#1074;&#1086;&#1085;.wav"/><Relationship Id="rId8" Type="http://schemas.openxmlformats.org/officeDocument/2006/relationships/audio" Target="../media/arrow.wav"/><Relationship Id="rId9" Type="http://schemas.openxmlformats.org/officeDocument/2006/relationships/audio" Target="../media/&#1059;&#1092;&#1086;.wav"/><Relationship Id="rId10" Type="http://schemas.openxmlformats.org/officeDocument/2006/relationships/audio" Target="../media/&#1057;&#1074;&#1080;&#1089;&#1090;+&#1047;&#1074;&#1086;&#1085;.wav"/><Relationship Id="rId11" Type="http://schemas.openxmlformats.org/officeDocument/2006/relationships/audio" Target="../media/arrow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image" Target="../media/image54.jpeg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1.jpeg"/><Relationship Id="rId8" Type="http://schemas.openxmlformats.org/officeDocument/2006/relationships/image" Target="../media/image62.jpeg"/><Relationship Id="rId9" Type="http://schemas.openxmlformats.org/officeDocument/2006/relationships/image" Target="../media/image63.jpeg"/><Relationship Id="rId10" Type="http://schemas.openxmlformats.org/officeDocument/2006/relationships/image" Target="../media/image64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3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Ти на Земл</a:t>
            </a: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і живеш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Тож пізнавай її !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Ти, як Колумб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Відкривай щодня нову країну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Материк чи річку край сел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3079800"/>
            <a:ext cx="1908000" cy="1566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>
            <a:lum contrast="18000"/>
          </a:blip>
          <a:srcRect l="0" t="0" r="-14" b="0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>
            <a:lum contrast="6000"/>
          </a:blip>
          <a:srcRect l="0" t="0" r="0" b="71"/>
          <a:stretch/>
        </p:blipFill>
        <p:spPr>
          <a:xfrm>
            <a:off x="430200" y="189000"/>
            <a:ext cx="8713800" cy="6480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e3e3ff"/>
                </a:solidFill>
                <a:uFillTx/>
                <a:latin typeface="Arial"/>
              </a:rPr>
              <a:t>В</a:t>
            </a:r>
            <a:r>
              <a:rPr b="0" i="1" lang="uk-UA" sz="4000" spc="-1" strike="noStrike" u="sng">
                <a:solidFill>
                  <a:srgbClr val="e3e3ff"/>
                </a:solidFill>
                <a:uFillTx/>
                <a:latin typeface="Arial"/>
              </a:rPr>
              <a:t>ІДКРИТТЯ ТА ДОСЛІДЖЕННЯ</a:t>
            </a:r>
            <a:br>
              <a:rPr sz="4000"/>
            </a:br>
            <a:r>
              <a:rPr b="0" i="1" lang="uk-UA" sz="4000" spc="-1" strike="noStrike" u="sng">
                <a:solidFill>
                  <a:srgbClr val="e3e3ff"/>
                </a:solidFill>
                <a:uFillTx/>
                <a:latin typeface="Arial"/>
              </a:rPr>
              <a:t>АВСТРАЛІЇ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1606 р. Вілем Янсон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1642 - 1644 р р. Абель Тасман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1770 р. Джеймс Кук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1797 – 1798 р р. Метью Фліндерс і  Джордж Басс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ТЕМА: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ГЕОГРАФ</a:t>
            </a: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ІЧНЕ ПОЛОЖЕННЯ АВСТРАЛІЇ. ІСТОРІЯ ВІДКРИТТЯ І ДОСЛІДЖЕННЯ. ГЕОЛОГІЧНА БУДОВА, РЕЛЬЄФ. КОРИСНІ КОПАЛИН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ПРАКТИЧНА РОБОТА №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5157720"/>
            <a:ext cx="1990800" cy="1428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564000" y="515772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659640" y="5157720"/>
            <a:ext cx="2181240" cy="1428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372360" y="0"/>
            <a:ext cx="2503440" cy="1341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5" name="Picture 12" descr="C:\Documents and Settings\Admin\Рабочий стол\69508.jpg"/>
          <p:cNvPicPr/>
          <p:nvPr/>
        </p:nvPicPr>
        <p:blipFill>
          <a:blip r:embed="rId1"/>
          <a:stretch/>
        </p:blipFill>
        <p:spPr>
          <a:xfrm>
            <a:off x="3780000" y="836640"/>
            <a:ext cx="4895640" cy="5398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2520720" cy="2808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11280" y="0"/>
            <a:ext cx="2519280" cy="2808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10280" y="2924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ДЖОРДЖ Б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4760" y="623736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АБЕЛЬ ТАСМ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3640" y="623736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ДЖЕЙМС К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8520" y="77760"/>
            <a:ext cx="45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  <a:ea typeface="Arial"/>
              </a:rPr>
              <a:t>ВІДКРИВАЧ</a:t>
            </a:r>
            <a:r>
              <a:rPr b="1" lang="uk-UA" sz="2800" spc="-1" strike="noStrike" u="sng">
                <a:solidFill>
                  <a:srgbClr val="ffffff"/>
                </a:solidFill>
                <a:uFillTx/>
                <a:latin typeface="Tahoma"/>
                <a:ea typeface="Arial"/>
              </a:rPr>
              <a:t>І МАТЕР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497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1" i="1" lang="uk-UA" sz="2800" spc="-1" strike="noStrike">
                <a:solidFill>
                  <a:srgbClr val="e3e3ff"/>
                </a:solidFill>
                <a:latin typeface="Arial"/>
              </a:rPr>
              <a:t>-  РОЗТАШОВАНА У ПД. ШИРОТАХ СХІДНОЇ ПІВКУЛІ.</a:t>
            </a:r>
            <a:br>
              <a:rPr sz="2800"/>
            </a:br>
            <a:r>
              <a:rPr b="1" i="1" lang="uk-UA" sz="2800" spc="-1" strike="noStrike">
                <a:solidFill>
                  <a:srgbClr val="e3e3ff"/>
                </a:solidFill>
                <a:latin typeface="Arial"/>
              </a:rPr>
              <a:t>- ПІВДЕННИЙ ТРОПІК ПЕРЕТЕНАЕ МАЙЖЕ ПОСЕРЕДИНІ.</a:t>
            </a:r>
            <a:br>
              <a:rPr sz="2800"/>
            </a:br>
            <a:r>
              <a:rPr b="1" i="1" lang="uk-UA" sz="2800" spc="-1" strike="noStrike">
                <a:solidFill>
                  <a:srgbClr val="e3e3ff"/>
                </a:solidFill>
                <a:latin typeface="Arial"/>
              </a:rPr>
              <a:t>- ІЗ ЗАХОДУ ОМИВАЄТЬСЯ ІНДІЙСЬКИМ ОКЕАНОМ.</a:t>
            </a:r>
            <a:br>
              <a:rPr sz="2800"/>
            </a:br>
            <a:r>
              <a:rPr b="1" i="1" lang="uk-UA" sz="2800" spc="-1" strike="noStrike">
                <a:solidFill>
                  <a:srgbClr val="e3e3ff"/>
                </a:solidFill>
                <a:latin typeface="Arial"/>
              </a:rPr>
              <a:t>- ІЗ СХОДУ – ТИХИМ.</a:t>
            </a:r>
            <a:br>
              <a:rPr sz="2800"/>
            </a:br>
            <a:r>
              <a:rPr b="1" i="1" lang="uk-UA" sz="2800" spc="-1" strike="noStrike">
                <a:solidFill>
                  <a:srgbClr val="e3e3ff"/>
                </a:solidFill>
                <a:latin typeface="Arial"/>
              </a:rPr>
              <a:t>- БЕРЕГИ РОЗЧЛЕНОВАНІ СЛАБО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3200"/>
            </a:br>
            <a:r>
              <a:rPr b="0" lang="uk-UA" sz="32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280" y="0"/>
            <a:ext cx="822636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808000"/>
                </a:solidFill>
                <a:uFillTx/>
                <a:latin typeface="Arial"/>
              </a:rPr>
              <a:t>Основні риси географічного положення Австралі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рактична робо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5543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796000" y="2276640"/>
            <a:ext cx="2808360" cy="38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2708280"/>
            <a:ext cx="3419640" cy="678600"/>
          </a:xfrm>
          <a:prstGeom prst="rect">
            <a:avLst/>
          </a:prstGeom>
          <a:solidFill>
            <a:srgbClr val="3333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Calisto MT"/>
              </a:rPr>
              <a:t>ПОЯСИ СКЛАДЧАСТОСТІ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8388360" y="6553080"/>
            <a:ext cx="380880" cy="304920"/>
          </a:xfrm>
          <a:custGeom>
            <a:avLst/>
            <a:gdLst>
              <a:gd name="textAreaLeft" fmla="*/ 76320 w 380880"/>
              <a:gd name="textAreaRight" fmla="*/ 30492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1575" y="5400"/>
                </a:lnTo>
                <a:lnTo>
                  <a:pt x="5400" y="5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1575" y="16200"/>
                </a:lnTo>
                <a:lnTo>
                  <a:pt x="21575" y="5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575" y="16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975" h="21600">
                <a:moveTo>
                  <a:pt x="9462" y="10800"/>
                </a:moveTo>
                <a:lnTo>
                  <a:pt x="17512" y="6775"/>
                </a:lnTo>
                <a:lnTo>
                  <a:pt x="17512" y="14825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76320 w 380880"/>
              <a:gd name="textAreaRight" fmla="*/ 30492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1575" y="5400"/>
                </a:lnTo>
                <a:lnTo>
                  <a:pt x="5400" y="5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1575" y="16200"/>
                </a:lnTo>
                <a:lnTo>
                  <a:pt x="21575" y="5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575" y="16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975" h="21600">
                <a:moveTo>
                  <a:pt x="9462" y="6775"/>
                </a:moveTo>
                <a:lnTo>
                  <a:pt x="17512" y="10800"/>
                </a:lnTo>
                <a:lnTo>
                  <a:pt x="9462" y="14825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16080" y="0"/>
            <a:ext cx="88279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e3e3ff"/>
                  </a:outerShdw>
                </a:effectLst>
                <a:latin typeface="Comic Sans MS"/>
              </a:rPr>
              <a:t>Тектонічні структури та рельєф Австралії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e3e3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692280"/>
            <a:ext cx="3492360" cy="678600"/>
          </a:xfrm>
          <a:prstGeom prst="rect">
            <a:avLst/>
          </a:prstGeom>
          <a:solidFill>
            <a:srgbClr val="3333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Calisto MT"/>
              </a:rPr>
              <a:t>АВСТРАЛІЙСЬКА ПЛАТФОРМА</a:t>
            </a:r>
            <a:r>
              <a:rPr b="1" lang="uk-UA" sz="2400" spc="-1" strike="noStrike">
                <a:solidFill>
                  <a:srgbClr val="ff0000"/>
                </a:solidFill>
                <a:latin typeface="Calisto MT"/>
              </a:rPr>
              <a:t> </a:t>
            </a:r>
            <a:r>
              <a:rPr b="0" i="1" lang="uk-UA" sz="2400" spc="-1" strike="noStrike">
                <a:solidFill>
                  <a:srgbClr val="003399"/>
                </a:solidFill>
                <a:latin typeface="Calisto MT"/>
              </a:rPr>
              <a:t>(</a:t>
            </a:r>
            <a:r>
              <a:rPr b="0" i="1" lang="en-US" sz="2400" spc="-1" strike="noStrike">
                <a:solidFill>
                  <a:srgbClr val="003399"/>
                </a:solidFill>
                <a:latin typeface="Calisto MT"/>
              </a:rPr>
              <a:t>AR-P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74" b="-63"/>
          <a:stretch/>
        </p:blipFill>
        <p:spPr>
          <a:xfrm>
            <a:off x="3454560" y="549360"/>
            <a:ext cx="5689440" cy="5959440"/>
          </a:xfrm>
          <a:prstGeom prst="rect">
            <a:avLst/>
          </a:prstGeom>
          <a:ln w="19080">
            <a:solidFill>
              <a:srgbClr val="33cccc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4065480" y="1306440"/>
            <a:ext cx="3919680" cy="3700440"/>
          </a:xfrm>
          <a:custGeom>
            <a:avLst/>
            <a:gdLst/>
            <a:ahLst/>
            <a:rect l="l" t="t" r="r" b="b"/>
            <a:pathLst>
              <a:path w="2469" h="2331">
                <a:moveTo>
                  <a:pt x="2326" y="4"/>
                </a:moveTo>
                <a:cubicBezTo>
                  <a:pt x="2308" y="8"/>
                  <a:pt x="2278" y="49"/>
                  <a:pt x="2266" y="83"/>
                </a:cubicBezTo>
                <a:cubicBezTo>
                  <a:pt x="2254" y="117"/>
                  <a:pt x="2261" y="176"/>
                  <a:pt x="2254" y="206"/>
                </a:cubicBezTo>
                <a:cubicBezTo>
                  <a:pt x="2247" y="236"/>
                  <a:pt x="2233" y="248"/>
                  <a:pt x="2227" y="263"/>
                </a:cubicBezTo>
                <a:cubicBezTo>
                  <a:pt x="2221" y="278"/>
                  <a:pt x="2224" y="272"/>
                  <a:pt x="2220" y="295"/>
                </a:cubicBezTo>
                <a:cubicBezTo>
                  <a:pt x="2216" y="318"/>
                  <a:pt x="2209" y="373"/>
                  <a:pt x="2203" y="400"/>
                </a:cubicBezTo>
                <a:cubicBezTo>
                  <a:pt x="2197" y="427"/>
                  <a:pt x="2188" y="436"/>
                  <a:pt x="2185" y="458"/>
                </a:cubicBezTo>
                <a:cubicBezTo>
                  <a:pt x="2182" y="480"/>
                  <a:pt x="2200" y="506"/>
                  <a:pt x="2185" y="535"/>
                </a:cubicBezTo>
                <a:lnTo>
                  <a:pt x="2095" y="635"/>
                </a:lnTo>
                <a:cubicBezTo>
                  <a:pt x="2073" y="652"/>
                  <a:pt x="2077" y="651"/>
                  <a:pt x="2056" y="635"/>
                </a:cubicBezTo>
                <a:cubicBezTo>
                  <a:pt x="2035" y="619"/>
                  <a:pt x="1995" y="566"/>
                  <a:pt x="1966" y="538"/>
                </a:cubicBezTo>
                <a:cubicBezTo>
                  <a:pt x="1937" y="510"/>
                  <a:pt x="1908" y="497"/>
                  <a:pt x="1882" y="467"/>
                </a:cubicBezTo>
                <a:cubicBezTo>
                  <a:pt x="1856" y="437"/>
                  <a:pt x="1825" y="382"/>
                  <a:pt x="1812" y="356"/>
                </a:cubicBezTo>
                <a:cubicBezTo>
                  <a:pt x="1799" y="330"/>
                  <a:pt x="1807" y="325"/>
                  <a:pt x="1807" y="311"/>
                </a:cubicBezTo>
                <a:cubicBezTo>
                  <a:pt x="1807" y="297"/>
                  <a:pt x="1811" y="280"/>
                  <a:pt x="1813" y="269"/>
                </a:cubicBezTo>
                <a:cubicBezTo>
                  <a:pt x="1815" y="258"/>
                  <a:pt x="1811" y="254"/>
                  <a:pt x="1819" y="244"/>
                </a:cubicBezTo>
                <a:cubicBezTo>
                  <a:pt x="1827" y="234"/>
                  <a:pt x="1848" y="220"/>
                  <a:pt x="1860" y="208"/>
                </a:cubicBezTo>
                <a:cubicBezTo>
                  <a:pt x="1872" y="196"/>
                  <a:pt x="1883" y="186"/>
                  <a:pt x="1891" y="172"/>
                </a:cubicBezTo>
                <a:cubicBezTo>
                  <a:pt x="1899" y="158"/>
                  <a:pt x="1911" y="139"/>
                  <a:pt x="1911" y="125"/>
                </a:cubicBezTo>
                <a:cubicBezTo>
                  <a:pt x="1911" y="111"/>
                  <a:pt x="1914" y="92"/>
                  <a:pt x="1888" y="89"/>
                </a:cubicBezTo>
                <a:cubicBezTo>
                  <a:pt x="1862" y="86"/>
                  <a:pt x="1790" y="110"/>
                  <a:pt x="1752" y="107"/>
                </a:cubicBezTo>
                <a:cubicBezTo>
                  <a:pt x="1714" y="104"/>
                  <a:pt x="1682" y="75"/>
                  <a:pt x="1662" y="68"/>
                </a:cubicBezTo>
                <a:cubicBezTo>
                  <a:pt x="1642" y="61"/>
                  <a:pt x="1639" y="57"/>
                  <a:pt x="1630" y="65"/>
                </a:cubicBezTo>
                <a:cubicBezTo>
                  <a:pt x="1621" y="73"/>
                  <a:pt x="1625" y="107"/>
                  <a:pt x="1611" y="116"/>
                </a:cubicBezTo>
                <a:cubicBezTo>
                  <a:pt x="1597" y="125"/>
                  <a:pt x="1561" y="123"/>
                  <a:pt x="1543" y="119"/>
                </a:cubicBezTo>
                <a:cubicBezTo>
                  <a:pt x="1525" y="115"/>
                  <a:pt x="1523" y="86"/>
                  <a:pt x="1504" y="92"/>
                </a:cubicBezTo>
                <a:cubicBezTo>
                  <a:pt x="1485" y="98"/>
                  <a:pt x="1446" y="128"/>
                  <a:pt x="1426" y="154"/>
                </a:cubicBezTo>
                <a:cubicBezTo>
                  <a:pt x="1406" y="180"/>
                  <a:pt x="1396" y="216"/>
                  <a:pt x="1386" y="251"/>
                </a:cubicBezTo>
                <a:cubicBezTo>
                  <a:pt x="1376" y="286"/>
                  <a:pt x="1382" y="348"/>
                  <a:pt x="1366" y="367"/>
                </a:cubicBezTo>
                <a:cubicBezTo>
                  <a:pt x="1350" y="386"/>
                  <a:pt x="1305" y="373"/>
                  <a:pt x="1291" y="365"/>
                </a:cubicBezTo>
                <a:cubicBezTo>
                  <a:pt x="1277" y="357"/>
                  <a:pt x="1285" y="331"/>
                  <a:pt x="1282" y="316"/>
                </a:cubicBezTo>
                <a:cubicBezTo>
                  <a:pt x="1279" y="301"/>
                  <a:pt x="1274" y="285"/>
                  <a:pt x="1270" y="272"/>
                </a:cubicBezTo>
                <a:cubicBezTo>
                  <a:pt x="1266" y="259"/>
                  <a:pt x="1269" y="248"/>
                  <a:pt x="1258" y="239"/>
                </a:cubicBezTo>
                <a:cubicBezTo>
                  <a:pt x="1247" y="230"/>
                  <a:pt x="1224" y="217"/>
                  <a:pt x="1201" y="217"/>
                </a:cubicBezTo>
                <a:cubicBezTo>
                  <a:pt x="1178" y="217"/>
                  <a:pt x="1142" y="228"/>
                  <a:pt x="1120" y="238"/>
                </a:cubicBezTo>
                <a:cubicBezTo>
                  <a:pt x="1098" y="248"/>
                  <a:pt x="1083" y="259"/>
                  <a:pt x="1068" y="278"/>
                </a:cubicBezTo>
                <a:cubicBezTo>
                  <a:pt x="1053" y="297"/>
                  <a:pt x="1030" y="329"/>
                  <a:pt x="1032" y="350"/>
                </a:cubicBezTo>
                <a:cubicBezTo>
                  <a:pt x="1034" y="371"/>
                  <a:pt x="1082" y="394"/>
                  <a:pt x="1081" y="407"/>
                </a:cubicBezTo>
                <a:cubicBezTo>
                  <a:pt x="1080" y="420"/>
                  <a:pt x="1044" y="429"/>
                  <a:pt x="1026" y="431"/>
                </a:cubicBezTo>
                <a:cubicBezTo>
                  <a:pt x="1008" y="433"/>
                  <a:pt x="984" y="417"/>
                  <a:pt x="970" y="421"/>
                </a:cubicBezTo>
                <a:cubicBezTo>
                  <a:pt x="956" y="425"/>
                  <a:pt x="943" y="444"/>
                  <a:pt x="942" y="457"/>
                </a:cubicBezTo>
                <a:cubicBezTo>
                  <a:pt x="941" y="470"/>
                  <a:pt x="967" y="489"/>
                  <a:pt x="966" y="502"/>
                </a:cubicBezTo>
                <a:cubicBezTo>
                  <a:pt x="965" y="515"/>
                  <a:pt x="941" y="531"/>
                  <a:pt x="934" y="533"/>
                </a:cubicBezTo>
                <a:cubicBezTo>
                  <a:pt x="927" y="535"/>
                  <a:pt x="927" y="524"/>
                  <a:pt x="924" y="517"/>
                </a:cubicBezTo>
                <a:cubicBezTo>
                  <a:pt x="921" y="510"/>
                  <a:pt x="928" y="489"/>
                  <a:pt x="915" y="488"/>
                </a:cubicBezTo>
                <a:cubicBezTo>
                  <a:pt x="902" y="487"/>
                  <a:pt x="869" y="484"/>
                  <a:pt x="846" y="511"/>
                </a:cubicBezTo>
                <a:cubicBezTo>
                  <a:pt x="823" y="538"/>
                  <a:pt x="799" y="613"/>
                  <a:pt x="777" y="650"/>
                </a:cubicBezTo>
                <a:cubicBezTo>
                  <a:pt x="755" y="687"/>
                  <a:pt x="738" y="713"/>
                  <a:pt x="715" y="733"/>
                </a:cubicBezTo>
                <a:cubicBezTo>
                  <a:pt x="692" y="753"/>
                  <a:pt x="683" y="755"/>
                  <a:pt x="639" y="773"/>
                </a:cubicBezTo>
                <a:cubicBezTo>
                  <a:pt x="595" y="791"/>
                  <a:pt x="486" y="837"/>
                  <a:pt x="448" y="842"/>
                </a:cubicBezTo>
                <a:cubicBezTo>
                  <a:pt x="410" y="847"/>
                  <a:pt x="427" y="802"/>
                  <a:pt x="408" y="806"/>
                </a:cubicBezTo>
                <a:cubicBezTo>
                  <a:pt x="389" y="810"/>
                  <a:pt x="362" y="848"/>
                  <a:pt x="336" y="868"/>
                </a:cubicBezTo>
                <a:cubicBezTo>
                  <a:pt x="310" y="888"/>
                  <a:pt x="270" y="909"/>
                  <a:pt x="249" y="926"/>
                </a:cubicBezTo>
                <a:cubicBezTo>
                  <a:pt x="228" y="943"/>
                  <a:pt x="219" y="969"/>
                  <a:pt x="210" y="971"/>
                </a:cubicBezTo>
                <a:cubicBezTo>
                  <a:pt x="201" y="973"/>
                  <a:pt x="201" y="938"/>
                  <a:pt x="196" y="935"/>
                </a:cubicBezTo>
                <a:cubicBezTo>
                  <a:pt x="191" y="932"/>
                  <a:pt x="184" y="935"/>
                  <a:pt x="177" y="950"/>
                </a:cubicBezTo>
                <a:cubicBezTo>
                  <a:pt x="170" y="965"/>
                  <a:pt x="163" y="991"/>
                  <a:pt x="153" y="1024"/>
                </a:cubicBezTo>
                <a:cubicBezTo>
                  <a:pt x="143" y="1057"/>
                  <a:pt x="121" y="1115"/>
                  <a:pt x="114" y="1150"/>
                </a:cubicBezTo>
                <a:cubicBezTo>
                  <a:pt x="107" y="1185"/>
                  <a:pt x="104" y="1203"/>
                  <a:pt x="108" y="1234"/>
                </a:cubicBezTo>
                <a:cubicBezTo>
                  <a:pt x="112" y="1265"/>
                  <a:pt x="143" y="1325"/>
                  <a:pt x="136" y="1337"/>
                </a:cubicBezTo>
                <a:cubicBezTo>
                  <a:pt x="129" y="1349"/>
                  <a:pt x="72" y="1294"/>
                  <a:pt x="63" y="1310"/>
                </a:cubicBezTo>
                <a:cubicBezTo>
                  <a:pt x="54" y="1326"/>
                  <a:pt x="76" y="1389"/>
                  <a:pt x="82" y="1432"/>
                </a:cubicBezTo>
                <a:cubicBezTo>
                  <a:pt x="88" y="1475"/>
                  <a:pt x="96" y="1513"/>
                  <a:pt x="97" y="1567"/>
                </a:cubicBezTo>
                <a:lnTo>
                  <a:pt x="90" y="1756"/>
                </a:lnTo>
                <a:cubicBezTo>
                  <a:pt x="87" y="1813"/>
                  <a:pt x="84" y="1881"/>
                  <a:pt x="81" y="1907"/>
                </a:cubicBezTo>
                <a:cubicBezTo>
                  <a:pt x="78" y="1933"/>
                  <a:pt x="76" y="1896"/>
                  <a:pt x="72" y="1913"/>
                </a:cubicBezTo>
                <a:cubicBezTo>
                  <a:pt x="68" y="1930"/>
                  <a:pt x="62" y="1996"/>
                  <a:pt x="54" y="2012"/>
                </a:cubicBezTo>
                <a:cubicBezTo>
                  <a:pt x="46" y="2028"/>
                  <a:pt x="33" y="1994"/>
                  <a:pt x="25" y="2011"/>
                </a:cubicBezTo>
                <a:cubicBezTo>
                  <a:pt x="17" y="2028"/>
                  <a:pt x="0" y="2087"/>
                  <a:pt x="4" y="2114"/>
                </a:cubicBezTo>
                <a:cubicBezTo>
                  <a:pt x="8" y="2141"/>
                  <a:pt x="32" y="2163"/>
                  <a:pt x="49" y="2176"/>
                </a:cubicBezTo>
                <a:cubicBezTo>
                  <a:pt x="66" y="2189"/>
                  <a:pt x="79" y="2192"/>
                  <a:pt x="103" y="2192"/>
                </a:cubicBezTo>
                <a:cubicBezTo>
                  <a:pt x="127" y="2192"/>
                  <a:pt x="167" y="2190"/>
                  <a:pt x="196" y="2176"/>
                </a:cubicBezTo>
                <a:cubicBezTo>
                  <a:pt x="225" y="2162"/>
                  <a:pt x="247" y="2125"/>
                  <a:pt x="274" y="2108"/>
                </a:cubicBezTo>
                <a:cubicBezTo>
                  <a:pt x="301" y="2091"/>
                  <a:pt x="329" y="2078"/>
                  <a:pt x="355" y="2072"/>
                </a:cubicBezTo>
                <a:cubicBezTo>
                  <a:pt x="381" y="2066"/>
                  <a:pt x="415" y="2071"/>
                  <a:pt x="430" y="2072"/>
                </a:cubicBezTo>
                <a:cubicBezTo>
                  <a:pt x="445" y="2073"/>
                  <a:pt x="426" y="2078"/>
                  <a:pt x="445" y="2081"/>
                </a:cubicBezTo>
                <a:cubicBezTo>
                  <a:pt x="464" y="2084"/>
                  <a:pt x="518" y="2102"/>
                  <a:pt x="546" y="2090"/>
                </a:cubicBezTo>
                <a:cubicBezTo>
                  <a:pt x="574" y="2078"/>
                  <a:pt x="596" y="2024"/>
                  <a:pt x="612" y="2011"/>
                </a:cubicBezTo>
                <a:cubicBezTo>
                  <a:pt x="628" y="1998"/>
                  <a:pt x="627" y="2015"/>
                  <a:pt x="645" y="2011"/>
                </a:cubicBezTo>
                <a:cubicBezTo>
                  <a:pt x="663" y="2007"/>
                  <a:pt x="694" y="1992"/>
                  <a:pt x="720" y="1985"/>
                </a:cubicBezTo>
                <a:cubicBezTo>
                  <a:pt x="746" y="1978"/>
                  <a:pt x="776" y="1970"/>
                  <a:pt x="801" y="1967"/>
                </a:cubicBezTo>
                <a:cubicBezTo>
                  <a:pt x="826" y="1964"/>
                  <a:pt x="849" y="1974"/>
                  <a:pt x="870" y="1969"/>
                </a:cubicBezTo>
                <a:lnTo>
                  <a:pt x="928" y="1937"/>
                </a:lnTo>
                <a:cubicBezTo>
                  <a:pt x="948" y="1929"/>
                  <a:pt x="963" y="1925"/>
                  <a:pt x="987" y="1922"/>
                </a:cubicBezTo>
                <a:cubicBezTo>
                  <a:pt x="1011" y="1919"/>
                  <a:pt x="1047" y="1917"/>
                  <a:pt x="1075" y="1922"/>
                </a:cubicBezTo>
                <a:cubicBezTo>
                  <a:pt x="1103" y="1927"/>
                  <a:pt x="1134" y="1947"/>
                  <a:pt x="1156" y="1955"/>
                </a:cubicBezTo>
                <a:cubicBezTo>
                  <a:pt x="1178" y="1963"/>
                  <a:pt x="1195" y="1961"/>
                  <a:pt x="1210" y="1970"/>
                </a:cubicBezTo>
                <a:cubicBezTo>
                  <a:pt x="1225" y="1979"/>
                  <a:pt x="1238" y="2006"/>
                  <a:pt x="1249" y="2012"/>
                </a:cubicBezTo>
                <a:cubicBezTo>
                  <a:pt x="1260" y="2018"/>
                  <a:pt x="1268" y="2006"/>
                  <a:pt x="1275" y="2009"/>
                </a:cubicBezTo>
                <a:cubicBezTo>
                  <a:pt x="1282" y="2012"/>
                  <a:pt x="1294" y="2016"/>
                  <a:pt x="1294" y="2029"/>
                </a:cubicBezTo>
                <a:cubicBezTo>
                  <a:pt x="1294" y="2042"/>
                  <a:pt x="1272" y="2066"/>
                  <a:pt x="1275" y="2090"/>
                </a:cubicBezTo>
                <a:cubicBezTo>
                  <a:pt x="1278" y="2114"/>
                  <a:pt x="1309" y="2154"/>
                  <a:pt x="1312" y="2171"/>
                </a:cubicBezTo>
                <a:cubicBezTo>
                  <a:pt x="1315" y="2188"/>
                  <a:pt x="1301" y="2189"/>
                  <a:pt x="1293" y="2191"/>
                </a:cubicBezTo>
                <a:cubicBezTo>
                  <a:pt x="1285" y="2193"/>
                  <a:pt x="1272" y="2181"/>
                  <a:pt x="1264" y="2186"/>
                </a:cubicBezTo>
                <a:cubicBezTo>
                  <a:pt x="1256" y="2191"/>
                  <a:pt x="1243" y="2209"/>
                  <a:pt x="1246" y="2219"/>
                </a:cubicBezTo>
                <a:cubicBezTo>
                  <a:pt x="1249" y="2229"/>
                  <a:pt x="1268" y="2240"/>
                  <a:pt x="1281" y="2246"/>
                </a:cubicBezTo>
                <a:cubicBezTo>
                  <a:pt x="1294" y="2252"/>
                  <a:pt x="1314" y="2258"/>
                  <a:pt x="1324" y="2257"/>
                </a:cubicBezTo>
                <a:cubicBezTo>
                  <a:pt x="1334" y="2256"/>
                  <a:pt x="1339" y="2249"/>
                  <a:pt x="1344" y="2237"/>
                </a:cubicBezTo>
                <a:cubicBezTo>
                  <a:pt x="1349" y="2225"/>
                  <a:pt x="1350" y="2195"/>
                  <a:pt x="1357" y="2182"/>
                </a:cubicBezTo>
                <a:cubicBezTo>
                  <a:pt x="1364" y="2169"/>
                  <a:pt x="1378" y="2166"/>
                  <a:pt x="1387" y="2162"/>
                </a:cubicBezTo>
                <a:cubicBezTo>
                  <a:pt x="1396" y="2158"/>
                  <a:pt x="1400" y="2165"/>
                  <a:pt x="1414" y="2158"/>
                </a:cubicBezTo>
                <a:cubicBezTo>
                  <a:pt x="1428" y="2151"/>
                  <a:pt x="1454" y="2139"/>
                  <a:pt x="1473" y="2122"/>
                </a:cubicBezTo>
                <a:cubicBezTo>
                  <a:pt x="1492" y="2105"/>
                  <a:pt x="1524" y="2056"/>
                  <a:pt x="1530" y="2056"/>
                </a:cubicBezTo>
                <a:cubicBezTo>
                  <a:pt x="1536" y="2056"/>
                  <a:pt x="1521" y="2102"/>
                  <a:pt x="1510" y="2122"/>
                </a:cubicBezTo>
                <a:cubicBezTo>
                  <a:pt x="1499" y="2142"/>
                  <a:pt x="1472" y="2157"/>
                  <a:pt x="1461" y="2177"/>
                </a:cubicBezTo>
                <a:cubicBezTo>
                  <a:pt x="1450" y="2197"/>
                  <a:pt x="1454" y="2221"/>
                  <a:pt x="1441" y="2240"/>
                </a:cubicBezTo>
                <a:cubicBezTo>
                  <a:pt x="1428" y="2259"/>
                  <a:pt x="1386" y="2284"/>
                  <a:pt x="1384" y="2294"/>
                </a:cubicBezTo>
                <a:cubicBezTo>
                  <a:pt x="1382" y="2304"/>
                  <a:pt x="1410" y="2310"/>
                  <a:pt x="1429" y="2300"/>
                </a:cubicBezTo>
                <a:cubicBezTo>
                  <a:pt x="1448" y="2290"/>
                  <a:pt x="1489" y="2229"/>
                  <a:pt x="1497" y="2231"/>
                </a:cubicBezTo>
                <a:cubicBezTo>
                  <a:pt x="1505" y="2233"/>
                  <a:pt x="1479" y="2299"/>
                  <a:pt x="1477" y="2315"/>
                </a:cubicBezTo>
                <a:cubicBezTo>
                  <a:pt x="1475" y="2331"/>
                  <a:pt x="1473" y="2330"/>
                  <a:pt x="1485" y="2329"/>
                </a:cubicBezTo>
                <a:cubicBezTo>
                  <a:pt x="1497" y="2328"/>
                  <a:pt x="1531" y="2326"/>
                  <a:pt x="1552" y="2309"/>
                </a:cubicBezTo>
                <a:cubicBezTo>
                  <a:pt x="1573" y="2292"/>
                  <a:pt x="1587" y="2239"/>
                  <a:pt x="1609" y="2227"/>
                </a:cubicBezTo>
                <a:cubicBezTo>
                  <a:pt x="1631" y="2215"/>
                  <a:pt x="1652" y="2243"/>
                  <a:pt x="1687" y="2234"/>
                </a:cubicBezTo>
                <a:cubicBezTo>
                  <a:pt x="1722" y="2225"/>
                  <a:pt x="1785" y="2204"/>
                  <a:pt x="1818" y="2170"/>
                </a:cubicBezTo>
                <a:cubicBezTo>
                  <a:pt x="1851" y="2136"/>
                  <a:pt x="1863" y="2060"/>
                  <a:pt x="1884" y="2029"/>
                </a:cubicBezTo>
                <a:cubicBezTo>
                  <a:pt x="1905" y="1998"/>
                  <a:pt x="1922" y="1996"/>
                  <a:pt x="1944" y="1982"/>
                </a:cubicBezTo>
                <a:cubicBezTo>
                  <a:pt x="1966" y="1968"/>
                  <a:pt x="1942" y="1978"/>
                  <a:pt x="2017" y="1946"/>
                </a:cubicBezTo>
                <a:cubicBezTo>
                  <a:pt x="2092" y="1914"/>
                  <a:pt x="2323" y="1868"/>
                  <a:pt x="2396" y="1789"/>
                </a:cubicBezTo>
                <a:cubicBezTo>
                  <a:pt x="2469" y="1710"/>
                  <a:pt x="2459" y="1607"/>
                  <a:pt x="2453" y="1473"/>
                </a:cubicBezTo>
                <a:cubicBezTo>
                  <a:pt x="2447" y="1339"/>
                  <a:pt x="2380" y="1145"/>
                  <a:pt x="2358" y="983"/>
                </a:cubicBezTo>
                <a:cubicBezTo>
                  <a:pt x="2336" y="821"/>
                  <a:pt x="2318" y="652"/>
                  <a:pt x="2323" y="503"/>
                </a:cubicBezTo>
                <a:cubicBezTo>
                  <a:pt x="2328" y="354"/>
                  <a:pt x="2379" y="163"/>
                  <a:pt x="2388" y="89"/>
                </a:cubicBezTo>
                <a:lnTo>
                  <a:pt x="2376" y="58"/>
                </a:lnTo>
                <a:cubicBezTo>
                  <a:pt x="2366" y="44"/>
                  <a:pt x="2344" y="0"/>
                  <a:pt x="2326" y="4"/>
                </a:cubicBezTo>
                <a:close/>
              </a:path>
            </a:pathLst>
          </a:custGeom>
          <a:solidFill>
            <a:srgbClr val="ff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98280" y="1484280"/>
            <a:ext cx="1774800" cy="825480"/>
            <a:chOff x="98280" y="1484280"/>
            <a:chExt cx="1774800" cy="825480"/>
          </a:xfrm>
        </p:grpSpPr>
        <p:sp>
          <p:nvSpPr>
            <p:cNvPr id="199" name=""/>
            <p:cNvSpPr/>
            <p:nvPr/>
          </p:nvSpPr>
          <p:spPr>
            <a:xfrm>
              <a:off x="98280" y="1565280"/>
              <a:ext cx="503280" cy="287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5720" y="1484280"/>
              <a:ext cx="1287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ffffff"/>
                  </a:solidFill>
                  <a:latin typeface="Calisto MT"/>
                </a:rPr>
                <a:t>– </a:t>
              </a:r>
              <a:r>
                <a:rPr b="1" i="1" lang="uk-UA" sz="2400" spc="-1" strike="noStrike">
                  <a:solidFill>
                    <a:srgbClr val="ffffff"/>
                  </a:solidFill>
                  <a:latin typeface="Calisto MT"/>
                </a:rPr>
                <a:t>щи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284720" y="2255760"/>
            <a:ext cx="2927160" cy="2638440"/>
          </a:xfrm>
          <a:custGeom>
            <a:avLst/>
            <a:gdLst/>
            <a:ahLst/>
            <a:rect l="l" t="t" r="r" b="b"/>
            <a:pathLst>
              <a:path w="1844" h="1662">
                <a:moveTo>
                  <a:pt x="279" y="204"/>
                </a:moveTo>
                <a:cubicBezTo>
                  <a:pt x="261" y="210"/>
                  <a:pt x="213" y="252"/>
                  <a:pt x="183" y="273"/>
                </a:cubicBezTo>
                <a:cubicBezTo>
                  <a:pt x="153" y="294"/>
                  <a:pt x="118" y="317"/>
                  <a:pt x="100" y="331"/>
                </a:cubicBezTo>
                <a:cubicBezTo>
                  <a:pt x="82" y="345"/>
                  <a:pt x="89" y="338"/>
                  <a:pt x="76" y="357"/>
                </a:cubicBezTo>
                <a:cubicBezTo>
                  <a:pt x="63" y="376"/>
                  <a:pt x="35" y="395"/>
                  <a:pt x="23" y="443"/>
                </a:cubicBezTo>
                <a:cubicBezTo>
                  <a:pt x="11" y="491"/>
                  <a:pt x="0" y="557"/>
                  <a:pt x="2" y="644"/>
                </a:cubicBezTo>
                <a:cubicBezTo>
                  <a:pt x="4" y="731"/>
                  <a:pt x="33" y="808"/>
                  <a:pt x="35" y="965"/>
                </a:cubicBezTo>
                <a:cubicBezTo>
                  <a:pt x="37" y="1122"/>
                  <a:pt x="11" y="1484"/>
                  <a:pt x="13" y="1587"/>
                </a:cubicBezTo>
                <a:lnTo>
                  <a:pt x="49" y="1581"/>
                </a:lnTo>
                <a:lnTo>
                  <a:pt x="103" y="1546"/>
                </a:lnTo>
                <a:cubicBezTo>
                  <a:pt x="121" y="1533"/>
                  <a:pt x="137" y="1511"/>
                  <a:pt x="160" y="1500"/>
                </a:cubicBezTo>
                <a:cubicBezTo>
                  <a:pt x="183" y="1489"/>
                  <a:pt x="209" y="1480"/>
                  <a:pt x="243" y="1480"/>
                </a:cubicBezTo>
                <a:cubicBezTo>
                  <a:pt x="277" y="1480"/>
                  <a:pt x="336" y="1497"/>
                  <a:pt x="364" y="1498"/>
                </a:cubicBezTo>
                <a:cubicBezTo>
                  <a:pt x="392" y="1499"/>
                  <a:pt x="392" y="1502"/>
                  <a:pt x="411" y="1488"/>
                </a:cubicBezTo>
                <a:cubicBezTo>
                  <a:pt x="430" y="1474"/>
                  <a:pt x="462" y="1428"/>
                  <a:pt x="480" y="1416"/>
                </a:cubicBezTo>
                <a:cubicBezTo>
                  <a:pt x="498" y="1404"/>
                  <a:pt x="503" y="1466"/>
                  <a:pt x="519" y="1416"/>
                </a:cubicBezTo>
                <a:cubicBezTo>
                  <a:pt x="535" y="1366"/>
                  <a:pt x="546" y="1184"/>
                  <a:pt x="579" y="1118"/>
                </a:cubicBezTo>
                <a:cubicBezTo>
                  <a:pt x="612" y="1052"/>
                  <a:pt x="663" y="1047"/>
                  <a:pt x="716" y="1021"/>
                </a:cubicBezTo>
                <a:cubicBezTo>
                  <a:pt x="769" y="995"/>
                  <a:pt x="837" y="990"/>
                  <a:pt x="899" y="965"/>
                </a:cubicBezTo>
                <a:cubicBezTo>
                  <a:pt x="961" y="940"/>
                  <a:pt x="1043" y="861"/>
                  <a:pt x="1091" y="869"/>
                </a:cubicBezTo>
                <a:cubicBezTo>
                  <a:pt x="1139" y="877"/>
                  <a:pt x="1173" y="961"/>
                  <a:pt x="1187" y="1013"/>
                </a:cubicBezTo>
                <a:cubicBezTo>
                  <a:pt x="1201" y="1065"/>
                  <a:pt x="1188" y="1132"/>
                  <a:pt x="1177" y="1183"/>
                </a:cubicBezTo>
                <a:cubicBezTo>
                  <a:pt x="1166" y="1234"/>
                  <a:pt x="1134" y="1286"/>
                  <a:pt x="1119" y="1320"/>
                </a:cubicBezTo>
                <a:cubicBezTo>
                  <a:pt x="1104" y="1354"/>
                  <a:pt x="1082" y="1369"/>
                  <a:pt x="1089" y="1386"/>
                </a:cubicBezTo>
                <a:cubicBezTo>
                  <a:pt x="1096" y="1403"/>
                  <a:pt x="1154" y="1409"/>
                  <a:pt x="1162" y="1422"/>
                </a:cubicBezTo>
                <a:cubicBezTo>
                  <a:pt x="1170" y="1435"/>
                  <a:pt x="1143" y="1454"/>
                  <a:pt x="1140" y="1467"/>
                </a:cubicBezTo>
                <a:cubicBezTo>
                  <a:pt x="1137" y="1480"/>
                  <a:pt x="1136" y="1482"/>
                  <a:pt x="1141" y="1498"/>
                </a:cubicBezTo>
                <a:cubicBezTo>
                  <a:pt x="1146" y="1514"/>
                  <a:pt x="1169" y="1548"/>
                  <a:pt x="1173" y="1564"/>
                </a:cubicBezTo>
                <a:cubicBezTo>
                  <a:pt x="1177" y="1580"/>
                  <a:pt x="1173" y="1589"/>
                  <a:pt x="1167" y="1594"/>
                </a:cubicBezTo>
                <a:cubicBezTo>
                  <a:pt x="1161" y="1599"/>
                  <a:pt x="1141" y="1594"/>
                  <a:pt x="1134" y="1597"/>
                </a:cubicBezTo>
                <a:cubicBezTo>
                  <a:pt x="1127" y="1600"/>
                  <a:pt x="1127" y="1604"/>
                  <a:pt x="1126" y="1611"/>
                </a:cubicBezTo>
                <a:cubicBezTo>
                  <a:pt x="1125" y="1618"/>
                  <a:pt x="1118" y="1631"/>
                  <a:pt x="1129" y="1638"/>
                </a:cubicBezTo>
                <a:cubicBezTo>
                  <a:pt x="1140" y="1645"/>
                  <a:pt x="1177" y="1662"/>
                  <a:pt x="1194" y="1653"/>
                </a:cubicBezTo>
                <a:cubicBezTo>
                  <a:pt x="1211" y="1644"/>
                  <a:pt x="1213" y="1601"/>
                  <a:pt x="1230" y="1584"/>
                </a:cubicBezTo>
                <a:cubicBezTo>
                  <a:pt x="1247" y="1567"/>
                  <a:pt x="1277" y="1567"/>
                  <a:pt x="1299" y="1552"/>
                </a:cubicBezTo>
                <a:cubicBezTo>
                  <a:pt x="1321" y="1537"/>
                  <a:pt x="1359" y="1525"/>
                  <a:pt x="1363" y="1491"/>
                </a:cubicBezTo>
                <a:cubicBezTo>
                  <a:pt x="1367" y="1457"/>
                  <a:pt x="1340" y="1387"/>
                  <a:pt x="1324" y="1345"/>
                </a:cubicBezTo>
                <a:cubicBezTo>
                  <a:pt x="1308" y="1303"/>
                  <a:pt x="1263" y="1302"/>
                  <a:pt x="1264" y="1239"/>
                </a:cubicBezTo>
                <a:cubicBezTo>
                  <a:pt x="1265" y="1176"/>
                  <a:pt x="1355" y="1087"/>
                  <a:pt x="1331" y="965"/>
                </a:cubicBezTo>
                <a:lnTo>
                  <a:pt x="1119" y="508"/>
                </a:lnTo>
                <a:lnTo>
                  <a:pt x="1388" y="533"/>
                </a:lnTo>
                <a:cubicBezTo>
                  <a:pt x="1481" y="528"/>
                  <a:pt x="1602" y="505"/>
                  <a:pt x="1674" y="477"/>
                </a:cubicBezTo>
                <a:cubicBezTo>
                  <a:pt x="1746" y="449"/>
                  <a:pt x="1800" y="413"/>
                  <a:pt x="1820" y="364"/>
                </a:cubicBezTo>
                <a:cubicBezTo>
                  <a:pt x="1840" y="315"/>
                  <a:pt x="1844" y="243"/>
                  <a:pt x="1795" y="185"/>
                </a:cubicBezTo>
                <a:cubicBezTo>
                  <a:pt x="1746" y="127"/>
                  <a:pt x="1633" y="30"/>
                  <a:pt x="1528" y="15"/>
                </a:cubicBezTo>
                <a:cubicBezTo>
                  <a:pt x="1423" y="0"/>
                  <a:pt x="1231" y="13"/>
                  <a:pt x="1163" y="96"/>
                </a:cubicBezTo>
                <a:cubicBezTo>
                  <a:pt x="1095" y="179"/>
                  <a:pt x="1119" y="420"/>
                  <a:pt x="1122" y="510"/>
                </a:cubicBezTo>
                <a:lnTo>
                  <a:pt x="1179" y="639"/>
                </a:lnTo>
                <a:cubicBezTo>
                  <a:pt x="1150" y="667"/>
                  <a:pt x="1026" y="671"/>
                  <a:pt x="947" y="677"/>
                </a:cubicBezTo>
                <a:cubicBezTo>
                  <a:pt x="868" y="683"/>
                  <a:pt x="747" y="693"/>
                  <a:pt x="707" y="677"/>
                </a:cubicBezTo>
                <a:cubicBezTo>
                  <a:pt x="667" y="661"/>
                  <a:pt x="707" y="613"/>
                  <a:pt x="707" y="581"/>
                </a:cubicBezTo>
                <a:cubicBezTo>
                  <a:pt x="707" y="549"/>
                  <a:pt x="731" y="557"/>
                  <a:pt x="707" y="485"/>
                </a:cubicBezTo>
                <a:cubicBezTo>
                  <a:pt x="683" y="413"/>
                  <a:pt x="592" y="202"/>
                  <a:pt x="563" y="149"/>
                </a:cubicBezTo>
                <a:lnTo>
                  <a:pt x="535" y="165"/>
                </a:lnTo>
                <a:lnTo>
                  <a:pt x="465" y="187"/>
                </a:lnTo>
                <a:lnTo>
                  <a:pt x="319" y="244"/>
                </a:lnTo>
                <a:lnTo>
                  <a:pt x="298" y="244"/>
                </a:lnTo>
                <a:lnTo>
                  <a:pt x="288" y="237"/>
                </a:lnTo>
                <a:lnTo>
                  <a:pt x="279" y="204"/>
                </a:lnTo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6400" y="615960"/>
            <a:ext cx="1904760" cy="380880"/>
          </a:xfrm>
          <a:prstGeom prst="wedgeRectCallout">
            <a:avLst>
              <a:gd name="adj1" fmla="val 39000"/>
              <a:gd name="adj2" fmla="val 542500"/>
            </a:avLst>
          </a:prstGeom>
          <a:solidFill>
            <a:srgbClr val="ff000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99"/>
                </a:solidFill>
                <a:latin typeface="Times New Roman"/>
              </a:rPr>
              <a:t>Західний щ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18040" y="3014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imes New Roman"/>
              </a:rPr>
              <a:t>Західно-австралійське плоскогір'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4572000" y="3166920"/>
            <a:ext cx="144360" cy="155880"/>
          </a:xfrm>
          <a:custGeom>
            <a:avLst/>
            <a:gdLst>
              <a:gd name="textAreaLeft" fmla="*/ 45720 w 144360"/>
              <a:gd name="textAreaRight" fmla="*/ 98640 w 144360"/>
              <a:gd name="textAreaTop" fmla="*/ 49680 h 155880"/>
              <a:gd name="textAreaBottom" fmla="*/ 1062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875" y="6875"/>
                </a:lnTo>
                <a:lnTo>
                  <a:pt x="10800" y="0"/>
                </a:lnTo>
                <a:lnTo>
                  <a:pt x="14725" y="6875"/>
                </a:lnTo>
                <a:lnTo>
                  <a:pt x="21600" y="10800"/>
                </a:lnTo>
                <a:lnTo>
                  <a:pt x="14725" y="14725"/>
                </a:lnTo>
                <a:lnTo>
                  <a:pt x="10800" y="21600"/>
                </a:lnTo>
                <a:lnTo>
                  <a:pt x="6875" y="14725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33cccc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99"/>
                </a:solidFill>
                <a:latin typeface="Times New Roman"/>
              </a:rPr>
              <a:t>F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545000">
            <a:off x="6083640" y="328428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6600"/>
                </a:solidFill>
                <a:latin typeface="Times New Roman"/>
              </a:rPr>
              <a:t>Центральна низов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7537320" y="4124160"/>
            <a:ext cx="144720" cy="155880"/>
          </a:xfrm>
          <a:custGeom>
            <a:avLst/>
            <a:gdLst>
              <a:gd name="textAreaLeft" fmla="*/ 46080 w 144720"/>
              <a:gd name="textAreaRight" fmla="*/ 98640 w 144720"/>
              <a:gd name="textAreaTop" fmla="*/ 49680 h 155880"/>
              <a:gd name="textAreaBottom" fmla="*/ 1062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875" y="6875"/>
                </a:lnTo>
                <a:lnTo>
                  <a:pt x="10800" y="0"/>
                </a:lnTo>
                <a:lnTo>
                  <a:pt x="14725" y="6875"/>
                </a:lnTo>
                <a:lnTo>
                  <a:pt x="21600" y="10800"/>
                </a:lnTo>
                <a:lnTo>
                  <a:pt x="14725" y="14725"/>
                </a:lnTo>
                <a:lnTo>
                  <a:pt x="10800" y="21600"/>
                </a:lnTo>
                <a:lnTo>
                  <a:pt x="6875" y="14725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99"/>
                </a:solidFill>
                <a:latin typeface="Times New Roman"/>
              </a:rPr>
              <a:t>F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98280" y="1933560"/>
            <a:ext cx="2071800" cy="459720"/>
            <a:chOff x="98280" y="1933560"/>
            <a:chExt cx="2071800" cy="459720"/>
          </a:xfrm>
        </p:grpSpPr>
        <p:sp>
          <p:nvSpPr>
            <p:cNvPr id="208" name=""/>
            <p:cNvSpPr/>
            <p:nvPr/>
          </p:nvSpPr>
          <p:spPr>
            <a:xfrm>
              <a:off x="98280" y="2014560"/>
              <a:ext cx="503280" cy="287280"/>
            </a:xfrm>
            <a:prstGeom prst="rect">
              <a:avLst/>
            </a:prstGeom>
            <a:solidFill>
              <a:srgbClr val="ffbd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5720" y="19335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ffffff"/>
                  </a:solidFill>
                  <a:latin typeface="Calisto MT"/>
                </a:rPr>
                <a:t>– </a:t>
              </a:r>
              <a:r>
                <a:rPr b="1" i="1" lang="uk-UA" sz="2400" spc="-1" strike="noStrike">
                  <a:solidFill>
                    <a:srgbClr val="ffffff"/>
                  </a:solidFill>
                  <a:latin typeface="Calisto MT"/>
                </a:rPr>
                <a:t>пли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0" y="3429000"/>
            <a:ext cx="3348000" cy="642600"/>
            <a:chOff x="0" y="3429000"/>
            <a:chExt cx="3348000" cy="642600"/>
          </a:xfrm>
        </p:grpSpPr>
        <p:sp>
          <p:nvSpPr>
            <p:cNvPr id="211" name=""/>
            <p:cNvSpPr/>
            <p:nvPr/>
          </p:nvSpPr>
          <p:spPr>
            <a:xfrm>
              <a:off x="0" y="3429000"/>
              <a:ext cx="3348000" cy="642600"/>
            </a:xfrm>
            <a:prstGeom prst="rect">
              <a:avLst/>
            </a:prstGeom>
            <a:solidFill>
              <a:srgbClr val="0033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Times New Roman"/>
                </a:rPr>
                <a:t>– </a:t>
              </a:r>
              <a:r>
                <a:rPr b="1" i="1" lang="uk-UA" sz="2400" spc="-1" strike="noStrike">
                  <a:solidFill>
                    <a:srgbClr val="ffffff"/>
                  </a:solidFill>
                  <a:latin typeface="Times New Roman"/>
                </a:rPr>
                <a:t>каледонські</a:t>
              </a:r>
              <a:r>
                <a:rPr b="1" lang="uk-UA" sz="24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i="1" lang="uk-UA" sz="2400" spc="-1" strike="noStrike">
                  <a:solidFill>
                    <a:srgbClr val="ffffff"/>
                  </a:solidFill>
                  <a:latin typeface="Times New Roman"/>
                </a:rPr>
                <a:t>(ранній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Z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9280" y="3632040"/>
              <a:ext cx="10080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0" y="4064040"/>
            <a:ext cx="3348000" cy="642600"/>
            <a:chOff x="0" y="4064040"/>
            <a:chExt cx="3348000" cy="642600"/>
          </a:xfrm>
        </p:grpSpPr>
        <p:sp>
          <p:nvSpPr>
            <p:cNvPr id="214" name=""/>
            <p:cNvSpPr/>
            <p:nvPr/>
          </p:nvSpPr>
          <p:spPr>
            <a:xfrm>
              <a:off x="0" y="4064040"/>
              <a:ext cx="3348000" cy="642600"/>
            </a:xfrm>
            <a:prstGeom prst="rect">
              <a:avLst/>
            </a:prstGeom>
            <a:solidFill>
              <a:srgbClr val="0033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Times New Roman"/>
                </a:rPr>
                <a:t>– </a:t>
              </a:r>
              <a:r>
                <a:rPr b="1" i="1" lang="uk-UA" sz="2400" spc="-1" strike="noStrike">
                  <a:solidFill>
                    <a:srgbClr val="ffffff"/>
                  </a:solidFill>
                  <a:latin typeface="Times New Roman"/>
                </a:rPr>
                <a:t>герцинські</a:t>
              </a:r>
              <a:r>
                <a:rPr b="1" lang="uk-UA" sz="24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i="1" lang="uk-UA" sz="2400" spc="-1" strike="noStrike">
                  <a:solidFill>
                    <a:srgbClr val="ffffff"/>
                  </a:solidFill>
                  <a:latin typeface="Times New Roman"/>
                </a:rPr>
                <a:t>(пізній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Z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9280" y="4267080"/>
              <a:ext cx="1008000" cy="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550200" y="1700280"/>
            <a:ext cx="1699560" cy="3682800"/>
            <a:chOff x="6550200" y="1700280"/>
            <a:chExt cx="1699560" cy="3682800"/>
          </a:xfrm>
        </p:grpSpPr>
        <p:sp>
          <p:nvSpPr>
            <p:cNvPr id="217" name=""/>
            <p:cNvSpPr/>
            <p:nvPr/>
          </p:nvSpPr>
          <p:spPr>
            <a:xfrm>
              <a:off x="7781760" y="1700280"/>
              <a:ext cx="468000" cy="2716200"/>
            </a:xfrm>
            <a:custGeom>
              <a:avLst/>
              <a:gdLst/>
              <a:ahLst/>
              <a:rect l="l" t="t" r="r" b="b"/>
              <a:pathLst>
                <a:path w="295" h="1711">
                  <a:moveTo>
                    <a:pt x="40" y="0"/>
                  </a:moveTo>
                  <a:cubicBezTo>
                    <a:pt x="20" y="28"/>
                    <a:pt x="0" y="56"/>
                    <a:pt x="40" y="240"/>
                  </a:cubicBezTo>
                  <a:cubicBezTo>
                    <a:pt x="80" y="424"/>
                    <a:pt x="265" y="859"/>
                    <a:pt x="280" y="1104"/>
                  </a:cubicBezTo>
                  <a:cubicBezTo>
                    <a:pt x="295" y="1349"/>
                    <a:pt x="160" y="1585"/>
                    <a:pt x="128" y="1711"/>
                  </a:cubicBezTo>
                </a:path>
              </a:pathLst>
            </a:custGeom>
            <a:noFill/>
            <a:ln w="572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50200" y="4367160"/>
              <a:ext cx="1447560" cy="1015920"/>
            </a:xfrm>
            <a:custGeom>
              <a:avLst/>
              <a:gdLst/>
              <a:ahLst/>
              <a:rect l="l" t="t" r="r" b="b"/>
              <a:pathLst>
                <a:path w="912" h="640">
                  <a:moveTo>
                    <a:pt x="912" y="0"/>
                  </a:moveTo>
                  <a:cubicBezTo>
                    <a:pt x="848" y="100"/>
                    <a:pt x="784" y="200"/>
                    <a:pt x="720" y="288"/>
                  </a:cubicBezTo>
                  <a:cubicBezTo>
                    <a:pt x="656" y="376"/>
                    <a:pt x="608" y="472"/>
                    <a:pt x="528" y="528"/>
                  </a:cubicBezTo>
                  <a:cubicBezTo>
                    <a:pt x="448" y="584"/>
                    <a:pt x="328" y="608"/>
                    <a:pt x="240" y="624"/>
                  </a:cubicBezTo>
                  <a:cubicBezTo>
                    <a:pt x="152" y="640"/>
                    <a:pt x="40" y="624"/>
                    <a:pt x="0" y="624"/>
                  </a:cubicBezTo>
                </a:path>
              </a:pathLst>
            </a:custGeom>
            <a:noFill/>
            <a:ln w="5724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/>
          <p:cNvSpPr txBox="1"/>
          <p:nvPr/>
        </p:nvSpPr>
        <p:spPr>
          <a:xfrm rot="5712000">
            <a:off x="5958720" y="2833560"/>
            <a:ext cx="3275280" cy="15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370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Великий Вододільний хребет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0" name="">
            <a:hlinkClick r:id="rId4" action="ppaction://hlinksldjump"/>
          </p:cNvPr>
          <p:cNvSpPr/>
          <p:nvPr/>
        </p:nvSpPr>
        <p:spPr>
          <a:xfrm>
            <a:off x="7885080" y="1811160"/>
            <a:ext cx="144360" cy="155880"/>
          </a:xfrm>
          <a:custGeom>
            <a:avLst/>
            <a:gdLst>
              <a:gd name="textAreaLeft" fmla="*/ 45720 w 144360"/>
              <a:gd name="textAreaRight" fmla="*/ 98640 w 144360"/>
              <a:gd name="textAreaTop" fmla="*/ 49680 h 155880"/>
              <a:gd name="textAreaBottom" fmla="*/ 1062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875" y="6875"/>
                </a:lnTo>
                <a:lnTo>
                  <a:pt x="10800" y="0"/>
                </a:lnTo>
                <a:lnTo>
                  <a:pt x="14725" y="6875"/>
                </a:lnTo>
                <a:lnTo>
                  <a:pt x="21600" y="10800"/>
                </a:lnTo>
                <a:lnTo>
                  <a:pt x="14725" y="14725"/>
                </a:lnTo>
                <a:lnTo>
                  <a:pt x="10800" y="21600"/>
                </a:lnTo>
                <a:lnTo>
                  <a:pt x="6875" y="14725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99"/>
                </a:solidFill>
                <a:latin typeface="Times New Roman"/>
              </a:rPr>
              <a:t>F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6720" y="5280120"/>
            <a:ext cx="1944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00"/>
                </a:solidFill>
                <a:latin typeface="Times New Roman"/>
              </a:rPr>
              <a:t>Австралійські Альп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>
            <a:hlinkClick r:id="rId5" action="ppaction://hlinksldjump"/>
          </p:cNvPr>
          <p:cNvSpPr/>
          <p:nvPr/>
        </p:nvSpPr>
        <p:spPr>
          <a:xfrm>
            <a:off x="8142120" y="5602320"/>
            <a:ext cx="144720" cy="155520"/>
          </a:xfrm>
          <a:custGeom>
            <a:avLst/>
            <a:gdLst>
              <a:gd name="textAreaLeft" fmla="*/ 46080 w 144720"/>
              <a:gd name="textAreaRight" fmla="*/ 98640 w 144720"/>
              <a:gd name="textAreaTop" fmla="*/ 49320 h 155520"/>
              <a:gd name="textAreaBottom" fmla="*/ 10620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875" y="6875"/>
                </a:lnTo>
                <a:lnTo>
                  <a:pt x="10800" y="0"/>
                </a:lnTo>
                <a:lnTo>
                  <a:pt x="14725" y="6875"/>
                </a:lnTo>
                <a:lnTo>
                  <a:pt x="21600" y="10800"/>
                </a:lnTo>
                <a:lnTo>
                  <a:pt x="14725" y="14725"/>
                </a:lnTo>
                <a:lnTo>
                  <a:pt x="10800" y="21600"/>
                </a:lnTo>
                <a:lnTo>
                  <a:pt x="6875" y="14725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99"/>
                </a:solidFill>
                <a:latin typeface="Times New Roman"/>
              </a:rPr>
              <a:t>F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67760" y="5113440"/>
            <a:ext cx="93600" cy="109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73640" y="4724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00"/>
                </a:solidFill>
                <a:latin typeface="Times New Roman"/>
              </a:rPr>
              <a:t>Косцюшко, </a:t>
            </a:r>
            <a:r>
              <a:rPr b="0" i="1" lang="uk-UA" sz="2000" spc="-1" strike="noStrike">
                <a:solidFill>
                  <a:srgbClr val="333300"/>
                </a:solidFill>
                <a:latin typeface="Times New Roman"/>
              </a:rPr>
              <a:t>2229 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>
            <a:hlinkClick r:id="rId6" action="ppaction://hlinksldjump"/>
          </p:cNvPr>
          <p:cNvSpPr/>
          <p:nvPr/>
        </p:nvSpPr>
        <p:spPr>
          <a:xfrm>
            <a:off x="6156360" y="4797360"/>
            <a:ext cx="144360" cy="155520"/>
          </a:xfrm>
          <a:custGeom>
            <a:avLst/>
            <a:gdLst>
              <a:gd name="textAreaLeft" fmla="*/ 45720 w 144360"/>
              <a:gd name="textAreaRight" fmla="*/ 98640 w 144360"/>
              <a:gd name="textAreaTop" fmla="*/ 49320 h 155520"/>
              <a:gd name="textAreaBottom" fmla="*/ 10620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875" y="6875"/>
                </a:lnTo>
                <a:lnTo>
                  <a:pt x="10800" y="0"/>
                </a:lnTo>
                <a:lnTo>
                  <a:pt x="14725" y="6875"/>
                </a:lnTo>
                <a:lnTo>
                  <a:pt x="21600" y="10800"/>
                </a:lnTo>
                <a:lnTo>
                  <a:pt x="14725" y="14725"/>
                </a:lnTo>
                <a:lnTo>
                  <a:pt x="10800" y="21600"/>
                </a:lnTo>
                <a:lnTo>
                  <a:pt x="6875" y="14725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33cccc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99"/>
                </a:solidFill>
                <a:latin typeface="Times New Roman"/>
              </a:rPr>
              <a:t>F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rId7"/>
          </p:cNvPr>
          <p:cNvSpPr/>
          <p:nvPr/>
        </p:nvSpPr>
        <p:spPr>
          <a:xfrm>
            <a:off x="5160960" y="615960"/>
            <a:ext cx="10810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Times New Roman"/>
              </a:rPr>
              <a:t>г. Лібіг</a:t>
            </a:r>
            <a:r>
              <a:rPr b="1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A0%D0%B8%D0%BA%D0%BE%D1%88%D0%B5%D1%82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A0%D0%B8%D0%BA%D0%BE%D1%88%D0%B5%D1%82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BA%D0%BE%D0%BB%D0%BE%D0%BA%D0%BE%D0%BB%D1%8C%D1%87%D0%B8%D0%BA%D0%B8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OFTCOR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BA%D0%BE%D0%BB%D0%BE%D0%BA%D0%BE%D0%BB%D1%8C%D1%87%D0%B8%D0%BA%D0%B8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LEEP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_B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OFTCOR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PACE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0%D0%B8%D0%BA%D0%BE%D1%88%D0%B5%D1%82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0%D0%B8%D0%BA%D0%BE%D1%88%D0%B5%D1%82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SOFTCOR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SOFTCOR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SIZZL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ICE_IN_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SPACE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SOFTCOR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LEEP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rcRect l="0" t="0" r="-29" b="0"/>
          <a:stretch/>
        </p:blipFill>
        <p:spPr>
          <a:xfrm>
            <a:off x="2195640" y="774720"/>
            <a:ext cx="6948360" cy="608328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8381880" y="6553080"/>
            <a:ext cx="381240" cy="304920"/>
          </a:xfrm>
          <a:custGeom>
            <a:avLst/>
            <a:gdLst>
              <a:gd name="textAreaLeft" fmla="*/ 76320 w 381240"/>
              <a:gd name="textAreaRight" fmla="*/ 305280 w 3812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1600" y="5400"/>
                </a:lnTo>
                <a:lnTo>
                  <a:pt x="5400" y="5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1600" y="16200"/>
                </a:lnTo>
                <a:lnTo>
                  <a:pt x="21600" y="5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600" y="16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000" h="21600">
                <a:moveTo>
                  <a:pt x="9475" y="10800"/>
                </a:moveTo>
                <a:lnTo>
                  <a:pt x="17525" y="6775"/>
                </a:lnTo>
                <a:lnTo>
                  <a:pt x="17525" y="14825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76320 w 380880"/>
              <a:gd name="textAreaRight" fmla="*/ 30492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1575" y="5400"/>
                </a:lnTo>
                <a:lnTo>
                  <a:pt x="5400" y="5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1575" y="16200"/>
                </a:lnTo>
                <a:lnTo>
                  <a:pt x="21575" y="5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575" y="16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975" h="21600">
                <a:moveTo>
                  <a:pt x="9462" y="6775"/>
                </a:moveTo>
                <a:lnTo>
                  <a:pt x="17512" y="10800"/>
                </a:lnTo>
                <a:lnTo>
                  <a:pt x="9462" y="1482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61920"/>
            <a:ext cx="4321440" cy="6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e3e3ff"/>
                  </a:outerShdw>
                </a:effectLst>
                <a:latin typeface="Comic Sans MS"/>
              </a:rPr>
              <a:t>Рельєф Австралії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e3e3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5580000" y="0"/>
            <a:ext cx="21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33cccc"/>
                </a:solidFill>
                <a:latin typeface="Calisto MT"/>
              </a:rPr>
              <a:t>Фізична карта Австрал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765000"/>
            <a:ext cx="255600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62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3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i="1" lang="uk-UA" sz="2300" spc="-1" strike="noStrike">
                <a:solidFill>
                  <a:srgbClr val="ffffff"/>
                </a:solidFill>
                <a:latin typeface="Calisto MT"/>
              </a:rPr>
              <a:t>рельєф переважно </a:t>
            </a:r>
            <a:r>
              <a:rPr b="1" i="1" lang="uk-UA" sz="2300" spc="-1" strike="noStrike">
                <a:solidFill>
                  <a:srgbClr val="ffffff"/>
                </a:solidFill>
                <a:latin typeface="Calisto MT"/>
              </a:rPr>
              <a:t>рівнинний,</a:t>
            </a:r>
            <a:r>
              <a:rPr b="0" i="1" lang="uk-UA" sz="2300" spc="-1" strike="noStrike">
                <a:solidFill>
                  <a:srgbClr val="ffffff"/>
                </a:solidFill>
                <a:latin typeface="Calisto MT"/>
              </a:rPr>
              <a:t> одноманітний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62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3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1" i="1" lang="uk-UA" sz="2300" spc="-1" strike="noStrike">
                <a:solidFill>
                  <a:srgbClr val="ffffff"/>
                </a:solidFill>
                <a:latin typeface="Calisto MT"/>
              </a:rPr>
              <a:t>гори низькі</a:t>
            </a:r>
            <a:r>
              <a:rPr b="0" i="1" lang="uk-UA" sz="2300" spc="-1" strike="noStrike">
                <a:solidFill>
                  <a:srgbClr val="ffffff"/>
                </a:solidFill>
                <a:latin typeface="Calisto MT"/>
              </a:rPr>
              <a:t> на сході – </a:t>
            </a:r>
            <a:r>
              <a:rPr b="1" i="1" lang="uk-UA" sz="2300" spc="-1" strike="noStrike">
                <a:solidFill>
                  <a:srgbClr val="ffffff"/>
                </a:solidFill>
                <a:latin typeface="Calisto MT"/>
              </a:rPr>
              <a:t>Великий Вододільний хребет</a:t>
            </a:r>
            <a:r>
              <a:rPr b="0" i="1" lang="uk-UA" sz="2300" spc="-1" strike="noStrike">
                <a:solidFill>
                  <a:srgbClr val="ffffff"/>
                </a:solidFill>
                <a:latin typeface="Calisto MT"/>
              </a:rPr>
              <a:t>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62"/>
              </a:spcBef>
              <a:buClr>
                <a:srgbClr val="3333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300" spc="-1" strike="noStrike">
                <a:solidFill>
                  <a:srgbClr val="333300"/>
                </a:solidFill>
                <a:latin typeface="Calisto MT"/>
              </a:rPr>
              <a:t> </a:t>
            </a:r>
            <a:r>
              <a:rPr b="0" i="1" lang="uk-UA" sz="2300" spc="-1" strike="noStrike">
                <a:solidFill>
                  <a:srgbClr val="ffffff"/>
                </a:solidFill>
                <a:latin typeface="Calisto MT"/>
              </a:rPr>
              <a:t>середня висота над рівнем моря </a:t>
            </a:r>
            <a:r>
              <a:rPr b="1" i="1" lang="uk-UA" sz="2300" spc="-1" strike="noStrike">
                <a:solidFill>
                  <a:srgbClr val="ffffff"/>
                </a:solidFill>
                <a:latin typeface="Calisto MT"/>
              </a:rPr>
              <a:t>215 м</a:t>
            </a:r>
            <a:r>
              <a:rPr b="0" i="1" lang="uk-UA" sz="23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>
            <a:lum contrast="12000"/>
          </a:blip>
          <a:srcRect l="0" t="0" r="33" b="-156"/>
          <a:stretch/>
        </p:blipFill>
        <p:spPr>
          <a:xfrm>
            <a:off x="2195640" y="6392880"/>
            <a:ext cx="3816360" cy="465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850160" y="536400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5661000"/>
            <a:ext cx="3168720" cy="459720"/>
          </a:xfrm>
          <a:prstGeom prst="rect">
            <a:avLst/>
          </a:prstGeom>
          <a:solidFill>
            <a:srgbClr val="cce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82400"/>
                </a:solidFill>
                <a:latin typeface="Times New Roman"/>
              </a:rPr>
              <a:t>г. Косцюшко, 2229 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21165000">
            <a:off x="6804000" y="907560"/>
            <a:ext cx="1927080" cy="4815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5400">
            <a:off x="1979640" y="1052280"/>
            <a:ext cx="5184720" cy="4814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012000" y="1916280"/>
            <a:ext cx="1523880" cy="1218600"/>
            <a:chOff x="6012000" y="1916280"/>
            <a:chExt cx="1523880" cy="1218600"/>
          </a:xfrm>
        </p:grpSpPr>
        <p:sp>
          <p:nvSpPr>
            <p:cNvPr id="239" name=""/>
            <p:cNvSpPr/>
            <p:nvPr/>
          </p:nvSpPr>
          <p:spPr>
            <a:xfrm>
              <a:off x="6469200" y="2906640"/>
              <a:ext cx="533520" cy="228240"/>
            </a:xfrm>
            <a:prstGeom prst="rect">
              <a:avLst/>
            </a:prstGeom>
            <a:solidFill>
              <a:srgbClr val="46341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7231320" y="1992240"/>
              <a:ext cx="304560" cy="304200"/>
              <a:chOff x="7231320" y="1992240"/>
              <a:chExt cx="304560" cy="304200"/>
            </a:xfrm>
          </p:grpSpPr>
          <p:sp>
            <p:nvSpPr>
              <p:cNvPr id="241" name=""/>
              <p:cNvSpPr/>
              <p:nvPr/>
            </p:nvSpPr>
            <p:spPr>
              <a:xfrm>
                <a:off x="7231320" y="1992240"/>
                <a:ext cx="304560" cy="304200"/>
              </a:xfrm>
              <a:prstGeom prst="rect">
                <a:avLst/>
              </a:prstGeom>
              <a:solidFill>
                <a:srgbClr val="46341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307280" y="2067840"/>
                <a:ext cx="151920" cy="152280"/>
              </a:xfrm>
              <a:prstGeom prst="ellipse">
                <a:avLst/>
              </a:prstGeom>
              <a:solidFill>
                <a:srgbClr val="46341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088320" y="2601720"/>
              <a:ext cx="380880" cy="380520"/>
              <a:chOff x="6088320" y="2601720"/>
              <a:chExt cx="380880" cy="380520"/>
            </a:xfrm>
          </p:grpSpPr>
          <p:sp>
            <p:nvSpPr>
              <p:cNvPr id="244" name=""/>
              <p:cNvSpPr/>
              <p:nvPr/>
            </p:nvSpPr>
            <p:spPr>
              <a:xfrm>
                <a:off x="6088320" y="2601720"/>
                <a:ext cx="380880" cy="374040"/>
              </a:xfrm>
              <a:prstGeom prst="ellipse">
                <a:avLst/>
              </a:prstGeom>
              <a:solidFill>
                <a:srgbClr val="463416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205680" y="2792160"/>
                <a:ext cx="157320" cy="190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5362" y="19286"/>
                    </a:moveTo>
                    <a:lnTo>
                      <a:pt x="10725" y="19762"/>
                    </a:lnTo>
                    <a:lnTo>
                      <a:pt x="4928" y="19524"/>
                    </a:lnTo>
                    <a:lnTo>
                      <a:pt x="0" y="18095"/>
                    </a:lnTo>
                    <a:lnTo>
                      <a:pt x="9275" y="0"/>
                    </a:lnTo>
                    <a:lnTo>
                      <a:pt x="19710" y="17619"/>
                    </a:lnTo>
                    <a:lnTo>
                      <a:pt x="15362" y="1928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285240" y="2623680"/>
                <a:ext cx="183960" cy="168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3902" y="3200"/>
                    </a:moveTo>
                    <a:lnTo>
                      <a:pt x="16585" y="6400"/>
                    </a:lnTo>
                    <a:lnTo>
                      <a:pt x="18293" y="9333"/>
                    </a:lnTo>
                    <a:lnTo>
                      <a:pt x="19756" y="13867"/>
                    </a:lnTo>
                    <a:lnTo>
                      <a:pt x="0" y="19733"/>
                    </a:lnTo>
                    <a:lnTo>
                      <a:pt x="10488" y="0"/>
                    </a:lnTo>
                    <a:lnTo>
                      <a:pt x="13902" y="320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094800" y="2623680"/>
                <a:ext cx="183960" cy="168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5854" y="3200"/>
                    </a:moveTo>
                    <a:lnTo>
                      <a:pt x="3171" y="6400"/>
                    </a:lnTo>
                    <a:lnTo>
                      <a:pt x="1463" y="9333"/>
                    </a:lnTo>
                    <a:lnTo>
                      <a:pt x="0" y="13867"/>
                    </a:lnTo>
                    <a:lnTo>
                      <a:pt x="19756" y="19733"/>
                    </a:lnTo>
                    <a:lnTo>
                      <a:pt x="9512" y="0"/>
                    </a:lnTo>
                    <a:lnTo>
                      <a:pt x="5854" y="320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697440" y="2220840"/>
              <a:ext cx="305280" cy="304200"/>
              <a:chOff x="6697440" y="2220840"/>
              <a:chExt cx="305280" cy="304200"/>
            </a:xfrm>
          </p:grpSpPr>
          <p:sp>
            <p:nvSpPr>
              <p:cNvPr id="249" name=""/>
              <p:cNvSpPr/>
              <p:nvPr/>
            </p:nvSpPr>
            <p:spPr>
              <a:xfrm>
                <a:off x="6697800" y="2220840"/>
                <a:ext cx="304920" cy="304200"/>
              </a:xfrm>
              <a:prstGeom prst="rtTriangle">
                <a:avLst/>
              </a:prstGeom>
              <a:solidFill>
                <a:srgbClr val="46341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6697080" y="2220840"/>
                <a:ext cx="304920" cy="304200"/>
              </a:xfrm>
              <a:prstGeom prst="rtTriangle">
                <a:avLst/>
              </a:prstGeom>
              <a:solidFill>
                <a:srgbClr val="46341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6012000" y="1916280"/>
              <a:ext cx="380880" cy="380520"/>
              <a:chOff x="6012000" y="1916280"/>
              <a:chExt cx="380880" cy="380520"/>
            </a:xfrm>
          </p:grpSpPr>
          <p:sp>
            <p:nvSpPr>
              <p:cNvPr id="252" name=""/>
              <p:cNvSpPr/>
              <p:nvPr/>
            </p:nvSpPr>
            <p:spPr>
              <a:xfrm>
                <a:off x="6012000" y="1916280"/>
                <a:ext cx="380880" cy="380520"/>
              </a:xfrm>
              <a:prstGeom prst="rect">
                <a:avLst/>
              </a:prstGeom>
              <a:solidFill>
                <a:srgbClr val="46341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107040" y="2011320"/>
                <a:ext cx="190440" cy="190080"/>
              </a:xfrm>
              <a:prstGeom prst="ellipse">
                <a:avLst/>
              </a:prstGeom>
              <a:solidFill>
                <a:srgbClr val="46341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138720" y="2043000"/>
                <a:ext cx="127080" cy="126720"/>
              </a:xfrm>
              <a:prstGeom prst="ellipse">
                <a:avLst/>
              </a:prstGeom>
              <a:solidFill>
                <a:srgbClr val="46341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"/>
          <p:cNvGrpSpPr/>
          <p:nvPr/>
        </p:nvGrpSpPr>
        <p:grpSpPr>
          <a:xfrm>
            <a:off x="6659280" y="3860280"/>
            <a:ext cx="609480" cy="1752840"/>
            <a:chOff x="6659280" y="3860280"/>
            <a:chExt cx="609480" cy="1752840"/>
          </a:xfrm>
        </p:grpSpPr>
        <p:sp>
          <p:nvSpPr>
            <p:cNvPr id="256" name=""/>
            <p:cNvSpPr/>
            <p:nvPr/>
          </p:nvSpPr>
          <p:spPr>
            <a:xfrm rot="10800000">
              <a:off x="6963840" y="3936960"/>
              <a:ext cx="228600" cy="380880"/>
            </a:xfrm>
            <a:custGeom>
              <a:avLst/>
              <a:gdLst>
                <a:gd name="textAreaLeft" fmla="*/ 57240 w 228600"/>
                <a:gd name="textAreaRight" fmla="*/ 171360 w 228600"/>
                <a:gd name="textAreaTop" fmla="*/ 95400 h 380880"/>
                <a:gd name="textAreaBottom" fmla="*/ 285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000" y="21600"/>
                  </a:lnTo>
                  <a:lnTo>
                    <a:pt x="6600" y="21600"/>
                  </a:lnTo>
                  <a:close/>
                </a:path>
              </a:pathLst>
            </a:custGeom>
            <a:solidFill>
              <a:srgbClr val="46341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0800000">
              <a:off x="6659280" y="3860280"/>
              <a:ext cx="228600" cy="381240"/>
            </a:xfrm>
            <a:custGeom>
              <a:avLst/>
              <a:gdLst>
                <a:gd name="textAreaLeft" fmla="*/ 57240 w 228600"/>
                <a:gd name="textAreaRight" fmla="*/ 171360 w 228600"/>
                <a:gd name="textAreaTop" fmla="*/ 95400 h 381240"/>
                <a:gd name="textAreaBottom" fmla="*/ 28584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000" y="21600"/>
                  </a:lnTo>
                  <a:lnTo>
                    <a:pt x="6600" y="21600"/>
                  </a:lnTo>
                  <a:close/>
                </a:path>
              </a:pathLst>
            </a:custGeom>
            <a:solidFill>
              <a:srgbClr val="46341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0800000">
              <a:off x="6811560" y="5156280"/>
              <a:ext cx="228600" cy="380880"/>
            </a:xfrm>
            <a:custGeom>
              <a:avLst/>
              <a:gdLst>
                <a:gd name="textAreaLeft" fmla="*/ 57240 w 228600"/>
                <a:gd name="textAreaRight" fmla="*/ 171360 w 228600"/>
                <a:gd name="textAreaTop" fmla="*/ 95400 h 380880"/>
                <a:gd name="textAreaBottom" fmla="*/ 285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000" y="21600"/>
                  </a:lnTo>
                  <a:lnTo>
                    <a:pt x="6600" y="21600"/>
                  </a:lnTo>
                  <a:close/>
                </a:path>
              </a:pathLst>
            </a:custGeom>
            <a:solidFill>
              <a:srgbClr val="46341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0800000">
              <a:off x="7040160" y="5231880"/>
              <a:ext cx="228600" cy="381240"/>
            </a:xfrm>
            <a:custGeom>
              <a:avLst/>
              <a:gdLst>
                <a:gd name="textAreaLeft" fmla="*/ 57240 w 228600"/>
                <a:gd name="textAreaRight" fmla="*/ 171360 w 228600"/>
                <a:gd name="textAreaTop" fmla="*/ 95400 h 381240"/>
                <a:gd name="textAreaBottom" fmla="*/ 28584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000" y="21600"/>
                  </a:lnTo>
                  <a:lnTo>
                    <a:pt x="6600" y="21600"/>
                  </a:lnTo>
                  <a:close/>
                </a:path>
              </a:pathLst>
            </a:custGeom>
            <a:solidFill>
              <a:srgbClr val="46341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916360" y="3357720"/>
            <a:ext cx="838080" cy="1669680"/>
            <a:chOff x="2916360" y="3357720"/>
            <a:chExt cx="838080" cy="1669680"/>
          </a:xfrm>
        </p:grpSpPr>
        <p:sp>
          <p:nvSpPr>
            <p:cNvPr id="261" name=""/>
            <p:cNvSpPr/>
            <p:nvPr/>
          </p:nvSpPr>
          <p:spPr>
            <a:xfrm>
              <a:off x="2916360" y="3357720"/>
              <a:ext cx="380880" cy="330120"/>
            </a:xfrm>
            <a:prstGeom prst="triangle">
              <a:avLst>
                <a:gd name="adj" fmla="val 50000"/>
              </a:avLst>
            </a:prstGeom>
            <a:solidFill>
              <a:srgbClr val="46341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2992320" y="4653000"/>
              <a:ext cx="374760" cy="374400"/>
              <a:chOff x="2992320" y="4653000"/>
              <a:chExt cx="374760" cy="374400"/>
            </a:xfrm>
          </p:grpSpPr>
          <p:sp>
            <p:nvSpPr>
              <p:cNvPr id="263" name=""/>
              <p:cNvSpPr/>
              <p:nvPr/>
            </p:nvSpPr>
            <p:spPr>
              <a:xfrm>
                <a:off x="2992320" y="4653000"/>
                <a:ext cx="374400" cy="37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08" y="0"/>
                    </a:moveTo>
                    <a:arcTo wR="10800" hR="10800" stAng="-5429257" swAng="108585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08" y="0"/>
                    </a:moveTo>
                    <a:arcTo wR="10800" hR="10800" stAng="-5429257" swAng="10858513"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992320" y="4653000"/>
                <a:ext cx="374760" cy="37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08" y="21600"/>
                    </a:moveTo>
                    <a:arcTo wR="10800" hR="10800" stAng="5429257" swAng="107414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08" y="21600"/>
                    </a:moveTo>
                    <a:arcTo wR="10800" hR="10800" stAng="5429257" swAng="10741487"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3178080" y="4653000"/>
                <a:ext cx="1800" cy="1872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3178080" y="4653000"/>
                <a:ext cx="1800" cy="1872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3449160" y="4652280"/>
              <a:ext cx="305280" cy="229320"/>
              <a:chOff x="3449160" y="4652280"/>
              <a:chExt cx="305280" cy="229320"/>
            </a:xfrm>
          </p:grpSpPr>
          <p:sp>
            <p:nvSpPr>
              <p:cNvPr id="268" name=""/>
              <p:cNvSpPr/>
              <p:nvPr/>
            </p:nvSpPr>
            <p:spPr>
              <a:xfrm rot="10783200">
                <a:off x="3449160" y="4652280"/>
                <a:ext cx="142200" cy="1040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0783200">
                <a:off x="3611880" y="4652280"/>
                <a:ext cx="142200" cy="1040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0783200">
                <a:off x="3530520" y="4776840"/>
                <a:ext cx="142200" cy="1040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>
    <p:newsflash/>
    <p:sndAc>
      <p:stSnd>
        <p:snd r:embed="rId5" name="%D0%90%D1%80%D1%84%D0%B0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1" presetSubtype="1" repeatCount="10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A1%D0%B2%D0%B8%D1%81%D1%82+%D0%97%D0%B2%D0%BE%D0%B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1" repeatCount="10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288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A3%D1%84%D0%B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1%D0%B2%D0%B8%D1%81%D1%82+%D0%97%D0%B2%D0%BE%D0%B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РИСН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І КОПАЛИН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Паливні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i="1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Рудні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 Нерудні 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- НАФТА                           -  МІДЬ      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-  АЛМА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- ПРИРОДНИЙ ГАЗ        -  НІКЕЛЬ              -  ОП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- БУРЕ ВУГІЛЛЯ             -  ЗОЛО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- КАМЯНЕ ВУГІЛ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ПАЛИВН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456000" cy="21589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780000" y="1484280"/>
            <a:ext cx="5040000" cy="48974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3995640" y="5516640"/>
            <a:ext cx="345600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УРЕ ВУГІЛЛ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386160" cy="2416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ДН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084720" y="2565360"/>
            <a:ext cx="2737080" cy="22305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2592360" cy="1800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250920" y="4797360"/>
            <a:ext cx="2592360" cy="18734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2916360" y="476280"/>
            <a:ext cx="3024000" cy="2376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250920" y="2781360"/>
            <a:ext cx="2592360" cy="18730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"/>
          <a:stretch/>
        </p:blipFill>
        <p:spPr>
          <a:xfrm>
            <a:off x="2987640" y="4941720"/>
            <a:ext cx="3024360" cy="1729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2916360" y="2924280"/>
            <a:ext cx="2952720" cy="1944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8"/>
          <a:stretch/>
        </p:blipFill>
        <p:spPr>
          <a:xfrm>
            <a:off x="6156360" y="4869000"/>
            <a:ext cx="2663640" cy="17287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9"/>
          <a:stretch/>
        </p:blipFill>
        <p:spPr>
          <a:xfrm>
            <a:off x="6012000" y="549360"/>
            <a:ext cx="2806560" cy="19159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900000" y="5516640"/>
            <a:ext cx="15843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ло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564000" y="5445000"/>
            <a:ext cx="18000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золо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16720" y="5300640"/>
            <a:ext cx="201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ід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НЕРУДН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3672000" cy="2160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645240" y="4221000"/>
            <a:ext cx="2498760" cy="2376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7451640" y="404640"/>
            <a:ext cx="1692360" cy="17290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4211640" y="2421000"/>
            <a:ext cx="2124000" cy="23763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6443640" y="2276640"/>
            <a:ext cx="2700360" cy="18716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>
            <a:off x="3995640" y="4869000"/>
            <a:ext cx="2664000" cy="18525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3059280" y="189000"/>
            <a:ext cx="2304720" cy="20890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8"/>
          <a:stretch/>
        </p:blipFill>
        <p:spPr>
          <a:xfrm>
            <a:off x="5508720" y="2602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9"/>
          <a:stretch/>
        </p:blipFill>
        <p:spPr>
          <a:xfrm>
            <a:off x="395280" y="4797360"/>
            <a:ext cx="3600360" cy="20606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0"/>
          <a:stretch/>
        </p:blipFill>
        <p:spPr>
          <a:xfrm>
            <a:off x="395280" y="1052640"/>
            <a:ext cx="2521080" cy="1439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62320" y="6021360"/>
            <a:ext cx="16635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опа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48360" y="5950080"/>
            <a:ext cx="18846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АЛМА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7777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МЕ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формувати загальне уявлення про своєрідність та особливості Австралії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родовжити формувати навички складати характеристику географічного положення материка за план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ідшукувати закономірності розташування форм рельєфу і корисних копал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Удосконалити практичні вміння працювати з картами й іншими джерел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ховувати інтерес до вивчення навчальної дисциплі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44b7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rcRect l="0" t="0" r="0" b="-36"/>
          <a:stretch/>
        </p:blipFill>
        <p:spPr>
          <a:xfrm>
            <a:off x="0" y="0"/>
            <a:ext cx="9144000" cy="624204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8388360" y="6553080"/>
            <a:ext cx="380880" cy="304920"/>
          </a:xfrm>
          <a:custGeom>
            <a:avLst/>
            <a:gdLst>
              <a:gd name="textAreaLeft" fmla="*/ 76320 w 380880"/>
              <a:gd name="textAreaRight" fmla="*/ 30492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1575" y="5400"/>
                </a:lnTo>
                <a:lnTo>
                  <a:pt x="5400" y="5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1575" y="16200"/>
                </a:lnTo>
                <a:lnTo>
                  <a:pt x="21575" y="5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575" y="16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975" h="21600">
                <a:moveTo>
                  <a:pt x="9462" y="10800"/>
                </a:moveTo>
                <a:lnTo>
                  <a:pt x="17512" y="6775"/>
                </a:lnTo>
                <a:lnTo>
                  <a:pt x="17512" y="1482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>
            <a:hlinkClick r:id="rId2" action="ppaction://hlinksldjump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63360 w 380880"/>
              <a:gd name="textAreaRight" fmla="*/ 317520 w 38088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2475" y="4500"/>
                </a:lnTo>
                <a:lnTo>
                  <a:pt x="4500" y="45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2475" y="17100"/>
                </a:lnTo>
                <a:lnTo>
                  <a:pt x="22475" y="45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4500" y="17100"/>
                </a:lnTo>
                <a:lnTo>
                  <a:pt x="22475" y="171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4500" y="4500"/>
                </a:lnTo>
                <a:lnTo>
                  <a:pt x="4500" y="17100"/>
                </a:lnTo>
                <a:close/>
              </a:path>
              <a:path fill="darken" w="26975" h="21600">
                <a:moveTo>
                  <a:pt x="13487" y="6133"/>
                </a:moveTo>
                <a:lnTo>
                  <a:pt x="15214" y="7883"/>
                </a:lnTo>
                <a:lnTo>
                  <a:pt x="15214" y="6717"/>
                </a:lnTo>
                <a:lnTo>
                  <a:pt x="16404" y="6717"/>
                </a:lnTo>
                <a:lnTo>
                  <a:pt x="16404" y="9073"/>
                </a:lnTo>
                <a:lnTo>
                  <a:pt x="18154" y="10800"/>
                </a:lnTo>
                <a:lnTo>
                  <a:pt x="17046" y="10800"/>
                </a:lnTo>
                <a:lnTo>
                  <a:pt x="17046" y="15618"/>
                </a:lnTo>
                <a:lnTo>
                  <a:pt x="9929" y="15618"/>
                </a:lnTo>
                <a:lnTo>
                  <a:pt x="9929" y="10800"/>
                </a:lnTo>
                <a:lnTo>
                  <a:pt x="8821" y="10800"/>
                </a:lnTo>
                <a:close/>
              </a:path>
              <a:path fill="darkenLess" w="26975" h="21600">
                <a:moveTo>
                  <a:pt x="15214" y="7883"/>
                </a:moveTo>
                <a:lnTo>
                  <a:pt x="15214" y="6717"/>
                </a:lnTo>
                <a:lnTo>
                  <a:pt x="16404" y="6717"/>
                </a:lnTo>
                <a:lnTo>
                  <a:pt x="16404" y="9073"/>
                </a:lnTo>
                <a:close/>
              </a:path>
              <a:path fill="darkenLess" w="26975" h="21600">
                <a:moveTo>
                  <a:pt x="12869" y="13145"/>
                </a:moveTo>
                <a:lnTo>
                  <a:pt x="14106" y="13145"/>
                </a:lnTo>
                <a:lnTo>
                  <a:pt x="14106" y="15618"/>
                </a:lnTo>
                <a:lnTo>
                  <a:pt x="17046" y="15618"/>
                </a:lnTo>
                <a:lnTo>
                  <a:pt x="17046" y="10800"/>
                </a:lnTo>
                <a:lnTo>
                  <a:pt x="9929" y="10800"/>
                </a:lnTo>
                <a:lnTo>
                  <a:pt x="9929" y="15618"/>
                </a:lnTo>
                <a:lnTo>
                  <a:pt x="12869" y="15618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00" y="0"/>
            <a:ext cx="469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Домашне завданн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692280"/>
            <a:ext cx="286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Пар. 21- 2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с.121- 12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лан урок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Історія відкриття і дослідженн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Географічне положенн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( Практичне завдання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Геологічна будова та рельєф Австралі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Корисні копали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Підведення підсумкі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55640" y="189000"/>
            <a:ext cx="763272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СТРАЛІ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176720" cy="3745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0" y="5229360"/>
            <a:ext cx="896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- НАЙМЕНШИЙ МАТЕРИК ЗЕМЛІ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50920" y="2205000"/>
            <a:ext cx="8497800" cy="21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Історія відкриття материка</a:t>
            </a:r>
            <a:endParaRPr b="1" i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0920" y="54291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48436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00720" y="542916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948360" y="5429160"/>
            <a:ext cx="1971720" cy="1428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7000920" y="386064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411280" y="3933720"/>
            <a:ext cx="198144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179280" y="3933720"/>
            <a:ext cx="210672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4572000" y="386064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4716360" y="189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6804000" y="189000"/>
            <a:ext cx="2181240" cy="1428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1"/>
          <a:stretch/>
        </p:blipFill>
        <p:spPr>
          <a:xfrm>
            <a:off x="2484360" y="260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2"/>
          <a:stretch/>
        </p:blipFill>
        <p:spPr>
          <a:xfrm>
            <a:off x="179280" y="260280"/>
            <a:ext cx="1990800" cy="1428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4T05:05:14Z</dcterms:created>
  <dc:creator>Class18</dc:creator>
  <dc:description/>
  <dc:language>en-US</dc:language>
  <cp:lastModifiedBy>user</cp:lastModifiedBy>
  <dcterms:modified xsi:type="dcterms:W3CDTF">2013-02-26T16:32:51Z</dcterms:modified>
  <cp:revision>8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3d000000000001024140</vt:lpwstr>
  </property>
</Properties>
</file>