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6997-7AC6-4EBC-B360-71EC8745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D1DE-FCEB-4A88-B742-F0668E6D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3A20-71A3-43CB-82A5-3381661F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2412-FF1A-4964-AA28-4023ED7F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F3FC-2DE3-416F-A73B-3660ACE3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EDB6-79B2-40AB-A9FA-05FEBDF8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5104-90AE-4CAA-8D45-1F48AE44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27AB-0862-4A55-8E48-7443A0BB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195B-0923-469E-A37F-B270DAB9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86BD-CFA5-4769-A226-7220D277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3E4E-004B-4F83-91B8-F498C33F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DCE0-8FDD-485D-B947-20395927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C427-199D-443B-AC16-EEE7020C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1A47-5DBF-4FEA-A3D7-433DE4DD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C6FC-7B12-41F5-B2A6-03F5BA5D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6E9F-AF32-48AA-BD84-F0FE4A92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EB8F-339B-4098-836D-4E9BA7B9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A22F73-5190-4E26-94E8-539D2CB8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7F25E-1A61-400B-B76C-14290BA0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A4483-470F-4E21-9EE7-84C98F1A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57A498-D2AF-4253-8EBD-E7F8F91E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F044BF-4750-4970-B20B-3EFDF9F4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57CE-C97E-4073-965E-AED0D458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92876-F800-4ECF-A0FC-755EB7F1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0B6F7F-6DD7-4679-B6DF-10F0F613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89FAE-E515-4F60-9875-D6C4D3F2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0C2F86-D6CB-4FB6-9BDE-5B992654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953724-B37C-417E-BEC5-A5EF10BB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79039-A030-41D0-9FC4-80B5259E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E6A45-4E5E-4809-83A7-720C92E9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3D53C-C7D5-4525-9BE7-B678D545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C59FB-69C4-4758-9F2F-E6BBEE1B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65D80-0046-42BE-81E8-6CBCB193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CD4D-E56A-464D-A8EA-89FC7B49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16728-D670-461D-A893-BB45DCEE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F4D9C-BA45-4317-BAF4-45D36906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E6299-1927-40E3-8CE6-D3E1D114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2862A-FFE5-4360-BBEB-072D3B12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303F3-8B69-44AE-B671-E86D03D4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5D33A-3ABF-4846-9985-A77A7633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912AA-311B-41AC-8379-7FC82F6F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75990-C623-4E12-8A79-F0F56C61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DAAB9-E6F6-4CE1-A7EF-4BBB4CDA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9DF9-5889-4039-AFF6-027424C9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E6E7-85D8-4080-B059-0D67870C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DD38-E717-4BE9-AF3E-AB2B42A7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D291-46FF-46D2-90BA-C42238A7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6E07-28A1-49AC-9476-6BB61B4A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14EF-F938-4984-A79B-43D5AA6B57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EE63-7FA4-48C8-8AEC-09F9CD77DBF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A344-01AA-4E84-88B0-0E4E5293A4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0FDC-1841-462C-B471-BC84E4F8155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25892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Відкритий урок з географії у 6 класі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176560" y="85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547640" y="1773360"/>
            <a:ext cx="64090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ема уроку :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Літосфер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Внутрішня будова Землі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611520" y="5392800"/>
            <a:ext cx="37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ідготувала: вчитель географі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арфоломєєва Г.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Заголовок 1" descr=""/>
          <p:cNvPicPr/>
          <p:nvPr/>
        </p:nvPicPr>
        <p:blipFill>
          <a:blip r:embed="rId2"/>
          <a:stretch/>
        </p:blipFill>
        <p:spPr>
          <a:xfrm>
            <a:off x="0" y="0"/>
            <a:ext cx="842472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3733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будові Землі виділяють три основні частин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емна к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нті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др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3851280" y="112536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645440" y="404640"/>
            <a:ext cx="25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дова Землі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-360" y="914400"/>
            <a:ext cx="4724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ітосфе́ра (від грец.  камінь і — шар, сфера) — тверда оболонка Землі. Складається з земної кори і верхньої частини мантії, до астеносфе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стеносфера —пластичний шар в верхній мантії Землі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Земна кора + Астеносфера = </a:t>
            </a: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    Л</a:t>
            </a:r>
            <a:r>
              <a:rPr b="0" lang="uk-UA" sz="2400" spc="-1" strike="noStrike">
                <a:solidFill>
                  <a:srgbClr val="c00000"/>
                </a:solidFill>
                <a:latin typeface="Tahoma"/>
              </a:rPr>
              <a:t>ітосфе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2"/>
          <a:stretch/>
        </p:blipFill>
        <p:spPr>
          <a:xfrm>
            <a:off x="4724280" y="1676520"/>
            <a:ext cx="4038840" cy="4525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509440" y="378000"/>
            <a:ext cx="25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Літосфер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1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457200" y="1905120"/>
          <a:ext cx="8229600" cy="3033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тужн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ь,к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ари гірських порі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тиненталь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-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адковий гранітний базальтов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кеаніч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-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адковий базальтов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рехід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-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адковий гранітний базальтов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найдіть відповідність між поняттями і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изначенням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1. Літосфера            А. Верхня тверда частина Земл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2. Мантія                 Б. Земна кора і верхня частина    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мантії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3. Ядро                    В. Внутрішня частина Земл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4. Гідросфера           Г. Центральна частина Земл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5. Астнеосфера        Д. Частково – розплавлена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частина мантії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6. Земна кора           Ж. Водна оболонка Земл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7.                             З. Повітряна оболонка Земл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-541440" y="1341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Практичність теорії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4" marL="216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Географічна задач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1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Через 33 м. у глиб Землі температура підвищується на 1 градус С. Яка температура буде в шахті на глибині 900м., якщо температура шару земної кори, що не залежить від пори року, становить+10 град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Рішенн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65400" indent="-37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900м. : 33 м. = 27,3(раз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65400" indent="-37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1град. Х 27,3 =27,3 град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65400" indent="-37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+10град. + 27,3град. =37,3град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Відповідь: температура в шахті буде 37,3град.С. на глибині 900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Задач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Яка температура гірських порід на глибині 1000м., якщо на поверхні вона становить +20град.С.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"/>
          <p:cNvPicPr/>
          <p:nvPr/>
        </p:nvPicPr>
        <p:blipFill>
          <a:blip r:embed="rId3"/>
          <a:stretch/>
        </p:blipFill>
        <p:spPr>
          <a:xfrm>
            <a:off x="3276720" y="5562720"/>
            <a:ext cx="1081080" cy="10270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20560" y="-7920"/>
            <a:ext cx="3829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Как яблоко на блюд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емля у нас од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е торопитесь, люд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сё выскрести до д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е мудрено добра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о скрытых тайник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азграбить все богат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У будущих ве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418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14:40:14Z</dcterms:created>
  <dc:creator>User</dc:creator>
  <dc:description/>
  <dc:language>en-US</dc:language>
  <cp:lastModifiedBy>User</cp:lastModifiedBy>
  <dcterms:modified xsi:type="dcterms:W3CDTF">2013-02-09T16:50:54Z</dcterms:modified>
  <cp:revision>4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f000000000001024140</vt:lpwstr>
  </property>
</Properties>
</file>