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80B-C487-4B79-840F-BF3FCBFF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FB4-5CFA-4E04-B996-CEBDA779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A87-B7CE-4E82-9BD2-9E2277A7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DE8-81FA-45CA-80CC-6AE190EF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66FE-6512-4AFE-B9D8-DCC0251A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073C-AE55-4CFB-AB3C-2E75AA2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503F-83AA-4374-A69D-6218D0C9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7A30-7C18-42A0-998E-FFB36190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D584-111F-4410-9DB0-ABDD5AA6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8318-9772-4600-882A-8BCE69A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975C-F77C-4282-8001-23C4709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7D7-045A-4A26-AD41-AE73A5DC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15E7-7198-460D-9F22-72B63C7D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9060-0426-406A-BD05-E59F7F56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6DE0-593B-46FB-8505-BD19F7D4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FBFF-253D-4CBB-A135-4CE56539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8E4B-80ED-4731-8689-B782071F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0770D-572B-4CEC-B454-9799347D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727D6-F35B-40D6-9681-06738B23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FCAD3-0A82-4E4E-A96D-756F43EC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EFB33-637B-4924-8C0A-63BE1419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C7B5D-9FE2-44BE-92C2-AD8D5A9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C83-238F-477F-AA4B-BC80AE3B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E14C7-00DB-49DE-BA55-3609EA5A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39BE5-D0B6-48DE-8B41-AA89140E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0659B-2444-4142-A5A2-872FAF9A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D6390-206F-4037-95E8-DE99027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7CCD5-997B-4EBA-8DCA-8E114502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9B8EF-22AD-4C62-80E8-206116DD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C0EB4-C783-4108-8A73-84EE49EB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10B0-B2F0-4EEB-9365-6A643FBB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389C-7CF7-4088-A846-9B63498D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EF1F-6CA3-4D5D-B125-83637235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CBF-BCF6-468B-8EC3-21D42DFE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211B-583C-490D-826D-8915BD51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12C0-0BF8-46AE-9C9C-97118D3D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E531-FC8C-4AD8-A7A3-5076ED8C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EE06-A8D3-4282-AFFC-40E21CE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25409-EC69-40DC-BBF9-DC870F0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840C4-3A8A-4386-8500-53AA90D9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3E38A-B680-4BF3-8C86-7C45C338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4C99-C748-490B-B808-8CC6C70A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02F7-B8C2-4664-97E1-69B8259A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FC1-3B9E-4C9C-8324-6D9A255F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D17-9C16-401E-8D75-2D89D6BE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7AA-73E8-4F2A-8411-CA287BE5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354-F098-4C1D-AB81-D341A77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204-C1C2-47EA-B846-F14E61A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EA30-6B3C-4E96-B630-B73594319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1C68-DD18-411E-8579-C4545B37816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3F66-A0AD-4FE4-A6C4-20DEAA38F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BF71-D053-4588-AC73-865DDA656D1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Відкритий урок з географії у 6 клас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17656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47640" y="1773360"/>
            <a:ext cx="640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а уроку :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нутрішня будова Земл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611520" y="5392800"/>
            <a:ext cx="37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готувала: вчитель географ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арфоломєєва Г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8424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удові Землі виділяють три основні частин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на к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ті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3851280" y="112536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5440" y="40464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ова Земл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72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ітосфе́ра (від грец.  камінь і — шар, сфера) — тверда оболонка Землі. Складається з земної кори і верхньої частини мантії, до астеносф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стеносфера —пластичний шар в верхній мантії Земл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Земна кора + Астеносфера =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    Л</a:t>
            </a:r>
            <a:r>
              <a:rPr b="0" lang="uk-UA" sz="2400" spc="-1" strike="noStrike">
                <a:solidFill>
                  <a:srgbClr val="c00000"/>
                </a:solidFill>
                <a:latin typeface="Tahoma"/>
              </a:rPr>
              <a:t>ітосф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09440" y="37800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905120"/>
          <a:ext cx="8229600" cy="303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тужн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ь,к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ари гірських порі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иненталь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-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кеаніч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хід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найдіть відповідність між поняттями і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ення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. Літосфера            А. Верхня тверд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2. Мантія                 Б. Земна кора і верхня частина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3. Ядро                    В. Внутрішня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4. Гідросфера           Г. Центральн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5. Астнеосфера        Д. Частково – розплавлена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астина 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6. Земна кора           Ж. Вод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7.                             З. Повітря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-541440" y="1341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рактичність теорії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16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еографічна зад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ерез 33 м. у глиб Землі температура підвищується на 1 градус С. Яка температура буде в шахті на глибині 900м., якщо температура шару земної кори, що не залежить від пори року, становить+10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ішенн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900м. : 33 м. = 27,3(ра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град. Х 27,3 =27,3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+10град. + 27,3град. =37,3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дповідь: температура в шахті буде 37,3град.С. на глибині 900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а температура гірських порід на глибині 1000м., якщо на поверхні вона становить +20град.С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3276720" y="5562720"/>
            <a:ext cx="1081080" cy="1027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20560" y="-7920"/>
            <a:ext cx="382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к яблоко на блюд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емля у нас о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торопитесь, люд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ё выскрести до 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мудрено добр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скрытых тайн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азграбить все богат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будущих ве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41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4:40:14Z</dcterms:created>
  <dc:creator>User</dc:creator>
  <dc:description/>
  <dc:language>en-US</dc:language>
  <cp:lastModifiedBy>User</cp:lastModifiedBy>
  <dcterms:modified xsi:type="dcterms:W3CDTF">2013-02-09T16:50:54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f000000000001024140</vt:lpwstr>
  </property>
</Properties>
</file>