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B6E-DF53-4D43-A341-8D1ADB45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AE8-7A09-4D22-8A3F-D0681817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A80-C27F-427D-8D90-BCFB001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B09-EBCD-428D-B8A5-742CAFE7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EB70-7B35-4460-8A1E-07F8FC45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6CE-6143-469B-AF49-990E51A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29C-016B-4BDC-A9EA-D156DF01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9FE-6F59-4EAC-8926-62824083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CF1F-1B2F-45E1-89E1-B0492DB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EAE-671D-459B-9595-3506D1DC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25A-777E-4E25-A409-B7C4CC27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B3D-9F7B-4E21-8F4F-5A40F8C9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0A07-BF20-4005-9690-8CEEFE6C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33B-5311-43EC-BAFB-ED65F4F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EFF2-41E1-4F79-AD07-1E4A227A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AD66-CE30-4A24-9DC0-83744E5E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99C-51F3-467C-A87C-0A2D44D8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D8872-56D8-4CD8-897D-858C8F7C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7CA55-FD93-4B8F-80C1-3A01AD0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5A6CE-A918-4D5B-88A2-6E204AC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CCF15-0AEC-4ABD-9C02-8D853545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F423B-49BF-49FC-8AFE-EE85585E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3F7-A648-4A56-955B-5A6B309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C0493-F950-4671-BD5F-966220F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8DDCF-0947-4589-B783-2714C1D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A3BF-F400-4349-BF1E-EE3EA72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FBC97-8E61-4756-A198-AD574BC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B1EDB-A16A-414A-8C01-B44E5D70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9C9F-0501-43C0-931C-D7F59656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28813-05F8-485A-AB07-FF6F8CE7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B144-AF12-4FC7-A6D7-A5719D70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C3B5-479F-4E27-9CDB-0B72EFF2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3643-04AB-4854-BB7F-2A1C2FB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BE1-DF19-43D0-A26C-2057965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1506-708C-4DFA-8757-0B9E1F7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6E77-A668-474C-A5A9-1DCE8CC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DA7C-6A40-4968-984C-86304CB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7D31-0D4C-400F-A39E-556D87C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AE36-57EE-435D-B477-E6EF168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2168-EF93-4208-AB7F-EC3F2BCB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BD60-BDA4-4238-9B16-1E626F32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D2BE-DE9C-4BFD-94A7-1FD607CA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CD2B-F5B3-45BF-A879-23124CE0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689-0C8D-4483-B4F0-623E3E71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94A-EBF0-4654-8BFA-8B9F0CF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454-991B-4DE0-BA39-0DD291A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264-2CD5-4108-887A-9A5D748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CD0-9B5C-4232-82AA-E9B16E1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509-DE8E-4F34-88F9-ADE01331E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721-458E-428F-9390-37AF42024BE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869-CCCB-4D60-A4A3-D9B24AD59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7BD8-EC24-4BD7-B6A2-71D4629779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ідкритий урок з географії у 6 клас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6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47640" y="1773360"/>
            <a:ext cx="640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а уроку 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будова Зем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11520" y="5392800"/>
            <a:ext cx="37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: вчитель географ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арфоломєєва Г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424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дові Землі виділяють три основні частин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на к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т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5440" y="40464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ова Земл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ітосфе́ра (від грец.  камінь і — шар, сфера) — тверда оболонка Землі. Складається з земної кори і верхньої частини мантії, до астеносф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теносфера —пластичний шар в верхній мантії Земл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Земна кора + Астеносфера =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   Л</a:t>
            </a:r>
            <a:r>
              <a:rPr b="0" lang="uk-UA" sz="2400" spc="-1" strike="noStrike">
                <a:solidFill>
                  <a:srgbClr val="c00000"/>
                </a:solidFill>
                <a:latin typeface="Tahoma"/>
              </a:rPr>
              <a:t>ітосф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9440" y="378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905120"/>
          <a:ext cx="8229600" cy="303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туж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ь,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ари гірських порі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иненталь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еаніч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ід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айдіть відповідність між поняттями і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енн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. Літосфера            А. Верхня тверд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. Мантія                 Б. Земна кора і верхня частина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. Ядро                    В. Внутрішня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. Гідросфера           Г. Центральн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. Астнеосфера        Д. Частково – розплавлена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астина 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6. Земна кора           Ж. Вод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7.                             З. Повітря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541440" y="134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актичність теорії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16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ографічна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ерез 33 м. у глиб Землі температура підвищується на 1 градус С. Яка температура буде в шахті на глибині 900м., якщо температура шару земної кори, що не залежить від пори року, становить+10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іше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900м. : 33 м. = 27,3(ра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град. Х 27,3 =27,3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+10град. + 27,3град. =37,3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повідь: температура в шахті буде 37,3град.С. на глибині 900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а температура гірських порід на глибині 1000м., якщо на поверхні вона становить +20град.С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1081080" cy="102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20560" y="-7920"/>
            <a:ext cx="38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к яблоко на блюд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емля у нас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торопитесь,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ё выскрести до 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мудрено добр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крытых тай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грабить все богат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будущих ве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41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4:40:14Z</dcterms:created>
  <dc:creator>User</dc:creator>
  <dc:description/>
  <dc:language>en-US</dc:language>
  <cp:lastModifiedBy>User</cp:lastModifiedBy>
  <dcterms:modified xsi:type="dcterms:W3CDTF">2013-02-09T16:50:54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f000000000001024140</vt:lpwstr>
  </property>
</Properties>
</file>