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304-81D1-4BAD-B7D7-49E70D38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7F5-B9B9-439C-88BE-8334CDBE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1F1BA-6EDA-428A-A7B3-F66B3BD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0D09B-AF38-4E7F-857E-BFF5D5F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49DE0-C65B-44B0-A14A-CFAA096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6AE4C-B1AA-49DC-9041-AA75C75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BC827-CE3F-4B3D-A89B-680E851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C4BAB-238B-4625-A026-5FEED94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0EC62-AC27-4033-88AF-7634799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E00C4-A564-4F74-A3D3-07E2DC8B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17B89-77B3-4BC8-AA5F-F2FC78D1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33315-C675-42FC-9766-844E10F3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D79-2567-4DE0-9C49-FE09DE03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46672-398D-44C4-9AAD-88E3700E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AB285-BB33-40B1-BFF6-410AC29A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FFCB7-812E-40F6-A3F6-541566A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2986E-CEA7-42C8-A335-152AB95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CAAD0-50A7-4533-A440-37548A91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1C836-4F0C-4444-8506-670FC1AC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13760-DA51-4CDF-AA9F-EFA56A5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504D4-59D4-4FE4-A3AA-342192A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1868C-53B1-4F64-9905-9FDB2799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F81FC-BDEF-412E-9E75-F9A43F44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366-1B9E-4845-ACD7-2157B4C9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682C3-B582-4CCB-BD2F-CBBAA247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854F-AC88-4492-B721-8AF57139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0FE72-E0C4-41E0-95F6-E691CD5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9DF25-83FD-4E19-93FB-00948CA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67F1F-AC41-4574-94BA-004FF7E3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C6E76-3AB6-4E03-8424-39566541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8B665-DB3C-4BBD-B6E9-01E8B6C2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92E2-7DCF-4008-9CA4-30A79C4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B472-3612-4860-B114-7926CBB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27635-4356-48E3-AE60-E4BC1F8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181B-123B-4D63-A0E7-C9C5FC20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46BBA-1DA4-45B1-A1E6-E85B667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0E416-A579-4445-B111-40265E10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3F4C0-DD7C-4659-A4EB-FEE8F8FE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98306-620F-4BF6-B327-E1BEBEA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5439E-B1B1-44A3-B6E8-796FFC9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E42F6-4B3E-46ED-B5FB-5CD8B3D9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E3871-88B7-485A-B2AD-EF1CD23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84C12-CA84-433A-B159-48A63798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BB671-505A-43C6-90DC-62FC6C8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B0AA1-C9BB-4748-9C50-B4CC64C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D6D3-E279-47F8-8893-CAB953F8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D5F42-47C2-494B-BBF6-084F1F4F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43A75-D581-4F4E-A261-0C59E78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654FB-88F5-4AE8-8E72-F9A3688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41E56-6F15-4506-900C-DDF65F28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085F4-7664-470E-A48B-715BB98E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DB34-684B-4ECE-8F3B-94608BA4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2750-C9EC-4AAC-A9EC-064C7CC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7C3-FD90-4105-B244-0DBC023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3191-03D1-4681-BD84-6A4793F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B4E7-B74F-44E8-8582-DB3ECB8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C92-1C5F-4479-880E-EE83836F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11C2-C6FB-4C00-AAE5-F80BAD1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FFD-1AE3-41AD-9D07-0FAEC9BE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9042-0CB4-4ACE-B394-2FA96CC9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D0E-3E6F-43AC-97D2-29B580DF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DED5-7622-4303-8E26-65B36EB3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82AF-5047-418A-9BE8-3C7EBA00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9E76-1979-45B6-B146-579F4DF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1B48-0784-4437-B15A-6C5FAAA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9C5D-65DF-4A21-9524-27D2322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7568-FA76-4B07-B954-D26F87ED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D0D-CD24-4F1F-AF03-0DD28BB5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316F-C5EC-4B37-B62A-AF20DC34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7297-D904-4EF3-849E-5D61789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8E2F-9830-4E87-9B8C-C9221A2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3C46-62C6-4D5D-A69A-9077D934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657A-75B5-4CB0-9E63-DCC0CA1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0BE5-87B8-4D67-B901-1C00AC2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6FD7-2296-47A1-99C0-566E70D7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ECA4-CDBB-4D68-8EC2-816DEE1A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2126-B4CD-49C3-B455-B981B18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968D-AF0E-4782-BDC9-CCF74DE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891-44D9-4ACA-B96E-4AFDC08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E49A-0860-4810-BF4C-CD94757A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91AD-2763-4AAF-9807-9D45274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2129-2489-4678-B271-C9EC06DF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6B65-9FE4-4ECE-B9CF-0F0172B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18C2-FCEA-44A9-83D5-DAFFA04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A2A8-7F78-40CF-AE06-43987564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76EA-C3C0-4006-B9B9-C2CBB73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BA73-0F7D-487E-93D2-9C20EC91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B5BD-6B23-405F-B422-D29A162C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B231-D2BF-490C-BB97-DCC5DC5D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578-3A33-47EF-B5D6-5E12AA5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3F82-98D3-46E5-9339-E0F4546D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1AAE-5500-47A6-8717-0A96AA7B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694C-F338-4B15-8B47-5FEF8712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7060-2E5B-46BE-A425-7A89E95F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675F-8D38-4F6A-B1FE-44EA66C2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C3E6-0C86-4A9B-B941-2DD6250A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8423-0A4B-4943-A315-D9C2FFE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0CB93-BFFC-42B2-A88F-F2982202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338E-9658-4AD7-9B06-52961CBD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828D1-4264-49FB-AAD6-293AFF2F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9B0-6384-4B02-8BFF-5BB772A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5AAC-61EF-4774-901A-4E285436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B448-A047-4B38-B01E-55D6FBA9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6B90C-97EC-4B4D-BB65-498DC3A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6906E-5AF1-496E-AB7F-980D0860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9893-2907-4478-A4F2-27F0E81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9B2E-0FB5-4F12-AE6C-523B7006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BF64C-378F-44EA-9470-C4D0744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57BC9-02BB-4118-8C25-F63D198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2409D-E983-4764-9E3D-8C8BD9A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C4A2-9E7C-4767-84D5-8B93FC9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43D-0EC6-49F4-8B5F-CB862CC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43E6-D9C5-41CC-961C-4FD9058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4F4FF-383C-4BAD-B62F-26A64411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BBCA-3193-4B03-9117-7CF5A42C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BC9E2-091D-4A4D-B082-287DCE7B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E626D-E59A-4685-BE24-6C5B19D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8794-EE1A-489A-97B6-877CC231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8E83-4506-48A7-B0CF-3500EE1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52283-EBA8-439E-AFA7-ABA5C39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E24DE-E984-4D0E-A275-AC337D1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9EF1A-6469-4DD8-80B3-C23F270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3A7-BA75-4462-AE03-753DFD3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B1D2-3460-4DED-9819-1485C51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80F16-692F-4990-A157-03C06128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61FC-3B68-4605-A6F3-89ABFD5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5968-BB79-43B7-AE1D-D35F8973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7ACF-C76E-4424-AAF9-90CEF00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A309E-B6BA-4C56-81AF-87967AFA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4E6B8-19C3-459A-9805-B0F69C8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816E-D474-4EDF-8AC4-01FCF5A2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659C-BFF4-4D25-AFC0-AE16A68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ED280-7E50-4318-B2F4-975A6764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267-B447-43E9-AC7C-25E496E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15237-EF6F-4258-87B8-2D8A43B3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45C1-BBF0-48C1-855B-F0A35E7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26CE0-D177-4093-8ACC-AC27CA8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709F8-B009-4413-9031-3CA4D8B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4C6AF-950A-4633-A4BA-38A2975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EB95-206A-4308-A12D-768B47E6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29044-B6DC-48D8-8AC8-F0170C30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842BE-1DEC-4C45-B5B0-D402BC85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F1A40-895A-4642-A4F7-2C2FF98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530BC-3A50-4E87-9521-30452964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0028-7EDD-4ADC-B5CF-B3C29B4590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40F-C1FD-4BC8-863A-E48B8AE35B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187-BB1A-48B0-AC73-A9E4F0C2013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CA4F-B981-4E06-B7B6-3BD01490A4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9BD8-A97C-4A54-A5ED-3265018AF3D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8F1-D6ED-4F16-8F69-52EECE696D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4CB8-D755-4832-8B64-A2C85E0052F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458-CAF3-4D9A-9445-310FC27705B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048D-9177-489A-97A0-C4721370F76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A2F-74C8-4779-AF3D-871C75408D1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61C0-04EF-4CC1-A5D0-4EC4B730F97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210-7E87-4CF6-A763-DCD2351F443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785840" y="3785760"/>
            <a:ext cx="3900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ГОТУВАЛ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Я 10 КЛАСУ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ЧЕНКО ЛЮДМИ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Заголовок 1" descr=""/>
          <p:cNvPicPr/>
          <p:nvPr/>
        </p:nvPicPr>
        <p:blipFill>
          <a:blip r:embed="rId1"/>
          <a:stretch/>
        </p:blipFill>
        <p:spPr>
          <a:xfrm>
            <a:off x="633240" y="-208080"/>
            <a:ext cx="7785360" cy="3359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615960" y="3279600"/>
            <a:ext cx="3693960" cy="5510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-РЕСУРС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ІЛЮСТРОВАНА ЕНЦИКЛОПЕДІЯ ЕРУДИТА. КИЇВ “МАХАОН-УКРАЇНА” - 200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Georgia"/>
              </a:rPr>
              <a:t>Використані ресурс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. Що це?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Забруднення довкілля  - процес зміни складу і властивостей однієї або декількох сфер Землі внаслідок діяльності людини. Приводить до погіршення якості атмосфери, гідросфери, літосфери та біосфери. Розрізняють забруднення отруйні, хвороботворні, хімічні, механічні і теплові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3571920" y="1285920"/>
            <a:ext cx="45813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Чиста вода – це справді цінний ресур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Воду забруднюють каналізаційні стоки, що можуть містити хвороботворні мікроорганіз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3143160" y="785880"/>
            <a:ext cx="5643720" cy="507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Серйозними забруднювачами води є також нафта та відходи хімічної промисловості. Такі речовини розкладаються дуже дов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3402000" y="1238400"/>
            <a:ext cx="5388120" cy="855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повітря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Повітря, яким ми дихаємо, забруднюється різними речовинами. Більшість із них утворюється при спалюванні палива на фабриках, теплових електростанціях і в двигунах автомобіл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4714920" y="71424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3187800" y="3706920"/>
            <a:ext cx="3193920" cy="475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Дощова вода в нормі має слабокислу реакцію, оскільки при розчиненні діоксиду вуглецю у воді утворюється слабка кислота. Продукти згоряння в атмосфері утворюють додаткові кисло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3124080" y="1511280"/>
            <a:ext cx="5639040" cy="434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Кислотні дощі шкодять деревам; вода в озерах стає настільки кислою, що в ній не можуть існувати живі риби та інші організми. Кислотні дощі руйнують кам'яні стіни будинків та мармурові скульптури під відкритим неб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3475080" y="1200240"/>
            <a:ext cx="5334120" cy="831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лектроніка та радіотехніка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Інтенсивний розвиток електроніки та радіотехніки викликав забруднення природного середовища електромагнітними випромінюваннями. Головними її джерелами є радіо-, телевізійні і радіолокаційні станції, високовольтні лінії електропередач, електротранспорт, комп'ютер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754600" y="633240"/>
            <a:ext cx="3114720" cy="4608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3260880" y="3279600"/>
            <a:ext cx="3541680" cy="54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кологічні проблеми Україн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Безпосередньо в Україні загинули сотні малих річок, деградують Чорне та Азовське моря, спотворений забрудненими водосховищами Дніпро, винищена значна частина Карпат, задихаються від промислових і автомобільних викидів усі великі міста і обласні центр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5407200" y="706320"/>
            <a:ext cx="2835000" cy="4219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3687840" y="3492360"/>
            <a:ext cx="2693880" cy="401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6:25:09Z</dcterms:created>
  <dc:creator>Андрей</dc:creator>
  <dc:description/>
  <dc:language>en-US</dc:language>
  <cp:lastModifiedBy>Admin</cp:lastModifiedBy>
  <dcterms:modified xsi:type="dcterms:W3CDTF">2013-02-03T16:43:15Z</dcterms:modified>
  <cp:revision>12</cp:revision>
  <dc:subject/>
  <dc:title>Забруднення навколишнього  середовищ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4a000000000001024140</vt:lpwstr>
  </property>
</Properties>
</file>