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8592-2949-46E7-8E79-2D3D2D6F0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93BC-667A-4C40-A35B-34D558A2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3DE918-15E1-42D4-9619-E1451DC3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84620A-8B0D-47F5-8025-D4D55479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A71FFD-C521-435E-B2A4-B0BD1DAF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238F07-C9C6-4A81-A471-F11152D9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774B7E-AC31-4749-A2CE-13C61636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73D24B-AA09-4E6F-BF8D-303B42A8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1BFB81-9A65-41FA-B4D2-42A7917F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C5B8D3-B7A3-4910-9077-E6E508FCA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847ACB-6B6F-4E2A-8973-2ADE72911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0F129F-D933-4753-922E-268B65C6A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B973-F520-41F4-9DE5-49F7AB69A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786847-A12C-42FF-A162-648AAA19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FBC8C6-CBA2-41E2-AFEC-AAD4B52B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E559C3-9BB4-443C-8A5A-E9D636BD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6726DE-B62C-4381-845C-A9776457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4FB665-DFE8-4688-86B6-3F2C94D4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755BC4-EEA4-46BC-AEB1-D620B8F4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FFF3A8-104F-40E3-A18E-E16F889F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C50C67-5131-462D-B29B-1E2926A8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AA0503-2DDD-4788-8BFD-3DBBC1C0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6FE29F-9022-4CD8-A1D0-BACF390B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6AF0-BAD5-4D06-AEB8-8F08DBC2C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0D0FC7-4042-4E3E-BF0C-E911FA5E1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34963-F9B6-4AC5-82E1-062675C6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34AF4-06FF-4CB5-9F15-0914D5CB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AFCC8-D53C-4581-817F-73DF0DA6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86998-9187-4F83-93AD-9CC2D5C8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16D55-678E-42C5-9A04-DE939A72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F19BC-01FA-4E48-B93B-D5EFCEEB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10A80-1471-40DC-AC57-EAD4F378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5FDC1-CA19-4CCE-B91D-E9B53611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BAE4A-7191-484C-83E5-941013F4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8F18-E3FD-4BBD-AC3F-DE130AB29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2F290-8BCB-42A2-A818-6307C50E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4A58A-E1D2-4048-A3AF-79278EE3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DDD67-FE2B-46A5-8D59-09A81B16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8E72AE-3476-464A-865E-B7920A95E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77F756-43E0-4AAD-99AA-A51846A9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C31662-D4AB-4BA3-9DA7-635F821D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E9CDAD-D551-4427-B368-D62F6451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628A4F-B5EF-472B-B075-24B5A019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8A2B18-D7DC-40B0-BD3F-584B1168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A2EE5B-6412-44D3-875B-88867CFB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7A3A-B015-409E-AFBC-5AFBBA0D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4800A2-8087-4E01-AEF2-254123EA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488AC4-C482-4BD5-A97B-DB445CCF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80019D-BFC0-4AE6-92E7-123FA356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31257F-6CED-4A03-9D03-F8248FA56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F94562-5DD2-4E71-9A3D-7E0B2C43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FBC0-B91A-4362-89B5-A378AD51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C068-05BC-4E51-A74D-685E0986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AD1A-E1E5-4828-A222-5DE6D2C0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F10B-C21B-4C9E-9264-8F225DF6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C056-907F-4ED4-8A2B-BED91269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ECFA-7FE6-4D9B-A182-444A874F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8327-4635-41FE-880C-07558D8C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2140-3EEB-4AC4-830D-3B6B7132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AAC2-3758-4229-9A54-952B4B68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17ED-8F95-4ADD-9A57-3323E1740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5FCF-6B2F-4A50-A467-C2802907A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1BE03-A04A-41DA-AF01-A922BAF5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140F4-EE91-4A9F-AF5A-5A2F8378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D45B3-6416-4AE7-B4A3-5B1D0587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40283-48D0-49B6-8FDB-FBC90CA4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B42BF-918B-4F64-A155-4714E46C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63DA-C56C-4CFE-BCBE-B22A512D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944AC-8062-4231-BB44-7CF91A71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58F6E-F37F-427A-BB0D-A1D7C7BB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8EB93-BEBC-4936-87DD-EFC5B8EF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CF4DE-493D-4A6E-AE63-42866E76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E9242-ACE4-44C3-AF55-01B7B4AB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27552-7E28-4621-A1C3-4537A5115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49794-BE80-4239-B50E-C274B67DC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0482D-E3B0-4484-B6EB-10F9272D9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385E8-76E2-4CC7-9425-28F2D027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87898-CECD-4F3E-B4B0-CAD4E30D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52AE-5B15-4F56-83D1-C66B64B5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E3BBE-275F-4479-A6C2-F2462C4E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F6AC9-2260-491C-968D-B35155C9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10033-ED03-4553-81C1-D1D2F6A3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957EC-3063-4ABC-8415-458F8480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5A165-7B4C-4E9F-8B71-22BB527D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1235C-43D9-4E5F-89C9-06254557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B868C-567A-48CC-9014-E8BA88F2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133B5-965A-4B54-A75B-FAB05D576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B8BFB-52DE-42A2-ABEE-54A0F5CE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3C203-67B2-4D81-B6B9-8EA6EB534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6D18-02FA-4FB8-AA6D-4A588642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A868D-F978-4656-A1A6-2520BB09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6F91E-F9DC-4B39-8289-C58E2CA1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2FF67-DA83-43F7-AD63-895F9A74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D25BF-1484-411C-8D3E-9909540D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97B7A-E8ED-416C-9A61-21F62587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EDCF8-13D4-4F27-92CD-6411F968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45E52-D377-429F-B939-A362A161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85FD6-5324-4FFE-A3FF-FEBDDF73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E11E5-991C-4044-B92E-9CD48012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7F073-82F2-4C6A-9B40-138504CF1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4FA5-6326-45F1-91CD-B8A55FA6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CF5D5-215A-4C5F-A228-B6E6C8784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AC20F-D6B6-4757-9A50-29BD8DCFB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1BFD8-9C9B-44CD-9463-E2B00474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C56D2-22C3-4101-A82E-BE4AF588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1E9AE-7E2A-45EE-9ED6-88EFA0FC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C65A4-E093-45FA-B9FF-A2825685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E5C6A-8DA9-440E-8F2A-759BA547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6FBAE-8786-48F9-A76E-8B24A683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906ED-D206-4993-BC9F-985C9DEB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3EBD9-1599-4B22-B488-7BDF7FF9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B51E-830F-43A4-9CAC-B985A220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41378-1EED-4C84-8A3D-2DFDE193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F8DFA-D2B9-46F4-8EFF-CE1B18E0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406F7-B9FA-4603-8EB3-3DB43D96D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A3DFE-E272-48E2-B29A-FC03B185A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9B439-3808-4CBC-BE8D-614C20C4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F0000-0C94-4FF8-8C8F-77B9ADD5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24563-D31E-40BC-8197-597AA30D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DEFA4-1981-4AD5-82E1-1AE02D32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E3D8C-7252-4EB8-B736-895D1BF3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F783F-862C-406A-9DE5-8C405FEE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9D07-598C-4D6F-B036-360DDF55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49A51-99ED-4F6D-9D8E-5469ED83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DA3F8-EDA5-438B-8115-F2F5D497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662FD-74EA-49DE-8518-565E379B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DE679-EC4B-4F6C-926A-16AF9B7E2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AAB2D-A2E1-4703-AD20-C4FA925FC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78BFD-14B6-41AC-8E6E-E476936B3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4DBB0-281A-4539-8D67-0CC078B1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99C4D-17AE-4083-98C2-8BF1095E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1C26E-AC40-47DB-85E2-F8DBF121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DD2B2-9E4A-4F22-A9F2-E181FEC2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AE18-346C-4509-9DC7-2AFB413B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C47CA-528A-43E2-8226-B82EF771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67413-2228-4534-834B-8743D2EA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50FAC-1155-4CB4-AC49-2746314E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814B4-B39B-44E1-A2EA-CA55BC3E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13A26-5ACE-4A10-A16C-F3BC34A7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92CCA-33BA-4861-AA4E-565BFAD82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ED2B2-D644-4CDC-9050-7B3810B7F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ECCBD9-D5FE-452C-9804-76FDF754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41D5F3-9369-4167-BB1D-12452B4C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177B54-4A85-434B-9582-4CA19ACA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51AB-03F4-4F12-B078-96F603EF3D2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EC2D-51E1-4361-8453-AD65641A5A1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1A39-A161-4E74-8119-18B021C4509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4071-3EB6-48F6-903F-89BE499C1DC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502A-D8B3-4185-BA82-7810ED15B37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E757-F928-45DB-934F-D31785D69A9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F00B-12F9-48D9-975D-66F4ABA8314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AAE8-DA91-4687-B59A-6AE9AAF3E16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DBA7-044A-48A4-A595-E1B1FA05739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DFF0-FB3C-41A8-9655-80DFB047BA5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E00A-1D9F-444C-B2F1-B56FA2ADA417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3B35-4654-427A-9AD4-28659B3DDA2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4785840" y="3785760"/>
            <a:ext cx="3900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ІДГОТУВАЛА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ЕНИЦЯ 10 КЛАСУ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РИНЧЕНКО ЛЮДМИЛ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07" name="Заголовок 1" descr=""/>
          <p:cNvPicPr/>
          <p:nvPr/>
        </p:nvPicPr>
        <p:blipFill>
          <a:blip r:embed="rId1"/>
          <a:stretch/>
        </p:blipFill>
        <p:spPr>
          <a:xfrm>
            <a:off x="633240" y="-208080"/>
            <a:ext cx="7785360" cy="33591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2" descr=""/>
          <p:cNvPicPr/>
          <p:nvPr/>
        </p:nvPicPr>
        <p:blipFill>
          <a:blip r:embed="rId2"/>
          <a:stretch/>
        </p:blipFill>
        <p:spPr>
          <a:xfrm>
            <a:off x="615960" y="3279600"/>
            <a:ext cx="3693960" cy="5510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ТЕРНЕТ-РЕСУРС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А ІЛЮСТРОВАНА ЕНЦИКЛОПЕДІЯ ЕРУДИТА. КИЇВ “МАХАОН-УКРАЇНА” - 2005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ffffff"/>
                </a:solidFill>
                <a:latin typeface="Georgia"/>
              </a:rPr>
              <a:t>Використані ресурси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Georgia"/>
              </a:rPr>
              <a:t>Забруднення. Що це?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13840" y="1981080"/>
            <a:ext cx="271476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Забруднення довкілля  - процес зміни складу і властивостей однієї або декількох сфер Землі внаслідок діяльності людини. Приводить до погіршення якості атмосфери, гідросфери, літосфери та біосфери. Розрізняють забруднення отруйні, хвороботворні, хімічні, механічні і теплові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1" name="Picture 2" descr=""/>
          <p:cNvPicPr/>
          <p:nvPr/>
        </p:nvPicPr>
        <p:blipFill>
          <a:blip r:embed="rId1"/>
          <a:stretch/>
        </p:blipFill>
        <p:spPr>
          <a:xfrm>
            <a:off x="3571920" y="1285920"/>
            <a:ext cx="4581360" cy="4714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Georgia"/>
              </a:rPr>
              <a:t>Забруднення води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Georgia"/>
              </a:rPr>
              <a:t>Чиста вода – це справді цінний ресурс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Georgia"/>
              </a:rPr>
              <a:t>Воду забруднюють каналізаційні стоки, що можуть містити хвороботворні мікроорганізм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4" name="Picture 2" descr=""/>
          <p:cNvPicPr/>
          <p:nvPr/>
        </p:nvPicPr>
        <p:blipFill>
          <a:blip r:embed="rId1"/>
          <a:stretch/>
        </p:blipFill>
        <p:spPr>
          <a:xfrm>
            <a:off x="3143160" y="785880"/>
            <a:ext cx="5643720" cy="5072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Georgia"/>
              </a:rPr>
              <a:t>Забруднення води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Georgia"/>
              </a:rPr>
              <a:t>Серйозними забруднювачами води є також нафта та відходи хімічної промисловості. Такі речовини розкладаються дуже довго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3402000" y="1238400"/>
            <a:ext cx="5388120" cy="8557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Georgia"/>
              </a:rPr>
              <a:t>Забруднення повітря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Georgia"/>
              </a:rPr>
              <a:t>Повітря, яким ми дихаємо, забруднюється різними речовинами. Більшість із них утворюється при спалюванні палива на фабриках, теплових електростанціях і в двигунах автомобілі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0" name="Picture 2" descr=""/>
          <p:cNvPicPr/>
          <p:nvPr/>
        </p:nvPicPr>
        <p:blipFill>
          <a:blip r:embed="rId1"/>
          <a:stretch/>
        </p:blipFill>
        <p:spPr>
          <a:xfrm>
            <a:off x="4714920" y="714240"/>
            <a:ext cx="4071960" cy="307188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4" descr=""/>
          <p:cNvPicPr/>
          <p:nvPr/>
        </p:nvPicPr>
        <p:blipFill>
          <a:blip r:embed="rId2"/>
          <a:stretch/>
        </p:blipFill>
        <p:spPr>
          <a:xfrm>
            <a:off x="3187800" y="3706920"/>
            <a:ext cx="3193920" cy="4754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Georgia"/>
              </a:rPr>
              <a:t>Кислотні дощі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Дощова вода в нормі має слабокислу реакцію, оскільки при розчиненні діоксиду вуглецю у воді утворюється слабка кислота. Продукти згоряння в атмосфері утворюють додаткові кислот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4" name="Picture 2" descr=""/>
          <p:cNvPicPr/>
          <p:nvPr/>
        </p:nvPicPr>
        <p:blipFill>
          <a:blip r:embed="rId1"/>
          <a:srcRect l="0" t="0" r="0" b="-12"/>
          <a:stretch/>
        </p:blipFill>
        <p:spPr>
          <a:xfrm>
            <a:off x="3124080" y="1511280"/>
            <a:ext cx="5639040" cy="4346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Georgia"/>
              </a:rPr>
              <a:t>Кислотні дощі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Кислотні дощі шкодять деревам; вода в озерах стає настільки кислою, що в ній не можуть існувати живі риби та інші організми. Кислотні дощі руйнують кам'яні стіни будинків та мармурові скульптури під відкритим небом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7" name="Picture 2" descr=""/>
          <p:cNvPicPr/>
          <p:nvPr/>
        </p:nvPicPr>
        <p:blipFill>
          <a:blip r:embed="rId1"/>
          <a:stretch/>
        </p:blipFill>
        <p:spPr>
          <a:xfrm>
            <a:off x="3475080" y="1200240"/>
            <a:ext cx="5334120" cy="8315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Georgia"/>
              </a:rPr>
              <a:t>Електроніка та радіотехніка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13840" y="1981080"/>
            <a:ext cx="264348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just"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Інтенсивний розвиток електроніки та радіотехніки викликав забруднення природного середовища електромагнітними випромінюваннями. Головними її джерелами є радіо-, телевізійні і радіолокаційні станції, високовольтні лінії електропередач, електротранспорт, комп'ютери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0" name="Picture 2" descr=""/>
          <p:cNvPicPr/>
          <p:nvPr/>
        </p:nvPicPr>
        <p:blipFill>
          <a:blip r:embed="rId1"/>
          <a:stretch/>
        </p:blipFill>
        <p:spPr>
          <a:xfrm>
            <a:off x="5754600" y="633240"/>
            <a:ext cx="3114720" cy="460872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3" descr=""/>
          <p:cNvPicPr/>
          <p:nvPr/>
        </p:nvPicPr>
        <p:blipFill>
          <a:blip r:embed="rId2"/>
          <a:stretch/>
        </p:blipFill>
        <p:spPr>
          <a:xfrm>
            <a:off x="3260880" y="3279600"/>
            <a:ext cx="3541680" cy="5400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Georgia"/>
              </a:rPr>
              <a:t>Екологічні проблеми України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213840" y="1981080"/>
            <a:ext cx="271476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76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Georgia"/>
              </a:rPr>
              <a:t>Безпосередньо в Україні загинули сотні малих річок, деградують Чорне та Азовське моря, спотворений забрудненими водосховищами Дніпро, винищена значна частина Карпат, задихаються від промислових і автомобільних викидів усі великі міста і обласні центри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4" name="Picture 2" descr=""/>
          <p:cNvPicPr/>
          <p:nvPr/>
        </p:nvPicPr>
        <p:blipFill>
          <a:blip r:embed="rId1"/>
          <a:stretch/>
        </p:blipFill>
        <p:spPr>
          <a:xfrm>
            <a:off x="5407200" y="706320"/>
            <a:ext cx="2835000" cy="421956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3" descr=""/>
          <p:cNvPicPr/>
          <p:nvPr/>
        </p:nvPicPr>
        <p:blipFill>
          <a:blip r:embed="rId2"/>
          <a:stretch/>
        </p:blipFill>
        <p:spPr>
          <a:xfrm>
            <a:off x="3687840" y="3492360"/>
            <a:ext cx="2693880" cy="4011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6:25:09Z</dcterms:created>
  <dc:creator>Андрей</dc:creator>
  <dc:description/>
  <dc:language>en-US</dc:language>
  <cp:lastModifiedBy>Admin</cp:lastModifiedBy>
  <dcterms:modified xsi:type="dcterms:W3CDTF">2013-02-03T16:43:15Z</dcterms:modified>
  <cp:revision>12</cp:revision>
  <dc:subject/>
  <dc:title>Забруднення навколишнього  середовища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c4a000000000001024140</vt:lpwstr>
  </property>
</Properties>
</file>