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73F-E055-46B2-A442-66BEB43A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4E3-A55B-4105-AB20-0C3E6D7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712A6-5CB6-4A3D-A129-0221BE9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9AE9D-A9C0-4660-8BF2-0AD448B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09AA4-06B2-49B0-AB4E-E578C18C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839D7-21F2-4B5E-9956-FCAAD8E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23EE6-09E9-40F2-B9D3-1AC44D4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85DC4-D728-47EB-BF88-8BAE534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B32D8-9248-4650-B8D7-E86F63A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11DE8-3B19-4933-8FE0-EF497AC9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665F4-A071-43CE-B722-B3AB5803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74CC1-6F75-4F67-B150-F2837721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F1E-4152-4FB9-A771-56F6C656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9E7EE-8D52-44C6-9A7A-6CB1BAF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63F1A-CB25-42CE-BD53-2CC6AD9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C6D7C-E936-4772-BD35-8D76848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8E44E-D6F3-4E82-832F-35D1343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B947-F211-4F4D-99EB-6FEDE07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9E5CF-CD31-4DFA-A44F-E93CB7C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C53DB-C0B1-4D95-972F-812C4365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FAA6C-4661-4513-8855-1885804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1F58B-4866-4175-8968-D7232D98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B2408-7197-4E46-8C3D-6611A7AA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3CE-BED2-45B0-837D-14514635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E3486-91C0-4608-8304-30AF2672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06E5E-F5C9-4732-9A2F-65059085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9C1A6-B0CA-4BBB-BFA8-8250B39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E207C-E53F-493E-A52E-032DB4C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10776-E6E7-4C34-8C8D-CC814C8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92731-E582-4BF8-9CB7-D15EB78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537E2-B4D2-48BE-BE48-1E35BAB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393F-BA6F-4F45-BACF-AD2C1FD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3DAD-A888-4111-B7AB-F05C3AE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72B9F-5BFC-4F27-8C94-910EF11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187-2A24-48AC-A7A6-904C255F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CB096-A0B3-4B44-87FF-210A1E7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B6063-B64A-4C7E-8EEB-B6B04781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A09A1-79C7-459E-BC5E-086BD929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794E1-E6AB-4C72-8501-7FDAC880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B0ADA-A6F5-485E-AE8F-DA547A4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AF0AB-37B6-4D3C-B79D-38D8C73D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74EA4-B5E4-4784-BB95-5CDCE727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BB819-0115-4D04-BC57-EBBB3AA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B6D36-59FC-4620-B5F2-881B78B7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3B50A-C130-4174-A472-1B48EA0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F03-6008-4DB5-9154-CA1A6B8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13A3C-F575-4F9C-9839-21275FA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F896C-5915-4017-A678-409800E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BA532-6400-4674-8213-916CE1F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1A19A-A9DD-4CF2-816C-E3C31E9A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A7627-B66D-4032-9414-647ED46B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E52-8F2C-4FFD-8AF5-061AA9F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694-10B8-4824-8A17-E14E9793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B2B-D055-4F49-9175-BA02DF3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104-63DD-4056-9C33-4E28FE2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3BE-271F-4547-BE7E-E8FD3DB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1E0-1752-412E-8E4C-E8FCD52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F0C5-722B-4601-8F5D-6A6FDFE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971F-05F4-435A-A92B-AA8E3AF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39D-AE28-426E-9A65-74F3568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2300-CF99-462B-9663-41C1B46E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A02-946F-48BF-8EF3-AA6836AF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6DB2-5750-4A40-9298-CB0B586B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05D3-20AA-468E-A2B4-8ED24CB9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FCAD-D3E1-4CF1-AB1E-3A4F8A3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E7EA-B4A8-40DF-A0A2-9931103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2EAB-C33D-4EBD-B88E-57B7F2D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09D-3D6D-46F0-AF58-67047A1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075C-67B8-43D8-8025-0C2134A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3085-2272-4010-B12B-16F68C06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180E-788F-4A31-BF65-EB12C24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3DD4-A3F2-4F1F-8BFD-30BD1E1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11DF-217B-4ABE-91F3-642EE51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DE2C-F90A-43F1-870C-7CE34F3F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C301-9696-4515-AC16-42D65780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1EAF-2E18-4982-8A70-EC068BCB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7A22-4596-4323-A037-B2EA9191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B91F-F6B0-4066-966E-9DA7016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440-7A43-48C5-BC43-7923FC6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74FA-B902-4795-A250-2C63FB2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DC21-589A-463E-A2C1-61957AB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B93A-C7D7-44D0-B081-2A5F9F7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57CE-F8B3-4792-85F7-FE1B6FC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8796-7C6A-4C10-9F3D-453CACF9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D8D9-AA8C-4A98-BEA1-4A5FFBD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462A-1DE5-4FA4-88FB-C07482C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EC44-0205-47F1-9351-26005612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8EBB-D0BB-4FCD-AA30-F5A69DF1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2FA2-7C09-47CF-80AB-6E52615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535-4E98-4F9D-BEDA-C5BCF24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64AA-EE0D-4DFA-BD51-9EB2824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1D47-5427-43C6-BA7B-33EDDBF4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94B3-E61E-41EF-93FD-184C240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0BDB7-82F4-4862-929D-2C8E6404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D059-EE4D-4718-BF81-013D2A91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2B0D2-7D06-4721-937B-C9B92AF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0A19-0677-4EBD-8F01-4E8D2AC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E0B3-5F4B-4CDE-8524-E98CD72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B6E9-848F-46A2-A0D4-D84F8A44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89B7-273A-4208-A435-96DC7385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CD0-0B25-45E2-B8AD-E195E2DA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D7C7-668D-401D-927D-57C97A72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035D-9A06-4917-95C2-DEA298B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7502-3A3D-49DF-8352-3528C25B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8EBB-20CA-459E-86E1-A18CA1DE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6B89-2D23-4FE4-87CF-8A6A5B3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3077-C501-4333-9943-AFE9D715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CD32-E2E0-46C1-8052-41C2F40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6882-5866-4411-8641-8358D7D0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859C-AFF1-4DE5-970C-10CA199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E119D-624C-4F5E-A032-4829091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29A-D87A-4247-9393-D384C46A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FA0B-9274-481F-A1B4-D6AEA5C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31CA-1A14-49C1-8EA7-A1A8E7C2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0309-B672-40BF-AA4A-F7BF0307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44C3-6867-4E2E-84A5-A2F3264D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A02A5-D8CF-4281-9DE7-FDF0781F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7E78-A41F-4FB1-8BDC-FF1A0FEB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4096-7228-4696-8167-EE0B6C6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CC369-73F3-4361-9331-39E6C97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AE0B-5FB7-4E2E-BADF-6B0C598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A0F7-2D57-422D-B416-2EC118D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903-E7BF-4D46-AC94-39D3BB5E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50A3-302E-4125-8F4C-559F276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542A-E8F0-4E01-8639-E3A4F05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40683-1820-4369-B0C8-1F3E2C5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7F34-5124-4C31-9794-894E7F70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6555-9858-4D57-86CF-EABC6E30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3EE9-5269-4112-AD70-6FFD0CDB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562F9-0463-4C5E-AD1B-AB93A5F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4D30B-3C14-47CE-ACF1-CAF1FDE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37CC-9B38-4596-AC1D-A754169E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FF67-F9FB-4D5B-8030-D574E14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317-41F0-485E-ADA3-049B2E8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E0A5-D194-49B1-9A31-9E0709E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E39D-D1B2-44CF-8794-F64D127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92A94-8A4C-494E-8FA1-4523267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C1EC-E8D6-4B29-A9C6-749D58B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17E3-2686-4228-892C-79E883F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7438-C92C-4BF0-8A66-61D4C4E7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3F1E-368A-4DB5-9FF4-F0B78428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895AB-0AAC-4244-A60E-C89B1C40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449F1-B4A2-4968-970D-5AEC56E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5730C-13BD-4066-A0B8-9AE5AE6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A42-E924-429B-913E-ADC6E445BB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2A2-8129-4750-ADA2-52CB8F4373D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5D4F-1D01-4245-879B-DBF7F1EAC6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274-6C96-47CB-B0CA-E99D168FF45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936-D2DE-47FE-AD2C-A2CA88FEA44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4618-000A-46EA-B7C2-621FF3A215D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75A-09A5-483B-864D-D318F896DF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D1C9-DF90-4101-BB0D-0ECCF9B48E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A8B-A26F-4FEB-9953-4B73793AA7F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9DF-B56E-4EFB-AF69-91F532F4607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B19-9077-4FC1-A6CD-D6550B0D6BA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E7CA-74FC-4BA1-AB8C-7DF7E6CE17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785840" y="3785760"/>
            <a:ext cx="39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Я 10 КЛАС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ЧЕНКО ЛЮДМИ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Заголовок 1" descr=""/>
          <p:cNvPicPr/>
          <p:nvPr/>
        </p:nvPicPr>
        <p:blipFill>
          <a:blip r:embed="rId1"/>
          <a:stretch/>
        </p:blipFill>
        <p:spPr>
          <a:xfrm>
            <a:off x="633240" y="-208080"/>
            <a:ext cx="7785360" cy="3359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615960" y="3279600"/>
            <a:ext cx="3693960" cy="5510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ІЛЮСТРОВАНА ЕНЦИКЛОПЕДІЯ ЕРУДИТА. КИЇВ “МАХАОН-УКРАЇНА” - 200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Georgia"/>
              </a:rPr>
              <a:t>Використані ресурс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. Що це?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Забруднення довкілля  - процес зміни складу і властивостей однієї або декількох сфер Землі внаслідок діяльності людини. Приводить до погіршення якості атмосфери, гідросфери, літосфери та біосфери. Розрізняють забруднення отруйні, хвороботворні, хімічні, механічні і теплові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571920" y="1285920"/>
            <a:ext cx="45813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Чиста вода – це справді цінний ресур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Воду забруднюють каналізаційні стоки, що можуть містити хвороботворні мікроорганіз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56437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Серйозними забруднювачами води є також нафта та відходи хімічної промисловості. Такі речовини розкладаються дуже дов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402000" y="1238400"/>
            <a:ext cx="5388120" cy="855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повітря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Повітря, яким ми дихаємо, забруднюється різними речовинами. Більшість із них утворюється при спалюванні палива на фабриках, теплових електростанціях і в двигунах автомобіл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4714920" y="71424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3187800" y="3706920"/>
            <a:ext cx="3193920" cy="475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Дощова вода в нормі має слабокислу реакцію, оскільки при розчиненні діоксиду вуглецю у воді утворюється слабка кислота. Продукти згоряння в атмосфері утворюють додаткові кисло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3124080" y="1511280"/>
            <a:ext cx="5639040" cy="434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Кислотні дощі шкодять деревам; вода в озерах стає настільки кислою, що в ній не можуть існувати живі риби та інші організми. Кислотні дощі руйнують кам'яні стіни будинків та мармурові скульптури під відкритим неб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3475080" y="1200240"/>
            <a:ext cx="5334120" cy="831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лектроніка та радіотехніка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Інтенсивний розвиток електроніки та радіотехніки викликав забруднення природного середовища електромагнітними випромінюваннями. Головними її джерелами є радіо-, телевізійні і радіолокаційні станції, високовольтні лінії електропередач, електротранспорт, комп'ютер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754600" y="63324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3260880" y="3279600"/>
            <a:ext cx="35416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кологічні проблеми Україн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Безпосередньо в Україні загинули сотні малих річок, деградують Чорне та Азовське моря, спотворений забрудненими водосховищами Дніпро, винищена значна частина Карпат, задихаються від промислових і автомобільних викидів усі великі міста і обласні центр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5407200" y="706320"/>
            <a:ext cx="2835000" cy="4219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687840" y="3492360"/>
            <a:ext cx="2693880" cy="401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25:09Z</dcterms:created>
  <dc:creator>Андрей</dc:creator>
  <dc:description/>
  <dc:language>en-US</dc:language>
  <cp:lastModifiedBy>Admin</cp:lastModifiedBy>
  <dcterms:modified xsi:type="dcterms:W3CDTF">2013-02-03T16:43:15Z</dcterms:modified>
  <cp:revision>12</cp:revision>
  <dc:subject/>
  <dc:title>Забруднення навколишнього  середовищ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4a000000000001024140</vt:lpwstr>
  </property>
</Properties>
</file>