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691-8278-4D7D-973F-5C11DC3B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1D7-A72D-4179-8D91-98BD0EA1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476D19-AAE1-4B9E-87D5-A89DEEBE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FC70C-E80A-4B6C-9C92-821B36B3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D5AB5-3181-4EBD-9348-197621DB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C86FE-C748-47E6-A7C6-9E825961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F6F605-A3A7-462C-A739-AF3EEE47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328E1E-BCDE-4F4C-9250-1157435E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5A2E76-BE2F-45DB-AC21-8E4BAE31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38361-4159-49E8-B3AD-C84F3A97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0EDF0-F0AB-4B97-93D3-1495EE7F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B86443-2D9E-4580-BC4E-A86B839A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01FD-FBE7-404E-8011-A0DC19A4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02792-6D4F-466D-92E7-C4D7D344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BBCEF5-84FC-4C09-8A33-88803498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1477E5-D70B-46BD-BD0D-274AED48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69457-2AEC-4F65-8398-FD864F23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94BC1-EF3C-41C3-B37E-B2CDBD81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7B85F-E3E5-40F0-9702-0A5B3B43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BBD30-D979-41B9-AC2C-AB250129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1AD262-9FAB-4907-B39D-EFDF3443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92488-1475-4AE7-A0F6-536ACDAF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77D76-E559-4620-A3BB-AADCDD97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699C-2F2D-45F2-9123-4F4E9B9E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D503F3-A9E6-4581-99AD-8FD3AF2A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0A87E-71EF-4FFD-834C-774AC4C9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7EFA6-5BAA-45E4-AA38-89104991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81B7B-9302-460D-8CEB-CA1BDCFE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87A02-3187-470F-AB91-5B909775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B73F7-B30A-4D8A-8995-DD55D59D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AD3FB-8A90-4794-BBF1-EAB988DB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CEE65-84A1-490D-858F-5C1DEFC2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A2DE6-8903-4210-BF71-E6E25817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39E59-CBF9-40DB-AE92-FE6F0912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5482-CE59-43F8-BF3D-840B2C91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B7566-CA97-4FD3-9403-3794745F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878D0-0D5F-4045-B783-656E9E5A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84B9D-6B79-4FA4-8246-D4B4B2BC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A55C17-D53E-405A-83B0-917914AC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635EA-1868-45C8-8EAC-8DABD784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8AFF8-2D33-4F1F-A7CC-89AD52C4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0CA1B-3BD7-4272-8BD0-8FB3B940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2018C-FFA8-4C8E-A57B-2DB2AD51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B7467A-EC06-44A4-A48B-2BBFDD2A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59D80F-97F2-4378-B2CF-354488BF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E73F-E45F-4F6A-BAEE-33F0266A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77EF33-D64A-480A-8F28-93E79E69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59897-34EF-453C-9923-744B2483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228C9-F389-4693-B2F0-B92AFDDA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E6273-C8B2-45C9-AB91-5280E002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DD5D88-C171-497C-8AE4-A376B81A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3ECA-4405-4B17-A1FD-56E797AF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66DD-5C40-490A-BF5A-00D275AE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7131-426F-4D15-B7FA-BB140154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676A-4830-4E5C-9AA0-CC262BDB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F2B7-2557-485B-ABC9-EB054673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2F3-C23D-49B1-B659-FE817E62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3CBD-D03D-4556-B02F-AAFE3FF5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89B0-5F13-4674-8223-B686B9E6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9A26-DEC6-478B-AC64-AA397937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984C-8F75-4908-8F37-09A30C80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CD17-769D-46DE-BF51-6E0FF11E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13630-7A6A-4E5E-8203-6CC2D2D7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BDDD8-6D00-469D-8B1A-7464B78C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D7D1A-B92C-4079-9919-FFA88DAB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6F12B-048D-4AEB-B34D-F9D6B03F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D1339-8AF8-4382-BB13-94F3E2AB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7FE-7F4B-4F78-88F6-72D7820B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29B6A-712C-4F74-B79C-01341E28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DF785-A77C-483C-A3B9-7F0C9F37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7E4F9-CC3F-46A5-A679-D404C5F6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C6153-AE84-4715-BE98-B1A16896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D67A8-D8C5-44F6-9C57-0C4C4A88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E425B-30B0-4A11-83F3-3C020DD1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825DD-CF3D-4BC8-A19D-995FDED5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AFCFE-9B4F-4AF6-944E-62F07653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58DD0-A9E8-4C31-A08A-9AE1459D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1EF49-2CA6-41B5-B7A7-7727D7FD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1A2-3564-4BC0-9C96-291E0C99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0FCDF-2BCF-4D4A-B611-8C6D7A56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EF8DA-4F0D-4D37-8D6C-7692B45E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C0E17-E81A-4B61-B681-12E6E79E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6952C-EAF6-4EF5-BC18-02B4952D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4E0E3-8517-4F07-A78C-4C9D050B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D5535-9514-44B4-A96A-708FB583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6F383-276B-41C9-9692-83D335AA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AC39A-666B-456E-8333-3A739BD5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C0A4D-4E17-41F6-9660-C511DEB3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45F1F-BB26-45F3-95F0-0939620C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315-9CC5-4784-B3A7-D72C2DB3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FA252-1DE3-4D61-9481-8E2081A9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780A1-9B04-4ADE-BB5E-B0FB2E29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1B0E1-DFA3-4884-8600-D179C42E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7AABE-61EB-4B8E-85CD-A1AC9D3F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24EE0-FC71-4D2F-B039-8DAFA1D2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6487E-1149-4A18-9D3D-D0355A98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392A8-5C65-474C-82BF-B493268F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0CE21-1ED2-4C98-8415-3E6F9C38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A9456-797B-4BF2-97F6-7FCE2F6E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3228F-E0B0-47CF-B6D6-8533DD46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03E-4506-4D25-9835-D35B5B67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04AEC-0733-4626-819E-6DBE00BD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9A339-0C72-4DCB-A5AF-3F913914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56AF0-8E63-49ED-908D-96CD7437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7FF2C-C619-427E-90C2-9D6206E7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314CA-296A-420D-A38E-C783299E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AE259-FCD5-4ECE-8118-3EF71B82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AE7CD-01A9-4490-BF2E-AE1856D9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CAA4A-5C1A-42AA-990B-DB866DA7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8758A-D8BE-41DE-8961-9ABBF8B3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209CD-7B2B-40CE-B781-7FA60F9D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048-1F4E-4381-BFF8-0EAB7EF1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1529B-BB90-46B1-BC2A-DB70A663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52AE2-1C71-48C0-A82A-3C0F64F1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B4F60-6EDE-4F6F-84C4-5A021B7F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1F6AE-E34F-4EE2-B9B7-4123BF1A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CE7D9-CDE8-4530-9D1C-CD4E8423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1FFA5-C14A-41DF-B9D7-14D762D0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954A7-424C-4CFB-895F-834700DA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05B2B-FC2F-43B1-842C-DBEF6033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7D630-877E-460B-8FDB-3B5504F1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C66C9-F654-42A0-9401-43DD35DB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DA5-31DA-4780-87A0-75197158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24D2F-5553-4211-AF1C-FD6A6302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E8E4F-BB17-4B63-9312-47F93402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DB031-44EF-48F0-9F11-6DE2A699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3BF0F-E209-4DE7-AA9C-C980B5DA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04EBD-0669-4F08-92C3-5BD60C9E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5953A-7033-4EBE-B166-B6E33632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869D0-C3C5-4BBE-8E81-64BBADBC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FF330-A93C-4F9E-AF7D-D7403397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FADCA-D695-4E15-8190-13C4D4DB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3FE4F-3A55-4F37-A845-8513E332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C0F-C583-45F0-A751-F685D089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D009B-B123-483E-8364-5977736A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08C17-6DBF-4F03-A9E2-640B455F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8E8A8-FC65-4D71-AA4E-10F693FB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3B132-889A-45D7-A507-15129B01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59E3C-55B0-4D5D-9CD4-3511D1F8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D69B7-615F-4EFA-8B7C-1ED0FDC7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CCD85-D87E-454B-8BE1-CEA55D7A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29513-6BD0-431D-AE91-6F87308D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84AA5-6819-46EE-A368-9E53C55B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BEDE08-163B-4902-AC41-EB425CAB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E467-F6DE-4D4B-80D2-4A67C67FC7E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6307-4647-4D2F-8D42-C2F96A3AD53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E1BE-E2B9-4F99-9BEB-AFA1D25F487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E4BF-72E9-4EFD-BB8D-0AA65C1A69A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015A-4345-44FB-BE31-DB11ED8E3F2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CCBC-142E-420F-8A10-D7508B8C322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1211-61A8-4372-B0B8-2A0CCC41C13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7E1D-230C-4D92-8696-9F7DA2A0040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8906-43DF-41DD-8544-C9C14EE35B8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B7D6-B736-41A5-8232-7608663026C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F171-B171-4549-B0BF-4D09581A5C06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EB07-63B2-483A-B3DB-AB62197BA5F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785840" y="3785760"/>
            <a:ext cx="3900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ІДГОТУВАЛА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НИЦЯ 10 КЛАСУ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РИНЧЕНКО ЛЮДМИЛ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7" name="Заголовок 1" descr=""/>
          <p:cNvPicPr/>
          <p:nvPr/>
        </p:nvPicPr>
        <p:blipFill>
          <a:blip r:embed="rId1"/>
          <a:stretch/>
        </p:blipFill>
        <p:spPr>
          <a:xfrm>
            <a:off x="633240" y="-208080"/>
            <a:ext cx="7785360" cy="33591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" descr=""/>
          <p:cNvPicPr/>
          <p:nvPr/>
        </p:nvPicPr>
        <p:blipFill>
          <a:blip r:embed="rId2"/>
          <a:stretch/>
        </p:blipFill>
        <p:spPr>
          <a:xfrm>
            <a:off x="615960" y="3279600"/>
            <a:ext cx="3693960" cy="5510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НЕТ-РЕСУРС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 ІЛЮСТРОВАНА ЕНЦИКЛОПЕДІЯ ЕРУДИТА. КИЇВ “МАХАОН-УКРАЇНА” - 200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Georgia"/>
              </a:rPr>
              <a:t>Використані ресурси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Забруднення. Що це?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27147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Забруднення довкілля  - процес зміни складу і властивостей однієї або декількох сфер Землі внаслідок діяльності людини. Приводить до погіршення якості атмосфери, гідросфери, літосфери та біосфери. Розрізняють забруднення отруйні, хвороботворні, хімічні, механічні і теплові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3571920" y="1285920"/>
            <a:ext cx="4581360" cy="471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Забруднення води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Georgia"/>
              </a:rPr>
              <a:t>Чиста вода – це справді цінний ресурс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Georgia"/>
              </a:rPr>
              <a:t>Воду забруднюють каналізаційні стоки, що можуть містити хвороботворні мікроорганіз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3143160" y="785880"/>
            <a:ext cx="5643720" cy="5072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Забруднення води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Georgia"/>
              </a:rPr>
              <a:t>Серйозними забруднювачами води є також нафта та відходи хімічної промисловості. Такі речовини розкладаються дуже довг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3402000" y="1238400"/>
            <a:ext cx="5388120" cy="8557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Забруднення повітря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Georgia"/>
              </a:rPr>
              <a:t>Повітря, яким ми дихаємо, забруднюється різними речовинами. Більшість із них утворюється при спалюванні палива на фабриках, теплових електростанціях і в двигунах автомобілі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4714920" y="714240"/>
            <a:ext cx="4071960" cy="30718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"/>
          <p:cNvPicPr/>
          <p:nvPr/>
        </p:nvPicPr>
        <p:blipFill>
          <a:blip r:embed="rId2"/>
          <a:stretch/>
        </p:blipFill>
        <p:spPr>
          <a:xfrm>
            <a:off x="3187800" y="3706920"/>
            <a:ext cx="3193920" cy="475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Кислотні дощі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Дощова вода в нормі має слабокислу реакцію, оскільки при розчиненні діоксиду вуглецю у воді утворюється слабка кислота. Продукти згоряння в атмосфері утворюють додаткові кислот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rcRect l="0" t="0" r="0" b="-12"/>
          <a:stretch/>
        </p:blipFill>
        <p:spPr>
          <a:xfrm>
            <a:off x="3124080" y="1511280"/>
            <a:ext cx="5639040" cy="4346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Кислотні дощі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Кислотні дощі шкодять деревам; вода в озерах стає настільки кислою, що в ній не можуть існувати живі риби та інші організми. Кислотні дощі руйнують кам'яні стіни будинків та мармурові скульптури під відкритим небо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3475080" y="1200240"/>
            <a:ext cx="5334120" cy="8315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Електроніка та радіотехніка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264348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Інтенсивний розвиток електроніки та радіотехніки викликав забруднення природного середовища електромагнітними випромінюваннями. Головними її джерелами є радіо-, телевізійні і радіолокаційні станції, високовольтні лінії електропередач, електротранспорт, комп'ютери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5754600" y="633240"/>
            <a:ext cx="3114720" cy="46087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" descr=""/>
          <p:cNvPicPr/>
          <p:nvPr/>
        </p:nvPicPr>
        <p:blipFill>
          <a:blip r:embed="rId2"/>
          <a:stretch/>
        </p:blipFill>
        <p:spPr>
          <a:xfrm>
            <a:off x="3260880" y="3279600"/>
            <a:ext cx="3541680" cy="5400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Georgia"/>
              </a:rPr>
              <a:t>Екологічні проблеми України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27147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76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eorgia"/>
              </a:rPr>
              <a:t>Безпосередньо в Україні загинули сотні малих річок, деградують Чорне та Азовське моря, спотворений забрудненими водосховищами Дніпро, винищена значна частина Карпат, задихаються від промислових і автомобільних викидів усі великі міста і обласні центр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5407200" y="706320"/>
            <a:ext cx="2835000" cy="42195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"/>
          <p:cNvPicPr/>
          <p:nvPr/>
        </p:nvPicPr>
        <p:blipFill>
          <a:blip r:embed="rId2"/>
          <a:stretch/>
        </p:blipFill>
        <p:spPr>
          <a:xfrm>
            <a:off x="3687840" y="3492360"/>
            <a:ext cx="2693880" cy="4011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6:25:09Z</dcterms:created>
  <dc:creator>Андрей</dc:creator>
  <dc:description/>
  <dc:language>en-US</dc:language>
  <cp:lastModifiedBy>Admin</cp:lastModifiedBy>
  <dcterms:modified xsi:type="dcterms:W3CDTF">2013-02-03T16:43:15Z</dcterms:modified>
  <cp:revision>12</cp:revision>
  <dc:subject/>
  <dc:title>Забруднення навколишнього  середовищ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4a000000000001024140</vt:lpwstr>
  </property>
</Properties>
</file>