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31F-3582-4F6F-B825-5C13526E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6DD-4557-4005-A1D6-3F6C6FDC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A96-B5B2-4F0A-8913-A3851E71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A39-F22C-4260-AA33-D353B7C0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680F-469D-422D-BF6E-1BA5EFAF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E09A-279D-4ED7-A380-485409AB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1FAD-E837-483E-ABAC-30D879E4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5738-76B6-41DF-B550-36A82909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7053-9D0D-4791-8990-EC18CC52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D669-77DF-43B7-B6E7-23713DAC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9D55-B137-4CB2-A466-10ED45F9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69A-1FD7-4B0C-AAFB-9080BA34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E286-DB42-40B0-807D-7E02BAC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CEA6-22C6-4A83-9DCC-E1C5C761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FF20-9458-4AE4-9B72-D9438638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9470-8E5C-4194-97B5-E99C840D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BC4B-49BA-469B-8579-048BDB69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7787-B706-4EE0-9415-1F508781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7D5F-D9C7-46F3-9EB1-A3A73063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84D3-D0D2-4A64-B3E7-6D458A6F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7E06-3AE4-4BC3-8229-89379987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4190-50A2-42B7-8B2C-6428D28A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96F-2ECA-44DE-A28E-F8C7B8B2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6E39-87D6-46EB-B36E-75F01134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CA82-D346-4B58-B9F4-4BBD642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712A-D5A0-44C9-B1E2-68A2B899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BDAC-68D6-4389-8B9D-DC60ADD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E712-01BD-40C1-A6EA-82098C07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771B-C3AA-4871-B318-BD847935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F9A7-7DF0-4E05-817A-61F2D433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4F50-0421-420A-8FBC-0335DFED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3937-1A98-4292-8A8F-5BD521D0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169C-B8E9-441C-AB80-4EA2FF8B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F95-D671-43EF-B706-787AFDD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5E50-CF2F-45DD-8F79-4E5CE03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19DF-1185-4583-8DE8-953EE2FC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2FBAD-E23C-485C-A03C-ACDB904E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9349F-4936-4042-99AB-7F417F84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25DB-AFD1-4ACD-A782-6447604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5DED-8C2E-4CDB-8C5A-8F511D19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F1DD-5FF5-46EA-865A-9CE841A5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C34B-F743-4F70-9C48-65253ACA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5D15-B4D3-48F0-A189-B0CB6FC9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731-2826-4F7C-A0A3-A912DC06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71C-BCE3-44F5-B9C1-37D96A58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216-CC88-4A06-87AB-1EFB82F2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6DA-463D-4DB8-9251-B395CCB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0D0-50D8-4C04-9470-4B858888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02B4-DC7A-432B-BF12-30626B58697F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396-FF34-4530-B0C8-3F1085BCD825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8FB5-9D47-4561-B3ED-24AA508B4DB8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F429-85C2-4FBD-A644-A7AA97B3B13C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1931040" y="62064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ІВДЕННА      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3" descr=""/>
          <p:cNvPicPr/>
          <p:nvPr/>
        </p:nvPicPr>
        <p:blipFill>
          <a:blip r:embed="rId2"/>
          <a:stretch/>
        </p:blipFill>
        <p:spPr>
          <a:xfrm>
            <a:off x="2556000" y="1227240"/>
            <a:ext cx="3960720" cy="5032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"/>
          <p:cNvPicPr/>
          <p:nvPr/>
        </p:nvPicPr>
        <p:blipFill>
          <a:blip r:embed="rId2"/>
          <a:stretch/>
        </p:blipFill>
        <p:spPr>
          <a:xfrm>
            <a:off x="723960" y="576360"/>
            <a:ext cx="3343320" cy="27082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"/>
          <p:cNvPicPr/>
          <p:nvPr/>
        </p:nvPicPr>
        <p:blipFill>
          <a:blip r:embed="rId3"/>
          <a:stretch/>
        </p:blipFill>
        <p:spPr>
          <a:xfrm>
            <a:off x="4549680" y="576360"/>
            <a:ext cx="3924360" cy="27082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"/>
          <p:cNvPicPr/>
          <p:nvPr/>
        </p:nvPicPr>
        <p:blipFill>
          <a:blip r:embed="rId4"/>
          <a:stretch/>
        </p:blipFill>
        <p:spPr>
          <a:xfrm>
            <a:off x="723960" y="3429000"/>
            <a:ext cx="3343320" cy="28558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"/>
          <p:cNvPicPr/>
          <p:nvPr/>
        </p:nvPicPr>
        <p:blipFill>
          <a:blip r:embed="rId5"/>
          <a:stretch/>
        </p:blipFill>
        <p:spPr>
          <a:xfrm>
            <a:off x="4549680" y="3429000"/>
            <a:ext cx="3924360" cy="28558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"/>
          <p:cNvPicPr/>
          <p:nvPr/>
        </p:nvPicPr>
        <p:blipFill>
          <a:blip r:embed="rId6"/>
          <a:stretch/>
        </p:blipFill>
        <p:spPr>
          <a:xfrm>
            <a:off x="3348000" y="2276640"/>
            <a:ext cx="2403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258920" y="638280"/>
            <a:ext cx="67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Населення та політична 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івденної Аме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2"/>
          <a:stretch/>
        </p:blipFill>
        <p:spPr>
          <a:xfrm>
            <a:off x="2340000" y="1716120"/>
            <a:ext cx="3960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2050920" y="976320"/>
            <a:ext cx="57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Заселення мат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773640" y="1596960"/>
            <a:ext cx="53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Корінне населення : І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3" descr=""/>
          <p:cNvPicPr/>
          <p:nvPr/>
        </p:nvPicPr>
        <p:blipFill>
          <a:blip r:embed="rId2"/>
          <a:stretch/>
        </p:blipFill>
        <p:spPr>
          <a:xfrm>
            <a:off x="755640" y="2157480"/>
            <a:ext cx="3311640" cy="41511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"/>
          <p:cNvPicPr/>
          <p:nvPr/>
        </p:nvPicPr>
        <p:blipFill>
          <a:blip r:embed="rId3"/>
          <a:stretch/>
        </p:blipFill>
        <p:spPr>
          <a:xfrm>
            <a:off x="4046400" y="3989520"/>
            <a:ext cx="4413240" cy="2303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4"/>
          <a:stretch/>
        </p:blipFill>
        <p:spPr>
          <a:xfrm>
            <a:off x="4478400" y="2181240"/>
            <a:ext cx="35496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"/>
          <p:cNvSpPr/>
          <p:nvPr/>
        </p:nvSpPr>
        <p:spPr>
          <a:xfrm>
            <a:off x="1141920" y="907920"/>
            <a:ext cx="684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«Кіпу» – зв’язок кольорових шнурків з вузл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2"/>
          <a:stretch/>
        </p:blipFill>
        <p:spPr>
          <a:xfrm>
            <a:off x="749160" y="1308240"/>
            <a:ext cx="3591000" cy="26254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" descr=""/>
          <p:cNvPicPr/>
          <p:nvPr/>
        </p:nvPicPr>
        <p:blipFill>
          <a:blip r:embed="rId3"/>
          <a:stretch/>
        </p:blipFill>
        <p:spPr>
          <a:xfrm>
            <a:off x="4340160" y="1308240"/>
            <a:ext cx="4048200" cy="49813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5" descr=""/>
          <p:cNvPicPr/>
          <p:nvPr/>
        </p:nvPicPr>
        <p:blipFill>
          <a:blip r:embed="rId4"/>
          <a:stretch/>
        </p:blipFill>
        <p:spPr>
          <a:xfrm>
            <a:off x="749160" y="3645000"/>
            <a:ext cx="3591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249920" y="981000"/>
            <a:ext cx="678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Нащадки інків – індіанці КЕЧУ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що живуть у Перу, Еквадорі, Болівії.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Їх загальна кількість – 15м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727200" y="2421000"/>
            <a:ext cx="4824360" cy="38480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3"/>
          <a:stretch/>
        </p:blipFill>
        <p:spPr>
          <a:xfrm>
            <a:off x="5724360" y="245916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042920" y="1125360"/>
            <a:ext cx="53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Раси: монголої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європеоїдна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      негрої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111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775080" y="3011400"/>
            <a:ext cx="770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КРЕОЛИ – нащадки від шлюбів іспанців і португальці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ЕТИСИ - нащадки від шлюбів європейців з індіанц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УЛАТИ - нащадки від шлюбів європеоїдної та негроїдно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а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САМБО - нащадки від шлюбів  європейців і негроїдної р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755640" y="134136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 Південній Америці проживає близько 385 млн.чолові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( 6% населення світу; 5 місце у світі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995400" y="263700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ови : іспанська та португаль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1118520" y="3429000"/>
            <a:ext cx="71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селення розміщене нерівномірно ( майже незаселеними є </a:t>
            </a:r>
            <a:br>
              <a:rPr sz="1800"/>
            </a:b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мазонська сельва, напівпустелі та пустеля Атакама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У Бразилії проживає майже 50% населення всього мате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1476360" y="922320"/>
            <a:ext cx="80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Країни Південної Аме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4284720" y="1916280"/>
            <a:ext cx="403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материку  розташова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12 незалежних держа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також 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Французька Гвіан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(заморський департамент Франції з 1946 року) і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Фолклендські (Мальвінські) остров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що належать Великобрит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3" descr=""/>
          <p:cNvPicPr/>
          <p:nvPr/>
        </p:nvPicPr>
        <p:blipFill>
          <a:blip r:embed="rId2"/>
          <a:stretch/>
        </p:blipFill>
        <p:spPr>
          <a:xfrm>
            <a:off x="730080" y="1700280"/>
            <a:ext cx="3554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774080" y="1052640"/>
            <a:ext cx="53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осподарство краї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755640" y="206064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раїни Південної Америки належать до таких, </a:t>
            </a:r>
            <a:r>
              <a:rPr b="1" i="1" lang="uk-UA" sz="1800" spc="-1" strike="noStrike">
                <a:solidFill>
                  <a:srgbClr val="c00000"/>
                </a:solidFill>
                <a:latin typeface="Arial"/>
              </a:rPr>
              <a:t>що розвиваю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807480" y="243036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одукція гірничодобувн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омисло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5230440" y="243036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ільське госпо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6" descr=""/>
          <p:cNvPicPr/>
          <p:nvPr/>
        </p:nvPicPr>
        <p:blipFill>
          <a:blip r:embed="rId2"/>
          <a:stretch/>
        </p:blipFill>
        <p:spPr>
          <a:xfrm>
            <a:off x="752400" y="3076560"/>
            <a:ext cx="2952720" cy="16509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7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214360" cy="1546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8" descr=""/>
          <p:cNvPicPr/>
          <p:nvPr/>
        </p:nvPicPr>
        <p:blipFill>
          <a:blip r:embed="rId4"/>
          <a:stretch/>
        </p:blipFill>
        <p:spPr>
          <a:xfrm>
            <a:off x="5219640" y="2752560"/>
            <a:ext cx="2376720" cy="12398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9" descr=""/>
          <p:cNvPicPr/>
          <p:nvPr/>
        </p:nvPicPr>
        <p:blipFill>
          <a:blip r:embed="rId5"/>
          <a:stretch/>
        </p:blipFill>
        <p:spPr>
          <a:xfrm>
            <a:off x="4471920" y="3902040"/>
            <a:ext cx="2070000" cy="14986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0" descr=""/>
          <p:cNvPicPr/>
          <p:nvPr/>
        </p:nvPicPr>
        <p:blipFill>
          <a:blip r:embed="rId6"/>
          <a:stretch/>
        </p:blipFill>
        <p:spPr>
          <a:xfrm>
            <a:off x="6253200" y="4842000"/>
            <a:ext cx="21844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7:16:28Z</dcterms:created>
  <dc:creator>Sasha</dc:creator>
  <dc:description/>
  <dc:language>en-US</dc:language>
  <cp:lastModifiedBy>Admin</cp:lastModifiedBy>
  <dcterms:modified xsi:type="dcterms:W3CDTF">2013-01-28T08:20:57Z</dcterms:modified>
  <cp:revision>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3a000000000001024140</vt:lpwstr>
  </property>
</Properties>
</file>