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7A1-F223-4E65-AF22-E1D1BCA0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C6A-1FAA-4095-805B-3206624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B2EA-AA5F-438E-A81B-A0F3E773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126-EA2E-42F3-9153-66CBD7E9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621E-17B3-4A0C-AC98-51EBC8AE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9695-8CC5-437F-B29C-6BA40BFD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97F-8C0B-4311-B062-C896AD36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C48-6756-48D1-9E48-50B9E4AA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9E02-F0BF-41E3-998A-879F9BD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E7D2-1316-4F57-9517-D9B52B5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E39-DC4E-42F3-B639-5399C972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9AA-9673-4E32-940E-D5A06DD4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4333-631A-4CC1-BD65-C510E02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487-1E5E-4EE6-9801-19BCF90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DAC5-4F62-44A3-9B19-D1F04408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BC63-B430-4D5C-B1F9-943FAA90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E517-51E6-49E6-A224-3CC30D30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0959A-7D9A-48E1-AD99-6501516A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75CF-DF67-49C5-9DB8-445CAB29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3E60-8FFB-410E-A755-61F3498D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E38E-AB65-404B-A75A-E72239EF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E419-2753-46E1-8B1A-999B4A4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B95-045D-4924-8797-38F3D1E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101D-BAE3-4864-93FA-33BF466A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A397-D34B-4248-8612-9087E81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CEBF-451A-4832-9751-D3AC407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AA1C-4AAB-4313-AE4C-3C4F120E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3D0BE-2DF3-44EB-B096-121D949B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EC63-B941-4D27-8CAF-AD5D3C1D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CEBA-5DD6-49F8-8E65-FEB07AAE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C2CE-F45F-4773-A127-2934AEF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B004-7EA2-419F-A0BE-ED6730B2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4024-B2DF-4A80-B82F-B0D4DBD8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291-F47C-40A8-82E2-86817D8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5CED-9117-455D-8523-BBA9706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0DBF-7FFE-4414-BA01-55C98569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8F5D-F022-4A93-9C67-2884EFA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E262-C26B-43D6-B796-FE8DF7D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7923-0B03-4B8E-8601-7A32AB9A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8C29C-C46A-4F68-A3E3-5B1C6D34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86C1-A85C-4069-9793-AB5C81FD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DBFE-5DA3-41AC-B8FF-5596AB91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660D-5565-41A7-B63C-A0B31E1C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B16-A4F9-47B0-882B-A7AB5049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5FC-9186-4012-A428-7570565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722-7591-4115-816A-04CE2CC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115-A612-4C87-89D2-0EB6A0F3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929-171E-4A06-ABCA-6E22BA7B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8BFE-1F03-463C-B303-5CE3EC418F30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95D-98E2-410E-9C48-65D042F6853C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CC1D-B5A7-4FC6-8AC7-48C3808B4920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5FD-70BA-417D-AB9F-96E71B0E38FD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931040" y="62064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ІВДЕННА     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2"/>
          <a:stretch/>
        </p:blipFill>
        <p:spPr>
          <a:xfrm>
            <a:off x="2556000" y="1227240"/>
            <a:ext cx="396072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"/>
          <p:cNvPicPr/>
          <p:nvPr/>
        </p:nvPicPr>
        <p:blipFill>
          <a:blip r:embed="rId2"/>
          <a:stretch/>
        </p:blipFill>
        <p:spPr>
          <a:xfrm>
            <a:off x="723960" y="576360"/>
            <a:ext cx="3343320" cy="27082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"/>
          <p:cNvPicPr/>
          <p:nvPr/>
        </p:nvPicPr>
        <p:blipFill>
          <a:blip r:embed="rId3"/>
          <a:stretch/>
        </p:blipFill>
        <p:spPr>
          <a:xfrm>
            <a:off x="4549680" y="576360"/>
            <a:ext cx="3924360" cy="27082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"/>
          <p:cNvPicPr/>
          <p:nvPr/>
        </p:nvPicPr>
        <p:blipFill>
          <a:blip r:embed="rId4"/>
          <a:stretch/>
        </p:blipFill>
        <p:spPr>
          <a:xfrm>
            <a:off x="723960" y="3429000"/>
            <a:ext cx="3343320" cy="28558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"/>
          <p:cNvPicPr/>
          <p:nvPr/>
        </p:nvPicPr>
        <p:blipFill>
          <a:blip r:embed="rId5"/>
          <a:stretch/>
        </p:blipFill>
        <p:spPr>
          <a:xfrm>
            <a:off x="4549680" y="3429000"/>
            <a:ext cx="3924360" cy="28558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"/>
          <p:cNvPicPr/>
          <p:nvPr/>
        </p:nvPicPr>
        <p:blipFill>
          <a:blip r:embed="rId6"/>
          <a:stretch/>
        </p:blipFill>
        <p:spPr>
          <a:xfrm>
            <a:off x="3348000" y="2276640"/>
            <a:ext cx="2403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258920" y="638280"/>
            <a:ext cx="67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аселення та політична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івденної Аме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2"/>
          <a:stretch/>
        </p:blipFill>
        <p:spPr>
          <a:xfrm>
            <a:off x="2340000" y="1716120"/>
            <a:ext cx="3960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2050920" y="976320"/>
            <a:ext cx="57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Заселення матер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773640" y="159696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Корінне населення : І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"/>
          <p:cNvPicPr/>
          <p:nvPr/>
        </p:nvPicPr>
        <p:blipFill>
          <a:blip r:embed="rId2"/>
          <a:stretch/>
        </p:blipFill>
        <p:spPr>
          <a:xfrm>
            <a:off x="755640" y="2157480"/>
            <a:ext cx="3311640" cy="41511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4046400" y="3989520"/>
            <a:ext cx="4413240" cy="2303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4"/>
          <a:stretch/>
        </p:blipFill>
        <p:spPr>
          <a:xfrm>
            <a:off x="4478400" y="2181240"/>
            <a:ext cx="35496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1141920" y="907920"/>
            <a:ext cx="68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Кіпу» – зв’язок кольорових шнурків з вузл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2"/>
          <a:stretch/>
        </p:blipFill>
        <p:spPr>
          <a:xfrm>
            <a:off x="749160" y="1308240"/>
            <a:ext cx="3591000" cy="26254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3"/>
          <a:stretch/>
        </p:blipFill>
        <p:spPr>
          <a:xfrm>
            <a:off x="4340160" y="1308240"/>
            <a:ext cx="4048200" cy="4981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"/>
          <p:cNvPicPr/>
          <p:nvPr/>
        </p:nvPicPr>
        <p:blipFill>
          <a:blip r:embed="rId4"/>
          <a:stretch/>
        </p:blipFill>
        <p:spPr>
          <a:xfrm>
            <a:off x="749160" y="3645000"/>
            <a:ext cx="35910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1249920" y="981000"/>
            <a:ext cx="678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Нащадки інків – індіанці КЕЧУ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що живуть у Перу, Еквадорі, Болівії.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Їх загальна кількість – 15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2"/>
          <a:stretch/>
        </p:blipFill>
        <p:spPr>
          <a:xfrm>
            <a:off x="727200" y="2421000"/>
            <a:ext cx="4824360" cy="38480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3"/>
          <a:stretch/>
        </p:blipFill>
        <p:spPr>
          <a:xfrm>
            <a:off x="5724360" y="2459160"/>
            <a:ext cx="254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42920" y="1125360"/>
            <a:ext cx="53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Раси: монголої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європеоїдна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          негрої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11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775080" y="3011400"/>
            <a:ext cx="770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РЕОЛИ – нащадки від шлюбів іспанців і португальці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ЕТИСИ - нащадки від шлюбів європейців з індіанц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УЛАТИ - нащадки від шлюбів європеоїдної та негроїдно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а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САМБО - нащадки від шлюбів  європейців і негроїдної р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55640" y="134136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 Південній Америці проживає близько 385 млн.чолові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( 6% населення світу; 5 місце у світі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995400" y="263700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ови : іспанська та португаль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1118520" y="3429000"/>
            <a:ext cx="71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селення розміщене нерівномірно ( майже незаселеними є </a:t>
            </a:r>
            <a:br>
              <a:rPr sz="1800"/>
            </a:b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Амазонська сельва, напівпустелі та пустеля Атакама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У Бразилії проживає майже 50% населення всього мате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476360" y="92232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Країни Південної Аме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4284720" y="1916280"/>
            <a:ext cx="403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материку  розташова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12 незалежних держа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також 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Французька Гвіан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(заморський департамент Франції з 1946 року) і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Фолклендські (Мальвінські) остров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що належать Великобрит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3" descr=""/>
          <p:cNvPicPr/>
          <p:nvPr/>
        </p:nvPicPr>
        <p:blipFill>
          <a:blip r:embed="rId2"/>
          <a:stretch/>
        </p:blipFill>
        <p:spPr>
          <a:xfrm>
            <a:off x="730080" y="1700280"/>
            <a:ext cx="3554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774080" y="1052640"/>
            <a:ext cx="53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осподарство краї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755640" y="2060640"/>
            <a:ext cx="81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раїни Південної Америки належать до таких, </a:t>
            </a:r>
            <a:r>
              <a:rPr b="1" i="1" lang="uk-UA" sz="1800" spc="-1" strike="noStrike">
                <a:solidFill>
                  <a:srgbClr val="c00000"/>
                </a:solidFill>
                <a:latin typeface="Arial"/>
              </a:rPr>
              <a:t>що розвиваю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807480" y="243036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дукція гірничодобув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промисло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5230440" y="2430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6" descr=""/>
          <p:cNvPicPr/>
          <p:nvPr/>
        </p:nvPicPr>
        <p:blipFill>
          <a:blip r:embed="rId2"/>
          <a:stretch/>
        </p:blipFill>
        <p:spPr>
          <a:xfrm>
            <a:off x="752400" y="3076560"/>
            <a:ext cx="2952720" cy="16509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214360" cy="1546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8" descr=""/>
          <p:cNvPicPr/>
          <p:nvPr/>
        </p:nvPicPr>
        <p:blipFill>
          <a:blip r:embed="rId4"/>
          <a:stretch/>
        </p:blipFill>
        <p:spPr>
          <a:xfrm>
            <a:off x="5219640" y="2752560"/>
            <a:ext cx="2376720" cy="123984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9" descr=""/>
          <p:cNvPicPr/>
          <p:nvPr/>
        </p:nvPicPr>
        <p:blipFill>
          <a:blip r:embed="rId5"/>
          <a:stretch/>
        </p:blipFill>
        <p:spPr>
          <a:xfrm>
            <a:off x="4471920" y="3902040"/>
            <a:ext cx="2070000" cy="14986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0" descr=""/>
          <p:cNvPicPr/>
          <p:nvPr/>
        </p:nvPicPr>
        <p:blipFill>
          <a:blip r:embed="rId6"/>
          <a:stretch/>
        </p:blipFill>
        <p:spPr>
          <a:xfrm>
            <a:off x="6253200" y="4842000"/>
            <a:ext cx="21844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7:16:28Z</dcterms:created>
  <dc:creator>Sasha</dc:creator>
  <dc:description/>
  <dc:language>en-US</dc:language>
  <cp:lastModifiedBy>Admin</cp:lastModifiedBy>
  <dcterms:modified xsi:type="dcterms:W3CDTF">2013-01-28T08:20:57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3a000000000001024140</vt:lpwstr>
  </property>
</Properties>
</file>