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4B6-CBAD-4284-87FE-BF2E9943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297-69EE-4C10-BA61-B42C5B1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152-F50A-422F-A036-9E848F0D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A6B-76C8-4ACD-84AB-DABBFB15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60D-93DC-45AF-A9F6-AD7D1529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5CB1-EE24-496A-9FF9-10FFB612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B0E-B7CE-4BFB-A3FC-39FF9DC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8073-E0C2-4513-B73C-13BC956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31E4-96F7-497E-ABB2-2C0C1456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EDA-AEBB-4546-8C2F-2E47390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C1B-F21A-46D3-8D2C-6087CE4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CA4-E403-4653-89E5-6663CF8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C19E-1A43-4FC0-B0AC-A02F25D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9560-B5EC-412D-AFC2-59E569B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B3A-401B-44B9-8E0F-97540BF9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7C00-720E-4FA7-98D1-9C9D2FE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32AC-F38C-43D4-A943-D5768D17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6C424-10C4-4037-A1AA-A3BC1779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7F733-2FB9-4C66-A94C-A8CAC8F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C33AA-D79B-491D-9AC3-37416A0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35064-0E49-4799-A7E8-A31BD2C9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99C9E-6884-48FC-AF37-B3FD2D32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7F9-B148-4F51-992D-79DF3666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A5C6F-EBE6-417F-AA27-6620D4D4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C07B2-DCB1-4EBE-B1FD-602327A3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45A46-8550-432F-AD8C-061CBC8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733B2-0C4E-4547-9507-471A9C0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66531-3A87-44A5-BF76-629562C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76BFF-AEA9-4BD5-B088-E142B130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80A72-1862-4309-B266-88A6FB67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F054-B36F-4A07-8516-5922EDA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0270-A3A4-4785-A289-CC0A478A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F6F3-95AE-4AB4-B8E2-4971C870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944-417D-4EA0-BD8B-CCE4E95F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CB84-7369-4507-8A63-78208A01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9252-C628-48F8-A796-37A5B1C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DC5F-868E-461E-A00D-7922963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68CF-638D-4CC6-9478-C936AB1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935C-6013-428E-82BD-87B4FE0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139B-CDBF-42C5-8446-66736AB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7F50-CB44-472F-8730-A3CF8A5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8D59-6029-4EAF-9A0E-ADCC106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3040-86B2-4E1E-AF40-98CC43F1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82B5C-C380-491E-A2CE-D9BE743F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752-97FE-46B7-8495-241DFC59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1F160-5901-4F28-937B-A90822F3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5395D-8CA3-41C7-80D7-A2371B38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66E58-4270-4140-8FAC-BE7D06C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D62E0-D71C-4861-BDA5-61E70DB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F4102-4A55-471C-9989-3E4DD1F7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912F3-CA98-404A-B2BF-88B18518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44931-9832-49F2-A981-9D73888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F0ED6-2926-4911-8331-C52F8BB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C38B5-A1D2-43C4-ADD2-415EF2E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F1182-3F17-4FA5-A659-4EC4F912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D11-7FCB-4793-B245-6C3DE201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632DC-AA7B-4372-B384-4700D381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1916D-D26D-48D0-A6BC-96EF5077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EE510-7A63-4592-A7F2-3280F6E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C657D-D1CD-4701-A7D3-C3A4C7C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6994F-B469-4A54-A620-ACF92FD1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13239-4100-45F7-BE21-8EDE31D9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DB453-5698-4C57-883C-40B36F11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24F4C-3D28-4637-A46B-0D034204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249F8-943A-42FA-B488-5F8A374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D3805-300E-4086-BFA0-60B026A7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536-348F-486F-BEC2-7D51330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9C9D4-79E5-4291-A2FB-C0091C90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0AB74-B081-4E0D-B46E-12F9895A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C52CA-956A-4CDF-A3F4-929471B9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24E0A-7AAA-4ED8-A4D0-FED1B7DB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47AFD-1A9A-4BA6-9D5C-D9CEDE4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1AACB-9B4A-4701-9211-B146339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CE668-87DC-4005-9CC0-B9FA8448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A26EE-706A-44CF-BD87-809CEA9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3020A-06DA-423E-B5E4-5684DA13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44D06-BEF5-43CB-93A4-271E393D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9D7-4B3D-4527-B66F-7CB1F94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1739A-47A2-4C15-8246-0174521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5B601-0F5F-4A54-A3A8-7965BB1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B7BCE-FBDC-404F-B1E8-16BE66A9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3E854-5998-4204-B8AF-DB752E20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5EE75-6EE6-4883-8326-C8B0754F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EDA-CF92-4B2A-88E1-B6F699D1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69A2-B377-4081-BC57-DE0DE8390E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527-DEA2-4E4E-8775-AF6D675E282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5948-1C73-4755-B54F-DD59AD6740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D19-5DB7-4954-8A72-EAF2F14C6C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4C7A-DB54-4364-9C8E-F27B9E7BFF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D09A-0B72-4257-9F8E-2BC4292C48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90D5-4912-451E-83C0-B25CAF1972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1432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ГЛОБАЛЬНІ  ПРОБЛЕМИ  ЛЮДСТ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14720" y="4857840"/>
            <a:ext cx="6757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Вчитель спеціалізованої школи №137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м. Києва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Шевцова  І. М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5f6d"/>
                </a:solidFill>
                <a:latin typeface="Century Schoolbook"/>
              </a:rPr>
              <a:t>ПРОБЛЕМА  РОЗЗБРОЄННЯ  ТА  ЗБЕРЕЖЕННЯ  МИРУ  НА  ЗЕМЛІ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E:\Users\Саша &amp; Іра\Desktop\Abomb.jpg"/>
          <p:cNvPicPr/>
          <p:nvPr/>
        </p:nvPicPr>
        <p:blipFill>
          <a:blip r:embed="rId1"/>
          <a:stretch/>
        </p:blipFill>
        <p:spPr>
          <a:xfrm>
            <a:off x="142920" y="1214280"/>
            <a:ext cx="3771720" cy="2829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E:\Users\Саша &amp; Іра\Desktop\1264431521_chechnya2.jpg"/>
          <p:cNvPicPr/>
          <p:nvPr/>
        </p:nvPicPr>
        <p:blipFill>
          <a:blip r:embed="rId2"/>
          <a:stretch/>
        </p:blipFill>
        <p:spPr>
          <a:xfrm>
            <a:off x="4786200" y="1214280"/>
            <a:ext cx="4143600" cy="4184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:\Users\Саша &amp; Іра\Desktop\42398418_1239479178_09bace8d.jpg"/>
          <p:cNvPicPr/>
          <p:nvPr/>
        </p:nvPicPr>
        <p:blipFill>
          <a:blip r:embed="rId3"/>
          <a:stretch/>
        </p:blipFill>
        <p:spPr>
          <a:xfrm>
            <a:off x="500040" y="4000680"/>
            <a:ext cx="414324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ДЕМОГРАФІЧНА  ПРОБЛЕ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E:\Users\Саша &amp; Іра\Desktop\trush.jpg"/>
          <p:cNvPicPr/>
          <p:nvPr/>
        </p:nvPicPr>
        <p:blipFill>
          <a:blip r:embed="rId1"/>
          <a:stretch/>
        </p:blipFill>
        <p:spPr>
          <a:xfrm>
            <a:off x="285840" y="1143000"/>
            <a:ext cx="3481200" cy="4525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E:\Users\Саша &amp; Іра\Desktop\pobreza.jpg"/>
          <p:cNvPicPr/>
          <p:nvPr/>
        </p:nvPicPr>
        <p:blipFill>
          <a:blip r:embed="rId2"/>
          <a:stretch/>
        </p:blipFill>
        <p:spPr>
          <a:xfrm>
            <a:off x="3929040" y="1143000"/>
            <a:ext cx="5072040" cy="3565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E:\Users\Саша &amp; Іра\Desktop\china_people_20.jpg"/>
          <p:cNvPicPr/>
          <p:nvPr/>
        </p:nvPicPr>
        <p:blipFill>
          <a:blip r:embed="rId3"/>
          <a:stretch/>
        </p:blipFill>
        <p:spPr>
          <a:xfrm>
            <a:off x="1714680" y="3643200"/>
            <a:ext cx="45860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ПРОБЛЕМА ЗАБЕЗПЕЧЕННЯ  СУСПІЛЬСТВА  ПРИРОДНИМИ  РЕСУРСА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E:\Users\Саша &amp; Іра\Desktop\с15.jpg"/>
          <p:cNvPicPr/>
          <p:nvPr/>
        </p:nvPicPr>
        <p:blipFill>
          <a:blip r:embed="rId1"/>
          <a:stretch/>
        </p:blipFill>
        <p:spPr>
          <a:xfrm>
            <a:off x="0" y="1214280"/>
            <a:ext cx="6531120" cy="4357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E:\Users\Саша &amp; Іра\Desktop\SAM_0785.JPG"/>
          <p:cNvPicPr/>
          <p:nvPr/>
        </p:nvPicPr>
        <p:blipFill>
          <a:blip r:embed="rId2"/>
          <a:stretch/>
        </p:blipFill>
        <p:spPr>
          <a:xfrm>
            <a:off x="5191200" y="3714840"/>
            <a:ext cx="3952800" cy="2965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E:\Users\Саша &amp; Іра\Desktop\002sbh4x.jpg"/>
          <p:cNvPicPr/>
          <p:nvPr/>
        </p:nvPicPr>
        <p:blipFill>
          <a:blip r:embed="rId3"/>
          <a:stretch/>
        </p:blipFill>
        <p:spPr>
          <a:xfrm>
            <a:off x="6832440" y="785880"/>
            <a:ext cx="22003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ЕНЕРГЕТИЧНА  ПРОБЛЕ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E:\Users\Саша &amp; Іра\Desktop\97905[1].jpg"/>
          <p:cNvPicPr/>
          <p:nvPr/>
        </p:nvPicPr>
        <p:blipFill>
          <a:blip r:embed="rId1"/>
          <a:stretch/>
        </p:blipFill>
        <p:spPr>
          <a:xfrm>
            <a:off x="3429000" y="785880"/>
            <a:ext cx="5095800" cy="3216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E:\Users\Саша &amp; Іра\Desktop\19.jpg"/>
          <p:cNvPicPr/>
          <p:nvPr/>
        </p:nvPicPr>
        <p:blipFill>
          <a:blip r:embed="rId2"/>
          <a:stretch/>
        </p:blipFill>
        <p:spPr>
          <a:xfrm>
            <a:off x="4857840" y="4071960"/>
            <a:ext cx="4000320" cy="2633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E:\Users\Саша &amp; Іра\Desktop\icon150.jpg"/>
          <p:cNvPicPr/>
          <p:nvPr/>
        </p:nvPicPr>
        <p:blipFill>
          <a:blip r:embed="rId3"/>
          <a:stretch/>
        </p:blipFill>
        <p:spPr>
          <a:xfrm>
            <a:off x="571680" y="4000680"/>
            <a:ext cx="4135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ПРОБЛЕМА  ВІДСТАЛОСТІ  КРАЇН, ЩО  РОЗВИВАЮТЬС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2" descr="E:\Users\Саша &amp; Іра\Desktop\1350555319_hunger.jpg"/>
          <p:cNvPicPr/>
          <p:nvPr/>
        </p:nvPicPr>
        <p:blipFill>
          <a:blip r:embed="rId1"/>
          <a:stretch/>
        </p:blipFill>
        <p:spPr>
          <a:xfrm>
            <a:off x="0" y="1285920"/>
            <a:ext cx="5254560" cy="3643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E:\Users\Саша &amp; Іра\Desktop\793.jpg"/>
          <p:cNvPicPr/>
          <p:nvPr/>
        </p:nvPicPr>
        <p:blipFill>
          <a:blip r:embed="rId2"/>
          <a:stretch/>
        </p:blipFill>
        <p:spPr>
          <a:xfrm>
            <a:off x="5388120" y="4357800"/>
            <a:ext cx="3755880" cy="2500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E:\Users\Саша &amp; Іра\Desktop\africanhands.jpg"/>
          <p:cNvPicPr/>
          <p:nvPr/>
        </p:nvPicPr>
        <p:blipFill>
          <a:blip r:embed="rId3"/>
          <a:stretch/>
        </p:blipFill>
        <p:spPr>
          <a:xfrm>
            <a:off x="5429160" y="1143000"/>
            <a:ext cx="3429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ЕКОЛОГІЧНА  ПРОБЛЕ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E:\Users\Саша &amp; Іра\Desktop\1331249004_image145.jpg"/>
          <p:cNvPicPr/>
          <p:nvPr/>
        </p:nvPicPr>
        <p:blipFill>
          <a:blip r:embed="rId1"/>
          <a:stretch/>
        </p:blipFill>
        <p:spPr>
          <a:xfrm>
            <a:off x="571680" y="1000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E:\Users\Саша &amp; Іра\Desktop\ekologicheskie-problemi-sovremennosti.jpg"/>
          <p:cNvPicPr/>
          <p:nvPr/>
        </p:nvPicPr>
        <p:blipFill>
          <a:blip r:embed="rId2"/>
          <a:stretch/>
        </p:blipFill>
        <p:spPr>
          <a:xfrm>
            <a:off x="3929040" y="1000080"/>
            <a:ext cx="4786200" cy="4557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E:\Users\Саша &amp; Іра\Desktop\phpJzrkDf.jpg"/>
          <p:cNvPicPr/>
          <p:nvPr/>
        </p:nvPicPr>
        <p:blipFill>
          <a:blip r:embed="rId3"/>
          <a:stretch/>
        </p:blipFill>
        <p:spPr>
          <a:xfrm>
            <a:off x="0" y="3200400"/>
            <a:ext cx="557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ПРОБЛЕМА  БОРОТЬБИ  ЗІ  СНІД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E:\Users\Саша &amp; Іра\Desktop\obj_1271847567_big.jpg"/>
          <p:cNvPicPr/>
          <p:nvPr/>
        </p:nvPicPr>
        <p:blipFill>
          <a:blip r:embed="rId1"/>
          <a:stretch/>
        </p:blipFill>
        <p:spPr>
          <a:xfrm>
            <a:off x="4429080" y="3071880"/>
            <a:ext cx="3595680" cy="3595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E:\Users\Саша &amp; Іра\Desktop\1128aids.jpg"/>
          <p:cNvPicPr/>
          <p:nvPr/>
        </p:nvPicPr>
        <p:blipFill>
          <a:blip r:embed="rId2"/>
          <a:stretch/>
        </p:blipFill>
        <p:spPr>
          <a:xfrm>
            <a:off x="5000760" y="785880"/>
            <a:ext cx="3171600" cy="2381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E:\Users\Саша &amp; Іра\Desktop\narkoman.jpg"/>
          <p:cNvPicPr/>
          <p:nvPr/>
        </p:nvPicPr>
        <p:blipFill>
          <a:blip r:embed="rId3"/>
          <a:stretch/>
        </p:blipFill>
        <p:spPr>
          <a:xfrm>
            <a:off x="0" y="1120680"/>
            <a:ext cx="44388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ДЯКУЮ  ЗА  УВАГУ </a:t>
            </a:r>
            <a:r>
              <a:rPr b="0" lang="uk-UA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8:02:14Z</dcterms:created>
  <dc:creator>Саша &amp; Іра</dc:creator>
  <dc:description/>
  <dc:language>en-US</dc:language>
  <cp:lastModifiedBy>Саша &amp; Іра</cp:lastModifiedBy>
  <dcterms:modified xsi:type="dcterms:W3CDTF">2012-11-24T18:50:59Z</dcterms:modified>
  <cp:revision>7</cp:revision>
  <dc:subject/>
  <dc:title>ГЛОБАЛЬНІ  ПРОБЛЕМИ  ЛЮД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1000000000001024140</vt:lpwstr>
  </property>
</Properties>
</file>