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58B-6F59-475D-B942-F093FFB3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87A-5224-4EFE-97B8-1BB27C60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712-A393-4B02-9B42-5A615D8F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B88-0602-4F0D-A3A6-D1130163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A3CE-9078-406F-A226-C8CA8187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1367-CE34-418C-9AA0-EF5DCA10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37F9-6A40-4FBB-B7DA-BAC3ED74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6073-3671-4430-8062-34F7BF2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EC1B-F939-4401-B5CE-B23A4C4F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1756-5371-4F4C-B918-224D594A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A172-8C8B-41A1-A35B-DF41D6AF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21A-C63B-44B0-A813-79354A87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C146-135C-4F49-971B-818FA096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67C4-C705-4F9D-BA5C-A2DCFC3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90A8-9809-4FB3-8458-FAE8AC87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8E4D-9FB4-4F97-9C23-AEEBE81B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C867-4B62-4063-9F25-3D5BD1E0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D81-494F-4107-A929-743D98E1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200-B4F7-479B-B9FE-60B6B140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C59-AE4B-4759-B0AC-202A8568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5C8-DC85-43B2-B9A6-7D126099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13F-AF18-4BD3-A50C-9D9DA7C9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BD0-A0B4-4C28-AB36-68CC181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1F3-0442-4132-9E4B-0FB731AB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004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2560" indent="-2246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508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46DB-5453-47BD-B97C-6F5BFF6AFE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920B-7CF7-423C-A9A3-1C1631F9F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search" TargetMode="External"/><Relationship Id="rId3" Type="http://schemas.openxmlformats.org/officeDocument/2006/relationships/hyperlink" Target="http://www.google.ru/search" TargetMode="External"/><Relationship Id="rId4" Type="http://schemas.openxmlformats.org/officeDocument/2006/relationships/hyperlink" Target="http://www.google.ru/search" TargetMode="External"/><Relationship Id="rId5" Type="http://schemas.openxmlformats.org/officeDocument/2006/relationships/hyperlink" Target="http://www.google.ru/search" TargetMode="External"/><Relationship Id="rId6" Type="http://schemas.openxmlformats.org/officeDocument/2006/relationships/hyperlink" Target="http://www.google.ru/search" TargetMode="External"/><Relationship Id="rId7" Type="http://schemas.openxmlformats.org/officeDocument/2006/relationships/hyperlink" Target="http://ru.wikipedia.org/wiki" TargetMode="External"/><Relationship Id="rId8" Type="http://schemas.openxmlformats.org/officeDocument/2006/relationships/hyperlink" Target="http://ru.wikipedia.org/wiki" TargetMode="External"/><Relationship Id="rId9" Type="http://schemas.openxmlformats.org/officeDocument/2006/relationships/hyperlink" Target="http://ru.wikipedia.org/wiki" TargetMode="External"/><Relationship Id="rId10" Type="http://schemas.openxmlformats.org/officeDocument/2006/relationships/hyperlink" Target="http://ru.wikipedia.org/wiki" TargetMode="External"/><Relationship Id="rId11" Type="http://schemas.openxmlformats.org/officeDocument/2006/relationships/hyperlink" Target="http://ru.wikipedia.org/wiki" TargetMode="External"/><Relationship Id="rId12" Type="http://schemas.openxmlformats.org/officeDocument/2006/relationships/hyperlink" Target="http://www.vmireinteresnogo.com/" TargetMode="External"/><Relationship Id="rId13" Type="http://schemas.openxmlformats.org/officeDocument/2006/relationships/hyperlink" Target="http://www.vmireinteresnogo.com/" TargetMode="External"/><Relationship Id="rId14" Type="http://schemas.openxmlformats.org/officeDocument/2006/relationships/hyperlink" Target="http://www.vmireinteresnogo.com/" TargetMode="External"/><Relationship Id="rId15" Type="http://schemas.openxmlformats.org/officeDocument/2006/relationships/hyperlink" Target="http://www.vmireinteresnogo.com/" TargetMode="External"/><Relationship Id="rId16" Type="http://schemas.openxmlformats.org/officeDocument/2006/relationships/hyperlink" Target="http://mymultimedia.narod.ru/biogr/amundsen/am.htm" TargetMode="External"/><Relationship Id="rId17" Type="http://schemas.openxmlformats.org/officeDocument/2006/relationships/hyperlink" Target="http://mymultimedia.narod.ru/biogr/amundsen/am.htm" TargetMode="External"/><Relationship Id="rId18" Type="http://schemas.openxmlformats.org/officeDocument/2006/relationships/hyperlink" Target="http://mymultimedia.narod.ru/biogr/amundsen/am.htm" TargetMode="External"/><Relationship Id="rId19" Type="http://schemas.openxmlformats.org/officeDocument/2006/relationships/hyperlink" Target="http://mymultimedia.narod.ru/biogr/amundsen/am.htm" TargetMode="External"/><Relationship Id="rId20" Type="http://schemas.openxmlformats.org/officeDocument/2006/relationships/hyperlink" Target="http://mymultimedia.narod.ru/biogr/amundsen/am.htm" TargetMode="External"/><Relationship Id="rId21" Type="http://schemas.openxmlformats.org/officeDocument/2006/relationships/hyperlink" Target="http://mymultimedia.narod.ru/biogr/amundsen/am.htm" TargetMode="External"/><Relationship Id="rId22" Type="http://schemas.openxmlformats.org/officeDocument/2006/relationships/hyperlink" Target="http://mymultimedia.narod.ru/biogr/amundsen/am.htm" TargetMode="External"/><Relationship Id="rId23" Type="http://schemas.openxmlformats.org/officeDocument/2006/relationships/hyperlink" Target="http://mymultimedia.narod.ru/biogr/amundsen/am.htm" TargetMode="External"/><Relationship Id="rId24" Type="http://schemas.openxmlformats.org/officeDocument/2006/relationships/hyperlink" Target="http://mymultimedia.narod.ru/biogr/amundsen/am.htm" TargetMode="External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1360" y="2602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dcff"/>
                </a:solidFill>
                <a:latin typeface="Tahoma"/>
              </a:rPr>
              <a:t>ГЕОГРАФІЯ  МАТЕРИКІВ І ОКЕАНІВ</a:t>
            </a:r>
            <a:br>
              <a:rPr sz="2000"/>
            </a:br>
            <a:r>
              <a:rPr b="1" lang="ru-RU" sz="2000" spc="-1" strike="noStrike">
                <a:solidFill>
                  <a:srgbClr val="97dcff"/>
                </a:solidFill>
                <a:latin typeface="Tahoma"/>
              </a:rPr>
              <a:t> 7 КЛА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4916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Тема уроку</a:t>
            </a:r>
            <a:r>
              <a:rPr b="1" lang="ru-RU" sz="3600" spc="-1" strike="noStrike">
                <a:solidFill>
                  <a:srgbClr val="70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ffff"/>
                </a:solidFill>
                <a:latin typeface="Arial"/>
                <a:ea typeface="Arial"/>
              </a:rPr>
              <a:t>Антарктид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"/>
              </a:rPr>
              <a:t>Своєрідність географічного положення</a:t>
            </a: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"/>
              </a:rPr>
              <a:t>Відкриття материка</a:t>
            </a: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"/>
              </a:rPr>
              <a:t>Льодовиковий  покри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031840" y="507168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равченко Світлана Вікторі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учитель географії  та економік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загальноосвітня школа І-ІІІ ступенів №2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м. Амвросіївка, Донецька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837800" y="407556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уроку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вчення нового матері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1342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орвезька експедиція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Руаля  Амундсен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підкорила   Південний Полю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4 грудня 1911 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ANd9GcQ4v0Exm7GBWqubnbiVmlLIiwcvvJ7tOUyXxUYxJgXNIwDJgAvq"/>
          <p:cNvPicPr/>
          <p:nvPr/>
        </p:nvPicPr>
        <p:blipFill>
          <a:blip r:embed="rId2"/>
          <a:stretch/>
        </p:blipFill>
        <p:spPr>
          <a:xfrm>
            <a:off x="179280" y="2565360"/>
            <a:ext cx="5473800" cy="376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d9GcQccEDiA7HXm0LToA0EQ3f7btkCeM5eb0nlGQtTYqmi6xPaQzdTfw"/>
          <p:cNvPicPr/>
          <p:nvPr/>
        </p:nvPicPr>
        <p:blipFill>
          <a:blip r:embed="rId3"/>
          <a:stretch/>
        </p:blipFill>
        <p:spPr>
          <a:xfrm>
            <a:off x="5834160" y="2509920"/>
            <a:ext cx="31003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ANd9GcS_eIh58oQaK0xfBd1kOg6I4AVbH3tsglhSXVM3so6rGQxhbH8ocg"/>
          <p:cNvPicPr/>
          <p:nvPr/>
        </p:nvPicPr>
        <p:blipFill>
          <a:blip r:embed="rId2"/>
          <a:stretch/>
        </p:blipFill>
        <p:spPr>
          <a:xfrm>
            <a:off x="108000" y="115920"/>
            <a:ext cx="2351160" cy="309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764640"/>
            <a:ext cx="51894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uk-UA" sz="3200" spc="-1" strike="noStrike">
                <a:solidFill>
                  <a:srgbClr val="e5ffff"/>
                </a:solidFill>
                <a:latin typeface="Tahoma"/>
              </a:rPr>
              <a:t>Руаль Амундсен</a:t>
            </a:r>
            <a:br>
              <a:rPr sz="3200"/>
            </a:br>
            <a:r>
              <a:rPr b="1" lang="uk-UA" sz="3200" spc="-1" strike="noStrike">
                <a:solidFill>
                  <a:srgbClr val="e5ffff"/>
                </a:solidFill>
                <a:latin typeface="Tahoma"/>
              </a:rPr>
              <a:t>        про  відкриття: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516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«Не можу сказати.., що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досягнув мети свого життя. Це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було б дуже явною та відвертою видумкою. Краще… я скажу прямо, що, по-моєму, ще ніколи ніхто із людей не стояв в точці, діаметрально протилежній меті його прагнень, в такому повному розумінні слова, як в цьому випадку. Район Північного полюсу — чого там! — сам Південний полюс манив мене з дитинства, і ось я на Південному полюсі. Воістину, все навиворіт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l_fi" descr="22"/>
          <p:cNvPicPr/>
          <p:nvPr/>
        </p:nvPicPr>
        <p:blipFill>
          <a:blip r:embed="rId2"/>
          <a:stretch/>
        </p:blipFill>
        <p:spPr>
          <a:xfrm>
            <a:off x="1147680" y="1870200"/>
            <a:ext cx="6848640" cy="4802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459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Експедиція офіцера Британських королівських ВМС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Роберта Скотта (на фото стоїть в центрі)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дійшла до самої південної точки Землі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18 січня 1912 року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2"/>
          <p:cNvSpPr/>
          <p:nvPr/>
        </p:nvSpPr>
        <p:spPr>
          <a:xfrm rot="3192600">
            <a:off x="3295800" y="2533680"/>
            <a:ext cx="25524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ANd9GcTkT1cx88hkc7gboTTyNiRFWeCzeiYdc447Nudnej8oDQWWcsdA"/>
          <p:cNvPicPr/>
          <p:nvPr/>
        </p:nvPicPr>
        <p:blipFill>
          <a:blip r:embed="rId2"/>
          <a:stretch/>
        </p:blipFill>
        <p:spPr>
          <a:xfrm>
            <a:off x="6553080" y="189000"/>
            <a:ext cx="241308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6560" y="1052280"/>
            <a:ext cx="8947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 той день (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8 січня 1912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берт Скотт  записав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вій  щоденни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«Норвежці нас випередили — Амундсен опинився першим на полюсі! Страшне розчаруванн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сі муки, все тягості — заради чого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Я з жахом думаю про зворотній шлях...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24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Ці строки вирізані на надгробному хресті, який був встановлений в Антарктиді в пам'ять англійському полярному мандрівнику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Роберту Скотту</a:t>
            </a:r>
            <a:r>
              <a:rPr b="0" lang="uk-UA" sz="2400" spc="-1" strike="noStrike">
                <a:solidFill>
                  <a:srgbClr val="e5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«Боротися й шукати, знайти і не здаватис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ема «Улісс» анг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ета Мьфреда Теннісон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600" spc="-1" strike="noStrike">
                <a:solidFill>
                  <a:srgbClr val="00ccff"/>
                </a:solidFill>
                <a:latin typeface="Arial"/>
              </a:rPr>
              <a:t>Льодовиковий покрив Антарктиди</a:t>
            </a:r>
            <a:r>
              <a:rPr b="1" lang="uk-UA" sz="3200" spc="-1" strike="noStrike">
                <a:solidFill>
                  <a:srgbClr val="00cc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це 80 % всієї прісної води план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50920" y="4030560"/>
            <a:ext cx="4249800" cy="263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4788000" y="4040280"/>
            <a:ext cx="4122720" cy="26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611280" y="1197000"/>
            <a:ext cx="7848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da3f"/>
                </a:solidFill>
                <a:latin typeface="Tahoma"/>
              </a:rPr>
              <a:t>Узагальнення  та повторення  вивченого матеріалу</a:t>
            </a: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076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PETITIO  EST  MATER  STUDIORUM –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ahoma"/>
              </a:rPr>
              <a:t>повторення є матір'ю вче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131800" y="544500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Латинське  прислів'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79280" y="2801880"/>
            <a:ext cx="648036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936720"/>
            <a:ext cx="4392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Р Е Б У С 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915080" y="189000"/>
            <a:ext cx="3978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«Восток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3565800" y="548280"/>
            <a:ext cx="5295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Group 23"/>
          <p:cNvGrpSpPr/>
          <p:nvPr/>
        </p:nvGrpSpPr>
        <p:grpSpPr>
          <a:xfrm>
            <a:off x="179280" y="2349360"/>
            <a:ext cx="8721720" cy="4319640"/>
            <a:chOff x="179280" y="2349360"/>
            <a:chExt cx="8721720" cy="4319640"/>
          </a:xfrm>
        </p:grpSpPr>
        <p:pic>
          <p:nvPicPr>
            <p:cNvPr id="139" name="Picture 3" descr=""/>
            <p:cNvPicPr/>
            <p:nvPr/>
          </p:nvPicPr>
          <p:blipFill>
            <a:blip r:embed="rId2"/>
            <a:stretch/>
          </p:blipFill>
          <p:spPr>
            <a:xfrm>
              <a:off x="179280" y="2349360"/>
              <a:ext cx="3924360" cy="43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" descr=""/>
            <p:cNvPicPr/>
            <p:nvPr/>
          </p:nvPicPr>
          <p:blipFill>
            <a:blip r:embed="rId3"/>
            <a:stretch/>
          </p:blipFill>
          <p:spPr>
            <a:xfrm>
              <a:off x="5003640" y="2349360"/>
              <a:ext cx="3897360" cy="43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Line 4"/>
            <p:cNvSpPr/>
            <p:nvPr/>
          </p:nvSpPr>
          <p:spPr>
            <a:xfrm flipH="1">
              <a:off x="2340000" y="4869000"/>
              <a:ext cx="1797120" cy="431640"/>
            </a:xfrm>
            <a:prstGeom prst="line">
              <a:avLst/>
            </a:prstGeom>
            <a:ln w="792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2" name="Rectangle 9"/>
          <p:cNvSpPr/>
          <p:nvPr/>
        </p:nvSpPr>
        <p:spPr>
          <a:xfrm>
            <a:off x="7237800" y="238860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20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4"/>
          <a:stretch/>
        </p:blipFill>
        <p:spPr>
          <a:xfrm>
            <a:off x="2916360" y="98100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"/>
          <p:cNvPicPr/>
          <p:nvPr/>
        </p:nvPicPr>
        <p:blipFill>
          <a:blip r:embed="rId5"/>
          <a:stretch/>
        </p:blipFill>
        <p:spPr>
          <a:xfrm>
            <a:off x="4427640" y="160200"/>
            <a:ext cx="4465440" cy="3094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"/>
          <p:cNvPicPr/>
          <p:nvPr/>
        </p:nvPicPr>
        <p:blipFill>
          <a:blip r:embed="rId6"/>
          <a:srcRect l="0" t="0" r="-76" b="-139"/>
          <a:stretch/>
        </p:blipFill>
        <p:spPr>
          <a:xfrm>
            <a:off x="179280" y="2349360"/>
            <a:ext cx="3961080" cy="4330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восток"/>
          <p:cNvPicPr/>
          <p:nvPr/>
        </p:nvPicPr>
        <p:blipFill>
          <a:blip r:embed="rId7"/>
          <a:stretch/>
        </p:blipFill>
        <p:spPr>
          <a:xfrm>
            <a:off x="4427640" y="3429000"/>
            <a:ext cx="45021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1" descr=""/>
          <p:cNvPicPr/>
          <p:nvPr/>
        </p:nvPicPr>
        <p:blipFill>
          <a:blip r:embed="rId2"/>
          <a:srcRect l="0" t="0" r="31" b="0"/>
          <a:stretch/>
        </p:blipFill>
        <p:spPr>
          <a:xfrm>
            <a:off x="179280" y="189000"/>
            <a:ext cx="5238720" cy="6408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88000" y="549000"/>
            <a:ext cx="4356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00ccff"/>
                </a:solidFill>
                <a:uFillTx/>
                <a:latin typeface="Tahoma"/>
              </a:rPr>
              <a:t>Лазарєв</a:t>
            </a:r>
            <a:r>
              <a:rPr b="1" lang="uk-UA" sz="4800" spc="-1" strike="noStrike">
                <a:solidFill>
                  <a:srgbClr val="00ccff"/>
                </a:solidFill>
                <a:latin typeface="Tahoma"/>
              </a:rPr>
              <a:t> М.П</a:t>
            </a:r>
            <a:r>
              <a:rPr b="1" lang="ru-RU" sz="4800" spc="-1" strike="noStrike">
                <a:solidFill>
                  <a:srgbClr val="00cc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483200"/>
            <a:ext cx="8603640" cy="5182560"/>
            <a:chOff x="324000" y="1483200"/>
            <a:chExt cx="8603640" cy="5182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5003640" y="2852640"/>
              <a:ext cx="3924000" cy="3384360"/>
              <a:chOff x="5003640" y="2852640"/>
              <a:chExt cx="3924000" cy="3384360"/>
            </a:xfrm>
          </p:grpSpPr>
          <p:pic>
            <p:nvPicPr>
              <p:cNvPr id="151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077640"/>
                <a:ext cx="3924000" cy="31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Line 6"/>
              <p:cNvSpPr/>
              <p:nvPr/>
            </p:nvSpPr>
            <p:spPr>
              <a:xfrm flipH="1">
                <a:off x="7823880" y="2852640"/>
                <a:ext cx="760680" cy="903600"/>
              </a:xfrm>
              <a:prstGeom prst="line">
                <a:avLst/>
              </a:prstGeom>
              <a:ln w="79200">
                <a:solidFill>
                  <a:srgbClr val="ffff99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349280" y="620604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ahoma"/>
                </a:rPr>
                <a:t>(виноградна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324000" y="3019320"/>
              <a:ext cx="4248000" cy="31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0"/>
            <p:cNvSpPr/>
            <p:nvPr/>
          </p:nvSpPr>
          <p:spPr>
            <a:xfrm>
              <a:off x="1258920" y="1628280"/>
              <a:ext cx="23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о </a:t>
              </a: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8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156360" y="1483200"/>
              <a:ext cx="1800360" cy="1610280"/>
              <a:chOff x="6156360" y="1483200"/>
              <a:chExt cx="1800360" cy="1610280"/>
            </a:xfrm>
          </p:grpSpPr>
          <p:sp>
            <p:nvSpPr>
              <p:cNvPr id="157" name="Rectangle 10"/>
              <p:cNvSpPr/>
              <p:nvPr/>
            </p:nvSpPr>
            <p:spPr>
              <a:xfrm>
                <a:off x="6156360" y="2085120"/>
                <a:ext cx="1800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м 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 в</a:t>
                </a: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Rectangle 10"/>
              <p:cNvSpPr/>
              <p:nvPr/>
            </p:nvSpPr>
            <p:spPr>
              <a:xfrm>
                <a:off x="6156360" y="1483200"/>
                <a:ext cx="1800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е = є</a:t>
                </a: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dfff"/>
                </a:solidFill>
                <a:latin typeface="Tahoma"/>
              </a:rPr>
              <a:t>Мета   уроку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01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ати поняття Антарктика и Антарктида - льодовий материк планети; вивчити загальні відомості про материк: своєрідність ГП материка,  його розміри; розглянути  відкриття  Антарктиди та сучасні  наукові  дослідження матер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розвиток пізнавального інтересу учнів, логічного мислення, уваги, спостережливості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формування  навичок  роботи з географічними картами, з підручником, додатковими джерел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56000" y="620640"/>
            <a:ext cx="266364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ccff"/>
                </a:solidFill>
                <a:uFillTx/>
                <a:latin typeface="Tahoma"/>
              </a:rPr>
              <a:t>Пінгвін</a:t>
            </a: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Picture 13" descr=""/>
            <p:cNvPicPr/>
            <p:nvPr/>
          </p:nvPicPr>
          <p:blipFill>
            <a:blip r:embed="rId2"/>
            <a:srcRect l="0" t="0" r="73" b="0"/>
            <a:stretch/>
          </p:blipFill>
          <p:spPr>
            <a:xfrm>
              <a:off x="0" y="0"/>
              <a:ext cx="5580000" cy="37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4" descr=""/>
            <p:cNvPicPr/>
            <p:nvPr/>
          </p:nvPicPr>
          <p:blipFill>
            <a:blip r:embed="rId3"/>
            <a:stretch/>
          </p:blipFill>
          <p:spPr>
            <a:xfrm>
              <a:off x="0" y="3630600"/>
              <a:ext cx="565164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5" descr=""/>
            <p:cNvPicPr/>
            <p:nvPr/>
          </p:nvPicPr>
          <p:blipFill>
            <a:blip r:embed="rId4"/>
            <a:stretch/>
          </p:blipFill>
          <p:spPr>
            <a:xfrm>
              <a:off x="5589720" y="2205000"/>
              <a:ext cx="3554280" cy="465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179280" y="765000"/>
            <a:ext cx="8780400" cy="5837040"/>
            <a:chOff x="179280" y="765000"/>
            <a:chExt cx="8780400" cy="5837040"/>
          </a:xfrm>
        </p:grpSpPr>
        <p:grpSp>
          <p:nvGrpSpPr>
            <p:cNvPr id="165" name=""/>
            <p:cNvGrpSpPr/>
            <p:nvPr/>
          </p:nvGrpSpPr>
          <p:grpSpPr>
            <a:xfrm>
              <a:off x="179280" y="765000"/>
              <a:ext cx="8780400" cy="5837040"/>
              <a:chOff x="179280" y="765000"/>
              <a:chExt cx="8780400" cy="5837040"/>
            </a:xfrm>
          </p:grpSpPr>
          <p:pic>
            <p:nvPicPr>
              <p:cNvPr id="166" name="Picture 6" descr="++++++++++++++"/>
              <p:cNvPicPr/>
              <p:nvPr/>
            </p:nvPicPr>
            <p:blipFill>
              <a:blip r:embed="rId5"/>
              <a:stretch/>
            </p:blipFill>
            <p:spPr>
              <a:xfrm>
                <a:off x="179280" y="2565000"/>
                <a:ext cx="3745080" cy="40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Rectangle 7"/>
              <p:cNvSpPr/>
              <p:nvPr/>
            </p:nvSpPr>
            <p:spPr>
              <a:xfrm>
                <a:off x="181080" y="765000"/>
                <a:ext cx="52956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8"/>
              <p:cNvSpPr/>
              <p:nvPr/>
            </p:nvSpPr>
            <p:spPr>
              <a:xfrm>
                <a:off x="3494160" y="765000"/>
                <a:ext cx="52956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9"/>
              <p:cNvSpPr/>
              <p:nvPr/>
            </p:nvSpPr>
            <p:spPr>
              <a:xfrm>
                <a:off x="4074480" y="4455000"/>
                <a:ext cx="24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70" name="Picture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5076720" y="2565000"/>
                <a:ext cx="3882960" cy="402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Rectangle 11"/>
              <p:cNvSpPr/>
              <p:nvPr/>
            </p:nvSpPr>
            <p:spPr>
              <a:xfrm>
                <a:off x="8390160" y="765000"/>
                <a:ext cx="52956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136880" y="1413000"/>
              <a:ext cx="6786360" cy="1080000"/>
              <a:chOff x="1136880" y="1413000"/>
              <a:chExt cx="6786360" cy="1080000"/>
            </a:xfrm>
          </p:grpSpPr>
          <p:sp>
            <p:nvSpPr>
              <p:cNvPr id="173" name=""/>
              <p:cNvSpPr/>
              <p:nvPr/>
            </p:nvSpPr>
            <p:spPr>
              <a:xfrm>
                <a:off x="1136880" y="1484640"/>
                <a:ext cx="1794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и </a:t>
                </a:r>
                <a:r>
                  <a:rPr b="1" lang="ru-RU" sz="60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 і</a:t>
                </a: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40360" y="1413000"/>
                <a:ext cx="19828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и </a:t>
                </a:r>
                <a:r>
                  <a:rPr b="1" lang="ru-RU" sz="60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 і</a:t>
                </a: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9"/>
          <p:cNvGrpSpPr/>
          <p:nvPr/>
        </p:nvGrpSpPr>
        <p:grpSpPr>
          <a:xfrm>
            <a:off x="4716360" y="1197000"/>
            <a:ext cx="4230720" cy="5472000"/>
            <a:chOff x="4716360" y="1197000"/>
            <a:chExt cx="4230720" cy="5472000"/>
          </a:xfrm>
        </p:grpSpPr>
        <p:sp>
          <p:nvSpPr>
            <p:cNvPr id="176" name="Rectangle 20"/>
            <p:cNvSpPr/>
            <p:nvPr/>
          </p:nvSpPr>
          <p:spPr>
            <a:xfrm>
              <a:off x="8245800" y="1197000"/>
              <a:ext cx="5295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77" name="Picture 25" descr="+++"/>
            <p:cNvPicPr/>
            <p:nvPr/>
          </p:nvPicPr>
          <p:blipFill>
            <a:blip r:embed="rId2"/>
            <a:stretch/>
          </p:blipFill>
          <p:spPr>
            <a:xfrm>
              <a:off x="4716360" y="3114720"/>
              <a:ext cx="4230720" cy="355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Line 47"/>
          <p:cNvSpPr/>
          <p:nvPr/>
        </p:nvSpPr>
        <p:spPr>
          <a:xfrm flipH="1">
            <a:off x="5508360" y="3500280"/>
            <a:ext cx="431640" cy="9367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3" descr=""/>
          <p:cNvPicPr/>
          <p:nvPr/>
        </p:nvPicPr>
        <p:blipFill>
          <a:blip r:embed="rId3"/>
          <a:stretch/>
        </p:blipFill>
        <p:spPr>
          <a:xfrm>
            <a:off x="0" y="357336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2" descr=""/>
          <p:cNvPicPr/>
          <p:nvPr/>
        </p:nvPicPr>
        <p:blipFill>
          <a:blip r:embed="rId4"/>
          <a:stretch/>
        </p:blipFill>
        <p:spPr>
          <a:xfrm>
            <a:off x="4788000" y="3573360"/>
            <a:ext cx="4356000" cy="328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4" descr=""/>
          <p:cNvPicPr/>
          <p:nvPr/>
        </p:nvPicPr>
        <p:blipFill>
          <a:blip r:embed="rId5"/>
          <a:stretch/>
        </p:blipFill>
        <p:spPr>
          <a:xfrm>
            <a:off x="4788000" y="0"/>
            <a:ext cx="4356000" cy="35002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3"/>
          <p:cNvGrpSpPr/>
          <p:nvPr/>
        </p:nvGrpSpPr>
        <p:grpSpPr>
          <a:xfrm>
            <a:off x="611280" y="2852280"/>
            <a:ext cx="3240000" cy="3785040"/>
            <a:chOff x="611280" y="2852280"/>
            <a:chExt cx="3240000" cy="3785040"/>
          </a:xfrm>
        </p:grpSpPr>
        <p:sp>
          <p:nvSpPr>
            <p:cNvPr id="183" name="Rectangle 5"/>
            <p:cNvSpPr/>
            <p:nvPr/>
          </p:nvSpPr>
          <p:spPr>
            <a:xfrm>
              <a:off x="1061280" y="2852280"/>
              <a:ext cx="216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а = е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4" name="Group 28"/>
            <p:cNvGrpSpPr/>
            <p:nvPr/>
          </p:nvGrpSpPr>
          <p:grpSpPr>
            <a:xfrm>
              <a:off x="611280" y="4087800"/>
              <a:ext cx="3240000" cy="2549520"/>
              <a:chOff x="611280" y="4087800"/>
              <a:chExt cx="3240000" cy="2549520"/>
            </a:xfrm>
          </p:grpSpPr>
          <p:sp>
            <p:nvSpPr>
              <p:cNvPr id="185" name="Rectangle 16"/>
              <p:cNvSpPr/>
              <p:nvPr/>
            </p:nvSpPr>
            <p:spPr>
              <a:xfrm>
                <a:off x="611280" y="4260240"/>
                <a:ext cx="3240000" cy="21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айнозой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езозо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?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леозой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AutoShape 14"/>
              <p:cNvSpPr/>
              <p:nvPr/>
            </p:nvSpPr>
            <p:spPr>
              <a:xfrm>
                <a:off x="3114000" y="4087800"/>
                <a:ext cx="228960" cy="2549520"/>
              </a:xfrm>
              <a:custGeom>
                <a:avLst/>
                <a:gdLst>
                  <a:gd name="textAreaLeft" fmla="*/ 0 w 228960"/>
                  <a:gd name="textAreaRight" fmla="*/ 82800 w 228960"/>
                  <a:gd name="textAreaTop" fmla="*/ 66240 h 2549520"/>
                  <a:gd name="textAreaBottom" fmla="*/ 2483280 h 254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165"/>
                    </a:lnTo>
                    <a:cubicBezTo>
                      <a:pt x="10800" y="10065"/>
                      <a:pt x="16200" y="10965"/>
                      <a:pt x="21600" y="10965"/>
                    </a:cubicBezTo>
                    <a:cubicBezTo>
                      <a:pt x="16200" y="10965"/>
                      <a:pt x="10800" y="11865"/>
                      <a:pt x="10800" y="12765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87" name="Picture 35" descr=""/>
          <p:cNvPicPr/>
          <p:nvPr/>
        </p:nvPicPr>
        <p:blipFill>
          <a:blip r:embed="rId6"/>
          <a:stretch/>
        </p:blipFill>
        <p:spPr>
          <a:xfrm>
            <a:off x="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0"/>
          <p:cNvSpPr/>
          <p:nvPr/>
        </p:nvSpPr>
        <p:spPr>
          <a:xfrm>
            <a:off x="2341080" y="213264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82920" y="259920"/>
            <a:ext cx="434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  <a:ea typeface="Tahoma"/>
              </a:rPr>
              <a:t>Еребу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Arial"/>
              </a:rPr>
              <a:t>Вставити  пропущені 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Антарктида за площею займає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..….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 місце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поступаючись розмірами тільки материку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……….…..…..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Майже в центрі Антарктиди розташований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..…………….…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полюс, тому всі береги материка дивляться на</a:t>
            </a: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....…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Омивають  ї ї  береги води Тихого,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.………….……..……………</a:t>
            </a:r>
            <a:r>
              <a:rPr b="0" lang="uk-UA" sz="23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..………………….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океанів, які пов'язані потужно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холодною течією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.......................................................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Антарктида значно віддалена від усіх материків, ал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найближче всього до неї розташована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….……..………………………………....</a:t>
            </a:r>
            <a:r>
              <a:rPr b="0" lang="ru-RU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Антарктида  була відкрита  у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.…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році  російськи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мореплавцями 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………………………………………………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……………………………</a:t>
            </a:r>
            <a:r>
              <a:rPr b="0" lang="uk-UA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96000" y="112428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516720" y="1557360"/>
            <a:ext cx="1741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Австралія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877080" y="191628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Півден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310160" y="2349360"/>
            <a:ext cx="10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північ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755640" y="3141720"/>
            <a:ext cx="2033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ндийск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5796000" y="2708280"/>
            <a:ext cx="2246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Атлантичн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2916360" y="3573360"/>
            <a:ext cx="2543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Західних Вітрів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6012000" y="4365720"/>
            <a:ext cx="286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Південна Америк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859280" y="4797360"/>
            <a:ext cx="936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1820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56000" y="5229360"/>
            <a:ext cx="358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Ф.Ф.Беллинсгаузено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22200" y="5661000"/>
            <a:ext cx="23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Arial"/>
              </a:rPr>
              <a:t>М.П.Лазаревє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ccff"/>
                </a:solidFill>
                <a:latin typeface="Tahoma"/>
              </a:rPr>
              <a:t>Використані  джерел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google.ru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ru.wikipedia.org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wik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www.vmireinteresnogo.com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mymultimedia.narod.ru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biogr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1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2"/>
              </a:rPr>
              <a:t>amundsen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3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4"/>
              </a:rPr>
              <a:t>am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240" y="92160"/>
            <a:ext cx="8805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7200" spc="-1" strike="noStrike">
                <a:solidFill>
                  <a:srgbClr val="57dfff"/>
                </a:solidFill>
                <a:latin typeface="Arial"/>
              </a:rPr>
              <a:t>Антарктида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752720" cy="401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3753000" cy="2543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3"/>
          <a:srcRect l="0" t="0" r="58" b="0"/>
          <a:stretch/>
        </p:blipFill>
        <p:spPr>
          <a:xfrm>
            <a:off x="5189400" y="1239840"/>
            <a:ext cx="3724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В</a:t>
            </a:r>
            <a:r>
              <a:rPr b="1" lang="uk-UA" sz="4400" spc="-1" strike="noStrike">
                <a:solidFill>
                  <a:srgbClr val="00ccff"/>
                </a:solidFill>
                <a:latin typeface="Arial"/>
              </a:rPr>
              <a:t>і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дкриття</a:t>
            </a:r>
            <a:br>
              <a:rPr sz="4400"/>
            </a:b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Антарктид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107" b="171"/>
          <a:stretch/>
        </p:blipFill>
        <p:spPr>
          <a:xfrm>
            <a:off x="620640" y="2276640"/>
            <a:ext cx="3176640" cy="4357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418000" y="2276640"/>
            <a:ext cx="3251160" cy="4340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5731560" y="126828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Лазарє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ихайло  Пет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-295200" y="1268280"/>
            <a:ext cx="50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Беллінсгаузе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аддей  Фаддей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нтарктида була офіційно відкри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16 (28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–за новим стилем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) січня 1820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. російською експедиціє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rcRect l="0" t="0" r="85" b="0"/>
          <a:stretch/>
        </p:blipFill>
        <p:spPr>
          <a:xfrm>
            <a:off x="179280" y="2492280"/>
            <a:ext cx="5664240" cy="3872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5580000" y="3150720"/>
            <a:ext cx="331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шлюп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сток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ирн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андрівка продовжувала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 16 червня 1819 р. по 5 серпня 1821р.  -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51 день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уло пройдено більше 92 тис. к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(Ця відстань в 2,3 рази більш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довжини екватор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Крім Антарктиди, експедиція відкрил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29 островів и  1 кораловий риф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ccff"/>
                </a:solidFill>
                <a:latin typeface="Arial"/>
              </a:rPr>
              <a:t>ВІЗИТНА</a:t>
            </a: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  КАРТКА  АНТАРКТИ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187280" y="1341360"/>
            <a:ext cx="734544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гальна площа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: 14 млн. кв. к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селення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: постійне населення  відсутнє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 1959р. підписаний міжнародний  договір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згідно якому в Антарктиді 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бороняєтьс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будувати промислові та військові об'єкти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идобувати корисні копалини, проводит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ипробування зброї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Антарктида – материк міжнародн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співробітництва,  континент вчених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9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2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2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2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2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3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2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2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9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2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2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2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2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2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29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2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2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2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2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2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2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59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Arial"/>
              </a:rPr>
              <a:t>Південний полюс Зем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South Pole (англ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точка, в якій вісь Землі перетинає її поверхню в південній півкулі. Координа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9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пд. ш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находиться в Антарктиді, на  Полярному плат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5257800" cy="3746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5580000" y="2852640"/>
            <a:ext cx="340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Знак, що вказує місце географічного</a:t>
            </a:r>
            <a:r>
              <a:rPr b="1" lang="uk-UA" sz="2400" spc="-1" strike="noStrike">
                <a:solidFill>
                  <a:srgbClr val="000000"/>
                </a:solidFill>
                <a:latin typeface="Arial Narrow"/>
              </a:rPr>
              <a:t> Південного полюс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Полярна станція</a:t>
            </a:r>
            <a:r>
              <a:rPr b="1" lang="uk-U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«Амундсен-Скот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309680" y="573120"/>
            <a:ext cx="64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309680" y="573120"/>
            <a:ext cx="648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134" descr="ANd9GcS_eIh58oQaK0xfBd1kOg6I4AVbH3tsglhSXVM3so6rGQxhbH8ocg"/>
          <p:cNvPicPr/>
          <p:nvPr/>
        </p:nvPicPr>
        <p:blipFill>
          <a:blip r:embed="rId2"/>
          <a:srcRect l="0" t="1100" r="4136" b="0"/>
          <a:stretch/>
        </p:blipFill>
        <p:spPr>
          <a:xfrm>
            <a:off x="701640" y="2182680"/>
            <a:ext cx="3249720" cy="441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8" descr="ANd9GcTkT1cx88hkc7gboTTyNiRFWeCzeiYdc447Nudnej8oDQWWcsdA"/>
          <p:cNvPicPr/>
          <p:nvPr/>
        </p:nvPicPr>
        <p:blipFill>
          <a:blip r:embed="rId3"/>
          <a:stretch/>
        </p:blipFill>
        <p:spPr>
          <a:xfrm>
            <a:off x="5378400" y="2182680"/>
            <a:ext cx="3086280" cy="4422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9"/>
          <p:cNvSpPr/>
          <p:nvPr/>
        </p:nvSpPr>
        <p:spPr>
          <a:xfrm>
            <a:off x="395280" y="188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Першовідкривачі   Південного полюс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40"/>
          <p:cNvSpPr/>
          <p:nvPr/>
        </p:nvSpPr>
        <p:spPr>
          <a:xfrm>
            <a:off x="5378400" y="1197000"/>
            <a:ext cx="279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обер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кот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41"/>
          <p:cNvSpPr/>
          <p:nvPr/>
        </p:nvSpPr>
        <p:spPr>
          <a:xfrm>
            <a:off x="1207080" y="1109160"/>
            <a:ext cx="231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уа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мундс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5:47:16Z</dcterms:created>
  <dc:creator>Света</dc:creator>
  <dc:description/>
  <dc:language>en-US</dc:language>
  <cp:lastModifiedBy>Света</cp:lastModifiedBy>
  <dcterms:modified xsi:type="dcterms:W3CDTF">2012-06-03T12:22:30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d000000000001024140</vt:lpwstr>
  </property>
</Properties>
</file>